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ED0-EF54-4315-96A0-C226E5E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193-6E8D-40D7-A99F-2E2EA450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F04-C136-4DDE-B270-FC21A076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EE7-7F90-414F-B4F3-DBE28F26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5B6-EFA7-4336-82A3-4FCFCD7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8FD-751A-42FA-813D-2C2F435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60D-1C73-43A0-8A71-DCBC220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6DD-BCEB-40D6-AA9F-305F6B7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303-354C-45AA-957E-215D043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9F4-B161-4729-BBEB-BAC1368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2B9-9C69-4C17-9AE8-A03C3575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021-5B9C-48CA-BED9-72602E47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6B97-BADE-440D-8D29-63C33BAE0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wa.Zimny@unece.org" TargetMode="External"/><Relationship Id="rId2" Type="http://schemas.openxmlformats.org/officeDocument/2006/relationships/hyperlink" Target="mailto:Ewa.Zimny@unece.org" TargetMode="External"/><Relationship Id="rId3" Type="http://schemas.openxmlformats.org/officeDocument/2006/relationships/hyperlink" Target="mailto:Ewa.Zimny@unece.org" TargetMode="External"/><Relationship Id="rId4" Type="http://schemas.openxmlformats.org/officeDocument/2006/relationships/hyperlink" Target="mailto:Ewa.Zimny@unece.org" TargetMode="External"/><Relationship Id="rId5" Type="http://schemas.openxmlformats.org/officeDocument/2006/relationships/hyperlink" Target="mailto:Ewa.Zimny@unece.org" TargetMode="External"/><Relationship Id="rId6" Type="http://schemas.openxmlformats.org/officeDocument/2006/relationships/hyperlink" Target="mailto:Ewa.Zimny@unece.org" TargetMode="Externa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Отсутствующие связи между гендерной проблематикой,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экономикой и статистикой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ва Руминска-Зимни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ЭК О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NewRoman"/>
                <a:ea typeface="Times New Roman"/>
              </a:rPr>
              <a:t>Конференция Европейских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NewRoman"/>
                <a:ea typeface="Times New Roman"/>
              </a:rPr>
              <a:t>татист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NewRoman"/>
                <a:ea typeface="Times New Roman"/>
              </a:rPr>
              <a:t>Группа экспертов по гендерной статисти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ва 11-13 сентября 2006 г.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ecelogo" descr=""/>
          <p:cNvPicPr/>
          <p:nvPr/>
        </p:nvPicPr>
        <p:blipFill>
          <a:blip r:embed="rId1"/>
          <a:stretch/>
        </p:blipFill>
        <p:spPr>
          <a:xfrm>
            <a:off x="7620120" y="6248520"/>
            <a:ext cx="1333440" cy="482400"/>
          </a:xfrm>
          <a:prstGeom prst="rect">
            <a:avLst/>
          </a:prstGeom>
          <a:ln w="0">
            <a:noFill/>
          </a:ln>
        </p:spPr>
      </p:pic>
      <p:pic>
        <p:nvPicPr>
          <p:cNvPr id="88" name="biglogo" descr=""/>
          <p:cNvPicPr/>
          <p:nvPr/>
        </p:nvPicPr>
        <p:blipFill>
          <a:blip r:embed="rId2"/>
          <a:stretch/>
        </p:blipFill>
        <p:spPr>
          <a:xfrm>
            <a:off x="3962520" y="228600"/>
            <a:ext cx="801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Заключения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чественные данные-один из главных факторов внесения гендерного аспекта в экономическую политик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обходимо повышать сознания НСС о связи между гендерным равноправием и экономической политикой (в рамках учебных программ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нание НСС политических вопросов и «повестки дня» важно для улучшения данны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ЭК может служить платформой для укрепления связи между гендером, экономикой и статистикой на региональных и субрегиональных уровнях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Times New Roman"/>
              </a:rPr>
              <a:t>Спасибо</a:t>
            </a:r>
            <a:r>
              <a:rPr b="1" lang="en-US" sz="3400" spc="-1" strike="noStrike">
                <a:solidFill>
                  <a:srgbClr val="ffcc00"/>
                </a:solidFill>
                <a:latin typeface="Times New Roman"/>
              </a:rPr>
              <a:t>!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Ева Руминска-Зим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Координатор по гендерным вопросам, ЕЭК О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Офис исполнительного секретаря ЕЭК О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Эл. почта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Ewa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Zimny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@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unece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еб-страница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http://www.unece.org/oes/gender/Welcom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0" y="914400"/>
          <a:ext cx="4191120" cy="357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914400"/>
                    <a:ext cx="41911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Гендерное равенство как вопрос экономики</a:t>
            </a:r>
            <a:r>
              <a:rPr b="1" lang="en-GB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министы экономисты:  выступают инициаторами и обеспечивают основ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ые экономисты присоединяются: женская занятость как фактор роста ВНП- «Экономист», апрель 2006 г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частного сектора- Давосский форум (взаимосвязь ВНП с гендерным равенством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ческие вопросы: предубеждения: мужчина-кормилец; семейная модель двойного труда и двойного бреме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Почему</a:t>
            </a:r>
            <a:r>
              <a:rPr b="1" lang="en-GB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?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ление глобализации: разнообразие, гибкость и наиболее эффективное использование ресурс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ение и низкая рождаемость: беспокойство А. Меркель и В. Пути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высокая конкурентоспособность при сохранении социальной слаженности (Лиссабонская стратег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женского экономического потенциала  в Восточной Европе и в особенности в СНГ (сокращение трудовой занятости, переход на нижеоплачиваемую работу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Как внести гендерный аспект в экономическую политику?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ее понимание «окупаемости» гендерного равноправия экономическими министерств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гументы и доказательства: ключевая роль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тистических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х и гендерного анали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пции и инструменты в раз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чных о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стях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я политики (бюджет, МСБ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ческая поддержка и механизмы внесения гендерного аспекта в экономические стратег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ндинавские страны: наиболее конкурентноспособные и наиболее «равноправные»: существует ли связь?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lnSpc>
                <a:spcPts val="4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Оценка вклада женщин в конкурентоспособность и экономический рост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лачиваемый труд – ключевой вопр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лачиваемый труд: влияние на количественные (уровень занятости) и качественные факторы экономического роста (образование и развитие навыков, включая непрерывное образование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также оценка  оптимального использования женского экономического потенциала (работа менеджерами, предпринимательство, разнообразие и гибкость занятости и т.д.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Проблемы производства данных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сение гендерного аспекта в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ро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ческие данные (общ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ы и бюджет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 социального обеспечения (гендерно-детализированные данные по получателям отпуска по уходу за детьми, стоимости детских садов и домов престарелых, пенсиям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ение данных в области трудовой занятости (зарплата, неофициальный сектор, самостоятельная предпринимательская деятельность, частичная трудовая занятость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 принятия решений в области экономики (общественное управление, банки и финансовый сектор, компании, экономические исследования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П</a:t>
            </a:r>
            <a:r>
              <a:rPr b="1" lang="ru-RU" sz="3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роблемы Центральной Азии, Южного Кавказа и др</a:t>
            </a: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ru-RU" sz="3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стран СНГ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едность и доход женщин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р.плата при официальной и неофициальной занятости,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й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й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ятельност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плюс социальные переводы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итуация в сельской местности, региональные различ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ендерный анализ общественных расходов и бюдж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КТ и новые возможности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ендерные предубеждения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ЕЭК как платформа для повышения сознания экономических политиков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зор и рекомендации Пекин +1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овая подпрограмма по содействию конкурентоспособности стран и развитию иннова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бочая группа по гендеру и экономике в Центральной Азии и на Южном Кавказе в рамках СП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овые проект Счета развития по региональным индикаторам Ц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Проект Счета развития по региональным индикаторам ЦРТ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ель проекта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силение социальной интеграции,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развит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я гендерного равенства и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здравоохранения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жидаемый результат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работка дополнительных целей и индикаторов ЦРТ для политиков, а также создание информационного цент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длагаемый фокус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кономические аспекты гендерного равноправия в Центральной Азии и на Южном Кавка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2:58Z</dcterms:created>
  <dc:creator>Segre</dc:creator>
  <dc:description/>
  <dc:language>en-US</dc:language>
  <cp:lastModifiedBy>nurbaeva</cp:lastModifiedBy>
  <dcterms:modified xsi:type="dcterms:W3CDTF">2006-08-28T09:53:41Z</dcterms:modified>
  <cp:revision>22</cp:revision>
  <dc:subject/>
  <dc:title>EC Social Agenda and ECE work</dc:title>
</cp:coreProperties>
</file>