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9D4C-33C6-4594-921E-6A68CF71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E131-3192-4EEF-A20F-A86B91D1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9702-056A-4A10-9C40-3DC1A6D8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F8CD-A68A-44AC-9911-48ACFE68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489D-5332-447B-8660-0569A3EE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7CE2-74FF-434E-984E-66CD0556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3C86-C86F-4086-8AE3-C56C28AE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0CDA-2FB4-44AD-93C2-127A7B3F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E638-5A84-4ECF-9AE6-3FDBE8CC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4F73-654B-47F9-82EC-10889537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2B48-9533-4D39-90D3-820E4369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F4EB-FFE8-4CA9-ACE7-EF1F45E74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2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7686-2482-4B04-A576-763979BA02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Ewa.Zimny@unece.org" TargetMode="External"/><Relationship Id="rId2" Type="http://schemas.openxmlformats.org/officeDocument/2006/relationships/hyperlink" Target="mailto:Ewa.Zimny@unece.org" TargetMode="External"/><Relationship Id="rId3" Type="http://schemas.openxmlformats.org/officeDocument/2006/relationships/hyperlink" Target="mailto:Ewa.Zimny@unece.org" TargetMode="External"/><Relationship Id="rId4" Type="http://schemas.openxmlformats.org/officeDocument/2006/relationships/hyperlink" Target="mailto:Ewa.Zimny@unece.org" TargetMode="External"/><Relationship Id="rId5" Type="http://schemas.openxmlformats.org/officeDocument/2006/relationships/hyperlink" Target="mailto:Ewa.Zimny@unece.org" TargetMode="External"/><Relationship Id="rId6" Type="http://schemas.openxmlformats.org/officeDocument/2006/relationships/hyperlink" Target="mailto:Ewa.Zimny@unece.org" TargetMode="External"/><Relationship Id="rId7" Type="http://schemas.openxmlformats.org/officeDocument/2006/relationships/oleObject" Target="../embeddings/oleObject1.bin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Missing links between gender, economy and statistic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3000" y="274284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Ewa Ruminska-Zimny, UNE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erence of European Statistici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of Experts on Gender Statis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va, 11-13 September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ecelogo" descr=""/>
          <p:cNvPicPr/>
          <p:nvPr/>
        </p:nvPicPr>
        <p:blipFill>
          <a:blip r:embed="rId1"/>
          <a:stretch/>
        </p:blipFill>
        <p:spPr>
          <a:xfrm>
            <a:off x="7620120" y="6248520"/>
            <a:ext cx="1333440" cy="482400"/>
          </a:xfrm>
          <a:prstGeom prst="rect">
            <a:avLst/>
          </a:prstGeom>
          <a:ln w="0">
            <a:noFill/>
          </a:ln>
        </p:spPr>
      </p:pic>
      <p:pic>
        <p:nvPicPr>
          <p:cNvPr id="88" name="biglogo" descr=""/>
          <p:cNvPicPr/>
          <p:nvPr/>
        </p:nvPicPr>
        <p:blipFill>
          <a:blip r:embed="rId2"/>
          <a:stretch/>
        </p:blipFill>
        <p:spPr>
          <a:xfrm>
            <a:off x="3962520" y="228600"/>
            <a:ext cx="8017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which “fit” the demand of policy makers is a key to have an impact on economic 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ledge of gender aspects of economic policies is essential (part of training program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well as knowledge of priority issues and agenda at regional/national levels is necessary for data improvement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E is a “natural” platform to strengthen the links between gender, economy and statistics at regional and sub-regional level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Thank you!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19320" y="4191120"/>
            <a:ext cx="72388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Times New Roman"/>
              </a:rPr>
              <a:t>Ewa Ruminska-Zim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cc00"/>
                </a:solidFill>
                <a:latin typeface="Times New Roman"/>
              </a:rPr>
              <a:t>UNECE Gender Focal 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cc00"/>
                </a:solidFill>
                <a:latin typeface="Times New Roman"/>
              </a:rPr>
              <a:t>Office of the Executive Secret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E-mail: </a:t>
            </a:r>
            <a:r>
              <a:rPr b="0" lang="en-GB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Ewa</a:t>
            </a:r>
            <a:r>
              <a:rPr b="0" lang="en-GB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.</a:t>
            </a:r>
            <a:r>
              <a:rPr b="0" lang="en-GB" sz="24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Zimny</a:t>
            </a:r>
            <a:r>
              <a:rPr b="0" lang="en-GB" sz="24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@</a:t>
            </a:r>
            <a:r>
              <a:rPr b="0" lang="en-GB" sz="2400" spc="-1" strike="noStrike" u="sng">
                <a:solidFill>
                  <a:srgbClr val="ff0033"/>
                </a:solidFill>
                <a:uFillTx/>
                <a:latin typeface="Times New Roman"/>
                <a:hlinkClick r:id="rId5"/>
              </a:rPr>
              <a:t>unece</a:t>
            </a:r>
            <a:r>
              <a:rPr b="0" lang="en-GB" sz="2400" spc="-1" strike="noStrike" u="sng">
                <a:solidFill>
                  <a:srgbClr val="ff0033"/>
                </a:solidFill>
                <a:uFillTx/>
                <a:latin typeface="Times New Roman"/>
                <a:hlinkClick r:id="rId6"/>
              </a:rPr>
              <a:t>.o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Web: http://www.unece.org/oes/gender/Welcome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286000" y="914400"/>
          <a:ext cx="4191120" cy="357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914400"/>
                    <a:ext cx="4191120" cy="35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Gender equality as an economic issue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minist economists: taking the lead and providing a framework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ching-up by “hard core” economists: women’s employment as an engine of GDP growth - The Economist April 2006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 sector interest - Davos Forum (links GDP and gender equali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icy issues: male breadwinner bias; double earner/ double burden  family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Why?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sure of globalization for diversity, flexibility and best use of resourc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eing and lower fertility: worries of A. Merkel and V. Puti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competitive while maintaining social coherence (Lisbon Strateg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s of women’s economic potential in EE and especially CIS  (lower participation, moving to lower paid job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How to engender economic policy-making?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awareness of economic ministries that gender equality pays 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guments/evidence: key role of data and gender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pts and tools in various policy areas (e.g. budgetary and SME polici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itical support and mechanisms to include gender into economic strategi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dic countries the most competitive and most equal: is there a lin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Measuring women’s contribution to competitiveness and growth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paid work - a key issu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id work: contribution to quantitative (e.g. participation rates) and qualitative growth factors (e.g. education and skills, incl. life-long learn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also measuring optimal use of women’s economic potential (management jobs; entrepreneurship but also value of diversity, flexibility et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Gaps and challenges for data producer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endering macro-economic data (public expenditure and budgetary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al security statistics (sex disaggregated data of beneficiaries of parental leaves, costs of child care services, care services for elderly, pensio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ment in employment data (wages, informal sector, self-employment, part-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onomic decision making (public administration, banks and financial sector, top/senior management companies, economic think-tanks/research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Specific challenges for Central Asia, south Caucasus &amp; other CIS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verty and women’s incomes (wages from formal, informal, and self-employment plus social transfer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tuation of rural women and regional dif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der analysis of public expenditure and bud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CT and new opportunities - is there a gender bias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ECE as a platform for raising awareness of economic policy makers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ijing +10 review and recommend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sub-programme on promoting countries’ competitiveness and innov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A and WG on Gender and Economy for Central Asia and South Caucasu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DA project on region specific MDGs indic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A Project on region-specific MDG indicator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ject objective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ngthening social inclusion, gender equality and health promotion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ected output: identification of additional MDG targets and indicators adopted by for policy-makers; MDG knowledge-hu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: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onomic aspects of gender equality i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  Asia and South Caucas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8T15:22:58Z</dcterms:created>
  <dc:creator>Segre</dc:creator>
  <dc:description/>
  <dc:language>en-US</dc:language>
  <cp:lastModifiedBy>Ruminska-Zimny</cp:lastModifiedBy>
  <dcterms:modified xsi:type="dcterms:W3CDTF">2006-09-13T08:18:28Z</dcterms:modified>
  <cp:revision>21</cp:revision>
  <dc:subject/>
  <dc:title>EC Social Agenda and ECE work</dc:title>
</cp:coreProperties>
</file>