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ECElogoWhite200px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724280" y="63244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9EF0B699-7096-4989-AAA8-EDBC17D35222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UNECElogoWhite200px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99"/>
                </a:solidFill>
                <a:latin typeface="Arial"/>
              </a:rPr>
              <a:t>Challenges in measuring gender and minoriti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99"/>
                </a:solidFill>
                <a:latin typeface="Arial"/>
              </a:rPr>
              <a:t>Govinda Dahal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1600" spc="-1" strike="noStrike">
                <a:solidFill>
                  <a:srgbClr val="ffff99"/>
                </a:solidFill>
                <a:latin typeface="Arial"/>
              </a:rPr>
              <a:t>(presented by E.Bisogno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UNECE Work Session on Gender Statistics, 11-13 September 200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3716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E/CES/GE.30/2006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2. Select the best criteri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There is no ‘best’ criteri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very country should select the most appropriate according to the contex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However, once selected, it should be applied consistently across the boar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3. Address data qualit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Quality is an issue, especially when the subjective approach is select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nfidentiality must be assured and respondents must be aware of i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elf declaration must be ensured: open-ended questions are better, multiple options allow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urvey sampling frame to include minority grou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ample size to ensure minority groups, over-sampling may be necessar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inority status: what is it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Very complex, country specific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fferent dimensions (ethnicity, race, religion, social groups, sexual orientation, disability status, etc.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 choice is made here: ethno-cultural characteristic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(often in relation with immigrant background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policy issu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ouble disadvantage/discrimination of women</a:t>
            </a: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: as minority members + as women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Gender roles as key issue to hinder or </a:t>
            </a: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to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facilitate integration of minority communiti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The statistical issu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ata gap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fferent criteria to identify minority group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ata qua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1. Data gap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sking about ethnicity or related aspects can be very sensitiv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or example: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2000 Census Round, 40% of ECE countries did not ask about ethnicity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Little availability of MDG indicators by ethnic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</a:rPr>
              <a:t>As a consequence, few data available, especially in key areas for gender analys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2. Different defini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ubjective criteria: ethnic affili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he ‘best’ approach, if based on self-decla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Based on individual perception, it can chang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Objective approach: foreign backgroun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pecially valid to identify immigrant communities, including descendants of migrants (based on place of birth and place of birth of parent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3. Data qualit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thnic group can be a stigm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tatistical problems deriving from small size of ethnic minoriti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dministrative data, when available, can have accuracy problem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Some recommenda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crease data availabi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lect the best criteria according to national contex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ata quality is cruci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1. Increase data availabilit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Mainstream ‘minorities’ in all statistical production, especially in gender relevant area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opulation census: what are the plans for next round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Household surveys: are the same questions used across the board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dministrative sources: very important, especially when an objective approach is u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, 11-13 Sept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bisogno enrico</cp:lastModifiedBy>
  <dcterms:modified xsi:type="dcterms:W3CDTF">2006-09-11T07:37:46Z</dcterms:modified>
  <cp:revision>74</cp:revision>
  <dc:subject/>
  <dc:title>Title of the Presentation</dc:title>
</cp:coreProperties>
</file>