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DE9-086D-420F-AEA4-06073CDE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9B5-3939-4B97-B470-7E7FE363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7CB-A69C-4B39-8329-FDB0D5D9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AAE-4C99-4128-8CAB-ED0CFDDB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8CC-86D8-46D7-B33C-D934B4B1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318-A3F4-4220-B325-392A1552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71C-24B1-41EC-95F9-18DF33E7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E0A-8242-4873-B585-2F80D812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00F-E78D-44EE-96BE-A273DEAF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2EF-4528-44B4-AF7A-36871F20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D31-2B95-4425-850D-3C53A205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0A3-AFE0-4312-965A-743AF07A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3716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79064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86BD10-74B0-4E66-A793-064CC3824AA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8680" y="5715000"/>
            <a:ext cx="5158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ETHNIC MINORITIES, GENDER AND DISCRIMINATION IN ESS</a:t>
            </a:r>
            <a:br>
              <a:rPr sz="3200"/>
            </a:b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(shorter version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Ko Oudho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tatistics Netherland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EB1-E4DF-422A-A812-314132EAC4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7520" y="554040"/>
            <a:ext cx="92390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752-3F2B-4542-9BFE-6D1B37E8BA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239400" cy="57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002-B315-41A2-9127-13C73674DB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7520" y="558720"/>
            <a:ext cx="92390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5E5-A3BF-4723-A995-67B0DD7360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47520" y="558720"/>
            <a:ext cx="92390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D4E-55CB-4ABE-9D0E-64EFF9B8A5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47520" y="554040"/>
            <a:ext cx="92390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FE2-1649-49EE-9405-57D2AA03CC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ystematic bias in ethnic groups in ESS-data because of language-related selectivity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Validity of discrimination measure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elf assessment as member of 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erceived discrimination of 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formation source of perceived discrimination (significant others or media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ESS offers much mor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fafd00"/>
                </a:solidFill>
                <a:uFillTx/>
                <a:latin typeface="Arial"/>
              </a:rPr>
              <a:t>http://www.europeansocialsurvey.org</a:t>
            </a: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2E0-33BF-4FCC-B97A-EE6AC86328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EMES IN PRESENTATIO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Discrimin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Risk popu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Measurement and dat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Final quest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D65-493A-4B25-9277-4989FC0494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Discrimination and risk population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Discrimination defined shortly: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Treatment or affect based on class or category rather than individual mer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easonable exceptions? Law-forbidden grounds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Risk population derived from ground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acial or ethnic minorit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Multiple discrimination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thnic minorities w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Research question: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ore discrimination than other wom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ore discrimination than ethnic minorities m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767-AADE-45B0-A673-476A6670D7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S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European Social Surve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Two-yearly survey 2002/3 + 2004/5 +…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Freely available (non-commercial)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tandardisation and comparabilit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Translation procedur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Random sample 15+ year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Only in major (&gt;5%) languages in country !!!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26 countries all togethe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Pooled and reweighted data (OK??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49E-DE46-4C53-B971-6C82031EC4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Measurement risk population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Citizenship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6040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e you a citizen of [country]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(Non-) western backgroun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6040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ere you born in [country]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as your father born in [country]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as your mother born in [country]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Belongingness minority ethnic group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60400" indent="-3808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o you belong to a minority ethnic group in [country]?  (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“Belong” refers to attachment or identifica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Yes/No/Don’t know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FA9-12D5-481A-B12D-74F0662404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7520" y="558720"/>
            <a:ext cx="92390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A03-486D-41BB-870F-19E7E26CA7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Measurement risk populations (2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Unique crossing of criteria risk popu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One example (in spite of language bias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hare of ethnic minorities among foreign background (western/non-western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arget population of EU-LFS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thnic minority group among non-western migrants + descendants = 1,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thnic minority group among native background = 1,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444-3708-4B84-BC99-9BCE00BD24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7520" y="558720"/>
            <a:ext cx="92390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B13-3817-4341-980B-E4F51EC3E4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Measurement discriminatio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afd00"/>
                </a:solidFill>
                <a:latin typeface="Arial"/>
              </a:rPr>
              <a:t>Would you describe yourself as being a member of a group that is discriminated against in this country? 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f yes…...&gt;&gt;&gt;&gt;&gt;&gt;&gt;&gt;&gt;</a:t>
            </a:r>
            <a:r>
              <a:rPr b="0" lang="nl-NL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afd00"/>
                </a:solidFill>
                <a:latin typeface="Arial"/>
              </a:rPr>
              <a:t>On what grounds is your group discriminated against? 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afd00"/>
                </a:solidFill>
                <a:latin typeface="Arial"/>
              </a:rPr>
              <a:t>PROBE: </a:t>
            </a:r>
            <a:r>
              <a:rPr b="0" lang="nl-NL" sz="1400" spc="-1" strike="noStrike">
                <a:solidFill>
                  <a:srgbClr val="fafd00"/>
                </a:solidFill>
                <a:latin typeface="Arial"/>
              </a:rPr>
              <a:t>‘What other grounds?’ </a:t>
            </a:r>
            <a:r>
              <a:rPr b="1" lang="nl-NL" sz="1400" spc="-1" strike="noStrike">
                <a:solidFill>
                  <a:srgbClr val="fafd00"/>
                </a:solidFill>
                <a:latin typeface="Arial"/>
              </a:rPr>
              <a:t>CODE ALL THAT APPLY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Colour or r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Nationalit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elig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Langua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Ethnic grou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A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Gend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Sexualit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Disabilit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ther (</a:t>
            </a: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WRITE IN</a:t>
            </a: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)___________________________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(Don’t know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ork Session on Gender Statistics 11-13 september 2006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49D-760F-49D0-8DD0-9D2388FE56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0:15:21Z</dcterms:created>
  <dc:creator>Oudhof</dc:creator>
  <dc:description/>
  <dc:language>en-US</dc:language>
  <cp:lastModifiedBy>Oudhof</cp:lastModifiedBy>
  <dcterms:modified xsi:type="dcterms:W3CDTF">2006-09-17T19:33:55Z</dcterms:modified>
  <cp:revision>19</cp:revision>
  <dc:subject/>
  <dc:title>ENGENDERED STATISTICS?</dc:title>
</cp:coreProperties>
</file>