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24C-832F-4DD1-9850-A3BFFBD6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B0C-7135-460D-870B-02BB8BEF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FBF-4EA1-4293-B006-C7C8A491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569-512E-4F85-8379-10113F01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E3A-2F2C-4B7E-9906-089A608C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805-CE0F-4CE6-94A5-F5BCEF8B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062-3D3D-416E-B1C5-AAA5EC8A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3A5-9453-4CCF-B10A-A75E352C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17E-0F24-42D4-A762-698CDE94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EE2-5B37-4FF0-AB2D-3D7DC430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2D6-41D9-4627-BCA6-E0998784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9BC-E14B-497C-A3C3-AD7F6FBC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B71F-EFD7-42E4-8626-1B6DB4C2C5C5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38080" cy="56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Gender and minorities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NECE Gender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neva, 11-13 septembe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skia Keuzenk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ocial and Cultural Planning Office,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Labour participation (age 15-64)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m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rkish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38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59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rocca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1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54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rinames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64%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68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tillea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53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63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genous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66%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80%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ttitude: working mothers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m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rkish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31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4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rocca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31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rinames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5%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3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tillea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7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genous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3%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1%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Proportion with modern attitude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m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rkish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6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3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rocca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35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rinames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54%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38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tillea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5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38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genous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71%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52%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Use of childcare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Use of childcare (0-4) by working parent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orma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rkish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53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rokkans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0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9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rinames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66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9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tilleans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76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64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genous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69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8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807732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luntary work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rkish and Moroc. women +/- 15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rinamese and Ant. women +/- 25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genous women more than 40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Concluding remarks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778040"/>
            <a:ext cx="597852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th integration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mancipation policies needed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343400"/>
            <a:ext cx="59785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d for statistics of women and men from different ethnic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3520" y="2615760"/>
            <a:ext cx="59785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ok and summary in English on www.scp.n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Gender and minorities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w to define ethnic minorities?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hat are relevant indicators on gender and ethnicity?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hat data sources are available?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61760" y="411480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tch case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Definition (see table 1) 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lgium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anc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rmany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therlands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t least one parent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rn abroad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United Kingdom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ersonal perception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wed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rn abroad and (1)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rent also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hare of foreigners (see table 1) 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hare according to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regular   citizenship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finitio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lgium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itizenship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ranc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itizenship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12         12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rmany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itizenship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9           9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therland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t least one paren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19           4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nited K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rsonal perceptio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wed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orn abroad and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rent(s) also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1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Choice of indicators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utch policies: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evel of education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bour participation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ttitude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gisterdata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gular surveys, but: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n-response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mall sample size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cific survey among minoritie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72600" y="228600"/>
            <a:ext cx="3808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Times New Roman"/>
              </a:rPr>
              <a:t>Presentatie 6 maart 2006</a:t>
            </a:r>
            <a:endParaRPr b="0" lang="en-US" sz="4000" spc="-1" strike="noStrike">
              <a:solidFill>
                <a:srgbClr val="ccff33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5000" y="66600"/>
            <a:ext cx="473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astery of Dutch language (h of h)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m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rkish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9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8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rocca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4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9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rinames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1%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0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tillea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1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1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No / little education (age 15-64)</a:t>
            </a:r>
            <a:endParaRPr b="0" lang="en-US" sz="36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m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rkish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61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4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rocca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63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rinames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5%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9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tillea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2%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8%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genous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0%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9%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14:06:01Z</dcterms:created>
  <dc:creator>Jeroen Boelhouwer</dc:creator>
  <dc:description/>
  <dc:language>en-US</dc:language>
  <cp:lastModifiedBy>Saskia Keuzenkamp</cp:lastModifiedBy>
  <dcterms:modified xsi:type="dcterms:W3CDTF">2006-09-08T15:12:38Z</dcterms:modified>
  <cp:revision>168</cp:revision>
  <dc:subject/>
  <dc:title>Geen diatitel</dc:title>
</cp:coreProperties>
</file>