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79B-C832-492E-A853-01E22AF8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D5C-09D3-4E56-B890-E74B807E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B40-EBE5-4F14-B1D0-8D61DC34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1C1-CCE4-4AAE-9CF2-7D9E9204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B43F-4BCD-413A-AD97-7B31180E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8540-891C-4BF5-A888-DEB46F4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5EF-6DF9-4BCD-AFB5-42C2C96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4C1B-8267-4B71-8E40-C1691E65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4CF0-EAF7-4CCC-9D83-788B340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9BB-9589-4074-9350-A376D14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F3C-ADBB-4AAE-9DBD-7CE0B73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C08-F41D-438F-B2F8-D34C67F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2D51-DB4A-44A6-9CC2-C3D4BED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2893-AF43-414B-9FA1-7DC8486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7B1-9B7D-4C98-90C9-689FD10A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2D2-963C-4F82-B064-EFE504F7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EADE-72AD-4D76-956A-AC1AC504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AA3-B9FC-463B-9D38-B1E82A25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4CC-ED93-4803-8B3B-F6CE12C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F82-9A5E-404A-A272-5EE9604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2B1-E36B-4802-BDDB-0AFB6B4A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7AB-DD45-4DC8-9DAA-F94B3E13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A19-483D-4774-B85D-9ED6C2A3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91A-7B3B-4B2A-8E39-54A3D84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0A9-2D5E-4426-BD75-FF98779B2FD1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FAA-5783-4701-B7AF-C46A2569629A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B3A-9E64-4FA1-B063-18BD57B1AAB9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55D-FACF-4666-9686-856356C3BD0E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пыт работы в качестве пользователя с базой данных гендерной статистики ЕЭК ООН</a:t>
            </a:r>
            <a:br>
              <a:rPr sz="4000"/>
            </a:br>
            <a:br>
              <a:rPr sz="4800"/>
            </a:br>
            <a:r>
              <a:rPr b="0" lang="ru-RU" sz="1400" spc="-1" strike="noStrike">
                <a:solidFill>
                  <a:srgbClr val="660066"/>
                </a:solidFill>
                <a:latin typeface="Tahoma"/>
              </a:rPr>
              <a:t>Любовь Агеева, заместитель начальника отдела Управления статистики труда, образования, науки и культуры Федеральной службы государственной статистики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A17-8DC3-4D05-BA2D-EC503103C4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9A2F9A-2689-4950-BA64-FEBFB8544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14440" y="1981080"/>
          <a:ext cx="63151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4440" y="1981080"/>
                    <a:ext cx="6315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C4B-9B32-45FB-80BB-A5C92F8308E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5DB67-8BEC-4A3A-AE79-ADAC0931E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- министры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7640" y="1981080"/>
          <a:ext cx="730728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981080"/>
                    <a:ext cx="730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46A-487A-4E9F-A477-C4ACA543BF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868CC-E432-4A66-A7BF-5F0ECAF77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На наш взгляд, требуют уточнения методологические положения, определения показателей, источники информации. Так, определения показателей представлены без учета особенностей по странам. Например, в обследовании рабочей силы возраст опрашиваемых в разных странах различный, в базе данных это не отражено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ледует конкретизировать формулировку источника данных, т.е. Сноску источник «База данных статистического отдела ЕЭК ООН, составленная из данных на уровне страны: например, перепись населения, экономическая перепись, выборочное обследование населения,  выборочное или сплошное обследование организаций, социологический опрос и т.д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E3C-C6F3-491C-9CEC-F5B7EFE0C6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D763D-E780-44E1-86AE-8DCC23F18BAE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Как Вам известно, секретариат ООН разработал структуру мониторинга, включающего 48 показателей (индикаторов), для измерения степени прогресса, который происходит в странах в части реализации Целей, указанных в Декларации тысячелетия. В этой связи предлагается проанализировать систему показателей гендерной статистики на предмет наличия 48 индикаторов и дополнить ее недостающими гендерно-чувствительными показателями, так например, по цели 7 «Обеспечение устойчивого улучшения состояния окружающей среды», борьба с ВИЧ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ПИД и другие. Предусмотреть возможность выделения показателей человеческого развития в рамках Целей Декларации тысячелетия или создать отдельный раздел базы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326-514B-4988-94F0-2CA64555F5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21397-8D6A-4092-9CCB-CD1561547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Требуется дополнительное методологическое уточнение по показателям, в расчете которых используются данные переписи населения, т.е представленные данные в базе являются  пересчитанными  с учетом последней переписи населения или нет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 базе данных гендерной статистики ЕЭК ООН по многим показателям, вместо данных проставлены точки и нет пояснений в отношении того: то ли явление отсутствует, то ли нет данных. Поэтому, как нам представляется, следует ввести условные обозначения, т.е. «…» - нет данных, «-» - явление отсутствует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Функция «сохранить как» нуждается в доработке, в части вывода таблиц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xcel –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некорректная выгрузка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659-718A-4FD3-BA3B-C3D5B0722E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307CC-2314-48CD-ACA7-8872284273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Численность насе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09720" y="1981080"/>
          <a:ext cx="55231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981080"/>
                    <a:ext cx="55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4D2-7A47-4B39-9872-EB35E921868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643E1-DEF5-46F9-9D2A-C99E4C1D64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Толкование данных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362320"/>
          <a:ext cx="7772400" cy="236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77724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CE1-3BED-42B3-9A77-19747FFE9C5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BA7B2-3094-4EA4-900F-131D9E0CE6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Для удобства работы с базой данных гендерной статистики предлагается разработать «Руководство пользователя», в котором подробно описать все возможности пользователя с базой данных.</a:t>
            </a:r>
            <a:br>
              <a:rPr sz="2000"/>
            </a:b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21D-4A2E-45BD-BAFE-78AEC1A7D6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135E0-D8D2-455E-99E9-5597D136D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мы для обсужд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Использование базы данных по гендерной статистике ЕЭК ООН пользователями Росс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редложения по дальнейшему совершенствованию базы данных по гендерной статистике ЕЭК ОО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D89-B617-478C-9CBA-0726A6F782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C8181-A696-4E19-8A85-692CC9DE35B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спользование базы данных по гендерной статистике ЕЭК ООН пользователями России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дним из важнейших направлений работы в области гендерной статистики, после разработки данных, является представление пользователям статистических данных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 этом направлении российскими статистиками накоплен определенный опыт, начиная с 1998 года на систематической основе издается за счет средств федерального бюджета специализированный сборник «Женщины и мужчины России»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борник представляется потребителям на бумажном носителе и в электронном вид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BEC-B494-4F57-B27E-E53F4A6B56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F466-F8B2-452D-BBD0-8D08BF89B23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грамма сборника разрабатывается с учетом предложений пользователей гендерной статистики: органов государственной власти, неправительственных организаций, научной общественности. В сборнике отражаются основные индикаторы ключевых областей гендерной статистики, предусмотренных в рамках платформы действий Пекинской конференции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Для представления более подробных данных, характеризующих отдельные гендерные проблемы, используются национальные отраслевые статистические базы Росстата и других министерств и ведомств, осуществляющих сбор и разработку статистических данных в гендерном аспект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C21-315E-4FE7-9FBB-41CDB507D3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F1EC9-85AB-4B8C-827F-53E7F259E25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База данных по гендерной статистике ЕЭК ООН, созданная по решению рабочей сессии ЕЭК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ОН в 2000 году г.Орвието (Италия), является одной из прогрессивных форм представления пользователям стран восточной Европы и СНГ данных по гендерной статистик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иятно отметить, что многие предложения, высказанные участниками предыдущей сессии по гендерной статистике (Женева, октябрь 2004 г.) по дальнейшему совершенствованию веб-сайта и базы данных по гендерной статистике в настоящее время реализован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озданный ЕЭК ООН и ПРООН, сайт гендерной статистики предлагает обширную информацию в области гендерной статистики и гендерных проблем: материалы по производству гендерной статистики, публикации, глоссарий гендерных определений, метаданные, данные по странам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1E4-4749-4F48-BBE8-3BD27794AC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F2E45-C49E-44A5-BCC8-5AC294A9E530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актическая ценность базы данных состоит в том, что она содержит набор ключевых социально-экономических индикаторов, сгруппированных по разделам: гендерные обзоры по странам, семьи и домашние хозяйства, занятость и экономика, образование и коммуникации, общественная жизнь и принятие решений, здравоохранение, правонарушение и насили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собую благодарность заслуживает предпринятые усилия статистическим отделом ЕЭК ООН по созданию российской версии баз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рограммно-технологические возможности базы позволяют  в легкодоступном для пользователей любого уровня подготовки получить, представленные в ней данны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589-DFE4-45E3-BCBD-D0DB7899BB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46B4E-5C62-40D4-9F61-E7F3ED1B5447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должени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По имеющимся в программе функциям можно  сформировать таблицы в необходимом формате (вид таблиц можно довести автоматически и вручную) , а также в виде диаграмм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Росстат и другие российские потребители используют данные базы по гендерной статистике ЕЭК ООН для международных сопоставлений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536-959D-4B8B-BFCF-03BD1053D2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BF33-519C-4225-9A13-CA9EF2C6F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редложения по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дальнейшему совершенствованию базы данных по гендерной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татистике ЕЭК ООН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Целью моего выступления не является давать подробную характеристику возможностей базы, они хорошо известны участникам сессии, позвольте высказать предложения по дальнейшему совершенствованию содержания баз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Ценность любой базы статистических данных заключается в своевременной ее актуализации. К сожалению период, за который в базе заполнены данные по гендерной статистике по отдельным показателям, заканчиваются 2001-2002 годами. В этой связи предлагаем предусмотреть программно-технологическую возможность национальным статистическим службам актуализировать данные своей страны, возможно, через администратора базы по гендерной статистик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136-7672-440A-95F3-634FB724C2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6A69D-D193-44E0-8454-CE355AFC4011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Наличие данных по странам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65120" y="1981080"/>
          <a:ext cx="64137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5120" y="1981080"/>
                    <a:ext cx="641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373-F830-45D3-BABE-8A8C2CDA5A4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15618-AF80-4C25-9026-F7BDEF5C9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9-07T11:25:01Z</dcterms:modified>
  <cp:revision>7</cp:revision>
  <dc:subject/>
  <dc:title>Презентация PowerPoint</dc:title>
</cp:coreProperties>
</file>