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558-B2FF-4F11-AD1B-F2DBCE68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2D9-0392-4C7E-9D6F-1409B121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DEF-8C3C-4E16-B4F2-8A7BBEB4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2BE-F9C9-4D9C-A899-04163231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A526-C00F-45E1-972D-6E1BABE2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B140-FC8C-4889-8D07-628C1443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7BBF-2D17-4214-8BF3-1DF428B6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519A-6FF3-41C4-BA1A-E0FA37E6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7B05-55E0-4D54-A4F2-039B3170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72A3-2703-4723-9DB4-B14CD0E3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EE16-D542-4056-968E-816B6316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1B5-DA16-4CAB-B6F8-1F69F537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0B4F-E3F8-4B13-BC15-32886300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6C28-8C22-4703-AEB8-0C1A9839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F6F0-8F51-4E4F-A382-5C331EF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B8C7-FF7E-4298-8CCC-95FF481C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F492-8AA2-4A46-9A71-839DC302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5BA-653D-41FA-BBCB-A9762D48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7B8-7921-4E14-8757-F54D4CFE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D7D-8CA8-4EB5-8CA7-8371C7CA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055-9242-4C9D-843F-437E75DB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A41-C772-42EA-B797-BAE5BC2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9C1-5B5A-45FE-BDCC-3391713F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345-55C4-4060-BAA3-4C21B60A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375A-8654-4D27-BF50-4098EF34D941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2C21-B997-43DB-809C-8CD6CAEBA72F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126E-0B03-447E-86A2-ECCB17415634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7328-C410-4A53-BF3F-6A3CA55AAEA0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пыт работы в качестве пользователя с базой данных гендерной статистики ЕЭК ООН</a:t>
            </a:r>
            <a:br>
              <a:rPr sz="4000"/>
            </a:br>
            <a:br>
              <a:rPr sz="4800"/>
            </a:br>
            <a:r>
              <a:rPr b="0" lang="ru-RU" sz="1400" spc="-1" strike="noStrike">
                <a:solidFill>
                  <a:srgbClr val="660066"/>
                </a:solidFill>
                <a:latin typeface="Tahoma"/>
              </a:rPr>
              <a:t>Любовь Агеева, заместитель начальника отдела Управления статистики труда, образования, науки и культуры Федеральной службы государственной статистики</a:t>
            </a: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599A-DC87-495F-AB64-94B198D7989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FB12B96-393C-448D-9F33-24E9995A7F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14440" y="1981080"/>
          <a:ext cx="631512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4440" y="1981080"/>
                    <a:ext cx="6315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810-5D32-4639-8C44-E9C8E3ED5C3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379B7-207E-45FF-8101-9160F03B50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- министры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17640" y="1981080"/>
          <a:ext cx="730728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7640" y="1981080"/>
                    <a:ext cx="7307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B5E-C137-4B49-8C4A-5A007708E64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7BC08-F317-42C5-8ABF-EECB076B7B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На наш взгляд, требуют уточнения методологические положения, определения показателей, источники информации. Так, определения показателей представлены без учета особенностей по странам. Например, в обследовании рабочей силы возраст опрашиваемых в разных странах различный, в базе данных это не отражено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ледует конкретизировать формулировку источника данных, т.е. Сноску источник «База данных статистического отдела ЕЭК ООН, составленная из данных на уровне страны: например, перепись населения, экономическая перепись, выборочное обследование населения,  выборочное или сплошное обследование организаций, социологический опрос и т.д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4D0-DF9B-4ACD-BC80-D98F84D7A7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2E9E3-BC4E-4D16-988C-C4599F717849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Как Вам известно, секретариат ООН разработал структуру мониторинга, включающего 48 показателей (индикаторов), для измерения степени прогресса, который происходит в странах в части реализации Целей, указанных в Декларации тысячелетия. В этой связи предлагается проанализировать систему показателей гендерной статистики на предмет наличия 48 индикаторов и дополнить ее недостающими гендерно-чувствительными показателями, так например, по цели 7 «Обеспечение устойчивого улучшения состояния окружающей среды», борьба с ВИЧ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ПИД и другие. Предусмотреть возможность выделения показателей человеческого развития в рамках Целей Декларации тысячелетия или создать отдельный раздел базы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BD6-5A64-4024-B467-05285CAAEA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1E517-D24F-4B4F-B422-9FBCF5CAD7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Требуется дополнительное методологическое уточнение по показателям, в расчете которых используются данные переписи населения, т.е представленные данные в базе являются  пересчитанными  с учетом последней переписи населения или нет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В базе данных гендерной статистики ЕЭК ООН по многим показателям, вместо данных проставлены точки и нет пояснений в отношении того: то ли явление отсутствует, то ли нет данных. Поэтому, как нам представляется, следует ввести условные обозначения, т.е. «…» - нет данных, «-» - явление отсутствует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Функция «сохранить как» нуждается в доработке, в части вывода таблиц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Excel –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некорректная выгрузка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7E6-4EED-4456-AFDF-1E30A41D3F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2B439-14DF-474B-9D23-7264E1D703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Численность населения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809720" y="1981080"/>
          <a:ext cx="552312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9720" y="1981080"/>
                    <a:ext cx="5523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D5F-A57A-4A51-90AA-369C7121067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F872F-07A0-4525-8625-1CACEC0986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Толкование данных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2362320"/>
          <a:ext cx="7772400" cy="236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362320"/>
                    <a:ext cx="77724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C13-76CE-4BB1-A521-F69EF5B7894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3F46A-18F2-491F-8CB3-5A03A39045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Для удобства работы с базой данных гендерной статистики предлагается разработать «Руководство пользователя», в котором подробно описать все возможности пользователя с базой данных.</a:t>
            </a:r>
            <a:br>
              <a:rPr sz="2000"/>
            </a:b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4FD-1D41-4E3D-A2B0-4496DAADFC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28672-AD12-43E4-A720-1F321B196A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емы для обсужд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Использование базы данных по гендерной статистике ЕЭК ООН пользователями России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редложения по дальнейшему совершенствованию базы данных по гендерной статистике ЕЭК ООН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5D3-1C69-4520-9499-3947D07A9F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DB3DB-7B24-4CD2-8441-776855BB094E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спользование базы данных по гендерной статистике ЕЭК ООН пользователями России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Одним из важнейших направлений работы в области гендерной статистики, после разработки данных, является представление пользователям статистических данных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В этом направлении российскими статистиками накоплен определенный опыт, начиная с 1998 года на систематической основе издается за счет средств федерального бюджета специализированный сборник «Женщины и мужчины России»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борник представляется потребителям на бумажном носителе и в электронном виде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9C6-0E62-4BC3-9BCC-F5BBF3C192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C9D97-C212-4119-B35C-FC71CAB1C147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Программа сборника разрабатывается с учетом предложений пользователей гендерной статистики: органов государственной власти, неправительственных организаций, научной общественности. В сборнике отражаются основные индикаторы ключевых областей гендерной статистики, предусмотренных в рамках платформы действий Пекинской конференции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Для представления более подробных данных, характеризующих отдельные гендерные проблемы, используются национальные отраслевые статистические базы Росстата и других министерств и ведомств, осуществляющих сбор и разработку статистических данных в гендерном аспекте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5BA-3D97-47E8-A01D-32271326A4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50198-7234-4B67-80C4-8EDEED7332CB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База данных по гендерной статистике ЕЭК ООН, созданная по решению рабочей сессии ЕЭК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ПРООН в 2000 году г.Орвието (Италия), является одной из прогрессивных форм представления пользователям стран восточной Европы и СНГ данных по гендерной статистике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Приятно отметить, что многие предложения, высказанные участниками предыдущей сессии по гендерной статистике (Женева, октябрь 2004 г.) по дальнейшему совершенствованию веб-сайта и базы данных по гендерной статистике в настоящее время реализованы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озданный ЕЭК ООН и ПРООН, сайт гендерной статистики предлагает обширную информацию в области гендерной статистики и гендерных проблем: материалы по производству гендерной статистики, публикации, глоссарий гендерных определений, метаданные, данные по странам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36B-8B86-4B51-9FEA-4F8EBABEE4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18E51-25A0-4BCF-83A1-00B9116EA62F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Практическая ценность базы данных состоит в том, что она содержит набор ключевых социально-экономических индикаторов, сгруппированных по разделам: гендерные обзоры по странам, семьи и домашние хозяйства, занятость и экономика, образование и коммуникации, общественная жизнь и принятие решений, здравоохранение, правонарушение и насилие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Особую благодарность заслуживает предпринятые усилия статистическим отделом ЕЭК ООН по созданию российской версии базы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Программно-технологические возможности базы позволяют  в легкодоступном для пользователей любого уровня подготовки получить, представленные в ней данные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E3D-6928-4EC5-9F96-A3FE28963C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A32B7-FC98-4E54-BCF2-1C00E6C7AB2F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По имеющимся в программе функциям можно  сформировать таблицы в необходимом формате (вид таблиц можно довести автоматически и вручную) , а также в виде диаграмм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Росстат и другие российские потребители используют данные базы по гендерной статистике ЕЭК ООН для международных сопоставлений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A9C-0301-4CE4-8569-C6A7464694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03FE6-153C-4EA6-AE72-6F010BA312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Предложения по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дальнейшему совершенствованию базы данных по гендерной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статистике ЕЭК ООН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Целью моего выступления не является давать подробную характеристику возможностей базы, они хорошо известны участникам сессии, позвольте высказать предложения по дальнейшему совершенствованию содержания базы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Ценность любой базы статистических данных заключается в своевременной ее актуализации. К сожалению период, за который в базе заполнены данные по гендерной статистике по отдельным показателям, заканчиваются 2001-2002 годами. В этой связи предлагаем предусмотреть программно-технологическую возможность национальным статистическим службам актуализировать данные своей страны, возможно, через администратора базы по гендерной статистике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59E-E64E-496B-BE7C-144913F36F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0383B-09A8-407F-B1FD-ED31D88DDC3A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Наличие данных по странам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365120" y="1981080"/>
          <a:ext cx="641376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65120" y="1981080"/>
                    <a:ext cx="6413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D89-222F-41A0-95AE-0B1F2218DFD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117D1-669C-4476-873C-C2E50F2705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9-07T11:25:01Z</dcterms:modified>
  <cp:revision>7</cp:revision>
  <dc:subject/>
  <dc:title>Презентация PowerPoint</dc:title>
</cp:coreProperties>
</file>