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5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188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76200" y="4419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92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188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76200" y="5175360"/>
            <a:ext cx="2060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5175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4419360"/>
            <a:ext cx="3123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5175360"/>
            <a:ext cx="640080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05400"/>
            <a:ext cx="838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UNECElogoWhite200px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11-13 Сентября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Пьера Тортора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Отдел Статистики ЕЭК О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629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Slide </a:t>
            </a:r>
            <a:fld id="{E7A225E8-BF44-4AA3-AE67-4FB029FD5234}" type="slidenum">
              <a:rPr b="1" lang="en-GB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8088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094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Отдел Статистики ЕЭК О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UNECElogoWhite200px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45720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nece.org/stats/gender/timeuse/Downloads/TUS_Armenia.pdf" TargetMode="External"/><Relationship Id="rId2" Type="http://schemas.openxmlformats.org/officeDocument/2006/relationships/hyperlink" Target="http://www.scp.nl/onderzoek/tbo/english/default.htm" TargetMode="External"/><Relationship Id="rId3" Type="http://schemas.openxmlformats.org/officeDocument/2006/relationships/hyperlink" Target="http://www.abs.gov.au/websitedbs/D3110129.NSF/a195bf346aaad91aca25671d0009ca17/4aaf6aec86f868adca25684300185d8e!OpenDocument" TargetMode="External"/><Relationship Id="rId4" Type="http://schemas.openxmlformats.org/officeDocument/2006/relationships/hyperlink" Target="http://www.abs.gov.au/Ausstats/abs@.nsf/0/DE84427EFEB3834BCA2568A9001393BD?Open" TargetMode="External"/><Relationship Id="rId5" Type="http://schemas.openxmlformats.org/officeDocument/2006/relationships/hyperlink" Target="http://www.stats.govt.nz/people/arts/time-use.htm" TargetMode="External"/><Relationship Id="rId6" Type="http://schemas.openxmlformats.org/officeDocument/2006/relationships/hyperlink" Target="http://www.statbel.fgov.be/surveys/tus.asp" TargetMode="External"/><Relationship Id="rId7" Type="http://schemas.openxmlformats.org/officeDocument/2006/relationships/hyperlink" Target="http://www.data-archive.ac.uk/findingData/snDescription.asp?sn=5227" TargetMode="External"/><Relationship Id="rId8" Type="http://schemas.openxmlformats.org/officeDocument/2006/relationships/hyperlink" Target="http://www.statcan.ca/cgi-bin/imdb/p2SV.pl?Function=getSurvey&amp;SDDS=4503&amp;lang=en&amp;db=IMDB&amp;dbg=f&amp;adm=8&amp;dis=2#&#1056;&#1072;&#1073;&#1086;&#1095;&#1072;&#1103; &#1043;&#1088;&#1091;&#1087;&#1087;&#1072; &#1045;&#1069;&#1050; &#1054;&#1054;&#1053; &#1086;&#1073;&#1089;&#1083;&#1077;&#1076;&#1086;&#1074;&#1072;&#1085;&#1080;&#1081; &#1087;&#1086; &#1080;&#1089;&#1087;&#1086;&#1083;&#1100;&#1079;&#1086;&#1074;&#1072;&#1085;&#1080;&#1102; &#1074;&#1088;&#1077;&#1084;&#1077;&#1085;&#1080;" TargetMode="External"/><Relationship Id="rId9" Type="http://schemas.openxmlformats.org/officeDocument/2006/relationships/hyperlink" Target="http://www.ssb.no/english/subjects/00/02/20/tidsbruk_en/" TargetMode="External"/><Relationship Id="rId10" Type="http://schemas.openxmlformats.org/officeDocument/2006/relationships/hyperlink" Target="http://tilastokeskus.fi/tk/el/kva_ajankaytto_en.html" TargetMode="External"/><Relationship Id="rId11" Type="http://schemas.openxmlformats.org/officeDocument/2006/relationships/hyperlink" Target="http://www.unece.org/stats/gender/timeuse/Downloads/TUS_Portugal_1999.pdf" TargetMode="External"/><Relationship Id="rId12" Type="http://schemas.openxmlformats.org/officeDocument/2006/relationships/hyperlink" Target="http://www.unece.org/stats/gender/timeuse/Downloads/TUS_Portugal_2001.pdf" TargetMode="External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Веб-страницы ЕЭК ООН обследования по использованию времени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овещание ЕЭК ООН по гендерной статистике, 11-13 Сентября 2006 г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99072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E/CES/GE.30/2006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Будущая работа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ЕЭК будет продолжать расширять объем сбора информации по обследованиям использования времени из всех стран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Любые предложения и пожелания от пользователей приветствуются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кажите нам поддержку в улучшении веб-страниц, чтобы они были еще более информативны и легкодоступны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D091F-5271-45DC-AF60-9C9DF7F1DC3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Спасибо</a:t>
            </a:r>
            <a:r>
              <a:rPr b="1" lang="en-GB" sz="4400" spc="-1" strike="noStrike">
                <a:solidFill>
                  <a:srgbClr val="ffff99"/>
                </a:solidFill>
                <a:latin typeface="Arial"/>
              </a:rPr>
              <a:t>!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Рабочая Группа ЕЭК ООН обследований по использованию времени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абочая сессия ЕЭК ООН по Гендерной Статистике проведенная в Женеве в Октябре 2004 года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отенциал обследований по использованию времени в гендерной статистике и создание Рабочей Группы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абочая Группа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бор и распространение соответствующей информации через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еб-сайт ЕЭК ООН по Гендерной Статистике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EB806-254B-433A-9DEA-B7DCA9362DD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Цель веб-страниц обследований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использования времени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Эти страницы должны служить источником полезной информации для стран которые планируют проводить обследование использования времен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 них содержится информация о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азных методах сбора информации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Основных характеристиках дизайна обследований и сборе/обработке/распространению данных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Классификациях и кодировке видов деятельност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анных доступных из национальных обследований по использованию времен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27D30-397D-4745-B7AB-606858F2E76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ждународные</a:t>
            </a: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 принципы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Пробная международная классификация деятельности статистики обследований использования времени – Отдел Статистики ООН</a:t>
            </a:r>
            <a:r>
              <a:rPr b="1" lang="en-GB" sz="1600" spc="-1" strike="noStrike">
                <a:solidFill>
                  <a:srgbClr val="ffff99"/>
                </a:solidFill>
                <a:latin typeface="Arial"/>
              </a:rPr>
              <a:t>, 1998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Классификация деятельности на 24 часа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Сопоставима с существующими классификациями</a:t>
            </a: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(</a:t>
            </a: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СНС</a:t>
            </a:r>
            <a:r>
              <a:rPr b="0" lang="en-GB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МСКЗ</a:t>
            </a:r>
            <a:r>
              <a:rPr b="0" lang="en-GB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МСОК, МКСЗ</a:t>
            </a:r>
            <a:r>
              <a:rPr b="0" lang="en-GB" sz="1200" spc="-1" strike="noStrike">
                <a:solidFill>
                  <a:srgbClr val="ffff99"/>
                </a:solidFill>
                <a:latin typeface="Arial"/>
                <a:ea typeface="Times New Roman"/>
              </a:rPr>
              <a:t>) 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Применима к общему населению, во всех странах мира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Руководство по гармонизированному обследованию использования времени в Европе - Евростат</a:t>
            </a:r>
            <a:r>
              <a:rPr b="1" lang="en-GB" sz="1600" spc="-1" strike="noStrike">
                <a:solidFill>
                  <a:srgbClr val="ffff99"/>
                </a:solidFill>
                <a:latin typeface="Arial"/>
              </a:rPr>
              <a:t>, 2004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Дизайн выборки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Дневники обследования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Бланки обследования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Необходимые мета-данные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Список кодировки деятельности</a:t>
            </a: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Руководство по статистике обследований использования времени</a:t>
            </a:r>
            <a:r>
              <a:rPr b="1" lang="en-GB" sz="16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измерение оплачиваемой и неоплачиваемой работы </a:t>
            </a:r>
            <a:r>
              <a:rPr b="1" lang="en-GB" sz="16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Отдел Статистики ООН</a:t>
            </a:r>
            <a:r>
              <a:rPr b="1" lang="en-GB" sz="1600" spc="-1" strike="noStrike">
                <a:solidFill>
                  <a:srgbClr val="ffff99"/>
                </a:solidFill>
                <a:latin typeface="Arial"/>
              </a:rPr>
              <a:t>, 2005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Методы сбора данных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Особенности сбора данных</a:t>
            </a: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 их обработки и распространения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Классификации деятельности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83624-5FEF-4517-BD19-83215D5AEA4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Национальные методологии</a:t>
            </a:r>
            <a:r>
              <a:rPr b="1" lang="en-GB" sz="3600" spc="-1" strike="noStrike">
                <a:solidFill>
                  <a:srgbClr val="ffff99"/>
                </a:solidFill>
                <a:latin typeface="Arial"/>
              </a:rPr>
              <a:t> (1)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Австралия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Канад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                                                   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оминиканская Республик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ран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Мексик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Новая Зеландия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ловения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Южная Африк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спания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оединенное Королевство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оединенные Штаты Америк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Многонациональное обследование использования времен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178A4-0A18-470A-AA48-81815AD45E3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Национальные методологии</a:t>
            </a:r>
            <a:r>
              <a:rPr b="1" lang="en-GB" sz="3600" spc="-1" strike="noStrike">
                <a:solidFill>
                  <a:srgbClr val="ffff99"/>
                </a:solidFill>
                <a:latin typeface="Arial"/>
              </a:rPr>
              <a:t>(2)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ример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ловения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армонизирована с Евростат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Каждые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7-10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лет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Метод дневного обследования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(24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час</a:t>
            </a: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с перерывами в 10 минут</a:t>
            </a: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озраст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10+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ыборка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4.500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омохозяйст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Элемент выборк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1)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группы зон действия системы регистрации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; 2)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личност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бследование проведено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Апреля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2000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31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Март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2001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0" name="slov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2892240" cy="319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4948D-BF7C-415E-A740-F3C0A2A1852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Обследования</a:t>
            </a:r>
            <a:r>
              <a:rPr b="1" lang="en-GB" sz="3600" spc="-1" strike="noStrike">
                <a:solidFill>
                  <a:srgbClr val="ffff99"/>
                </a:solidFill>
                <a:latin typeface="Arial"/>
              </a:rPr>
              <a:t> (1)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рмения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2004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идерланды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2000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встралия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1992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1997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овая Зеландия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1998-1999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Бельгия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1966, 1999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Северная Ирландия,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2004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Канада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2005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Норвегия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2000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Финляндия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1979, 1988, 2000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Португалия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1999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2001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Индия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1999                      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Испания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2002-2003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Ирландия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2005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Соединенное Королевство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2000, 2005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Япония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2001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                           Соединенные Штаты Америки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2004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Литва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2003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Монголия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, 2000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Международное обследование использования времени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1B8CE-D546-43B6-86BC-4FEDB383ADA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Обследования</a:t>
            </a:r>
            <a:r>
              <a:rPr b="1" lang="en-GB" sz="3600" spc="-1" strike="noStrike">
                <a:solidFill>
                  <a:srgbClr val="ffff99"/>
                </a:solidFill>
                <a:latin typeface="Arial"/>
              </a:rPr>
              <a:t> (2)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мер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нд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Метод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нтервью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тандартные классификации не использовались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ыборка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 18,591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омохозяйств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в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6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штатах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70%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еспондентов проживают в сельской местност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18%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респондентов в возрасте менее 6 лет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87%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женщин указали, что они принимают участие в принятии решений в их домохозяйстве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Из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168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асов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мужчины провели в среднем 42 часа, занимаясь видами деятельности, указанными в СНС, в то время как женщины только 19 часов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5" name="indiamap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36232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CBFDB-91B0-4146-BB07-B9272365D68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отенциальные пользователи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Интересуют ли вас данные о национальных обследованиях по использованию времени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Можете посмотреть в </a:t>
            </a:r>
            <a:r>
              <a:rPr b="1" i="1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Статистических Данных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Интересуют ли вас анкеты обследования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Можете посмотреть в </a:t>
            </a: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Дневниках</a:t>
            </a:r>
            <a:r>
              <a:rPr b="1" i="1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и Вопросниках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Интересуют ли вас показатели, полученные в результате  обследований по использованию времени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Можете посмотреть в </a:t>
            </a: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Докладах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Интересуют ли вас трудности, возникшие при проведении обследований по использованию времени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Можете посмотреть в </a:t>
            </a: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Документах по методологии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98A53-85F4-4BAB-B71C-B4B0B193D8F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4:41:39Z</dcterms:created>
  <dc:creator>Jessica Gardner</dc:creator>
  <dc:description/>
  <dc:language>en-US</dc:language>
  <cp:lastModifiedBy>Oyunjargal</cp:lastModifiedBy>
  <dcterms:modified xsi:type="dcterms:W3CDTF">2006-09-08T17:19:12Z</dcterms:modified>
  <cp:revision>37</cp:revision>
  <dc:subject/>
  <dc:title>Title of the Presentation</dc:title>
</cp:coreProperties>
</file>