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5175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5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788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47920" y="5175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788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188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7620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4792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188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7620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05400"/>
            <a:ext cx="838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UNECElogoWhite200px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14600" y="63244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99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629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Slide </a:t>
            </a:r>
            <a:fld id="{B03485CD-E4E7-41E4-BBE0-0DDE6A5A0719}" type="slidenum">
              <a:rPr b="1" lang="en-GB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380880"/>
            <a:ext cx="739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UNECElogoWhite200px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45720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p.nl/onderzoek/tbo/english/default.htm" TargetMode="External"/><Relationship Id="rId2" Type="http://schemas.openxmlformats.org/officeDocument/2006/relationships/hyperlink" Target="http://www.stats.govt.nz/people/arts/time-use.htm" TargetMode="External"/><Relationship Id="rId3" Type="http://schemas.openxmlformats.org/officeDocument/2006/relationships/hyperlink" Target="http://www.data-archive.ac.uk/findingData/snDescription.asp?sn=5227" TargetMode="External"/><Relationship Id="rId4" Type="http://schemas.openxmlformats.org/officeDocument/2006/relationships/hyperlink" Target="http://www.ssb.no/english/subjects/00/02/20/tidsbruk_en/" TargetMode="External"/><Relationship Id="rId5" Type="http://schemas.openxmlformats.org/officeDocument/2006/relationships/hyperlink" Target="http://www.unece.org/stats/gender/timeuse/Downloads/TUS_Portugal_1999.pdf" TargetMode="External"/><Relationship Id="rId6" Type="http://schemas.openxmlformats.org/officeDocument/2006/relationships/hyperlink" Target="http://www.unece.org/stats/gender/timeuse/Downloads/TUS_Portugal_2001.pdf" TargetMode="External"/><Relationship Id="rId7" Type="http://schemas.openxmlformats.org/officeDocument/2006/relationships/hyperlink" Target="http://www.ine.es/en/prensa/eet_prensa_en.htm?L=0%20" TargetMode="External"/><Relationship Id="rId8" Type="http://schemas.openxmlformats.org/officeDocument/2006/relationships/hyperlink" Target="http://www.statistics.gov.uk/TimeUse" TargetMode="External"/><Relationship Id="rId9" Type="http://schemas.openxmlformats.org/officeDocument/2006/relationships/hyperlink" Target="http://www.statistics.gov.uk/cci/article.asp?ID=1600" TargetMode="External"/><Relationship Id="rId10" Type="http://schemas.openxmlformats.org/officeDocument/2006/relationships/hyperlink" Target="http://www.unece.org/stats/gender/timeuse/Downloads/ATUS.pdf" TargetMode="External"/><Relationship Id="rId11" Type="http://schemas.openxmlformats.org/officeDocument/2006/relationships/hyperlink" Target="http://www.unece.org/stats/gender/timeuse/Downloads/TUS_Armenia.pdf" TargetMode="External"/><Relationship Id="rId12" Type="http://schemas.openxmlformats.org/officeDocument/2006/relationships/hyperlink" Target="http://www.abs.gov.au/websitedbs/D3110129.NSF/a195bf346aaad91aca25671d0009ca17/4aaf6aec86f868adca25684300185d8e!OpenDocument" TargetMode="External"/><Relationship Id="rId13" Type="http://schemas.openxmlformats.org/officeDocument/2006/relationships/hyperlink" Target="http://www.abs.gov.au/Ausstats/abs@.nsf/0/DE84427EFEB3834BCA2568A9001393BD?Open" TargetMode="External"/><Relationship Id="rId14" Type="http://schemas.openxmlformats.org/officeDocument/2006/relationships/hyperlink" Target="http://www.statbel.fgov.be/surveys/tus.asp" TargetMode="External"/><Relationship Id="rId15" Type="http://schemas.openxmlformats.org/officeDocument/2006/relationships/hyperlink" Target="http://www.statcan.ca/cgi-bin/imdb/p2SV.pl?Function=getSurvey&amp;SDDS=4503&amp;lang=en&amp;db=IMDB&amp;dbg=f&amp;adm=8&amp;dis=2#The UNECE Task Force on Time-Use Surveys" TargetMode="External"/><Relationship Id="rId16" Type="http://schemas.openxmlformats.org/officeDocument/2006/relationships/hyperlink" Target="http://tilastokeskus.fi/tk/el/kva_ajankaytto_en.html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99"/>
                </a:solidFill>
                <a:latin typeface="Arial"/>
              </a:rPr>
              <a:t>The UNECE webpages on Time-Use Survey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99"/>
                </a:solidFill>
                <a:latin typeface="Arial"/>
              </a:rPr>
              <a:t>Piera Tortor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UNECE Work Session on Gender Statistics, 11-13 September 2006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13716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E/CES/GE.30/2006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Future Development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CE will continue broadening its collection of information on TUS from all countr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ny suggestions from users and potential users are most welcomed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Help us shape the web pages so that they can improve in being informative and easily accessible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-13 September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ANK YOU!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http://www.unece.org/stats/gender/timeuse/Welcome.htm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The UNECE Task Force on Time-Use Survey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The UNECE work session on Gender Statistics held in Geneva in October 2004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Potential of Time Use Surveys in Gender Statistics and the creation of a Task Force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Task Force : collection and dissemination of relevant information through the web pages of the UNECE Gender Statistics Website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-13 September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Purpose of the Time-Use Webpag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ntended to serve as a useful source of information for the  countries planning to carry out a Time-Use Surve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hey provide information on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ata collection modes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pecifications for survey design and data collection/processing/dissemin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Classifications and coding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ata available from national TU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-13 September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nternational Guidelin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Trial international classification of activities for time-use statistics-United Nations Statistics Division, 1998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classification of all activities on the 24 hours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consistent with existing classifications </a:t>
            </a:r>
            <a:r>
              <a:rPr b="0" lang="en-GB" sz="1400" spc="-1" strike="noStrike">
                <a:solidFill>
                  <a:srgbClr val="ffff99"/>
                </a:solidFill>
                <a:latin typeface="Arial"/>
                <a:ea typeface="Times New Roman"/>
              </a:rPr>
              <a:t>(SNA, ICSE, ISIC, ISCO) 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applicable to a general population, in all parts of the world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Guidelines on Harmonised European Time Use Surveys- Eurostat, 2004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Sample Design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Diary Days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Survey Forms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Required Meta-data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Activity Coding List 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Guide to Producing Statistics on Time-Use: Measuring Paid and Unpaid Work-United Nations Statistics Division, 2005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Data-Collection Methods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Specifications for data collection/processing/dissemination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Classifications of Activities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-13 September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ational Methodologies (1)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ustrali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anada                                                     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ominican republic                     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ran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exic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ew Zealand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lovenia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United Stat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ultinational Time Use Survey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-13 September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ational Methodologies (2)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n example: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lovenia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urostat harmonis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very 7-10 yea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ime-Diary Method </a:t>
            </a: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(24 hrs, 10 minute intervals)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ge: 10+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ample: 4.500 household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SU: 1) Clusters of enumeration areas; 2) Individual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ducted: 1April 2000-31 March 200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0" name="slov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2892240" cy="319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-13 September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urveys (1)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1640" y="144756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etherlands,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2000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ew Zealand,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998-1999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orthern Ireland,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2004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orway,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2000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ortugal,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1999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2001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pain,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2002-2003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UK,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2000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2005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United States,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2004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523880"/>
            <a:ext cx="3962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Armenia,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Australia,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1992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Belgium,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1966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Canada,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2005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Finland,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1979, 1988, 2000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India, 1999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Ireland, 2005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Japan</a:t>
            </a: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2001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Lithuania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Mongolia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MTUS, Multinational Time Use Survey </a:t>
            </a:r>
            <a:br>
              <a:rPr sz="2000"/>
            </a:b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-13 September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urveys (2)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n Example: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ethod: Recall Interview (1 week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o use of standard classificatio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ample: 18,591 households spread over 6 selected Stat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70% of the respondents residing in rural area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8% of the respondents were of age less than 6 year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87% of the women reported that they participated in the household decision making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ut of 168 hours, male spent on average about 42 hours in paid activities as compared to only about 19 hours by fema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6" name="indiamap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2362320" cy="15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-13 September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POTENTIAL USER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re you looking for data from national TUS?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You can look at the 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Statistical Dat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re you looking for the diaries used?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You can look at 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Diaries and Questionnair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Would you like to know about indicators produced with TUS?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You can look at 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Data Repor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re you interested in challenges met in conducting TUS?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You can look at 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Papers on Methodological Issu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-13 September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4:41:39Z</dcterms:created>
  <dc:creator>Jessica Gardner</dc:creator>
  <dc:description/>
  <dc:language>en-US</dc:language>
  <cp:lastModifiedBy>tortora</cp:lastModifiedBy>
  <dcterms:modified xsi:type="dcterms:W3CDTF">2006-09-11T07:32:31Z</dcterms:modified>
  <cp:revision>44</cp:revision>
  <dc:subject/>
  <dc:title>Title of the Presentation</dc:title>
</cp:coreProperties>
</file>