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2.wmf" ContentType="image/x-wmf"/>
  <Override PartName="/ppt/media/image5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18.jpeg" ContentType="image/jpeg"/>
  <Override PartName="/ppt/media/image14.wmf" ContentType="image/x-wmf"/>
  <Override PartName="/ppt/media/image1.wmf" ContentType="image/x-wmf"/>
  <Override PartName="/ppt/media/image2.jpeg" ContentType="image/jpeg"/>
  <Override PartName="/ppt/media/image10.wmf" ContentType="image/x-wmf"/>
  <Override PartName="/ppt/media/image4.jpeg" ContentType="image/jpeg"/>
  <Override PartName="/ppt/media/image6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164388" cy="9450388"/>
</p:presentation>
</file>

<file path=ppt/commentAuthors.xml><?xml version="1.0" encoding="utf-8"?>
<p:cmAuthorLst xmlns:p="http://schemas.openxmlformats.org/presentationml/2006/main">
  <p:cmAuthor id="0" name="HERZ_D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<Relationship Id="rId45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04-09-07T21:25:38.881000000" idx="1">
    <p:pos x="148" y="66"/>
    <p:text>Check numbers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640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03560" cy="4716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marL="216000" indent="0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059000" y="0"/>
            <a:ext cx="3103560" cy="4716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marL="216000" indent="0" algn="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20400" y="709200"/>
            <a:ext cx="4724280" cy="35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40d85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55440" y="4487760"/>
            <a:ext cx="5251320" cy="42516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977320"/>
            <a:ext cx="3103560" cy="4716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b">
            <a:noAutofit/>
          </a:bodyPr>
          <a:lstStyle>
            <a:lvl1pPr marL="216000" indent="0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059000" y="8977320"/>
            <a:ext cx="3103560" cy="4716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b">
            <a:noAutofit/>
          </a:bodyPr>
          <a:lstStyle>
            <a:lvl1pPr marL="216000" indent="0" algn="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fld id="{833D6B53-DCCA-45FD-86C7-8A9181B7A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4160" y="6080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55440" y="4486320"/>
            <a:ext cx="5251320" cy="425448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4160" y="6080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55440" y="4486320"/>
            <a:ext cx="5251320" cy="425448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04920" y="685800"/>
            <a:ext cx="4754520" cy="3565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55440" y="4486320"/>
            <a:ext cx="5251320" cy="425448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about children’s participation in school/day care/headstart/summ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me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eight and weight to calculate B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income to determine food stamp elig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4160" y="6080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55440" y="4486320"/>
            <a:ext cx="5251320" cy="425448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ct to release microdata files ann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55440" y="4486320"/>
            <a:ext cx="5251320" cy="4254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4160" y="6080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55440" y="4486320"/>
            <a:ext cx="5251320" cy="425448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ace and ethnicity of CPS reference person, presence of childr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adults in adults-only househo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55440" y="4486320"/>
            <a:ext cx="5251320" cy="425448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55440" y="4489200"/>
            <a:ext cx="525132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LS definition of volunteer activities: those for which peo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 not paid, except perhaps expenses, and done for or through an organizatio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1600" y="530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55440" y="4486320"/>
            <a:ext cx="5251320" cy="425448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US interview is conducted 2-4 months after the last CPS inter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-telephone number households account for about 5% of the ATUS s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entive=$40 debit card with PIN number that is given to respondent up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ion of inter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period is “yesterday” for the time diary portion of inter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about work in the last 7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about trips away from home for 2 or more nights in a row in the last mon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S upda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H roster, labor force status, earnings, industry, occupation, school enrollme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55800" y="4566960"/>
            <a:ext cx="3581280" cy="37861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660560"/>
            <a:ext cx="822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66056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66056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59092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59092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66056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66056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66056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66056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66056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660560"/>
            <a:ext cx="822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660560"/>
            <a:ext cx="822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66056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66056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59092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59092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66056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66056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660560"/>
            <a:ext cx="264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66056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66056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660560"/>
            <a:ext cx="8229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590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340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8153280" y="152280"/>
          <a:ext cx="64800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152280"/>
                    <a:ext cx="6480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19080">
            <a:solidFill>
              <a:srgbClr val="340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9240" y="28908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eau of Labor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227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40d85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153280" y="152280"/>
          <a:ext cx="64800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152280"/>
                    <a:ext cx="6480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19080">
            <a:solidFill>
              <a:srgbClr val="340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28908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eau of Labor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340d8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340d8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340d85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48320" y="5486400"/>
            <a:ext cx="4038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ECE Statistical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der Statistic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tember 11-13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514240"/>
            <a:ext cx="7772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merican Time Use Survey:</a:t>
            </a:r>
            <a:br>
              <a:rPr sz="4000"/>
            </a:br>
            <a:r>
              <a:rPr b="1" lang="en-US" sz="3600" spc="-1" strike="noStrike">
                <a:solidFill>
                  <a:srgbClr val="340d85"/>
                </a:solidFill>
                <a:latin typeface="Arial"/>
              </a:rPr>
              <a:t>Overview &amp; Gender Analy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548640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ne He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reau of Labor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ited States Department of Lab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US 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ctivities is assigned a 6-digit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9"/>
              </a:spcAft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de represents 3 levels of detail (17, 105, 4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9"/>
              </a:spcAft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enables analytical 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9"/>
              </a:spcAft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rs also perform activity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9"/>
              </a:spcAft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82920" y="3505320"/>
            <a:ext cx="7622280" cy="3028680"/>
            <a:chOff x="682920" y="3505320"/>
            <a:chExt cx="7622280" cy="3028680"/>
          </a:xfrm>
        </p:grpSpPr>
        <p:grpSp>
          <p:nvGrpSpPr>
            <p:cNvPr id="137" name=""/>
            <p:cNvGrpSpPr/>
            <p:nvPr/>
          </p:nvGrpSpPr>
          <p:grpSpPr>
            <a:xfrm>
              <a:off x="797400" y="3505320"/>
              <a:ext cx="7507800" cy="2721240"/>
              <a:chOff x="797400" y="3505320"/>
              <a:chExt cx="7507800" cy="2721240"/>
            </a:xfrm>
          </p:grpSpPr>
          <p:sp>
            <p:nvSpPr>
              <p:cNvPr id="138" name=""/>
              <p:cNvSpPr/>
              <p:nvPr/>
            </p:nvSpPr>
            <p:spPr>
              <a:xfrm>
                <a:off x="797400" y="3505320"/>
                <a:ext cx="7507800" cy="272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7240" y="3704760"/>
                <a:ext cx="6882120" cy="228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"/>
            <p:cNvSpPr/>
            <p:nvPr/>
          </p:nvSpPr>
          <p:spPr>
            <a:xfrm>
              <a:off x="682920" y="6226920"/>
              <a:ext cx="24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 from ATUS lex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US Data Fi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files are posted each summer with release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 are organized to avoid duplication. Fil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88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88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file: demographics and CPS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88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 data for matching (not updated in 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88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as with you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methods 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ATUS Analy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6765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12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imates (e.g. time use of m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12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 time spent working among those who worked on the diary 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12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of 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 when women employed part time 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12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tivities were done (e.g. work at ho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12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s in the room with or accompanied respondent during activities (e.g. time with childr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12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and s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of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12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ari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12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Sample of existing gender analy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6765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-household allocation of time (husbands v. wi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s in housework time by gender &amp;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care time—active care versus 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to national accounts (output, income, productiv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 care giving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ion of volunteer labor to nonprofit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ury and death 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 analyses (e.g. work &amp; leisure by presence of child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 of non-working men and w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40d8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ATUS Modu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8288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4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on special topics, up to 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04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food &amp; eating module by US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6 - December 200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questions on secondary eating, school meal programs, height and weight, and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04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s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der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d child car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b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use and appliance 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04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 few descriptive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rom 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87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0d85"/>
                </a:solidFill>
                <a:latin typeface="Arial"/>
              </a:rPr>
              <a:t>Analyzing ATUS:  The “average day” does not look like anyone’s typical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133720" y="2098800"/>
          <a:ext cx="5925960" cy="39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098800"/>
                    <a:ext cx="5925960" cy="39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562360" y="3462480"/>
            <a:ext cx="923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95160" y="3995640"/>
            <a:ext cx="1148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seho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8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82160" y="4575240"/>
            <a:ext cx="892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77560" y="4667400"/>
            <a:ext cx="10904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is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2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82080" y="2914560"/>
            <a:ext cx="10904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49160" y="2090880"/>
            <a:ext cx="10324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ing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87240" y="2700360"/>
            <a:ext cx="819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7800" y="592776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= 24.0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5480" y="6431040"/>
            <a:ext cx="49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e: All persons 15 and over; all days of the week comb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2242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30984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28526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63244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average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371600" y="2286000"/>
          <a:ext cx="592596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592596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2640" y="3733920"/>
            <a:ext cx="1148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seho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1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01600" y="4648320"/>
            <a:ext cx="10904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is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6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200" y="2819520"/>
            <a:ext cx="10904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2133720"/>
            <a:ext cx="10324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ing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4600" y="2743200"/>
            <a:ext cx="819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5760" y="593892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= 24.0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200" y="6248520"/>
            <a:ext cx="562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e: Employed persons ages 25 to 54 who worked on the diary day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d in households with children under 18; weekday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2000" y="4724280"/>
            <a:ext cx="892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0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0040" y="3505320"/>
            <a:ext cx="923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3352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4038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8380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0d85"/>
                </a:solidFill>
                <a:latin typeface="Arial"/>
              </a:rPr>
              <a:t>Time use on an average work day for employed persons ages 25 to 54 with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643104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average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914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verage sleep times per day, by age and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0960" y="635796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averages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624852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e:  All persons 15 and ov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ys of the week comb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09480" y="1295280"/>
          <a:ext cx="7861320" cy="50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786132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0d85"/>
                </a:solidFill>
                <a:latin typeface="Arial"/>
              </a:rPr>
              <a:t>Adult women with children under age 6 spent the most time providing primary childc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3520" y="2089080"/>
          <a:ext cx="769608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89080"/>
                    <a:ext cx="769608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29320" y="2057400"/>
            <a:ext cx="196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rs providing pri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dcare p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560" y="6095880"/>
            <a:ext cx="560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e:  Adults 18 and over living in households with children under 18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days of the week comb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30480" y="624852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average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ATUS Backgr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75248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37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urvey on time use in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37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ederally administered, continuous U.S. time use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37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nationally representative data by demographic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37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BLS conducts the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market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337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of life beyond income an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337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nds in work, including changes in location and 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Aft>
                <a:spcPts val="337"/>
              </a:spcAft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source of wor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Aft>
                <a:spcPts val="1001"/>
              </a:spcAft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comparis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37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der analy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Aft>
                <a:spcPts val="400"/>
              </a:spcAft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specifically designed for gender analyses, but rich i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Aft>
                <a:spcPts val="300"/>
              </a:spcAft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analyses reflect surve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0d85"/>
                </a:solidFill>
                <a:latin typeface="Arial"/>
              </a:rPr>
              <a:t>Both men and women spent many more hours providing secondary care than primary c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057400"/>
          <a:ext cx="762012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62012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04560" y="6019920"/>
            <a:ext cx="560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e:  Adults 18 and over living in households with children under 13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days of the week comb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560" y="198108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rs providing seco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dcare p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30480" y="609588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average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0d85"/>
                </a:solidFill>
                <a:latin typeface="Arial"/>
              </a:rPr>
              <a:t>Women spend more time per day than men doing housework, care activities, and purchasing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2212920"/>
          <a:ext cx="792468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12920"/>
                    <a:ext cx="792468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78360" y="6095880"/>
            <a:ext cx="278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e:  All persons 15 and ov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days of the week comb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3120" y="627840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average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2860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0d85"/>
                </a:solidFill>
                <a:latin typeface="Arial"/>
              </a:rPr>
              <a:t>Two-thirds of women report preparing food and half report doing housework on an average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21337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ortion do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 on averag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205740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02040" y="6248520"/>
            <a:ext cx="278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e:  All persons 15 and ov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days of the week comb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9080" y="635796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average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280" y="2446200"/>
          <a:ext cx="868680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46200"/>
                    <a:ext cx="868680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28600" y="9907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0d85"/>
                </a:solidFill>
                <a:latin typeface="Arial"/>
              </a:rPr>
              <a:t>Weekday activity profiles of married full-time workers ages 25 to 54 who lived in households with children under 18 and worked on the diary day:  Men and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276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28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8080" y="634680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average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25909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1066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2286000"/>
          <a:ext cx="8305920" cy="39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30592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80880" y="990720"/>
            <a:ext cx="763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0d85"/>
                </a:solidFill>
                <a:latin typeface="Arial"/>
              </a:rPr>
              <a:t>Weekday activity profiles of married women ages 25 to 54 in households with children under 6: Employed full time vs. Not employ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5400" y="617220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average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3623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0d85"/>
                </a:solidFill>
                <a:latin typeface="Arial"/>
              </a:rPr>
              <a:t>About half of leisure time is spent watching T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2133720"/>
          <a:ext cx="82296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82296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412960" y="380988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ing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.6 ho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57150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izing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7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38880" y="3352680"/>
            <a:ext cx="17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xing and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7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17600" y="4114800"/>
            <a:ext cx="203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rts, exercise, re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48769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3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5880" y="51814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43640" y="2286000"/>
            <a:ext cx="210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ying gam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ing computer for lei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74960" y="1844640"/>
            <a:ext cx="112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lei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2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336120" y="4718520"/>
            <a:ext cx="262080" cy="31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124080" y="40381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33526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7432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5720" y="6095880"/>
            <a:ext cx="278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e:  All persons 15 and ov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days of the week comb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094280" y="5521320"/>
            <a:ext cx="195480" cy="23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90840" y="635796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average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0d85"/>
                </a:solidFill>
                <a:latin typeface="Arial"/>
              </a:rPr>
              <a:t>Percent of employed persons doing selected activities on workdays by hour of the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6248520"/>
            <a:ext cx="531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e: Employed persons 15 and over who worked on the diary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9080" y="627840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average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98400" y="1730520"/>
          <a:ext cx="7669440" cy="45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730520"/>
                    <a:ext cx="766944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rcent of “available time” that older Americans spent with others, 2003 and 20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7913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For the social contact data, “available time” excludes time spent working, sleeping, grooming, and doing personal activ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1938240"/>
          <a:ext cx="7924680" cy="3700440"/>
        </p:xfrm>
        <a:graphic>
          <a:graphicData uri="http://schemas.openxmlformats.org/drawingml/2006/table">
            <a:tbl>
              <a:tblPr/>
              <a:tblGrid>
                <a:gridCol w="1734840"/>
                <a:gridCol w="803520"/>
                <a:gridCol w="804960"/>
                <a:gridCol w="804600"/>
                <a:gridCol w="681120"/>
                <a:gridCol w="804960"/>
                <a:gridCol w="804960"/>
                <a:gridCol w="804600"/>
                <a:gridCol w="681120"/>
              </a:tblGrid>
              <a:tr h="1002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-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-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-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-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Sp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Fam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Childr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Fri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US Contact Infor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anager: Tina She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: www.bls.gov/tu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iles &amp;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harmonized data set for US, MTU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voice line:  (01) 202-691-63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ATUSInfo@bl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ther slides that may be of intere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ATUS S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752480"/>
            <a:ext cx="83055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in households that recently completed the national labor force survey, the Current Population Survey (C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ly representative data by demograph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ifi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useh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ey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divid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5 and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rson is pre-selected for a specific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are interviewed about a weekday, and half about a weekend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029200"/>
            <a:ext cx="19051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ratifi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5029200"/>
            <a:ext cx="19051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andomly 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5029200"/>
            <a:ext cx="19051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of 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sign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5334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54100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40d85"/>
                </a:solidFill>
                <a:latin typeface="Arial"/>
              </a:rPr>
              <a:t>Research using ATUS data on work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Male Nonworkers Do? Evidence from the American Time Use Survey* (Frazis &amp; Stew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Work and Participation in Social, Recreational, or Exercise Activities* (Poliv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Time-Use Data Tell Us About Hours of Work? (Frazis &amp; Stewar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0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onthly Labo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and Timing Costs of Market Work, and their Implications for Retirement (Hamermesh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z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at: http://www.atususers.umd.edu/papers/atusconference/author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219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40d85"/>
                </a:solidFill>
                <a:latin typeface="Arial"/>
              </a:rPr>
              <a:t>Research on nonmarket activities using ATUS data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ore Wars: Household Bargaining and Leisure Time* (Friedberg &amp; We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 for Nonmarket Production: A Prototype Satellite Account Using the American Time Use Survey* (Landefeld, Fraumeni, &amp; Vojte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to Eat: Household Production Under Increasing Income Inequality* (Hamerme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Household Production Affect Earnings Inequality? Evidence from the ATUS (Frazis &amp; Stewar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S working paper #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vailable at: http://www.atususers.umd.edu/papers/atusconference/autho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40d85"/>
                </a:solidFill>
                <a:latin typeface="Arial"/>
              </a:rPr>
              <a:t>Research using ATUS data on care activities includ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Schooling on Parental Time in Education Production* (DeSim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hers’ Time Investments in Children: Do Sons Get More?* (Mam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nal Employment and Family Caregiving: Rethinking Time With Children in the ATUS* (Bianch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der Gap in Caregiving to Adults* (Mathiowetz &amp; Olik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vailable at: http://www.atususers.umd.edu/papers/atusconference/autho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Other research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B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response in the American Time Use Survey: Who is Missing From the Data and How Much Does it Matter?* (Abraham, Maitland, &amp; Bianc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of Travel Behavior in a Trip-based Survey Versus a Time Use Survey* (Bose &amp; Sha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Use for Sleeping in Relation to Waking Activities* (Din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Employment Affect the Timing of Time with Children? (Allard, Bianchi, &amp; Stew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Older Americans Do? (Krantz-Kent &amp; Stew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Use as a Way of Examining Contexts of Adolescent Development in the United States (Vern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vailable at: http://www.atususers.umd.edu/papers/atusconference/autho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131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Research using ATUS data on leisure activities include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Comes the Rain Again: Weather and the Intertemporal Substitution of Leisure* (Conno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Trends in Leisure: The Allocation of Time Over Five Decades (Aguiar &amp; Hu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vailable at: http://www.atususers.umd.edu/papers/atusconference/autho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 questions: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336680" y="2057400"/>
            <a:ext cx="5786280" cy="2176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235160" y="4954680"/>
            <a:ext cx="6064200" cy="1611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94480" y="1484280"/>
            <a:ext cx="71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ctivities we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weren’t identified as such in the dia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1840" y="4419720"/>
            <a:ext cx="69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we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e-generating activ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than for one’s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 questions: Secondary child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1981080"/>
            <a:ext cx="7178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duration of time respondent had child(ren) under 13 in his or her care while doing other th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4800600"/>
            <a:ext cx="754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istency ru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nt cannot be sleeping and providing c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nt cannot be providing primary and secondary care at the same time (no double-count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 must be done in the window between when first child under 13 got up and last child under 13 went to b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019160" y="2819520"/>
            <a:ext cx="69501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 questions: Volunte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to enable coders to distinguish volunteering for organizations from care activities for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CPS definition of volun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20880" y="3432240"/>
            <a:ext cx="70736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990720"/>
            <a:ext cx="7328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 questions: Missed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160020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rn: 24-hour protocol means ATUS misses activities done on trips of 2 or more nigh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ing how many trips and what type provides a general idea what we are miss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143000" y="3211560"/>
            <a:ext cx="6151680" cy="1665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295280" y="4849920"/>
            <a:ext cx="60454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ATUS Basics: Response r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8288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0" y="1676520"/>
          <a:ext cx="91440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ATUS Int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natory letter, brochure sent in ad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assisted telephone interview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000/mo in 2003; 1,100/mo in 2004-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ime only 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xy respon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: 24-hour time diary about yester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of demographic and labor force inform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40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702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urvey Stru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52680" y="1676520"/>
            <a:ext cx="1752840" cy="533160"/>
            <a:chOff x="3352680" y="1676520"/>
            <a:chExt cx="1752840" cy="533160"/>
          </a:xfrm>
        </p:grpSpPr>
        <p:sp>
          <p:nvSpPr>
            <p:cNvPr id="107" name=""/>
            <p:cNvSpPr/>
            <p:nvPr/>
          </p:nvSpPr>
          <p:spPr>
            <a:xfrm>
              <a:off x="3352680" y="1676520"/>
              <a:ext cx="175284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04600" y="175248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362320" y="3200400"/>
            <a:ext cx="3809880" cy="533160"/>
            <a:chOff x="2362320" y="3200400"/>
            <a:chExt cx="3809880" cy="533160"/>
          </a:xfrm>
        </p:grpSpPr>
        <p:sp>
          <p:nvSpPr>
            <p:cNvPr id="110" name=""/>
            <p:cNvSpPr/>
            <p:nvPr/>
          </p:nvSpPr>
          <p:spPr>
            <a:xfrm>
              <a:off x="2362320" y="3200400"/>
              <a:ext cx="3809880" cy="5331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5640" y="3276360"/>
              <a:ext cx="19926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re Time di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362320" y="4648320"/>
            <a:ext cx="3809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4880" y="472428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Force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62320" y="2362320"/>
            <a:ext cx="3809880" cy="703800"/>
            <a:chOff x="2362320" y="2362320"/>
            <a:chExt cx="3809880" cy="703800"/>
          </a:xfrm>
        </p:grpSpPr>
        <p:sp>
          <p:nvSpPr>
            <p:cNvPr id="115" name=""/>
            <p:cNvSpPr/>
            <p:nvPr/>
          </p:nvSpPr>
          <p:spPr>
            <a:xfrm>
              <a:off x="3198960" y="2362320"/>
              <a:ext cx="246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ousehold Roster 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loyment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2320" y="2362320"/>
              <a:ext cx="38098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553080" y="3794040"/>
            <a:ext cx="1981440" cy="119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id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ild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unt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ssed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3962520"/>
            <a:ext cx="3809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1560" y="403848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19560" y="419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62320" y="5334120"/>
            <a:ext cx="3809880" cy="763920"/>
            <a:chOff x="2362320" y="5334120"/>
            <a:chExt cx="3809880" cy="763920"/>
          </a:xfrm>
        </p:grpSpPr>
        <p:sp>
          <p:nvSpPr>
            <p:cNvPr id="122" name=""/>
            <p:cNvSpPr/>
            <p:nvPr/>
          </p:nvSpPr>
          <p:spPr>
            <a:xfrm>
              <a:off x="2362320" y="5334120"/>
              <a:ext cx="38098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92600" y="5394240"/>
              <a:ext cx="191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129" t="20472" r="12855" b="19899"/>
          <a:stretch/>
        </p:blipFill>
        <p:spPr>
          <a:xfrm>
            <a:off x="304920" y="1809720"/>
            <a:ext cx="8534160" cy="4438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57200" y="990720"/>
            <a:ext cx="702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ousehold Ro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0960" y="1828800"/>
            <a:ext cx="328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[NAME] related to yo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5656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3600" y="2590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U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ary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40d85"/>
                </a:solidFill>
                <a:latin typeface="Arial"/>
              </a:rPr>
              <a:t>ATUS diary d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1752480"/>
          <a:ext cx="7772400" cy="3113280"/>
        </p:xfrm>
        <a:graphic>
          <a:graphicData uri="http://schemas.openxmlformats.org/drawingml/2006/table">
            <a:tbl>
              <a:tblPr/>
              <a:tblGrid>
                <a:gridCol w="2133720"/>
                <a:gridCol w="1859040"/>
                <a:gridCol w="1888920"/>
                <a:gridCol w="189072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0 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45 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 lu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45 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0 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0 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45 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ve to grocery s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45 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52 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(Drive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ped for groc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52 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15 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cery s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80720" y="4952880"/>
            <a:ext cx="6629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hours per day do peopl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hich day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what ti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orkers spend their non-work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ost-diary Summary 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learly and consistently identif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i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tivities were done as part of jo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39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easur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ildc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secondary acti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uring which activities were children &lt;13 “in your car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able coders to distinguish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olunte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organizations from care activities for individu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ich activities were done for or through an organ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40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types of activities the survey may b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ause of the 24-hou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04:36Z</dcterms:created>
  <dc:creator>Diane Herz</dc:creator>
  <dc:description/>
  <dc:language>en-US</dc:language>
  <cp:lastModifiedBy>HERZ_D</cp:lastModifiedBy>
  <dcterms:modified xsi:type="dcterms:W3CDTF">2006-09-10T19:14:00Z</dcterms:modified>
  <cp:revision>1923</cp:revision>
  <dc:subject>ATUS Press Release Presentation</dc:subject>
  <dc:title>ATUS First Results</dc:title>
</cp:coreProperties>
</file>