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720263" cy="7196138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E943F-DB97-458A-A2E8-4ECB0B473B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815472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11400" y="3890880"/>
            <a:ext cx="815472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47531-CC53-478F-8FF8-960CAFA26D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11400" y="389088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0280" y="389088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E0782-D80E-4B50-B692-AFD529132E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68640" y="125892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25520" y="125892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11400" y="389088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68640" y="389088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725520" y="389088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153F0-5F13-4D20-9B39-C12BE3FA22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18176-D4BD-4723-9611-241B959740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1400" y="1258920"/>
            <a:ext cx="815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94C9A-15A2-4339-8192-FD241D207A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815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8CA7E-CB03-4738-9960-AF416A60A7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F13F7-E136-463C-AEFC-94F3414042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7F659-A0A2-4AC6-B197-A0028994DD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11400" y="-360"/>
            <a:ext cx="81547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1DCB3-72AE-4F72-B244-AD9CE3381C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1400" y="389088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20DB2-23FF-494F-AD55-C4C86BA734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11400" y="1258920"/>
            <a:ext cx="815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79A25-E586-4039-A703-1E9B559343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90280" y="389088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E208B-E44C-4158-AFE5-3E67CDEF93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1400" y="3890880"/>
            <a:ext cx="815472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A3A9A-5EBC-4C54-8AB6-27D3D9330E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815472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11400" y="3890880"/>
            <a:ext cx="815472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57161-FBD0-450B-BB20-CD1E58095F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11400" y="389088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90280" y="389088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1455C-D0BE-4545-B5E9-B67E7C66D6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968640" y="125892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725520" y="125892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11400" y="389088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968640" y="389088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725520" y="389088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52BC3-1834-4347-8325-6E021936244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407B-569B-4C1E-AE33-542CA0EC20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1400" y="1258920"/>
            <a:ext cx="815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E232-D48E-43A4-B1D5-9C9E5D77C25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815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AB2B-7FBC-408B-BF22-AD2087ADBD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18F6-BE64-4608-A348-DC47CE85FA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1FFD-93D5-4CBB-A299-A51D1F39FF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815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9B5B1-C1E6-4563-995D-433E1AD7C13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1400" y="-360"/>
            <a:ext cx="81547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65C1-D4BA-4857-B718-977DC6C43D3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1400" y="389088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0265-E7A0-4D37-935A-E9490B7D6BB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90280" y="389088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0F2E-F0ED-4603-8064-0F1976ED257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1400" y="3890880"/>
            <a:ext cx="815472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5C29-CC5A-4276-A51A-4C1F6500AD3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815472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1400" y="3890880"/>
            <a:ext cx="815472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EAAA-F348-4E61-8117-76296B750E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1400" y="389088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390280" y="389088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60E7-1FCB-4275-8E2F-64C13794FE8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968640" y="125892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725520" y="125892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1400" y="389088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968640" y="389088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725520" y="389088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111B-9D9B-4249-9160-FE66EF38E0F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0882C-4055-4D96-8A52-57CBC064C98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211400" y="1258920"/>
            <a:ext cx="815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473DD-A0EE-4E14-8024-59E24518F78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815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1A097-11A8-4CFF-808A-5E7E09C0D1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17C1E-5B06-40DB-B8AC-BD6E632EA5E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71025-3A0F-4D0E-8289-34402F751B7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081FC-1B0F-4C2C-9654-825DA3F310A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211400" y="-360"/>
            <a:ext cx="81547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11CA2-1775-4B6D-AB33-7D6ECC52F0E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11400" y="389088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50059-D52D-46AA-8A74-9DCB0D2B588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390280" y="389088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8EA23-95A8-4EB8-A3AE-5869369F214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211400" y="3890880"/>
            <a:ext cx="815472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994BC-5201-4FC9-AEF5-7804490B8E5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815472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211400" y="3890880"/>
            <a:ext cx="815472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B2EBB-1C78-4509-A941-2262A0DB61B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11400" y="389088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390280" y="389088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99F17-BF9C-42B3-83D7-037E60C11D5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968640" y="125892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725520" y="125892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211400" y="389088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968640" y="389088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725520" y="389088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C71F6-AFFC-4E28-9BF5-751B02EC595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252CC3-5D62-412E-9274-F67436EE5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2C3FB-E044-4507-A757-32B3DA091EA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211400" y="1258920"/>
            <a:ext cx="815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971CD9-EB24-4438-9AB5-15F86C6D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815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616819-FBDD-4081-85E9-3F3A8A6A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1AD830-80FD-4D36-B1F8-8C9B57EE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672794-86BB-4090-8F7E-C947F37B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211400" y="-360"/>
            <a:ext cx="81547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45B866-1FE1-46A0-9250-FE9881E8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211400" y="389088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848651-28F0-460E-A2C7-141A4EC8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90280" y="389088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8E4E0D-5290-4A7A-9696-8BCAEDCA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211400" y="3890880"/>
            <a:ext cx="815472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0A1AB4-C3A3-40DE-A3C1-DB1B8926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815472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211400" y="3890880"/>
            <a:ext cx="815472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15CEE0-E05E-40F0-95C7-955C8C0E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211400" y="389088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390280" y="389088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3604FC-5D6F-44BE-8963-B1F89A274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11400" y="-360"/>
            <a:ext cx="81547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9E97C-A759-4913-BDF5-2BFBC13F759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968640" y="125892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725520" y="125892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1211400" y="389088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968640" y="389088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725520" y="389088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D58A0D-FA30-4499-A9D9-349984CD3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11400" y="389088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03BF5-6C0B-4E63-B6EA-EAAB74A7B3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90280" y="389088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5ACF9-B2F8-4903-A826-D195CCFE41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1400" y="3890880"/>
            <a:ext cx="815472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C9AC7-3CD2-4D0B-9BBD-41B4B08C47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1400" y="1258920"/>
            <a:ext cx="815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2240" indent="-192240">
              <a:spcBef>
                <a:spcPts val="400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400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54000" indent="-190440">
              <a:spcBef>
                <a:spcPts val="400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2000" indent="-185760">
              <a:spcBef>
                <a:spcPts val="400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4680" indent="-192240">
              <a:spcBef>
                <a:spcPts val="400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714680" indent="-1922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714680" indent="-1922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49840"/>
            <a:ext cx="83808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236"/>
                </a:solidFill>
                <a:latin typeface="Times New Roman"/>
                <a:ea typeface="MS P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84A3-7570-465C-B511-56512714D7D4}" type="slidenum">
              <a:rPr b="0" lang="en-US" sz="1400" spc="-1" strike="noStrike">
                <a:solidFill>
                  <a:srgbClr val="007236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Box 7"/>
          <p:cNvSpPr/>
          <p:nvPr/>
        </p:nvSpPr>
        <p:spPr>
          <a:xfrm>
            <a:off x="28440" y="768240"/>
            <a:ext cx="1008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00" spc="-1" strike="noStrike">
                <a:solidFill>
                  <a:srgbClr val="007236"/>
                </a:solidFill>
                <a:latin typeface="Times New Roman"/>
                <a:ea typeface="Times New Roman"/>
              </a:rPr>
              <a:t>НАЦІОНАЛЬНИЙ </a:t>
            </a:r>
            <a:endParaRPr b="0" lang="en-US" sz="7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00" spc="-1" strike="noStrike">
                <a:solidFill>
                  <a:srgbClr val="007236"/>
                </a:solidFill>
                <a:latin typeface="Times New Roman"/>
                <a:ea typeface="Times New Roman"/>
              </a:rPr>
              <a:t>БАНК </a:t>
            </a:r>
            <a:endParaRPr b="0" lang="en-US" sz="7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00" spc="-1" strike="noStrike">
                <a:solidFill>
                  <a:srgbClr val="007236"/>
                </a:solidFill>
                <a:latin typeface="Times New Roman"/>
                <a:ea typeface="Times New Roman"/>
              </a:rPr>
              <a:t>УКРАЇНИ</a:t>
            </a:r>
            <a:endParaRPr b="0" lang="en-US" sz="7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2"/>
          <a:stretch/>
        </p:blipFill>
        <p:spPr>
          <a:xfrm>
            <a:off x="128520" y="128520"/>
            <a:ext cx="809640" cy="6764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6804000" y="69840"/>
            <a:ext cx="2664000" cy="781200"/>
          </a:xfrm>
          <a:prstGeom prst="rect">
            <a:avLst/>
          </a:prstGeom>
          <a:ln w="0">
            <a:noFill/>
          </a:ln>
        </p:spPr>
      </p:pic>
      <p:sp>
        <p:nvSpPr>
          <p:cNvPr id="6" name="Прямая соединительная линия 4"/>
          <p:cNvSpPr/>
          <p:nvPr/>
        </p:nvSpPr>
        <p:spPr>
          <a:xfrm flipH="1">
            <a:off x="1187280" y="851040"/>
            <a:ext cx="8280720" cy="0"/>
          </a:xfrm>
          <a:prstGeom prst="line">
            <a:avLst/>
          </a:prstGeom>
          <a:ln w="9360">
            <a:solidFill>
              <a:srgbClr val="0072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0"/>
          <p:cNvSpPr/>
          <p:nvPr/>
        </p:nvSpPr>
        <p:spPr>
          <a:xfrm>
            <a:off x="0" y="0"/>
            <a:ext cx="826920" cy="7196040"/>
          </a:xfrm>
          <a:prstGeom prst="rect">
            <a:avLst/>
          </a:prstGeom>
          <a:solidFill>
            <a:srgbClr val="007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TextBox 11"/>
          <p:cNvSpPr/>
          <p:nvPr/>
        </p:nvSpPr>
        <p:spPr>
          <a:xfrm>
            <a:off x="1619280" y="5349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236"/>
                </a:solidFill>
                <a:latin typeface="Times New Roman"/>
                <a:ea typeface="Times New Roman"/>
              </a:rPr>
              <a:t>НАЦІОНАЛЬНИЙ БАНК УКРАЇНИ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Прямая соединительная линия 12"/>
          <p:cNvSpPr/>
          <p:nvPr/>
        </p:nvSpPr>
        <p:spPr>
          <a:xfrm>
            <a:off x="1258920" y="2708280"/>
            <a:ext cx="7489800" cy="0"/>
          </a:xfrm>
          <a:prstGeom prst="line">
            <a:avLst/>
          </a:prstGeom>
          <a:ln w="9360">
            <a:solidFill>
              <a:srgbClr val="0072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Прямая соединительная линия 13"/>
          <p:cNvSpPr/>
          <p:nvPr/>
        </p:nvSpPr>
        <p:spPr>
          <a:xfrm>
            <a:off x="1258920" y="3429000"/>
            <a:ext cx="7489800" cy="0"/>
          </a:xfrm>
          <a:prstGeom prst="line">
            <a:avLst/>
          </a:prstGeom>
          <a:ln w="9360">
            <a:solidFill>
              <a:srgbClr val="0072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Прямая соединительная линия 14"/>
          <p:cNvSpPr/>
          <p:nvPr/>
        </p:nvSpPr>
        <p:spPr>
          <a:xfrm>
            <a:off x="1332000" y="6165720"/>
            <a:ext cx="7416720" cy="0"/>
          </a:xfrm>
          <a:prstGeom prst="line">
            <a:avLst/>
          </a:prstGeom>
          <a:ln w="9360">
            <a:solidFill>
              <a:srgbClr val="0072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353880" y="291960"/>
            <a:ext cx="1236960" cy="1013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1400" y="1258920"/>
            <a:ext cx="815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2240" indent="-192240">
              <a:spcBef>
                <a:spcPts val="400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400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54000" indent="-190440">
              <a:spcBef>
                <a:spcPts val="400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2000" indent="-185760">
              <a:spcBef>
                <a:spcPts val="400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4680" indent="-192240">
              <a:spcBef>
                <a:spcPts val="400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714680" indent="-1922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714680" indent="-1922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8748720" y="6622920"/>
            <a:ext cx="83808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0F3E-EAF6-4480-99CE-1F36EAFEC47F}" type="slidenum">
              <a:rPr b="0" lang="uk-UA" sz="14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7"/>
          <p:cNvSpPr/>
          <p:nvPr/>
        </p:nvSpPr>
        <p:spPr>
          <a:xfrm>
            <a:off x="28440" y="768240"/>
            <a:ext cx="1008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00" spc="-1" strike="noStrike">
                <a:solidFill>
                  <a:srgbClr val="007236"/>
                </a:solidFill>
                <a:latin typeface="Times New Roman"/>
                <a:ea typeface="Times New Roman"/>
              </a:rPr>
              <a:t>НАЦІОНАЛЬНИЙ </a:t>
            </a:r>
            <a:endParaRPr b="0" lang="en-US" sz="7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00" spc="-1" strike="noStrike">
                <a:solidFill>
                  <a:srgbClr val="007236"/>
                </a:solidFill>
                <a:latin typeface="Times New Roman"/>
                <a:ea typeface="Times New Roman"/>
              </a:rPr>
              <a:t>БАНК </a:t>
            </a:r>
            <a:endParaRPr b="0" lang="en-US" sz="7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00" spc="-1" strike="noStrike">
                <a:solidFill>
                  <a:srgbClr val="007236"/>
                </a:solidFill>
                <a:latin typeface="Times New Roman"/>
                <a:ea typeface="Times New Roman"/>
              </a:rPr>
              <a:t>УКРАЇНИ</a:t>
            </a:r>
            <a:endParaRPr b="0" lang="en-US" sz="7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128520" y="128520"/>
            <a:ext cx="809640" cy="676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3"/>
          <a:stretch/>
        </p:blipFill>
        <p:spPr>
          <a:xfrm>
            <a:off x="6804000" y="69840"/>
            <a:ext cx="2664000" cy="7812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ая соединительная линия 4"/>
          <p:cNvSpPr/>
          <p:nvPr/>
        </p:nvSpPr>
        <p:spPr>
          <a:xfrm flipH="1">
            <a:off x="1187280" y="851040"/>
            <a:ext cx="8280720" cy="0"/>
          </a:xfrm>
          <a:prstGeom prst="line">
            <a:avLst/>
          </a:prstGeom>
          <a:ln w="9360">
            <a:solidFill>
              <a:srgbClr val="0072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211400" y="1258920"/>
            <a:ext cx="815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2240" indent="-192240">
              <a:spcBef>
                <a:spcPts val="400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400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54000" indent="-190440">
              <a:spcBef>
                <a:spcPts val="400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2000" indent="-185760">
              <a:spcBef>
                <a:spcPts val="400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4680" indent="-192240">
              <a:spcBef>
                <a:spcPts val="400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714680" indent="-1922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714680" indent="-1922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3"/>
          </p:nvPr>
        </p:nvSpPr>
        <p:spPr>
          <a:xfrm>
            <a:off x="8748720" y="6622920"/>
            <a:ext cx="83808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3564-5FD1-4F19-94F8-063D329DDBDC}" type="slidenum">
              <a:rPr b="0" lang="uk-UA" sz="14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7"/>
          <p:cNvSpPr/>
          <p:nvPr/>
        </p:nvSpPr>
        <p:spPr>
          <a:xfrm>
            <a:off x="28440" y="768240"/>
            <a:ext cx="1008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00" spc="-1" strike="noStrike">
                <a:solidFill>
                  <a:srgbClr val="007236"/>
                </a:solidFill>
                <a:latin typeface="Times New Roman"/>
                <a:ea typeface="Times New Roman"/>
              </a:rPr>
              <a:t>НАЦІОНАЛЬНИЙ </a:t>
            </a:r>
            <a:endParaRPr b="0" lang="en-US" sz="7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00" spc="-1" strike="noStrike">
                <a:solidFill>
                  <a:srgbClr val="007236"/>
                </a:solidFill>
                <a:latin typeface="Times New Roman"/>
                <a:ea typeface="Times New Roman"/>
              </a:rPr>
              <a:t>БАНК </a:t>
            </a:r>
            <a:endParaRPr b="0" lang="en-US" sz="7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00" spc="-1" strike="noStrike">
                <a:solidFill>
                  <a:srgbClr val="007236"/>
                </a:solidFill>
                <a:latin typeface="Times New Roman"/>
                <a:ea typeface="Times New Roman"/>
              </a:rPr>
              <a:t>УКРАЇНИ</a:t>
            </a:r>
            <a:endParaRPr b="0" lang="en-US" sz="7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128520" y="128520"/>
            <a:ext cx="809640" cy="676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3"/>
          <a:stretch/>
        </p:blipFill>
        <p:spPr>
          <a:xfrm>
            <a:off x="6804000" y="69840"/>
            <a:ext cx="2664000" cy="78120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ая соединительная линия 4"/>
          <p:cNvSpPr/>
          <p:nvPr/>
        </p:nvSpPr>
        <p:spPr>
          <a:xfrm flipH="1">
            <a:off x="1187280" y="851040"/>
            <a:ext cx="8280720" cy="0"/>
          </a:xfrm>
          <a:prstGeom prst="line">
            <a:avLst/>
          </a:prstGeom>
          <a:ln w="9360">
            <a:solidFill>
              <a:srgbClr val="0072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211400" y="1258920"/>
            <a:ext cx="815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2240" indent="-192240">
              <a:spcBef>
                <a:spcPts val="400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400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54000" indent="-190440">
              <a:spcBef>
                <a:spcPts val="400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2000" indent="-185760">
              <a:spcBef>
                <a:spcPts val="400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4680" indent="-192240">
              <a:spcBef>
                <a:spcPts val="400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714680" indent="-1922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714680" indent="-1922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4"/>
          </p:nvPr>
        </p:nvSpPr>
        <p:spPr>
          <a:xfrm>
            <a:off x="8748720" y="6622920"/>
            <a:ext cx="83808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DF13-69FE-4BFF-AE7D-11210B223003}" type="slidenum">
              <a:rPr b="0" lang="uk-UA" sz="14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7"/>
          <p:cNvSpPr/>
          <p:nvPr/>
        </p:nvSpPr>
        <p:spPr>
          <a:xfrm>
            <a:off x="28440" y="768240"/>
            <a:ext cx="1008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00" spc="-1" strike="noStrike">
                <a:solidFill>
                  <a:srgbClr val="007236"/>
                </a:solidFill>
                <a:latin typeface="Times New Roman"/>
                <a:ea typeface="Times New Roman"/>
              </a:rPr>
              <a:t>НАЦІОНАЛЬНИЙ </a:t>
            </a:r>
            <a:endParaRPr b="0" lang="en-US" sz="7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00" spc="-1" strike="noStrike">
                <a:solidFill>
                  <a:srgbClr val="007236"/>
                </a:solidFill>
                <a:latin typeface="Times New Roman"/>
                <a:ea typeface="Times New Roman"/>
              </a:rPr>
              <a:t>БАНК </a:t>
            </a:r>
            <a:endParaRPr b="0" lang="en-US" sz="7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00" spc="-1" strike="noStrike">
                <a:solidFill>
                  <a:srgbClr val="007236"/>
                </a:solidFill>
                <a:latin typeface="Times New Roman"/>
                <a:ea typeface="Times New Roman"/>
              </a:rPr>
              <a:t>УКРАЇНИ</a:t>
            </a:r>
            <a:endParaRPr b="0" lang="en-US" sz="7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128520" y="128520"/>
            <a:ext cx="809640" cy="676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"/>
          <p:cNvPicPr/>
          <p:nvPr/>
        </p:nvPicPr>
        <p:blipFill>
          <a:blip r:embed="rId3"/>
          <a:stretch/>
        </p:blipFill>
        <p:spPr>
          <a:xfrm>
            <a:off x="6804000" y="69840"/>
            <a:ext cx="2664000" cy="78120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ая соединительная линия 4"/>
          <p:cNvSpPr/>
          <p:nvPr/>
        </p:nvSpPr>
        <p:spPr>
          <a:xfrm flipH="1">
            <a:off x="1187280" y="851040"/>
            <a:ext cx="8280720" cy="0"/>
          </a:xfrm>
          <a:prstGeom prst="line">
            <a:avLst/>
          </a:prstGeom>
          <a:ln w="9360">
            <a:solidFill>
              <a:srgbClr val="0072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211400" y="1258920"/>
            <a:ext cx="815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2240" indent="-192240">
              <a:spcBef>
                <a:spcPts val="400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400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54000" indent="-190440">
              <a:spcBef>
                <a:spcPts val="400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2000" indent="-185760">
              <a:spcBef>
                <a:spcPts val="400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4680" indent="-192240">
              <a:spcBef>
                <a:spcPts val="400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714680" indent="-1922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714680" indent="-1922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5"/>
          </p:nvPr>
        </p:nvSpPr>
        <p:spPr>
          <a:xfrm>
            <a:off x="485640" y="6552720"/>
            <a:ext cx="2268720" cy="500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6"/>
          </p:nvPr>
        </p:nvSpPr>
        <p:spPr>
          <a:xfrm>
            <a:off x="3320640" y="6552720"/>
            <a:ext cx="3078360" cy="500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7"/>
          </p:nvPr>
        </p:nvSpPr>
        <p:spPr>
          <a:xfrm>
            <a:off x="8748720" y="6549840"/>
            <a:ext cx="83808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7236"/>
                </a:solidFill>
                <a:latin typeface="Times New Roman"/>
                <a:ea typeface="MS P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2786-E85A-4DBA-ADD9-F4AE8B8A567C}" type="slidenum">
              <a:rPr b="0" lang="uk-UA" sz="1400" spc="-1" strike="noStrike">
                <a:solidFill>
                  <a:srgbClr val="007236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ank.gov.ua/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319040" y="2733840"/>
            <a:ext cx="756144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ереход к РПБ6 в Украине: текущее состоян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1319040" y="6262560"/>
            <a:ext cx="27576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циональный банк Украины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1625760" y="428760"/>
            <a:ext cx="568944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ru-RU" sz="3000" spc="-1" strike="noStrike">
                <a:solidFill>
                  <a:srgbClr val="007236"/>
                </a:solidFill>
                <a:latin typeface="Arial"/>
              </a:rPr>
              <a:t>Национальный банк Украины</a:t>
            </a:r>
            <a:r>
              <a:rPr b="0" lang="ru-RU" sz="3000" spc="-1" strike="noStrike">
                <a:solidFill>
                  <a:srgbClr val="007236"/>
                </a:solidFill>
                <a:latin typeface="Arial"/>
              </a:rPr>
              <a:t> 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менения в счете текущих операци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211400" y="1258920"/>
            <a:ext cx="815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2240" indent="-192240">
              <a:spcBef>
                <a:spcPts val="499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льдо счета текущих операций практически не изменилос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>
              <a:spcBef>
                <a:spcPts val="34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ница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1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году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59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лн дол. СШ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spcBef>
                <a:spcPts val="4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spcBef>
                <a:spcPts val="4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8748720" y="6622920"/>
            <a:ext cx="838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1707-C93D-4D23-92A6-6ACEBAD21CD6}" type="slidenum">
              <a:rPr b="0" lang="uk-UA" sz="14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53" name="Picture 8" descr=""/>
          <p:cNvPicPr/>
          <p:nvPr/>
        </p:nvPicPr>
        <p:blipFill>
          <a:blip r:embed="rId1"/>
          <a:stretch/>
        </p:blipFill>
        <p:spPr>
          <a:xfrm>
            <a:off x="1547640" y="2230560"/>
            <a:ext cx="66978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е изменения в финансовом счете –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ямые Иностранные Инвестици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26760" y="5181120"/>
            <a:ext cx="8466120" cy="12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161280" indent="-161280">
              <a:spcBef>
                <a:spcPts val="400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РТФЕЛЬНЫЕ И ПРОЧИЕ  ИНВЕСТИ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880" indent="-160200">
              <a:spcBef>
                <a:spcPts val="451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олженность была включена в сумму операций по основному финансовому инструменту, по которому она образовалась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880" indent="-160200">
              <a:spcBef>
                <a:spcPts val="451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банковские кредиты  и задолженность по ним были исключены  из статьи «Кредиты» и включены  в статью «Валюта и депозиты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8748720" y="6622920"/>
            <a:ext cx="838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DABF-F703-4269-AD4F-A68C7D17949B}" type="slidenum">
              <a:rPr b="0" lang="uk-UA" sz="14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7" name="Скругленный прямоугольник 1"/>
          <p:cNvSpPr/>
          <p:nvPr/>
        </p:nvSpPr>
        <p:spPr>
          <a:xfrm>
            <a:off x="565200" y="1947960"/>
            <a:ext cx="4087800" cy="95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ямые иностранные инвестиции за границу, прочий капитал, Обязательства перед зарубежными филиалами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8" name="Скругленный прямоугольник 5"/>
          <p:cNvSpPr/>
          <p:nvPr/>
        </p:nvSpPr>
        <p:spPr>
          <a:xfrm>
            <a:off x="6227640" y="1941480"/>
            <a:ext cx="3097440" cy="21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ямые иностранные инвестиции, чистые обязательства, Долговые инструменты, Инвестиции предприятия прямого инвестирования в прямого инвестора (обратные инвестиции)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9" name="Прямоугольник 2"/>
          <p:cNvSpPr/>
          <p:nvPr/>
        </p:nvSpPr>
        <p:spPr>
          <a:xfrm>
            <a:off x="565200" y="117468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Кредиты, полученные резидентами- прямыми инвесторами  от предприятий прямого инвестирования (нерезидентов)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cxnSp>
        <p:nvCxnSpPr>
          <p:cNvPr id="260" name="Прямая со стрелкой 4"/>
          <p:cNvCxnSpPr/>
          <p:nvPr/>
        </p:nvCxnSpPr>
        <p:spPr>
          <a:xfrm>
            <a:off x="4859280" y="2394000"/>
            <a:ext cx="937440" cy="380160"/>
          </a:xfrm>
          <a:prstGeom prst="straightConnector1">
            <a:avLst/>
          </a:prstGeom>
          <a:ln w="25560">
            <a:solidFill>
              <a:srgbClr val="4f81bd"/>
            </a:solidFill>
            <a:prstDash val="dash"/>
            <a:miter/>
            <a:tailEnd len="med" type="arrow" w="med"/>
          </a:ln>
        </p:spPr>
      </p:cxnSp>
      <p:sp>
        <p:nvSpPr>
          <p:cNvPr id="261" name="Скругленный прямоугольник 9"/>
          <p:cNvSpPr/>
          <p:nvPr/>
        </p:nvSpPr>
        <p:spPr>
          <a:xfrm>
            <a:off x="609480" y="3803760"/>
            <a:ext cx="4070520" cy="874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ямые иностранные инвестиции в Украину, Прочий капитал, требования к прямым инвесторам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2" name="Прямоугольник 6"/>
          <p:cNvSpPr/>
          <p:nvPr/>
        </p:nvSpPr>
        <p:spPr>
          <a:xfrm>
            <a:off x="565200" y="3094200"/>
            <a:ext cx="42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Требования к прямым инвесторам – нерезидентам в виде торговых кредитов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cxnSp>
        <p:nvCxnSpPr>
          <p:cNvPr id="263" name="Прямая со стрелкой 11"/>
          <p:cNvCxnSpPr/>
          <p:nvPr/>
        </p:nvCxnSpPr>
        <p:spPr>
          <a:xfrm flipV="1">
            <a:off x="4863960" y="3672720"/>
            <a:ext cx="937440" cy="429480"/>
          </a:xfrm>
          <a:prstGeom prst="straightConnector1">
            <a:avLst/>
          </a:prstGeom>
          <a:ln w="25560">
            <a:solidFill>
              <a:srgbClr val="4f81bd"/>
            </a:solidFill>
            <a:prstDash val="dash"/>
            <a:miter/>
            <a:tailEnd len="med" type="arrow" w="med"/>
          </a:ln>
        </p:spPr>
      </p:cxnSp>
      <p:sp>
        <p:nvSpPr>
          <p:cNvPr id="264" name="Прямая соединительная линия 10"/>
          <p:cNvSpPr/>
          <p:nvPr/>
        </p:nvSpPr>
        <p:spPr>
          <a:xfrm>
            <a:off x="324000" y="4965840"/>
            <a:ext cx="900108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11400" y="214200"/>
            <a:ext cx="815472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жбанковские кредит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131640" y="1006560"/>
            <a:ext cx="30006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2240" indent="-192240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банковские креди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8748720" y="6622920"/>
            <a:ext cx="838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5903-7163-49DE-81F1-E727FA1CB900}" type="slidenum">
              <a:rPr b="0" lang="uk-UA" sz="14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68" name="Picture 8" descr=""/>
          <p:cNvPicPr/>
          <p:nvPr/>
        </p:nvPicPr>
        <p:blipFill>
          <a:blip r:embed="rId1"/>
          <a:stretch/>
        </p:blipFill>
        <p:spPr>
          <a:xfrm>
            <a:off x="144360" y="2949480"/>
            <a:ext cx="4824360" cy="3000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"/>
          <p:cNvPicPr/>
          <p:nvPr/>
        </p:nvPicPr>
        <p:blipFill>
          <a:blip r:embed="rId2"/>
          <a:stretch/>
        </p:blipFill>
        <p:spPr>
          <a:xfrm>
            <a:off x="4992840" y="2949480"/>
            <a:ext cx="4465440" cy="2778120"/>
          </a:xfrm>
          <a:prstGeom prst="rect">
            <a:avLst/>
          </a:prstGeom>
          <a:ln w="0">
            <a:noFill/>
          </a:ln>
        </p:spPr>
      </p:pic>
      <p:sp>
        <p:nvSpPr>
          <p:cNvPr id="270" name="Скругленный прямоугольник 6"/>
          <p:cNvSpPr/>
          <p:nvPr/>
        </p:nvSpPr>
        <p:spPr>
          <a:xfrm>
            <a:off x="826920" y="1565280"/>
            <a:ext cx="1632240" cy="636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едиты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1" name="Скругленный прямоугольник 7"/>
          <p:cNvSpPr/>
          <p:nvPr/>
        </p:nvSpPr>
        <p:spPr>
          <a:xfrm>
            <a:off x="6588000" y="1558800"/>
            <a:ext cx="216072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люта и депозиты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cxnSp>
        <p:nvCxnSpPr>
          <p:cNvPr id="272" name="Прямая со стрелкой 8"/>
          <p:cNvCxnSpPr/>
          <p:nvPr/>
        </p:nvCxnSpPr>
        <p:spPr>
          <a:xfrm>
            <a:off x="3203640" y="1882440"/>
            <a:ext cx="2737080" cy="1080"/>
          </a:xfrm>
          <a:prstGeom prst="straightConnector1">
            <a:avLst/>
          </a:prstGeom>
          <a:ln w="25560">
            <a:solidFill>
              <a:srgbClr val="4f81bd"/>
            </a:solidFill>
            <a:prstDash val="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вые подходы к отображению задолженност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211400" y="1258560"/>
            <a:ext cx="8154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171000" indent="-171000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долженность была включена в сумму операций по основному финансовому инструменту, по которому она образовалас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000" indent="-171000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000" indent="-171000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связи с существенным накоплением задолженности украинскими предприятиям начиная с 2009 года основные изменения нашли отражение в статье «Кредиты, Пасивы, Прочие сектора, Долгосрочные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8748720" y="6622920"/>
            <a:ext cx="838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6541-26C5-46B0-A4DC-00823FC2E300}" type="slidenum">
              <a:rPr b="0" lang="uk-UA" sz="14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76" name="Picture 7" descr=""/>
          <p:cNvPicPr/>
          <p:nvPr/>
        </p:nvPicPr>
        <p:blipFill>
          <a:blip r:embed="rId1"/>
          <a:stretch/>
        </p:blipFill>
        <p:spPr>
          <a:xfrm>
            <a:off x="2124000" y="3022560"/>
            <a:ext cx="540072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смотр данных – Статистика внешнего сектора согласно РПБ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211400" y="1149480"/>
            <a:ext cx="81547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2240" indent="-192240">
              <a:spcBef>
                <a:spcPts val="499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атежный балан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499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499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499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499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вартальные данные за 2001-2014 годы будут пересмотрены в конце 2015 г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499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spcBef>
                <a:spcPts val="550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нежные переводы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spcBef>
                <a:spcPts val="550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spcBef>
                <a:spcPts val="550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еждународная инвестиционная позиц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spcBef>
                <a:spcPts val="550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spcBef>
                <a:spcPts val="550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нешний долг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spcBef>
                <a:spcPts val="550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8748720" y="6622920"/>
            <a:ext cx="838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05DB-F83B-42E5-9EDD-92397E144FF5}" type="slidenum">
              <a:rPr b="0" lang="uk-UA" sz="14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80" name="Группа 7"/>
          <p:cNvGrpSpPr/>
          <p:nvPr/>
        </p:nvGrpSpPr>
        <p:grpSpPr>
          <a:xfrm>
            <a:off x="6734160" y="3479760"/>
            <a:ext cx="2016000" cy="433440"/>
            <a:chOff x="6734160" y="3479760"/>
            <a:chExt cx="2016000" cy="433440"/>
          </a:xfrm>
        </p:grpSpPr>
        <p:sp>
          <p:nvSpPr>
            <p:cNvPr id="281" name="Скругленный прямоугольник 2"/>
            <p:cNvSpPr/>
            <p:nvPr/>
          </p:nvSpPr>
          <p:spPr>
            <a:xfrm>
              <a:off x="7886520" y="3479760"/>
              <a:ext cx="863640" cy="433440"/>
            </a:xfrm>
            <a:prstGeom prst="roundRect">
              <a:avLst>
                <a:gd name="adj" fmla="val 16667"/>
              </a:avLst>
            </a:prstGeom>
            <a:solidFill>
              <a:srgbClr val="8064a2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Arial"/>
                </a:rPr>
                <a:t>Кварт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2" name="Скругленный прямоугольник 3"/>
            <p:cNvSpPr/>
            <p:nvPr/>
          </p:nvSpPr>
          <p:spPr>
            <a:xfrm>
              <a:off x="6734160" y="3479760"/>
              <a:ext cx="863640" cy="43344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3" name="Прямая соединительная линия 5"/>
            <p:cNvSpPr/>
            <p:nvPr/>
          </p:nvSpPr>
          <p:spPr>
            <a:xfrm>
              <a:off x="7598160" y="3696480"/>
              <a:ext cx="28800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84" name="Группа 11"/>
          <p:cNvGrpSpPr/>
          <p:nvPr/>
        </p:nvGrpSpPr>
        <p:grpSpPr>
          <a:xfrm>
            <a:off x="6732720" y="4389480"/>
            <a:ext cx="2016000" cy="433440"/>
            <a:chOff x="6732720" y="4389480"/>
            <a:chExt cx="2016000" cy="433440"/>
          </a:xfrm>
        </p:grpSpPr>
        <p:sp>
          <p:nvSpPr>
            <p:cNvPr id="285" name="Скругленный прямоугольник 12"/>
            <p:cNvSpPr/>
            <p:nvPr/>
          </p:nvSpPr>
          <p:spPr>
            <a:xfrm>
              <a:off x="7885080" y="4389480"/>
              <a:ext cx="863640" cy="433440"/>
            </a:xfrm>
            <a:prstGeom prst="roundRect">
              <a:avLst>
                <a:gd name="adj" fmla="val 16667"/>
              </a:avLst>
            </a:prstGeom>
            <a:solidFill>
              <a:srgbClr val="8064a2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Arial"/>
                </a:rPr>
                <a:t>Кварт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6" name="Скругленный прямоугольник 13"/>
            <p:cNvSpPr/>
            <p:nvPr/>
          </p:nvSpPr>
          <p:spPr>
            <a:xfrm>
              <a:off x="6732720" y="4389480"/>
              <a:ext cx="863640" cy="43344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7" name="Прямая соединительная линия 14"/>
            <p:cNvSpPr/>
            <p:nvPr/>
          </p:nvSpPr>
          <p:spPr>
            <a:xfrm>
              <a:off x="7596720" y="4606200"/>
              <a:ext cx="28800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88" name="Группа 20"/>
          <p:cNvGrpSpPr/>
          <p:nvPr/>
        </p:nvGrpSpPr>
        <p:grpSpPr>
          <a:xfrm>
            <a:off x="6734160" y="5110200"/>
            <a:ext cx="2016000" cy="431640"/>
            <a:chOff x="6734160" y="5110200"/>
            <a:chExt cx="2016000" cy="431640"/>
          </a:xfrm>
        </p:grpSpPr>
        <p:sp>
          <p:nvSpPr>
            <p:cNvPr id="289" name="Скругленный прямоугольник 21"/>
            <p:cNvSpPr/>
            <p:nvPr/>
          </p:nvSpPr>
          <p:spPr>
            <a:xfrm>
              <a:off x="7886520" y="5110200"/>
              <a:ext cx="863640" cy="431640"/>
            </a:xfrm>
            <a:prstGeom prst="roundRect">
              <a:avLst>
                <a:gd name="adj" fmla="val 16667"/>
              </a:avLst>
            </a:prstGeom>
            <a:solidFill>
              <a:srgbClr val="8064a2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Arial"/>
                </a:rPr>
                <a:t>Кварт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90" name="Скругленный прямоугольник 22"/>
            <p:cNvSpPr/>
            <p:nvPr/>
          </p:nvSpPr>
          <p:spPr>
            <a:xfrm>
              <a:off x="6734160" y="5110200"/>
              <a:ext cx="863640" cy="43164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91" name="Прямая соединительная линия 23"/>
            <p:cNvSpPr/>
            <p:nvPr/>
          </p:nvSpPr>
          <p:spPr>
            <a:xfrm>
              <a:off x="7598160" y="5325840"/>
              <a:ext cx="28800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92" name="Группа 24"/>
          <p:cNvGrpSpPr/>
          <p:nvPr/>
        </p:nvGrpSpPr>
        <p:grpSpPr>
          <a:xfrm>
            <a:off x="6732720" y="1165320"/>
            <a:ext cx="2016000" cy="431640"/>
            <a:chOff x="6732720" y="1165320"/>
            <a:chExt cx="2016000" cy="431640"/>
          </a:xfrm>
        </p:grpSpPr>
        <p:sp>
          <p:nvSpPr>
            <p:cNvPr id="293" name="Скругленный прямоугольник 25"/>
            <p:cNvSpPr/>
            <p:nvPr/>
          </p:nvSpPr>
          <p:spPr>
            <a:xfrm>
              <a:off x="7885080" y="1165320"/>
              <a:ext cx="863640" cy="431640"/>
            </a:xfrm>
            <a:prstGeom prst="roundRect">
              <a:avLst>
                <a:gd name="adj" fmla="val 16667"/>
              </a:avLst>
            </a:prstGeom>
            <a:solidFill>
              <a:srgbClr val="8064a2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Arial"/>
                </a:rPr>
                <a:t>Кварт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94" name="Скругленный прямоугольник 26"/>
            <p:cNvSpPr/>
            <p:nvPr/>
          </p:nvSpPr>
          <p:spPr>
            <a:xfrm>
              <a:off x="6732720" y="1165320"/>
              <a:ext cx="863640" cy="43164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95" name="Прямая соединительная линия 27"/>
            <p:cNvSpPr/>
            <p:nvPr/>
          </p:nvSpPr>
          <p:spPr>
            <a:xfrm>
              <a:off x="7596720" y="1380960"/>
              <a:ext cx="28800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96" name="Группа 28"/>
          <p:cNvGrpSpPr/>
          <p:nvPr/>
        </p:nvGrpSpPr>
        <p:grpSpPr>
          <a:xfrm>
            <a:off x="6734160" y="1870200"/>
            <a:ext cx="2016000" cy="431640"/>
            <a:chOff x="6734160" y="1870200"/>
            <a:chExt cx="2016000" cy="431640"/>
          </a:xfrm>
        </p:grpSpPr>
        <p:sp>
          <p:nvSpPr>
            <p:cNvPr id="297" name="Скругленный прямоугольник 29"/>
            <p:cNvSpPr/>
            <p:nvPr/>
          </p:nvSpPr>
          <p:spPr>
            <a:xfrm>
              <a:off x="7886520" y="1870200"/>
              <a:ext cx="863640" cy="431640"/>
            </a:xfrm>
            <a:prstGeom prst="roundRect">
              <a:avLst>
                <a:gd name="adj" fmla="val 16667"/>
              </a:avLst>
            </a:prstGeom>
            <a:solidFill>
              <a:srgbClr val="8064a2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Arial"/>
                </a:rPr>
                <a:t>Мес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98" name="Скругленный прямоугольник 30"/>
            <p:cNvSpPr/>
            <p:nvPr/>
          </p:nvSpPr>
          <p:spPr>
            <a:xfrm>
              <a:off x="6734160" y="1870200"/>
              <a:ext cx="863640" cy="43164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99" name="Прямая соединительная линия 31"/>
            <p:cNvSpPr/>
            <p:nvPr/>
          </p:nvSpPr>
          <p:spPr>
            <a:xfrm>
              <a:off x="7598160" y="2085840"/>
              <a:ext cx="28800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пространение данны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211400" y="1258920"/>
            <a:ext cx="815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2240" indent="-192240">
              <a:spcBef>
                <a:spcPts val="601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Интернет страница  НБУ (</a:t>
            </a:r>
            <a:r>
              <a:rPr b="0" lang="uk-UA" sz="24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www.bank.gov.ua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spcBef>
                <a:spcPts val="499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жеквартальный сборник Национального банка Украины «Платежный б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аланс та внешний долг Украин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» на украинском и английском язык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spcBef>
                <a:spcPts val="601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spcBef>
                <a:spcPts val="499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1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вартальные данные в двух формат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П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 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вумя неделями позднее РП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spcBef>
                <a:spcPts val="499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ноябр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2014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сячные данные доступны в фомате РПБ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spcBef>
                <a:spcPts val="499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spcBef>
                <a:spcPts val="499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spcBef>
                <a:spcPts val="499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8748720" y="6622920"/>
            <a:ext cx="838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3924-67AC-4AD2-8CE6-10DEF9D90E96}" type="slidenum">
              <a:rPr b="0" lang="uk-UA" sz="14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3" name="Прямоугольник 1"/>
          <p:cNvSpPr/>
          <p:nvPr/>
        </p:nvSpPr>
        <p:spPr>
          <a:xfrm>
            <a:off x="4140360" y="4317840"/>
            <a:ext cx="3960720" cy="863640"/>
          </a:xfrm>
          <a:prstGeom prst="rect">
            <a:avLst/>
          </a:prstGeom>
          <a:solidFill>
            <a:srgbClr val="ebf1de"/>
          </a:solidFill>
          <a:ln w="9360">
            <a:solidFill>
              <a:srgbClr val="ebf1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71680" indent="-190800">
              <a:lnSpc>
                <a:spcPct val="100000"/>
              </a:lnSpc>
              <a:spcBef>
                <a:spcPts val="349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Аналитичекая форма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349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Стандартная форма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349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По секторам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5480" y="272880"/>
            <a:ext cx="7769160" cy="58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рав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ые основ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49080" y="1438200"/>
            <a:ext cx="8459640" cy="4943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192240" indent="-192240">
              <a:lnSpc>
                <a:spcPct val="90000"/>
              </a:lnSpc>
              <a:spcBef>
                <a:spcPts val="601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Закон Украины «О Национальном банке Украины» </a:t>
            </a:r>
            <a:r>
              <a:rPr b="1" lang="en-GB" sz="2400" spc="-1" strike="noStrike">
                <a:solidFill>
                  <a:srgbClr val="c00000"/>
                </a:solidFill>
                <a:latin typeface="Times New Roman"/>
              </a:rPr>
              <a:t>(1999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0000"/>
              </a:lnSpc>
              <a:spcBef>
                <a:spcPts val="451"/>
              </a:spcBef>
              <a:buClr>
                <a:srgbClr val="007236"/>
              </a:buClr>
              <a:buSzPct val="50000"/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БУ отвечает за составление, анализ и прогноз платежного баланса (статья  7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0000"/>
              </a:lnSpc>
              <a:spcBef>
                <a:spcPts val="451"/>
              </a:spcBef>
              <a:buClr>
                <a:srgbClr val="007236"/>
              </a:buClr>
              <a:buSzPct val="50000"/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БУ определяет формы и процедуры представления форм отчетности для составления статистики платежного баланса, которые являются обязательными для всех субъектов предпринимательской деятельности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тья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6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90000"/>
              </a:lnSpc>
              <a:spcBef>
                <a:spcPts val="601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овместное постановление НБУ и  Кабинета Министров Украины «О составлении платежного баланса» №51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0000"/>
              </a:lnSpc>
              <a:spcBef>
                <a:spcPts val="451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ординирует деятельность министерств и ведомств в процессе формировании информационной базы  для составления статистики внешнего секто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8748720" y="6550200"/>
            <a:ext cx="8380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6377-36FA-4506-9875-A7CF7128A7F2}" type="slidenum">
              <a:rPr b="0" lang="uk-UA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истема сбора дан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ы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11040" y="1077480"/>
            <a:ext cx="78246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2240" indent="-192240">
              <a:lnSpc>
                <a:spcPct val="80000"/>
              </a:lnSpc>
              <a:spcBef>
                <a:spcPts val="601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Национальный банк Украины</a:t>
            </a:r>
            <a:r>
              <a:rPr b="1" lang="en-GB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4000" indent="-1904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стема отчетности об операциях с нерезидентами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International Transactions Reporting System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(IT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4000" indent="-1904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алансы бан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4000" indent="-1904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четность банков и предприятий по внешним кредитам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жемесячная, по каждому кредиту, данные о запасах, операциях и календаре погашения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80000"/>
              </a:lnSpc>
              <a:spcBef>
                <a:spcPts val="601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Государственная служба Статистики Украи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4000" indent="-1904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тистика внешней торговли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4000" indent="-19044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следования предприятий по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4680" indent="-192240">
              <a:lnSpc>
                <a:spcPct val="80000"/>
              </a:lnSpc>
              <a:spcBef>
                <a:spcPts val="451"/>
              </a:spcBef>
              <a:buClr>
                <a:srgbClr val="007236"/>
              </a:buClr>
              <a:buFont typeface="Times New Roman"/>
              <a:buChar char="•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кспорту-импорту услуг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4680" indent="-192240">
              <a:lnSpc>
                <a:spcPct val="80000"/>
              </a:lnSpc>
              <a:spcBef>
                <a:spcPts val="451"/>
              </a:spcBef>
              <a:buClr>
                <a:srgbClr val="007236"/>
              </a:buClr>
              <a:buFont typeface="Times New Roman"/>
              <a:buChar char="•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ямым иностранным инвестициям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4680" indent="-192240">
              <a:lnSpc>
                <a:spcPct val="80000"/>
              </a:lnSpc>
              <a:spcBef>
                <a:spcPts val="451"/>
              </a:spcBef>
              <a:buClr>
                <a:srgbClr val="007236"/>
              </a:buClr>
              <a:buFont typeface="Times New Roman"/>
              <a:buChar char="•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редиторской и  дебиторской задолженност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54000" indent="-190440">
              <a:lnSpc>
                <a:spcPct val="80000"/>
              </a:lnSpc>
              <a:spcBef>
                <a:spcPts val="451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чие данные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4680" indent="-192240">
              <a:lnSpc>
                <a:spcPct val="80000"/>
              </a:lnSpc>
              <a:spcBef>
                <a:spcPts val="451"/>
              </a:spcBef>
              <a:buClr>
                <a:srgbClr val="007236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зор турист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4680" indent="-192240">
              <a:lnSpc>
                <a:spcPct val="80000"/>
              </a:lnSpc>
              <a:spcBef>
                <a:spcPts val="451"/>
              </a:spcBef>
              <a:buClr>
                <a:srgbClr val="007236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зор мигра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spcBef>
                <a:spcPts val="451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8748720" y="6622920"/>
            <a:ext cx="838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127B-DC2B-4484-81E8-916E26593F2D}" type="slidenum">
              <a:rPr b="0" lang="uk-UA" sz="14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истема сбора дан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ы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211400" y="1258920"/>
            <a:ext cx="815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71680" indent="-190800">
              <a:spcBef>
                <a:spcPts val="601"/>
              </a:spcBef>
              <a:buClr>
                <a:srgbClr val="007236"/>
              </a:buClr>
              <a:buFont typeface="Times New Roma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рочие источники данных</a:t>
            </a:r>
            <a:r>
              <a:rPr b="1" lang="en-GB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2000" indent="-185760">
              <a:spcBef>
                <a:spcPts val="451"/>
              </a:spcBef>
              <a:buClr>
                <a:srgbClr val="007236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нистерство финансов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2000" indent="-185760">
              <a:spcBef>
                <a:spcPts val="451"/>
              </a:spcBef>
              <a:buClr>
                <a:srgbClr val="007236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нистерство экономического развития и торговл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2000" indent="-185760">
              <a:spcBef>
                <a:spcPts val="451"/>
              </a:spcBef>
              <a:buClr>
                <a:srgbClr val="007236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Государственная пограничная служб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2000" indent="-185760">
              <a:spcBef>
                <a:spcPts val="451"/>
              </a:spcBef>
              <a:buClr>
                <a:srgbClr val="007236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осударственная комиссия по ценным бумагам и фондовому рынк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2000" indent="-185760">
              <a:spcBef>
                <a:spcPts val="451"/>
              </a:spcBef>
              <a:buClr>
                <a:srgbClr val="007236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Государственная комиссия по регулированию рынка финансовых услуг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2000" indent="-185760">
              <a:spcBef>
                <a:spcPts val="451"/>
              </a:spcBef>
              <a:buClr>
                <a:srgbClr val="007236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циональная акционерная компания «Нафтогаз Украины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2000" indent="-185760">
              <a:spcBef>
                <a:spcPts val="451"/>
              </a:spcBef>
              <a:buClr>
                <a:srgbClr val="007236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499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тистика банка международных расчетов по депозитам прочих секторов в иностранных банк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601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Оцен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601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spcBef>
                <a:spcPts val="601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8748720" y="6622920"/>
            <a:ext cx="838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121D-EF47-44DC-A7FF-79BDFF3D4A3B}" type="slidenum">
              <a:rPr b="0" lang="uk-UA" sz="14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ход к РПБ6 - Истор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8748720" y="6622920"/>
            <a:ext cx="838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A2F5-8E38-44CF-993F-30D5BBD87E70}" type="slidenum">
              <a:rPr b="0" lang="uk-UA" sz="14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900000" y="1654200"/>
            <a:ext cx="82803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менения в счете текущих операци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042920" y="1006200"/>
            <a:ext cx="813744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2240" indent="-192240">
              <a:spcBef>
                <a:spcPts val="451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spcBef>
                <a:spcPts val="451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ОВА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spcBef>
                <a:spcPts val="4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499"/>
              </a:spcBef>
              <a:spcAft>
                <a:spcPts val="601"/>
              </a:spcAft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ерации по ремонту товаров были  перенесены  из статьи «Товары» в статью «Услуги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499"/>
              </a:spcBef>
              <a:spcAft>
                <a:spcPts val="601"/>
              </a:spcAft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Товары для переработки» были исключены из  статьи «Товары» (стоимость услуг по переработке отражается в статье «Услуги»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499"/>
              </a:spcBef>
              <a:spcAft>
                <a:spcPts val="601"/>
              </a:spcAft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Това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ы, закупаемые в портах перевозчиками » были включены в статью «Товары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8748720" y="6622920"/>
            <a:ext cx="838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4621-B4ED-471B-AF54-D095CE840E33}" type="slidenum">
              <a:rPr b="0" lang="uk-UA" sz="14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менения в счете текущих операци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99640" y="1006200"/>
            <a:ext cx="8466120" cy="58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2240" indent="-192240">
              <a:spcBef>
                <a:spcPts val="451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451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Услуги по обработке материальных ресурсов, принадлежащим другим сторонам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54000" indent="-190440">
              <a:spcBef>
                <a:spcPts val="451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кредиту – рассчитывается как разница между стоимостью готовой продукции (после обработки)  и стоимостью товаров, ввезенных для обработки, включая услуги по сборке, упаковке, маркировке, производимые предприятиями, которым не принадлежат соответствующие товар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54000" indent="-190440">
              <a:spcBef>
                <a:spcPts val="451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писи по дебиту формируются на основании данных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TR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499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Изменения в классификации услуг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4000" indent="-190440">
              <a:spcBef>
                <a:spcPts val="451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чтовые услуги и услуги курьерской связи» были включены в статью «Транспорт» (ранее входили в состав «Коммуникационных услуг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54000" indent="-190440">
              <a:spcBef>
                <a:spcPts val="451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Телекоммуникационные услуги»  были включены в статью «Телекоммуникационные, компьютерные и информационные услуги» (ранее отражались в статье «коммуникационные услуги»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54000" indent="-190440">
              <a:spcBef>
                <a:spcPts val="451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луги по переработке, производимые предприятиями, которым не принадлежат соответствующие товары, были исключены из статьи «Прочие  деловые, профессиональные и технические услуг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4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8748720" y="6622920"/>
            <a:ext cx="838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2BA5-1378-4F55-983B-202F7B9F122A}" type="slidenum">
              <a:rPr b="0" lang="uk-UA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лияние методологических изменений на данные внешней торговл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211400" y="1258920"/>
            <a:ext cx="81547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151560" indent="-151560">
              <a:spcBef>
                <a:spcPts val="499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кспорт и импорт товаров существенно сократились в 2014 год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1560" indent="-151560">
              <a:spcBef>
                <a:spcPts val="499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1440" indent="-150480">
              <a:spcBef>
                <a:spcPts val="499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кспорт – 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8.5% ( 4.7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лрд. дол. СШ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1440" indent="-150480">
              <a:spcBef>
                <a:spcPts val="499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пор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5.1% (3.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лрд. дол. СШ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8748720" y="6622920"/>
            <a:ext cx="838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EDF5-A3A8-4A85-9D59-6455DC40495C}" type="slidenum">
              <a:rPr b="0" lang="uk-UA" sz="14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43" name="Picture 8" descr=""/>
          <p:cNvPicPr/>
          <p:nvPr/>
        </p:nvPicPr>
        <p:blipFill>
          <a:blip r:embed="rId1"/>
          <a:stretch/>
        </p:blipFill>
        <p:spPr>
          <a:xfrm>
            <a:off x="179280" y="2771640"/>
            <a:ext cx="4667400" cy="30355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2"/>
          <a:stretch/>
        </p:blipFill>
        <p:spPr>
          <a:xfrm>
            <a:off x="4846680" y="2782800"/>
            <a:ext cx="46134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лияние методологических изменений на данные внешней торговл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211400" y="1258560"/>
            <a:ext cx="815472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180360" indent="-180360">
              <a:spcBef>
                <a:spcPts val="451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кспорт услуг увеличился н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.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0360" indent="-180360">
              <a:spcBef>
                <a:spcPts val="451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худшение сальдо торговли товарами компенсируется улучшением баланса торговли услугам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1.4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лрд. дол. СШ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0360" indent="-180360">
              <a:spcBef>
                <a:spcPts val="451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8748720" y="6622920"/>
            <a:ext cx="838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375C-1589-470D-BBC7-77A54D36A96B}" type="slidenum">
              <a:rPr b="0" lang="uk-UA" sz="14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48" name="Picture 8" descr=""/>
          <p:cNvPicPr/>
          <p:nvPr/>
        </p:nvPicPr>
        <p:blipFill>
          <a:blip r:embed="rId1"/>
          <a:stretch/>
        </p:blipFill>
        <p:spPr>
          <a:xfrm>
            <a:off x="252360" y="2733840"/>
            <a:ext cx="4680000" cy="2911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1" descr=""/>
          <p:cNvPicPr/>
          <p:nvPr/>
        </p:nvPicPr>
        <p:blipFill>
          <a:blip r:embed="rId2"/>
          <a:stretch/>
        </p:blipFill>
        <p:spPr>
          <a:xfrm>
            <a:off x="4861080" y="2733840"/>
            <a:ext cx="4681440" cy="29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3T15:54:26Z</dcterms:created>
  <dc:creator>andrea</dc:creator>
  <dc:description/>
  <dc:language>en-US</dc:language>
  <cp:lastModifiedBy>Sisene</cp:lastModifiedBy>
  <cp:lastPrinted>2014-12-19T15:46:07Z</cp:lastPrinted>
  <dcterms:modified xsi:type="dcterms:W3CDTF">2015-04-27T09:35:18Z</dcterms:modified>
  <cp:revision>774</cp:revision>
  <dc:subject/>
  <dc:title>Presentazione di PowerPoint</dc:title>
</cp:coreProperties>
</file>