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720263" cy="7196138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24688-9A11-451C-9DA1-EE07FE9380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1400" y="389088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5287-5981-4F49-A8D5-808466543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028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8777-B54D-4724-8C5B-9D402AFEB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6864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2552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140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6864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2552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10B7-B55C-463F-AEF8-83218979B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463FD-6DFA-4F59-AF3B-03D6E39A2A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2EFE7-5FC6-4385-A3F6-F7DFBE2E5C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EEB64-4BD3-41E8-B0B9-879B766000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EF96D-08EF-465C-B42D-0E03C83B2F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04296-A558-40E8-8526-45CA4B4576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1400" y="-360"/>
            <a:ext cx="81547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828E1-2D99-4BED-A744-CA60C2FA2D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AD18E-05C8-4EA0-92B1-2FF30CF875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1EE9-2ADF-4936-808B-96C85812F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028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CF608-F472-4063-9D81-0F03384F7C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C46AD-7167-4021-ACE6-C44142FBB2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11400" y="389088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D00CD-C0CD-4A6F-AADC-18002B72B1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028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36643-2EB7-48DB-8F95-32966BE5C1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6864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2552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1140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6864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72552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8221F-587D-4269-90CA-CB069A8D372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FFA-EBAE-4B81-B073-224A41D5CC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298-4934-4563-871F-7DE1F5AB61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829-49B6-464E-8424-2E10B6282D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CA9A-A8ED-4A87-81E9-F8166992E8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4B36-B1AD-40B5-B487-0C61142B18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5C5CA-A464-42D5-AA46-48CB36527D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1400" y="-360"/>
            <a:ext cx="81547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7AD9-3CC6-4A8E-B11D-25A717C064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CEA-A310-47F6-8075-D64E8E1A06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9028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38FC-CC79-4D60-B806-55D534D10A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305-6136-43B6-8C8C-91BF64E218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1400" y="389088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E61-C4A2-4924-9962-4865061677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9028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D2A0-AA43-4C62-B61F-4476C7F11F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96864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72552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140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96864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72552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A368-3BF1-4170-A9A3-BDC1CAFDC6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7D0C6-C87C-4117-9DA8-EB74F517A1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CE609-7880-4D6C-AD32-4ED81428C8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0389C-C0E8-46BD-9D62-199DCC885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A63F-E4E3-4A41-A4CF-F50535515DD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E2AAF-06C5-497E-B055-7CE05BE338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A56CB-BAF6-4E3B-AED6-E95B264871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11400" y="-360"/>
            <a:ext cx="81547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5556B-4FD8-407C-9E39-B132D07C0A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AB467-CE4B-4A81-8E45-5BFCA521D5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39028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DC6C9-9E94-429D-BD4C-B067C6C5D2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C0072-A397-400F-AA99-FA0BFC70F60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11400" y="389088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44084-2DC4-4ACF-9231-09C0C42DE0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39028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092E0-279F-4D84-A117-4E8C933CD4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96864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72552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1140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96864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72552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7323E-3BF0-48EC-89C6-3D60EB6C5DF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BFF5C6-90B7-454E-95B6-4D0E961D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6536-BED4-472F-960E-2C37E287FC9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8E1273-A540-42CD-BB31-2B8B2450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7B4DE2-AF22-43DB-91C5-483DFD59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C21756-8CAE-4EA7-BD16-C76C2E6C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F9B608-EF3A-4D17-A910-FBB2374F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211400" y="-360"/>
            <a:ext cx="81547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4F18A9-61E0-4DB1-B875-7A23B022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32D339-007E-4FDE-AE63-6F0CC371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9028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D282AB-2C5D-4A20-AD2D-217010C7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1FDBFA-23D7-439E-8C16-9B55A1BD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211400" y="389088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6C7198-B70F-48C7-A625-6C19E377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39028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D7BBF3-3BA8-4DBA-92A0-AD4D6EA4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1400" y="-360"/>
            <a:ext cx="81547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485AF-72F7-4D9F-9074-00BFD030078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96864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725520" y="125892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21140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96864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725520" y="3890880"/>
            <a:ext cx="26254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92168F-5E71-401D-83C7-BA05B2F5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115E-D351-4251-BD39-270580C5F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90280" y="389088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10F5-CB4B-4AD0-A957-36083C0E8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140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90280" y="1258920"/>
            <a:ext cx="39794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1400" y="3890880"/>
            <a:ext cx="815472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8E31-777C-48B3-9DE3-70AEAEB9E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400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2000" indent="-18576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19224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714680" indent="-1922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714680" indent="-1922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49840"/>
            <a:ext cx="83808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236"/>
                </a:solidFill>
                <a:latin typeface="Times New Roman"/>
                <a:ea typeface="MS P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A050-8B82-4009-8141-E6A7A1097B75}" type="slidenum">
              <a:rPr b="0" lang="en-US" sz="1400" spc="-1" strike="noStrike">
                <a:solidFill>
                  <a:srgbClr val="007236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Box 7"/>
          <p:cNvSpPr/>
          <p:nvPr/>
        </p:nvSpPr>
        <p:spPr>
          <a:xfrm>
            <a:off x="28440" y="768240"/>
            <a:ext cx="100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НАЦІОНАЛЬНИЙ 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БАНК 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УКРАЇНИ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2"/>
          <a:stretch/>
        </p:blipFill>
        <p:spPr>
          <a:xfrm>
            <a:off x="128520" y="128520"/>
            <a:ext cx="809640" cy="676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6804000" y="69840"/>
            <a:ext cx="2664000" cy="781200"/>
          </a:xfrm>
          <a:prstGeom prst="rect">
            <a:avLst/>
          </a:prstGeom>
          <a:ln w="0">
            <a:noFill/>
          </a:ln>
        </p:spPr>
      </p:pic>
      <p:sp>
        <p:nvSpPr>
          <p:cNvPr id="6" name="Прямая соединительная линия 4"/>
          <p:cNvSpPr/>
          <p:nvPr/>
        </p:nvSpPr>
        <p:spPr>
          <a:xfrm flipH="1">
            <a:off x="1187280" y="851040"/>
            <a:ext cx="8280720" cy="0"/>
          </a:xfrm>
          <a:prstGeom prst="line">
            <a:avLst/>
          </a:prstGeom>
          <a:ln w="9360">
            <a:solidFill>
              <a:srgbClr val="0072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0"/>
          <p:cNvSpPr/>
          <p:nvPr/>
        </p:nvSpPr>
        <p:spPr>
          <a:xfrm>
            <a:off x="0" y="0"/>
            <a:ext cx="826920" cy="7196040"/>
          </a:xfrm>
          <a:prstGeom prst="rect">
            <a:avLst/>
          </a:prstGeom>
          <a:solidFill>
            <a:srgbClr val="007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TextBox 11"/>
          <p:cNvSpPr/>
          <p:nvPr/>
        </p:nvSpPr>
        <p:spPr>
          <a:xfrm>
            <a:off x="1619280" y="5349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НАЦІОНАЛЬНИЙ БАНК УКРАЇНИ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Прямая соединительная линия 12"/>
          <p:cNvSpPr/>
          <p:nvPr/>
        </p:nvSpPr>
        <p:spPr>
          <a:xfrm>
            <a:off x="1258920" y="2708280"/>
            <a:ext cx="7489800" cy="0"/>
          </a:xfrm>
          <a:prstGeom prst="line">
            <a:avLst/>
          </a:prstGeom>
          <a:ln w="9360">
            <a:solidFill>
              <a:srgbClr val="0072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Прямая соединительная линия 13"/>
          <p:cNvSpPr/>
          <p:nvPr/>
        </p:nvSpPr>
        <p:spPr>
          <a:xfrm>
            <a:off x="1258920" y="3429000"/>
            <a:ext cx="7489800" cy="0"/>
          </a:xfrm>
          <a:prstGeom prst="line">
            <a:avLst/>
          </a:prstGeom>
          <a:ln w="9360">
            <a:solidFill>
              <a:srgbClr val="0072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Прямая соединительная линия 14"/>
          <p:cNvSpPr/>
          <p:nvPr/>
        </p:nvSpPr>
        <p:spPr>
          <a:xfrm>
            <a:off x="1332000" y="6165720"/>
            <a:ext cx="7416720" cy="0"/>
          </a:xfrm>
          <a:prstGeom prst="line">
            <a:avLst/>
          </a:prstGeom>
          <a:ln w="9360">
            <a:solidFill>
              <a:srgbClr val="0072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353880" y="291960"/>
            <a:ext cx="1236960" cy="1013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400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2000" indent="-18576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19224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714680" indent="-1922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714680" indent="-1922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F181-30D7-428C-AF52-778591A40071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7"/>
          <p:cNvSpPr/>
          <p:nvPr/>
        </p:nvSpPr>
        <p:spPr>
          <a:xfrm>
            <a:off x="28440" y="768240"/>
            <a:ext cx="100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НАЦІОНАЛЬНИЙ 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БАНК 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УКРАЇНИ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28520" y="128520"/>
            <a:ext cx="809640" cy="676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6804000" y="69840"/>
            <a:ext cx="2664000" cy="7812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ая соединительная линия 4"/>
          <p:cNvSpPr/>
          <p:nvPr/>
        </p:nvSpPr>
        <p:spPr>
          <a:xfrm flipH="1">
            <a:off x="1187280" y="851040"/>
            <a:ext cx="8280720" cy="0"/>
          </a:xfrm>
          <a:prstGeom prst="line">
            <a:avLst/>
          </a:prstGeom>
          <a:ln w="9360">
            <a:solidFill>
              <a:srgbClr val="0072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400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2000" indent="-18576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19224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714680" indent="-1922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714680" indent="-1922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F7C6-C6D8-44A6-BBA9-12F6F1B269B4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7"/>
          <p:cNvSpPr/>
          <p:nvPr/>
        </p:nvSpPr>
        <p:spPr>
          <a:xfrm>
            <a:off x="28440" y="768240"/>
            <a:ext cx="100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НАЦІОНАЛЬНИЙ 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БАНК 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УКРАЇНИ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128520" y="128520"/>
            <a:ext cx="809640" cy="676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6804000" y="69840"/>
            <a:ext cx="2664000" cy="7812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ая соединительная линия 4"/>
          <p:cNvSpPr/>
          <p:nvPr/>
        </p:nvSpPr>
        <p:spPr>
          <a:xfrm flipH="1">
            <a:off x="1187280" y="851040"/>
            <a:ext cx="8280720" cy="0"/>
          </a:xfrm>
          <a:prstGeom prst="line">
            <a:avLst/>
          </a:prstGeom>
          <a:ln w="9360">
            <a:solidFill>
              <a:srgbClr val="0072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400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2000" indent="-18576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19224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714680" indent="-1922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714680" indent="-1922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4"/>
          </p:nvPr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6A18-8348-426A-97C4-BCAE00936268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7"/>
          <p:cNvSpPr/>
          <p:nvPr/>
        </p:nvSpPr>
        <p:spPr>
          <a:xfrm>
            <a:off x="28440" y="768240"/>
            <a:ext cx="100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НАЦІОНАЛЬНИЙ 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БАНК 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7236"/>
                </a:solidFill>
                <a:latin typeface="Times New Roman"/>
                <a:ea typeface="Times New Roman"/>
              </a:rPr>
              <a:t>УКРАЇНИ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128520" y="128520"/>
            <a:ext cx="809640" cy="676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3"/>
          <a:stretch/>
        </p:blipFill>
        <p:spPr>
          <a:xfrm>
            <a:off x="6804000" y="69840"/>
            <a:ext cx="2664000" cy="78120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ая соединительная линия 4"/>
          <p:cNvSpPr/>
          <p:nvPr/>
        </p:nvSpPr>
        <p:spPr>
          <a:xfrm flipH="1">
            <a:off x="1187280" y="851040"/>
            <a:ext cx="8280720" cy="0"/>
          </a:xfrm>
          <a:prstGeom prst="line">
            <a:avLst/>
          </a:prstGeom>
          <a:ln w="9360">
            <a:solidFill>
              <a:srgbClr val="0072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400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2000" indent="-18576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192240">
              <a:spcBef>
                <a:spcPts val="400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714680" indent="-1922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714680" indent="-1922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5"/>
          </p:nvPr>
        </p:nvSpPr>
        <p:spPr>
          <a:xfrm>
            <a:off x="485640" y="6552720"/>
            <a:ext cx="226872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6"/>
          </p:nvPr>
        </p:nvSpPr>
        <p:spPr>
          <a:xfrm>
            <a:off x="3320640" y="6552720"/>
            <a:ext cx="307836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7"/>
          </p:nvPr>
        </p:nvSpPr>
        <p:spPr>
          <a:xfrm>
            <a:off x="8748720" y="6549840"/>
            <a:ext cx="83808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7236"/>
                </a:solidFill>
                <a:latin typeface="Times New Roman"/>
                <a:ea typeface="MS P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AFC2-CFE2-4162-AD68-FA1DD21C0A4C}" type="slidenum">
              <a:rPr b="0" lang="uk-UA" sz="1400" spc="-1" strike="noStrike">
                <a:solidFill>
                  <a:srgbClr val="007236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ank.gov.ua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319040" y="2733840"/>
            <a:ext cx="756144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ереход к РПБ6 в Украине: текущее состоя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1319040" y="6262560"/>
            <a:ext cx="27576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циональный банк Украины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1625760" y="428760"/>
            <a:ext cx="568944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ru-RU" sz="3000" spc="-1" strike="noStrike">
                <a:solidFill>
                  <a:srgbClr val="007236"/>
                </a:solidFill>
                <a:latin typeface="Arial"/>
              </a:rPr>
              <a:t>Национальный банк Украины</a:t>
            </a:r>
            <a:r>
              <a:rPr b="0" lang="ru-RU" sz="3000" spc="-1" strike="noStrike">
                <a:solidFill>
                  <a:srgbClr val="007236"/>
                </a:solidFill>
                <a:latin typeface="Arial"/>
              </a:rPr>
              <a:t> 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менения в счете текущих операци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499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льдо счета текущих операций практически не изменилос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>
              <a:spcBef>
                <a:spcPts val="34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ница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1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год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59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лн дол. СШ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4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4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6B3D-C49D-4E97-8C86-BA3F71F10FE2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53" name="Picture 8" descr=""/>
          <p:cNvPicPr/>
          <p:nvPr/>
        </p:nvPicPr>
        <p:blipFill>
          <a:blip r:embed="rId1"/>
          <a:stretch/>
        </p:blipFill>
        <p:spPr>
          <a:xfrm>
            <a:off x="1547640" y="2230560"/>
            <a:ext cx="66978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изменения в финансовом счете –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ямые Иностранные Инвестици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26760" y="5181120"/>
            <a:ext cx="846612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161280" indent="-161280">
              <a:spcBef>
                <a:spcPts val="400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РТФЕЛЬНЫЕ И ПРОЧИЕ  ИНВЕСТИ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880" indent="-16020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олженность была включена в сумму операций по основному финансовому инструменту, по которому она образовалась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880" indent="-16020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банковские кредиты  и задолженность по ним были исключены  из статьи «Кредиты» и включены  в статью «Валюта и депозиты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8C9F-AD79-4451-B40B-BE956C830759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7" name="Скругленный прямоугольник 1"/>
          <p:cNvSpPr/>
          <p:nvPr/>
        </p:nvSpPr>
        <p:spPr>
          <a:xfrm>
            <a:off x="565200" y="1947960"/>
            <a:ext cx="4087800" cy="95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ямые иностранные инвестиции за границу, прочий капитал, Обязательства перед зарубежными филиалами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8" name="Скругленный прямоугольник 5"/>
          <p:cNvSpPr/>
          <p:nvPr/>
        </p:nvSpPr>
        <p:spPr>
          <a:xfrm>
            <a:off x="6227640" y="1941480"/>
            <a:ext cx="309744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ямые иностранные инвестиции, чистые обязательства, Долговые инструменты, Инвестиции предприятия прямого инвестирования в прямого инвестора (обратные инвестиции)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565200" y="117468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Кредиты, полученные резидентами- прямыми инвесторами  от предприятий прямого инвестирования (нерезидентов)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cxnSp>
        <p:nvCxnSpPr>
          <p:cNvPr id="260" name="Прямая со стрелкой 4"/>
          <p:cNvCxnSpPr/>
          <p:nvPr/>
        </p:nvCxnSpPr>
        <p:spPr>
          <a:xfrm>
            <a:off x="4859280" y="2394000"/>
            <a:ext cx="937440" cy="380160"/>
          </a:xfrm>
          <a:prstGeom prst="straightConnector1">
            <a:avLst/>
          </a:prstGeom>
          <a:ln w="25560">
            <a:solidFill>
              <a:srgbClr val="4f81bd"/>
            </a:solidFill>
            <a:prstDash val="dash"/>
            <a:miter/>
            <a:tailEnd len="med" type="arrow" w="med"/>
          </a:ln>
        </p:spPr>
      </p:cxnSp>
      <p:sp>
        <p:nvSpPr>
          <p:cNvPr id="261" name="Скругленный прямоугольник 9"/>
          <p:cNvSpPr/>
          <p:nvPr/>
        </p:nvSpPr>
        <p:spPr>
          <a:xfrm>
            <a:off x="609480" y="3803760"/>
            <a:ext cx="4070520" cy="874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ямые иностранные инвестиции в Украину, Прочий капитал, требования к прямым инвесторам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565200" y="3094200"/>
            <a:ext cx="42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Требования к прямым инвесторам – нерезидентам в виде торговых кредитов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cxnSp>
        <p:nvCxnSpPr>
          <p:cNvPr id="263" name="Прямая со стрелкой 11"/>
          <p:cNvCxnSpPr/>
          <p:nvPr/>
        </p:nvCxnSpPr>
        <p:spPr>
          <a:xfrm flipV="1">
            <a:off x="4863960" y="3672720"/>
            <a:ext cx="937440" cy="429480"/>
          </a:xfrm>
          <a:prstGeom prst="straightConnector1">
            <a:avLst/>
          </a:prstGeom>
          <a:ln w="25560">
            <a:solidFill>
              <a:srgbClr val="4f81bd"/>
            </a:solidFill>
            <a:prstDash val="dash"/>
            <a:miter/>
            <a:tailEnd len="med" type="arrow" w="med"/>
          </a:ln>
        </p:spPr>
      </p:cxnSp>
      <p:sp>
        <p:nvSpPr>
          <p:cNvPr id="264" name="Прямая соединительная линия 10"/>
          <p:cNvSpPr/>
          <p:nvPr/>
        </p:nvSpPr>
        <p:spPr>
          <a:xfrm>
            <a:off x="324000" y="4965840"/>
            <a:ext cx="90010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1400" y="214200"/>
            <a:ext cx="815472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жбанковские кредит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131640" y="1006560"/>
            <a:ext cx="30006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банковские креди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0DF2-E848-46BF-BA02-44E6E8908945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68" name="Picture 8" descr=""/>
          <p:cNvPicPr/>
          <p:nvPr/>
        </p:nvPicPr>
        <p:blipFill>
          <a:blip r:embed="rId1"/>
          <a:stretch/>
        </p:blipFill>
        <p:spPr>
          <a:xfrm>
            <a:off x="144360" y="2949480"/>
            <a:ext cx="4824360" cy="3000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"/>
          <p:cNvPicPr/>
          <p:nvPr/>
        </p:nvPicPr>
        <p:blipFill>
          <a:blip r:embed="rId2"/>
          <a:stretch/>
        </p:blipFill>
        <p:spPr>
          <a:xfrm>
            <a:off x="4992840" y="2949480"/>
            <a:ext cx="4465440" cy="2778120"/>
          </a:xfrm>
          <a:prstGeom prst="rect">
            <a:avLst/>
          </a:prstGeom>
          <a:ln w="0">
            <a:noFill/>
          </a:ln>
        </p:spPr>
      </p:pic>
      <p:sp>
        <p:nvSpPr>
          <p:cNvPr id="270" name="Скругленный прямоугольник 6"/>
          <p:cNvSpPr/>
          <p:nvPr/>
        </p:nvSpPr>
        <p:spPr>
          <a:xfrm>
            <a:off x="826920" y="1565280"/>
            <a:ext cx="1632240" cy="6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едиты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1" name="Скругленный прямоугольник 7"/>
          <p:cNvSpPr/>
          <p:nvPr/>
        </p:nvSpPr>
        <p:spPr>
          <a:xfrm>
            <a:off x="6588000" y="1558800"/>
            <a:ext cx="21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юта и депозиты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cxnSp>
        <p:nvCxnSpPr>
          <p:cNvPr id="272" name="Прямая со стрелкой 8"/>
          <p:cNvCxnSpPr/>
          <p:nvPr/>
        </p:nvCxnSpPr>
        <p:spPr>
          <a:xfrm>
            <a:off x="3203640" y="1882440"/>
            <a:ext cx="2737080" cy="1080"/>
          </a:xfrm>
          <a:prstGeom prst="straightConnector1">
            <a:avLst/>
          </a:prstGeom>
          <a:ln w="25560">
            <a:solidFill>
              <a:srgbClr val="4f81bd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вые подходы к отображению задолженнос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211400" y="1258560"/>
            <a:ext cx="8154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171000" indent="-171000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олженность была включена в сумму операций по основному финансовому инструменту, по которому она образовалас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000" indent="-171000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000" indent="-171000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вязи с существенным накоплением задолженности украинскими предприятиям начиная с 2009 года основные изменения нашли отражение в статье «Кредиты, Пасивы, Прочие сектора, Долгосрочные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F2E7-2F8A-4AC8-99B3-B8A20701C0C0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76" name="Picture 7" descr=""/>
          <p:cNvPicPr/>
          <p:nvPr/>
        </p:nvPicPr>
        <p:blipFill>
          <a:blip r:embed="rId1"/>
          <a:stretch/>
        </p:blipFill>
        <p:spPr>
          <a:xfrm>
            <a:off x="2124000" y="3022560"/>
            <a:ext cx="540072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смотр данных – Статистика внешнего сектора согласно РПБ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211400" y="1149480"/>
            <a:ext cx="81547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499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тежный балан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99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99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99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99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вартальные данные за 2001-2014 годы будут пересмотрены в конце 2015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99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550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нежные перевод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550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550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еждународная инвестиционная позиц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550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550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нешний дол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550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1F3D-79B6-4934-A9EA-ED0DAFE37C9E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80" name="Группа 7"/>
          <p:cNvGrpSpPr/>
          <p:nvPr/>
        </p:nvGrpSpPr>
        <p:grpSpPr>
          <a:xfrm>
            <a:off x="6734160" y="3479760"/>
            <a:ext cx="2016000" cy="433440"/>
            <a:chOff x="6734160" y="3479760"/>
            <a:chExt cx="2016000" cy="433440"/>
          </a:xfrm>
        </p:grpSpPr>
        <p:sp>
          <p:nvSpPr>
            <p:cNvPr id="281" name="Скругленный прямоугольник 2"/>
            <p:cNvSpPr/>
            <p:nvPr/>
          </p:nvSpPr>
          <p:spPr>
            <a:xfrm>
              <a:off x="7886520" y="3479760"/>
              <a:ext cx="863640" cy="43344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Кварт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2" name="Скругленный прямоугольник 3"/>
            <p:cNvSpPr/>
            <p:nvPr/>
          </p:nvSpPr>
          <p:spPr>
            <a:xfrm>
              <a:off x="6734160" y="3479760"/>
              <a:ext cx="863640" cy="43344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3" name="Прямая соединительная линия 5"/>
            <p:cNvSpPr/>
            <p:nvPr/>
          </p:nvSpPr>
          <p:spPr>
            <a:xfrm>
              <a:off x="7598160" y="3696480"/>
              <a:ext cx="28800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84" name="Группа 11"/>
          <p:cNvGrpSpPr/>
          <p:nvPr/>
        </p:nvGrpSpPr>
        <p:grpSpPr>
          <a:xfrm>
            <a:off x="6732720" y="4389480"/>
            <a:ext cx="2016000" cy="433440"/>
            <a:chOff x="6732720" y="4389480"/>
            <a:chExt cx="2016000" cy="433440"/>
          </a:xfrm>
        </p:grpSpPr>
        <p:sp>
          <p:nvSpPr>
            <p:cNvPr id="285" name="Скругленный прямоугольник 12"/>
            <p:cNvSpPr/>
            <p:nvPr/>
          </p:nvSpPr>
          <p:spPr>
            <a:xfrm>
              <a:off x="7885080" y="4389480"/>
              <a:ext cx="863640" cy="43344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Кварт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6" name="Скругленный прямоугольник 13"/>
            <p:cNvSpPr/>
            <p:nvPr/>
          </p:nvSpPr>
          <p:spPr>
            <a:xfrm>
              <a:off x="6732720" y="4389480"/>
              <a:ext cx="863640" cy="43344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7" name="Прямая соединительная линия 14"/>
            <p:cNvSpPr/>
            <p:nvPr/>
          </p:nvSpPr>
          <p:spPr>
            <a:xfrm>
              <a:off x="7596720" y="4606200"/>
              <a:ext cx="28800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88" name="Группа 20"/>
          <p:cNvGrpSpPr/>
          <p:nvPr/>
        </p:nvGrpSpPr>
        <p:grpSpPr>
          <a:xfrm>
            <a:off x="6734160" y="5110200"/>
            <a:ext cx="2016000" cy="431640"/>
            <a:chOff x="6734160" y="5110200"/>
            <a:chExt cx="2016000" cy="431640"/>
          </a:xfrm>
        </p:grpSpPr>
        <p:sp>
          <p:nvSpPr>
            <p:cNvPr id="289" name="Скругленный прямоугольник 21"/>
            <p:cNvSpPr/>
            <p:nvPr/>
          </p:nvSpPr>
          <p:spPr>
            <a:xfrm>
              <a:off x="7886520" y="511020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Кварт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0" name="Скругленный прямоугольник 22"/>
            <p:cNvSpPr/>
            <p:nvPr/>
          </p:nvSpPr>
          <p:spPr>
            <a:xfrm>
              <a:off x="6734160" y="511020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1" name="Прямая соединительная линия 23"/>
            <p:cNvSpPr/>
            <p:nvPr/>
          </p:nvSpPr>
          <p:spPr>
            <a:xfrm>
              <a:off x="7598160" y="5325840"/>
              <a:ext cx="28800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92" name="Группа 24"/>
          <p:cNvGrpSpPr/>
          <p:nvPr/>
        </p:nvGrpSpPr>
        <p:grpSpPr>
          <a:xfrm>
            <a:off x="6732720" y="1165320"/>
            <a:ext cx="2016000" cy="431640"/>
            <a:chOff x="6732720" y="1165320"/>
            <a:chExt cx="2016000" cy="431640"/>
          </a:xfrm>
        </p:grpSpPr>
        <p:sp>
          <p:nvSpPr>
            <p:cNvPr id="293" name="Скругленный прямоугольник 25"/>
            <p:cNvSpPr/>
            <p:nvPr/>
          </p:nvSpPr>
          <p:spPr>
            <a:xfrm>
              <a:off x="7885080" y="116532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Кварт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4" name="Скругленный прямоугольник 26"/>
            <p:cNvSpPr/>
            <p:nvPr/>
          </p:nvSpPr>
          <p:spPr>
            <a:xfrm>
              <a:off x="6732720" y="116532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5" name="Прямая соединительная линия 27"/>
            <p:cNvSpPr/>
            <p:nvPr/>
          </p:nvSpPr>
          <p:spPr>
            <a:xfrm>
              <a:off x="7596720" y="1380960"/>
              <a:ext cx="28800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96" name="Группа 28"/>
          <p:cNvGrpSpPr/>
          <p:nvPr/>
        </p:nvGrpSpPr>
        <p:grpSpPr>
          <a:xfrm>
            <a:off x="6734160" y="1870200"/>
            <a:ext cx="2016000" cy="431640"/>
            <a:chOff x="6734160" y="1870200"/>
            <a:chExt cx="2016000" cy="431640"/>
          </a:xfrm>
        </p:grpSpPr>
        <p:sp>
          <p:nvSpPr>
            <p:cNvPr id="297" name="Скругленный прямоугольник 29"/>
            <p:cNvSpPr/>
            <p:nvPr/>
          </p:nvSpPr>
          <p:spPr>
            <a:xfrm>
              <a:off x="7886520" y="187020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Мес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8" name="Скругленный прямоугольник 30"/>
            <p:cNvSpPr/>
            <p:nvPr/>
          </p:nvSpPr>
          <p:spPr>
            <a:xfrm>
              <a:off x="6734160" y="187020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9" name="Прямая соединительная линия 31"/>
            <p:cNvSpPr/>
            <p:nvPr/>
          </p:nvSpPr>
          <p:spPr>
            <a:xfrm>
              <a:off x="7598160" y="2085840"/>
              <a:ext cx="28800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ространение данны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60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Интернет страница  НБУ (</a:t>
            </a:r>
            <a:r>
              <a:rPr b="0" lang="uk-UA" sz="2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www.bank.gov.ua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499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жеквартальный сборник Национального банка Украины «Платежный б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аланс та внешний долг Украин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» на украинском и английском язык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60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499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1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вартальные данные в двух формат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П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вумя неделями позднее РП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499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ноябр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2014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сячные данные доступны в фомате РПБ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499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499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499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A997-6C09-4402-B9B6-2BBA82E417CA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3" name="Прямоугольник 1"/>
          <p:cNvSpPr/>
          <p:nvPr/>
        </p:nvSpPr>
        <p:spPr>
          <a:xfrm>
            <a:off x="4140360" y="4317840"/>
            <a:ext cx="3960720" cy="863640"/>
          </a:xfrm>
          <a:prstGeom prst="rect">
            <a:avLst/>
          </a:prstGeom>
          <a:solidFill>
            <a:srgbClr val="ebf1de"/>
          </a:solidFill>
          <a:ln w="9360">
            <a:solidFill>
              <a:srgbClr val="ebf1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71680" indent="-190800">
              <a:lnSpc>
                <a:spcPct val="100000"/>
              </a:lnSpc>
              <a:spcBef>
                <a:spcPts val="349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Аналитичекая форма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349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Стандартная форма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349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По секторам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5480" y="272880"/>
            <a:ext cx="7769160" cy="58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рав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ые основ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9080" y="1438200"/>
            <a:ext cx="8459640" cy="4943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192240" indent="-192240">
              <a:lnSpc>
                <a:spcPct val="90000"/>
              </a:lnSpc>
              <a:spcBef>
                <a:spcPts val="60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Закон Украины «О Национальном банке Украины» </a:t>
            </a:r>
            <a:r>
              <a:rPr b="1" lang="en-GB" sz="2400" spc="-1" strike="noStrike">
                <a:solidFill>
                  <a:srgbClr val="c00000"/>
                </a:solidFill>
                <a:latin typeface="Times New Roman"/>
              </a:rPr>
              <a:t>(1999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0000"/>
              </a:lnSpc>
              <a:spcBef>
                <a:spcPts val="451"/>
              </a:spcBef>
              <a:buClr>
                <a:srgbClr val="007236"/>
              </a:buClr>
              <a:buSzPct val="50000"/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БУ отвечает за составление, анализ и прогноз платежного баланса (статья  7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0000"/>
              </a:lnSpc>
              <a:spcBef>
                <a:spcPts val="451"/>
              </a:spcBef>
              <a:buClr>
                <a:srgbClr val="007236"/>
              </a:buClr>
              <a:buSzPct val="50000"/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БУ определяет формы и процедуры представления форм отчетности для составления статистики платежного баланса, которые являются обязательными для всех субъектов предпринимательской деятельности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тья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6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90000"/>
              </a:lnSpc>
              <a:spcBef>
                <a:spcPts val="60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овместное постановление НБУ и  Кабинета Министров Украины «О составлении платежного баланса» №51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0000"/>
              </a:lnSpc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ординирует деятельность министерств и ведомств в процессе формировании информационной базы  для составления статистики внешнего секто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8748720" y="6550200"/>
            <a:ext cx="8380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E4E9-AAD5-45DA-856D-452FEEC841C3}" type="slidenum">
              <a:rPr b="0" lang="uk-UA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истема сбора дан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ы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11040" y="1077480"/>
            <a:ext cx="78246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lnSpc>
                <a:spcPct val="80000"/>
              </a:lnSpc>
              <a:spcBef>
                <a:spcPts val="60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ациональный банк Украины</a:t>
            </a:r>
            <a:r>
              <a:rPr b="1" lang="en-GB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отчетности об операциях с нерезидентами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International Transactions Reporting System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(IT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алансы бан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четность банков и предприятий по внешним кредитам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жемесячная, по каждому кредиту, данные о запасах, операциях и календаре погашения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80000"/>
              </a:lnSpc>
              <a:spcBef>
                <a:spcPts val="60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Государственная служба Статистики Украи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истика внешней торговли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следования предприятий по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192240">
              <a:lnSpc>
                <a:spcPct val="80000"/>
              </a:lnSpc>
              <a:spcBef>
                <a:spcPts val="451"/>
              </a:spcBef>
              <a:buClr>
                <a:srgbClr val="007236"/>
              </a:buClr>
              <a:buFont typeface="Times New Roman"/>
              <a:buChar char="•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спорту-импорту услуг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192240">
              <a:lnSpc>
                <a:spcPct val="80000"/>
              </a:lnSpc>
              <a:spcBef>
                <a:spcPts val="451"/>
              </a:spcBef>
              <a:buClr>
                <a:srgbClr val="007236"/>
              </a:buClr>
              <a:buFont typeface="Times New Roman"/>
              <a:buChar char="•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ямым иностранным инвестициям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192240">
              <a:lnSpc>
                <a:spcPct val="80000"/>
              </a:lnSpc>
              <a:spcBef>
                <a:spcPts val="451"/>
              </a:spcBef>
              <a:buClr>
                <a:srgbClr val="007236"/>
              </a:buClr>
              <a:buFont typeface="Times New Roman"/>
              <a:buChar char="•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едиторской и  дебиторской задолжен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lnSpc>
                <a:spcPct val="80000"/>
              </a:lnSpc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чие данные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192240">
              <a:lnSpc>
                <a:spcPct val="80000"/>
              </a:lnSpc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зор турист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192240">
              <a:lnSpc>
                <a:spcPct val="80000"/>
              </a:lnSpc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зор мигра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45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1D1D-5084-4469-8221-41C4B11F3908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истема сбора дан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ы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211400" y="1258920"/>
            <a:ext cx="815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1680" indent="-190800">
              <a:spcBef>
                <a:spcPts val="601"/>
              </a:spcBef>
              <a:buClr>
                <a:srgbClr val="007236"/>
              </a:buClr>
              <a:buFont typeface="Times New Roma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рочие источники данных</a:t>
            </a:r>
            <a:r>
              <a:rPr b="1" lang="en-GB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2000" indent="-18576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нистерство финансов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2000" indent="-18576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нистерство экономического развития и торгов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2000" indent="-18576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Государственная пограничная служб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2000" indent="-18576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сударственная комиссия по ценным бумагам и фондовому рынк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2000" indent="-18576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Государственная комиссия по регулированию рынка финансовых услуг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2000" indent="-18576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циональная акционерная компания «Нафтогаз Украины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2000" indent="-18576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99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истика банка международных расчетов по депозитам прочих секторов в иностранных банк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60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Оцен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60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60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F79A-35F0-4129-99D0-EF92FB34CAFE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ход к РПБ6 - Истор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0B2B-319A-4F1A-8DE8-269C999EC32F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900000" y="1654200"/>
            <a:ext cx="8280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менения в счете текущих операц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42920" y="1006200"/>
            <a:ext cx="813744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45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45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ОВА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99"/>
              </a:spcBef>
              <a:spcAft>
                <a:spcPts val="601"/>
              </a:spcAft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ерации по ремонту товаров были  перенесены  из статьи «Товары» в статью «Услуги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99"/>
              </a:spcBef>
              <a:spcAft>
                <a:spcPts val="601"/>
              </a:spcAft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Товары для переработки» были исключены из  статьи «Товары» (стоимость услуг по переработке отражается в статье «Услуги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99"/>
              </a:spcBef>
              <a:spcAft>
                <a:spcPts val="601"/>
              </a:spcAft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Това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ы, закупаемые в портах перевозчиками » были включены в статью «Товары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D095-3AFE-49C8-B566-308E8E105168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менения в счете текущих операц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99640" y="1006200"/>
            <a:ext cx="8466120" cy="58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45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Услуги по обработке материальных ресурсов, принадлежащим другим сторонам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кредиту – рассчитывается как разница между стоимостью готовой продукции (после обработки)  и стоимостью товаров, ввезенных для обработки, включая услуги по сборке, упаковке, маркировке, производимые предприятиями, которым не принадлежат соответствующие товар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писи по дебиту формируются на основании данны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T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99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Изменения в классификации услуг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чтовые услуги и услуги курьерской связи» были включены в статью «Транспорт» (ранее входили в состав «Коммуникационных услуг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Телекоммуникационные услуги»  были включены в статью «Телекоммуникационные, компьютерные и информационные услуги» (ранее отражались в статье «коммуникационные услуги»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000" indent="-190440">
              <a:spcBef>
                <a:spcPts val="451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уги по переработке, производимые предприятиями, которым не принадлежат соответствующие товары, были исключены из статьи «Прочие  деловые, профессиональные и технические услуг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A49F-CA9D-441D-995C-5FC921D9B1CD}" type="slidenum">
              <a:rPr b="0" lang="uk-UA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лияние методологических изменений на данные внешней торговл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211400" y="1258920"/>
            <a:ext cx="81547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151560" indent="-151560">
              <a:spcBef>
                <a:spcPts val="499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спорт и импорт товаров существенно сократились в 2014 год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1560" indent="-151560">
              <a:spcBef>
                <a:spcPts val="499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1440" indent="-150480">
              <a:spcBef>
                <a:spcPts val="499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спорт – 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8.5% ( 4.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лрд. дол. СШ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1440" indent="-150480">
              <a:spcBef>
                <a:spcPts val="499"/>
              </a:spcBef>
              <a:buClr>
                <a:srgbClr val="00723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пор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5.1% (3.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лрд. дол. СШ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5FD2-6604-495E-AB08-DEB92162E32C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1"/>
          <a:stretch/>
        </p:blipFill>
        <p:spPr>
          <a:xfrm>
            <a:off x="179280" y="2771640"/>
            <a:ext cx="4667400" cy="3035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2"/>
          <a:stretch/>
        </p:blipFill>
        <p:spPr>
          <a:xfrm>
            <a:off x="4846680" y="2782800"/>
            <a:ext cx="46134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1400" y="-360"/>
            <a:ext cx="81547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лияние методологических изменений на данные внешней торговл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211400" y="1258560"/>
            <a:ext cx="815472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180360" indent="-180360">
              <a:spcBef>
                <a:spcPts val="45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спорт услуг увеличился 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.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0360" indent="-180360">
              <a:spcBef>
                <a:spcPts val="45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худшение сальдо торговли товарами компенсируется улучшением баланса торговли услугам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1.4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лрд. дол. СШ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0360" indent="-180360">
              <a:spcBef>
                <a:spcPts val="451"/>
              </a:spcBef>
              <a:buClr>
                <a:srgbClr val="007236"/>
              </a:buClr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8748720" y="66229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05AE-1E8E-42E5-8C54-7D27336100DD}" type="slidenum">
              <a:rPr b="0" lang="uk-UA" sz="14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48" name="Picture 8" descr=""/>
          <p:cNvPicPr/>
          <p:nvPr/>
        </p:nvPicPr>
        <p:blipFill>
          <a:blip r:embed="rId1"/>
          <a:stretch/>
        </p:blipFill>
        <p:spPr>
          <a:xfrm>
            <a:off x="252360" y="2733840"/>
            <a:ext cx="4680000" cy="2911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"/>
          <p:cNvPicPr/>
          <p:nvPr/>
        </p:nvPicPr>
        <p:blipFill>
          <a:blip r:embed="rId2"/>
          <a:stretch/>
        </p:blipFill>
        <p:spPr>
          <a:xfrm>
            <a:off x="4861080" y="2733840"/>
            <a:ext cx="4681440" cy="29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3T15:54:26Z</dcterms:created>
  <dc:creator>andrea</dc:creator>
  <dc:description/>
  <dc:language>en-US</dc:language>
  <cp:lastModifiedBy>Sisene</cp:lastModifiedBy>
  <cp:lastPrinted>2014-12-19T15:46:07Z</cp:lastPrinted>
  <dcterms:modified xsi:type="dcterms:W3CDTF">2015-04-27T09:35:18Z</dcterms:modified>
  <cp:revision>774</cp:revision>
  <dc:subject/>
  <dc:title>Presentazione di PowerPoint</dc:title>
</cp:coreProperties>
</file>