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CBA-F386-473E-8D2E-FFAE146D5969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8698-B07E-476C-A144-4E6B465F756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FDF5-77EB-4A25-95AB-4EE6BFDAD46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51C5-1D1A-43E4-8A4E-FF2E7AAE416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0BC-CCB8-4CF1-98CE-4C92A838E5F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EF83-A79F-4CBC-B876-B8F4E3127D4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292-A52E-4E1B-80D1-8255555BEBA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57E-53BD-4966-A87E-706831613F6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1FC-4753-4C14-B8CE-D5A766C2C77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92C-8D8F-4D43-9B3F-501F266D44B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85DE-555A-4F31-A0D4-A3C75DD2E59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31B-8747-46C0-A3AB-55335770A2C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F8A0-41AE-46F4-BCB6-11D00D6C160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03D6-35A7-45C6-B780-522980466C3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09D5-727D-4081-95DC-6F3717D89EF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091E-6AA6-4F99-BF98-F13FB30F24D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203-D13E-4201-B6A6-B21288BF2A6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733-39F1-48FD-AC3C-52227D80027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306-6886-4721-AF77-70CFA01B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624-878C-4D52-B05E-EB4CC178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25C-BDA9-449E-BCEE-F32E5286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10F-53F9-4F51-89ED-2402883A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901-3F50-442E-8F6A-7AF1C640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62D-991E-4BD7-A11B-9C9BBB69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1F8F-6EA4-4881-AFCF-FCCCA20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0A3F-A7E7-4B60-8952-9D345445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0A1E-3F31-4A70-BB38-2133C2AC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5517-3BFA-4E48-A92A-CA0EEC9B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A2FC-6203-48B1-8102-D2EE36C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ED6-729E-4B85-9091-BFD2FCEF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7091-A6D8-4CED-A0BD-71D17FB4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A124-9CF6-4404-AB73-1D84300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950A-5839-4E0A-B37A-2C2548E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2C34-6198-4000-9036-D0B443EF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727-88EB-408A-9867-934AF434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DAC-F48F-4818-979A-DB8BB02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957-B106-4AA0-A84F-A75B5C58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0CD-16C3-4E26-8BC0-BDC11AF1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76F-E2B5-4EFD-999C-F01D0741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07F-10B1-4BB5-9C3E-26035950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85B-3CA9-49D4-9A7A-F357952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38E-72DE-45CA-AF42-8FC1240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A1C-ECDC-4CE0-B0A5-792756C682D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2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CF09-4F30-4F72-9B20-A9D53427428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2f2f2"/>
                </a:solidFill>
                <a:latin typeface="Arial"/>
              </a:rPr>
              <a:t>Implementation of BPM6 in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Yeşim Şiş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Central Bank of the Republic of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013120" y="476280"/>
            <a:ext cx="5256000" cy="156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826920" y="4292640"/>
            <a:ext cx="7490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The Workshop on the Implementation of the 2008 SNA and linkages with BPM6 and GFS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6 – 8 Ma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İstanb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In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omenclature change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Primar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econdar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New data introduced, $254 million in 2014, in addition to $838 million Workers’ remit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Since 2008, personal  $1,138 million since 2008) ($7,128 million since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apit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moval of Migrant’s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Financi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gn convention ado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irec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Asset / Liabilit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Intercompany Lending except financi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Financi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18920" y="1700280"/>
            <a:ext cx="70167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irect Inv’t: A / L instead of 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662040" y="2997360"/>
            <a:ext cx="3565440" cy="56016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urkish parent companies’ direct investment in their foreign affili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859280" y="3002040"/>
            <a:ext cx="3565440" cy="56196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Non resident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parent companies’ direct investment in </a:t>
            </a: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040" y="3625920"/>
            <a:ext cx="3565440" cy="59508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reign affiliates’ direct investment in their Turkish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59280" y="3639960"/>
            <a:ext cx="3565440" cy="56052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ish Direct Invesment Companie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’ direct investment in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62040" y="4921200"/>
            <a:ext cx="3565440" cy="59544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urkish parent companies’ direct investment in their foreign affili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62040" y="5568840"/>
            <a:ext cx="3565440" cy="59688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ish Direct Invesment Companie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’ direct investment in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859280" y="4921200"/>
            <a:ext cx="3565440" cy="59544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Non resident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parent companies’ direct investment in </a:t>
            </a: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4865760" y="5568840"/>
            <a:ext cx="3565440" cy="59688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reign affiliates’ direct investment in their Turkish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668520" y="2552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4865040" y="2552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668160" y="44370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4857120" y="44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3"/>
          <p:cNvSpPr/>
          <p:nvPr/>
        </p:nvSpPr>
        <p:spPr>
          <a:xfrm>
            <a:off x="662040" y="288936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9"/>
          <p:cNvSpPr/>
          <p:nvPr/>
        </p:nvSpPr>
        <p:spPr>
          <a:xfrm>
            <a:off x="4849920" y="288936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0"/>
          <p:cNvSpPr/>
          <p:nvPr/>
        </p:nvSpPr>
        <p:spPr>
          <a:xfrm>
            <a:off x="662040" y="480384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21"/>
          <p:cNvSpPr/>
          <p:nvPr/>
        </p:nvSpPr>
        <p:spPr>
          <a:xfrm>
            <a:off x="4865760" y="479268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Financi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 allocations of SD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rded as increases in gross reserve assets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the same time, in long-term debt liabilities of the general government as “Net Incurrences of Liabiliti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7212e"/>
                </a:solidFill>
                <a:latin typeface="Arial"/>
              </a:rPr>
              <a:t>BOP Statistics and Govern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1280" y="2491920"/>
            <a:ext cx="81360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Central Bank of Turkey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scal agent and the treasurer of the Governmen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l the receipts and payments of the Treasury are conducted through the FX deposits of the Treasury maintained in the Central 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ign currency debt payment services conducted on behalf of the Treasur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s one of the fa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reserve management policie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611280" y="16588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serv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ss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7212e"/>
                </a:solidFill>
                <a:latin typeface="Arial"/>
              </a:rPr>
              <a:t>BOP </a:t>
            </a:r>
            <a:r>
              <a:rPr b="1" lang="en-US" sz="2400" spc="-1" strike="noStrike">
                <a:solidFill>
                  <a:srgbClr val="87212e"/>
                </a:solidFill>
                <a:latin typeface="Arial"/>
              </a:rPr>
              <a:t>Statistics</a:t>
            </a:r>
            <a:r>
              <a:rPr b="1" lang="tr-TR" sz="2400" spc="-1" strike="noStrike">
                <a:solidFill>
                  <a:srgbClr val="87212e"/>
                </a:solidFill>
                <a:latin typeface="Arial"/>
              </a:rPr>
              <a:t> and Govern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1840" y="2276640"/>
            <a:ext cx="85708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loans received from abroad by the public sector (central government+local governments+nonfinancial public corporations) are compared with the database of the Treasury starting from January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transactions that were not determined previously have been revised according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P, such transac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s are recorded under OI / Loans / Net Inc. Of Liabilities / General Government and Other Sectors ite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611280" y="1197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Loans of Public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87212e"/>
                </a:solidFill>
                <a:latin typeface="Arial"/>
              </a:rPr>
              <a:t>The relation between BOP AND government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570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rant revenues received from the EU and the World Bank are cross-checked with the records of the Treasury, and are classified under secondary in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data on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ns extended by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d repaid to Turkish Government are monitored with other sources (the Treasury, the Official Gazette, newspaper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garding primary income accoun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Assets and F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unts held withi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Central B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ed on an accrual basi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liance with the balance of payments methodolog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(Exceptions: income on Loans and Portfolio Investment of General Gover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611280" y="1197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Way Forw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S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ntacted with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nsuran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sion of Direct Reporting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Way Forw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ew Services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nducted by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operation am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Bank of Tur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nistry of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Turkish Statistic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ompilation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2010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ompilation System,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ansi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Legal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97" name="Oval 7"/>
          <p:cNvSpPr/>
          <p:nvPr/>
        </p:nvSpPr>
        <p:spPr>
          <a:xfrm>
            <a:off x="826920" y="1197000"/>
            <a:ext cx="5616720" cy="4319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Diagram 8" descr=""/>
          <p:cNvPicPr/>
          <p:nvPr/>
        </p:nvPicPr>
        <p:blipFill>
          <a:blip r:embed="rId2"/>
          <a:stretch/>
        </p:blipFill>
        <p:spPr>
          <a:xfrm>
            <a:off x="817560" y="1225440"/>
            <a:ext cx="6478560" cy="4462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>
            <a:hlinkClick r:id="rId3" action="ppaction://hlinksldjump"/>
          </p:cNvPr>
          <p:cNvSpPr/>
          <p:nvPr/>
        </p:nvSpPr>
        <p:spPr>
          <a:xfrm>
            <a:off x="6732720" y="4437000"/>
            <a:ext cx="2255760" cy="1728720"/>
          </a:xfrm>
          <a:prstGeom prst="rect">
            <a:avLst/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ial Statis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10" descr=""/>
          <p:cNvPicPr/>
          <p:nvPr/>
        </p:nvPicPr>
        <p:blipFill>
          <a:blip r:embed="rId4"/>
          <a:stretch/>
        </p:blipFill>
        <p:spPr>
          <a:xfrm>
            <a:off x="2914560" y="4260960"/>
            <a:ext cx="3121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ompilation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2010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irect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urkish Statistical Institute, Turk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ompilation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556000" y="1224000"/>
            <a:ext cx="1728720" cy="360360"/>
          </a:xfrm>
          <a:prstGeom prst="rect">
            <a:avLst/>
          </a:prstGeom>
          <a:solidFill>
            <a:srgbClr val="c00000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I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98440" y="1119240"/>
            <a:ext cx="1728720" cy="3603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CBRT I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98440" y="1935000"/>
            <a:ext cx="1728720" cy="360360"/>
          </a:xfrm>
          <a:prstGeom prst="rect">
            <a:avLst/>
          </a:prstGeom>
          <a:solidFill>
            <a:srgbClr val="8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IAL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018040" y="1224000"/>
            <a:ext cx="1728720" cy="360360"/>
          </a:xfrm>
          <a:prstGeom prst="rect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SUPPLEMENTARY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162400" y="1871640"/>
            <a:ext cx="540000" cy="360360"/>
          </a:xfrm>
          <a:prstGeom prst="rect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019840" y="2838600"/>
            <a:ext cx="541080" cy="360360"/>
          </a:xfrm>
          <a:prstGeom prst="rect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34080" y="4964040"/>
            <a:ext cx="1728720" cy="358920"/>
          </a:xfrm>
          <a:prstGeom prst="rect">
            <a:avLst/>
          </a:prstGeom>
          <a:solidFill>
            <a:srgbClr val="0066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inistry of 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634080" y="4489560"/>
            <a:ext cx="1728720" cy="358560"/>
          </a:xfrm>
          <a:prstGeom prst="rect">
            <a:avLst/>
          </a:prstGeom>
          <a:solidFill>
            <a:srgbClr val="0066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556000" y="1882800"/>
            <a:ext cx="1728720" cy="3855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nsactions of 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2556000" y="2521080"/>
            <a:ext cx="1728720" cy="3855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nsactions of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2411280" y="1116000"/>
            <a:ext cx="2016360" cy="19447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5"/>
          <p:cNvSpPr/>
          <p:nvPr/>
        </p:nvSpPr>
        <p:spPr>
          <a:xfrm>
            <a:off x="4284720" y="1403280"/>
            <a:ext cx="733320" cy="0"/>
          </a:xfrm>
          <a:prstGeom prst="line">
            <a:avLst/>
          </a:prstGeom>
          <a:ln w="63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6"/>
          <p:cNvSpPr/>
          <p:nvPr/>
        </p:nvSpPr>
        <p:spPr>
          <a:xfrm flipV="1">
            <a:off x="5432400" y="1566360"/>
            <a:ext cx="0" cy="304920"/>
          </a:xfrm>
          <a:prstGeom prst="line">
            <a:avLst/>
          </a:prstGeom>
          <a:ln w="63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7"/>
          <p:cNvSpPr/>
          <p:nvPr/>
        </p:nvSpPr>
        <p:spPr>
          <a:xfrm flipV="1">
            <a:off x="5054760" y="1402920"/>
            <a:ext cx="0" cy="1422360"/>
          </a:xfrm>
          <a:prstGeom prst="line">
            <a:avLst/>
          </a:prstGeom>
          <a:ln w="63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8"/>
          <p:cNvCxnSpPr>
            <a:stCxn id="107" idx="3"/>
            <a:endCxn id="115" idx="1"/>
          </p:cNvCxnSpPr>
          <p:nvPr/>
        </p:nvCxnSpPr>
        <p:spPr>
          <a:xfrm>
            <a:off x="2026800" y="1299960"/>
            <a:ext cx="529200" cy="1415160"/>
          </a:xfrm>
          <a:prstGeom prst="straightConnector1">
            <a:avLst/>
          </a:prstGeom>
          <a:ln w="6480">
            <a:solidFill>
              <a:srgbClr val="333f50"/>
            </a:solidFill>
            <a:prstDash val="sysDash"/>
            <a:miter/>
            <a:headEnd len="med" type="arrow" w="med"/>
            <a:tailEnd len="med" type="arrow" w="med"/>
          </a:ln>
        </p:spPr>
      </p:cxnSp>
      <p:cxnSp>
        <p:nvCxnSpPr>
          <p:cNvPr id="121" name="Straight Arrow Connector 19"/>
          <p:cNvCxnSpPr>
            <a:stCxn id="107" idx="3"/>
            <a:endCxn id="114" idx="1"/>
          </p:cNvCxnSpPr>
          <p:nvPr/>
        </p:nvCxnSpPr>
        <p:spPr>
          <a:xfrm>
            <a:off x="2026800" y="1300320"/>
            <a:ext cx="529200" cy="775440"/>
          </a:xfrm>
          <a:prstGeom prst="straightConnector1">
            <a:avLst/>
          </a:prstGeom>
          <a:ln w="6480">
            <a:solidFill>
              <a:srgbClr val="333f5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122" name="Rectangle 20"/>
          <p:cNvSpPr/>
          <p:nvPr/>
        </p:nvSpPr>
        <p:spPr>
          <a:xfrm>
            <a:off x="7199280" y="1204920"/>
            <a:ext cx="1727280" cy="35892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DIRECT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4427640" y="4527720"/>
            <a:ext cx="1728720" cy="465120"/>
          </a:xfrm>
          <a:prstGeom prst="rect">
            <a:avLst/>
          </a:prstGeom>
          <a:solidFill>
            <a:srgbClr val="c9c9c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ntral Registry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4425840" y="5081760"/>
            <a:ext cx="1728720" cy="466560"/>
          </a:xfrm>
          <a:prstGeom prst="rect">
            <a:avLst/>
          </a:prstGeom>
          <a:solidFill>
            <a:srgbClr val="c9c9c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ustodian Bank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1330200" y="3613320"/>
            <a:ext cx="172728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URKST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4"/>
          <p:cNvCxnSpPr>
            <a:stCxn id="108" idx="3"/>
            <a:endCxn id="114" idx="1"/>
          </p:cNvCxnSpPr>
          <p:nvPr/>
        </p:nvCxnSpPr>
        <p:spPr>
          <a:xfrm flipV="1">
            <a:off x="2026800" y="2074680"/>
            <a:ext cx="529200" cy="40320"/>
          </a:xfrm>
          <a:prstGeom prst="straightConnector1">
            <a:avLst/>
          </a:prstGeom>
          <a:ln w="6480">
            <a:solidFill>
              <a:srgbClr val="c00000"/>
            </a:solidFill>
            <a:prstDash val="sysDash"/>
            <a:miter/>
            <a:tailEnd len="med" type="arrow" w="med"/>
          </a:ln>
        </p:spPr>
      </p:cxnSp>
      <p:cxnSp>
        <p:nvCxnSpPr>
          <p:cNvPr id="127" name="Straight Arrow Connector 25"/>
          <p:cNvCxnSpPr>
            <a:stCxn id="113" idx="0"/>
            <a:endCxn id="111" idx="2"/>
          </p:cNvCxnSpPr>
          <p:nvPr/>
        </p:nvCxnSpPr>
        <p:spPr>
          <a:xfrm flipH="1" flipV="1">
            <a:off x="5290920" y="3198240"/>
            <a:ext cx="2208960" cy="1291320"/>
          </a:xfrm>
          <a:prstGeom prst="straightConnector1">
            <a:avLst/>
          </a:prstGeom>
          <a:ln w="6480">
            <a:solidFill>
              <a:srgbClr val="0066ff"/>
            </a:solidFill>
            <a:prstDash val="sysDash"/>
            <a:miter/>
            <a:tailEnd len="med" type="arrow" w="med"/>
          </a:ln>
        </p:spPr>
      </p:cxnSp>
      <p:sp>
        <p:nvSpPr>
          <p:cNvPr id="128" name="Rectangle 26"/>
          <p:cNvSpPr/>
          <p:nvPr/>
        </p:nvSpPr>
        <p:spPr>
          <a:xfrm>
            <a:off x="7199280" y="180504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le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7199280" y="223668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nspor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7199280" y="266868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ews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7199280" y="3105000"/>
            <a:ext cx="1727280" cy="35892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7199280" y="353376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egal Consu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7059600" y="1052640"/>
            <a:ext cx="1936800" cy="309708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379440" y="414972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oreing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2201760" y="415908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ou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79440" y="553248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ade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35"/>
          <p:cNvCxnSpPr>
            <a:stCxn id="108" idx="3"/>
            <a:endCxn id="108" idx="3"/>
          </p:cNvCxnSpPr>
          <p:nvPr/>
        </p:nvCxnSpPr>
        <p:spPr>
          <a:xfrm>
            <a:off x="2026800" y="2114280"/>
            <a:ext cx="108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38" name="Straight Arrow Connector 36"/>
          <p:cNvCxnSpPr>
            <a:stCxn id="110" idx="1"/>
            <a:endCxn id="114" idx="3"/>
          </p:cNvCxnSpPr>
          <p:nvPr/>
        </p:nvCxnSpPr>
        <p:spPr>
          <a:xfrm flipH="1">
            <a:off x="4284360" y="2052720"/>
            <a:ext cx="878400" cy="23040"/>
          </a:xfrm>
          <a:prstGeom prst="straightConnector1">
            <a:avLst/>
          </a:prstGeom>
          <a:ln w="6480">
            <a:solidFill>
              <a:srgbClr val="44546a"/>
            </a:solidFill>
            <a:prstDash val="sysDash"/>
            <a:miter/>
            <a:tailEnd len="med" type="arrow" w="med"/>
          </a:ln>
        </p:spPr>
      </p:cxnSp>
      <p:cxnSp>
        <p:nvCxnSpPr>
          <p:cNvPr id="139" name="Straight Arrow Connector 37"/>
          <p:cNvCxnSpPr>
            <a:stCxn id="111" idx="1"/>
            <a:endCxn id="114" idx="3"/>
          </p:cNvCxnSpPr>
          <p:nvPr/>
        </p:nvCxnSpPr>
        <p:spPr>
          <a:xfrm flipH="1" flipV="1">
            <a:off x="4284360" y="2074320"/>
            <a:ext cx="735840" cy="943560"/>
          </a:xfrm>
          <a:prstGeom prst="straightConnector1">
            <a:avLst/>
          </a:prstGeom>
          <a:ln w="6480">
            <a:solidFill>
              <a:srgbClr val="44546a"/>
            </a:solidFill>
            <a:prstDash val="sysDash"/>
            <a:miter/>
            <a:tailEnd len="med" type="arrow" w="med"/>
          </a:ln>
        </p:spPr>
      </p:cxnSp>
      <p:sp>
        <p:nvSpPr>
          <p:cNvPr id="140" name="Rectangle 38"/>
          <p:cNvSpPr/>
          <p:nvPr/>
        </p:nvSpPr>
        <p:spPr>
          <a:xfrm>
            <a:off x="2193840" y="462924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Shuttl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379440" y="4635360"/>
            <a:ext cx="1728720" cy="35892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r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298440" y="3463920"/>
            <a:ext cx="3745080" cy="278748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6615000" y="5418000"/>
            <a:ext cx="172908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6634080" y="5889600"/>
            <a:ext cx="1728720" cy="358920"/>
          </a:xfrm>
          <a:prstGeom prst="rect">
            <a:avLst/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ministrat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2193840" y="508176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2205000" y="553572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5"/>
          <p:cNvSpPr/>
          <p:nvPr/>
        </p:nvSpPr>
        <p:spPr>
          <a:xfrm>
            <a:off x="379440" y="506736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reight 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Transition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ap BPM5 to BPM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y to use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or remain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Seek cooperation with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llect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Goods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70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Processing and Repair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Data provided by Turks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For processing, FTS are adj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Repairs not included in 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In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ing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72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, Repairs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-254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Before adjustment; Goods: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63,724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After adjustment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63,542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Goods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488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Mer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oved unde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Postal and Couri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oved under Other Transport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Goods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488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Supplementary Breakdown, obtained from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2"/>
          <p:cNvGraphicFramePr/>
          <p:nvPr/>
        </p:nvGraphicFramePr>
        <p:xfrm>
          <a:off x="1692360" y="3573360"/>
          <a:ext cx="5111640" cy="21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573360"/>
                    <a:ext cx="5111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1:54:41Z</dcterms:created>
  <dc:creator>OKMGSPE</dc:creator>
  <dc:description/>
  <dc:language>en-US</dc:language>
  <cp:lastModifiedBy>Sisene</cp:lastModifiedBy>
  <cp:lastPrinted>2015-03-23T07:34:17Z</cp:lastPrinted>
  <dcterms:modified xsi:type="dcterms:W3CDTF">2015-04-07T12:04:39Z</dcterms:modified>
  <cp:revision>58</cp:revision>
  <dc:subject/>
  <dc:title>Slide 1</dc:title>
</cp:coreProperties>
</file>