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740C-AA75-4F3A-9546-AC2948F618C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1DC4-B808-49B0-957F-17B5791DDBE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3597-06C8-4759-9A57-D57B3519222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49BF-3EAF-438B-BD49-CAF7D6DCABB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E820-801D-44D7-9E23-2CDB2F105D4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B844-0ABF-4369-ACE7-1F51D78B82F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A584-B982-404B-9F45-87796C8AC7D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793E-7C5D-4BF9-83EF-77AC74C39CE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17A2-4895-4BD3-BEC7-588B09D9E28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17B5-8FC0-4600-AE0F-81D10C995EF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DAC3-31B5-4AB0-9D61-04367787D5B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E8A6-660B-4A2D-A64B-2054FDC0319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6D1-8676-4CDC-84B7-10CCB5CCF27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1E4-072B-42CA-96A6-CECBBD4CB7F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5BAF-6EA8-47D7-914C-BEA52AC4D30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137F-8ADC-4893-B55B-B5E4172525D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1FF-6C85-42B0-ACCD-6D52CC25FB8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41A5-C65A-4FD2-A15B-6578D025FE5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E71-AE3E-4F8E-94F3-C75D1A55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0EC-CD28-4386-8C84-B8E5748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147-64FE-490B-B27C-45C6950F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80E-C807-4294-916B-C8364121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82E9-E541-4EAD-B257-184D6440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8AAB-B6CE-470D-B601-7D81BA7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193-5EE8-4D6F-B59E-D3359BF4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BEA-77EE-4BAC-B64C-6536439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AC16-3DD3-48C1-A825-C04B84F7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FF64-7E95-43E1-A46E-4EAA8F16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F08A-0758-4107-A1A3-A9ECD879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B5C-2A4A-4F72-8110-A9927404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131-E6D2-43C0-94A4-1574A53C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3DED-8902-4530-845B-51015390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ABC2-E570-4A39-91EF-D875AFD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B441-145F-471B-9283-DC314A02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FF45-9030-452F-8CB4-EE179006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7F2-F120-4210-A371-D5012560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F20-3726-47CD-89FA-0EB8C38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CE2-9533-49DB-8B95-DDB6E3C8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611-CC3F-4E04-8F7C-513022E5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2CA-C207-4FED-8947-B5A52E5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B44-2185-4627-85C8-6DB2CEBB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C3B-7356-4694-934B-CEB8DE1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6DF1-3240-43F1-A0D3-F59134EE276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2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1299-11F2-4CF4-964D-749670E54D3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2f2f2"/>
                </a:solidFill>
                <a:latin typeface="Arial"/>
              </a:rPr>
              <a:t>Implementation of BPM6 in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Yeşim Şiş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Central Bank of the Republic of 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013120" y="476280"/>
            <a:ext cx="5256000" cy="156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826920" y="4292640"/>
            <a:ext cx="74901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The Workshop on the Implementation of the 2008 SNA and linkages with BPM6 and GFS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6 – 8 Ma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2f2f2"/>
                </a:solidFill>
                <a:latin typeface="Arial"/>
              </a:rPr>
              <a:t>İstanb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In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Nomenclature change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Primar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econdar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New data introduced, $254 million in 2014, in addition to $838 million Workers’ remit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Since 2008, personal  $1,138 million since 2008) ($7,128 million since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apit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moval of Migrant’s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Financi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ign convention ado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irec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Asset / Liabilit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Intercompany Lending except financi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Financi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18920" y="1700280"/>
            <a:ext cx="70167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irect Inv’t: A / L instead of 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662040" y="2997360"/>
            <a:ext cx="3565440" cy="56016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urkish parent companies’ direct investment in their foreign affili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859280" y="3002040"/>
            <a:ext cx="3565440" cy="56196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Non resident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parent companies’ direct investment in </a:t>
            </a: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040" y="3625920"/>
            <a:ext cx="3565440" cy="59508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oreign affiliates’ direct investment in their Turkish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59280" y="3639960"/>
            <a:ext cx="3565440" cy="56052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ish Direct Invesment Companie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’ direct investment in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62040" y="4921200"/>
            <a:ext cx="3565440" cy="59544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urkish parent companies’ direct investment in their foreign affili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62040" y="5568840"/>
            <a:ext cx="3565440" cy="59688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ish Direct Invesment Companie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’ direct investment in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859280" y="4921200"/>
            <a:ext cx="3565440" cy="595440"/>
          </a:xfrm>
          <a:prstGeom prst="rect">
            <a:avLst/>
          </a:prstGeom>
          <a:solidFill>
            <a:srgbClr val="87212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Non resident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parent companies’ direct investment in </a:t>
            </a: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4865760" y="5568840"/>
            <a:ext cx="3565440" cy="596880"/>
          </a:xfrm>
          <a:prstGeom prst="rect">
            <a:avLst/>
          </a:prstGeom>
          <a:solidFill>
            <a:srgbClr val="3c8c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oreign affiliates’ direct investment in their Turkish parents (Reverse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668520" y="2552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4865040" y="2552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668160" y="44370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4857120" y="44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3"/>
          <p:cNvSpPr/>
          <p:nvPr/>
        </p:nvSpPr>
        <p:spPr>
          <a:xfrm>
            <a:off x="662040" y="288936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9"/>
          <p:cNvSpPr/>
          <p:nvPr/>
        </p:nvSpPr>
        <p:spPr>
          <a:xfrm>
            <a:off x="4849920" y="288936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20"/>
          <p:cNvSpPr/>
          <p:nvPr/>
        </p:nvSpPr>
        <p:spPr>
          <a:xfrm>
            <a:off x="662040" y="480384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21"/>
          <p:cNvSpPr/>
          <p:nvPr/>
        </p:nvSpPr>
        <p:spPr>
          <a:xfrm>
            <a:off x="4865760" y="4792680"/>
            <a:ext cx="35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Financial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 allocations of SD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rded as increases in gross reserve assets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the same time, in long-term debt liabilities of the general government as “Net Incurrences of Liabiliti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7212e"/>
                </a:solidFill>
                <a:latin typeface="Arial"/>
              </a:rPr>
              <a:t>BOP Statistics and Govern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1280" y="2491920"/>
            <a:ext cx="81360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Central Bank of Turkey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scal agent and the treasurer of the Governmen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l the receipts and payments of the Treasury are conducted through the FX deposits of the Treasury maintained in the Central 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ign currency debt payment services conducted on behalf of the Treasur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s one of the fa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reserve management policie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611280" y="16588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serv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ss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7212e"/>
                </a:solidFill>
                <a:latin typeface="Arial"/>
              </a:rPr>
              <a:t>BOP </a:t>
            </a:r>
            <a:r>
              <a:rPr b="1" lang="en-US" sz="2400" spc="-1" strike="noStrike">
                <a:solidFill>
                  <a:srgbClr val="87212e"/>
                </a:solidFill>
                <a:latin typeface="Arial"/>
              </a:rPr>
              <a:t>Statistics</a:t>
            </a:r>
            <a:r>
              <a:rPr b="1" lang="tr-TR" sz="2400" spc="-1" strike="noStrike">
                <a:solidFill>
                  <a:srgbClr val="87212e"/>
                </a:solidFill>
                <a:latin typeface="Arial"/>
              </a:rPr>
              <a:t> and Govern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1840" y="2276640"/>
            <a:ext cx="857088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loans received from abroad by the public sector (central government+local governments+nonfinancial public corporations) are compared with the database of the Treasury starting from January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transactions that were not determined previously have been revised according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P, such transac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s are recorded under OI / Loans / Net Inc. Of Liabilities / General Government and Other Sectors item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611280" y="1197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Loans of Public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87212e"/>
                </a:solidFill>
                <a:latin typeface="Arial"/>
              </a:rPr>
              <a:t>The relation between BOP AND government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570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rant revenues received from the EU and the World Bank are cross-checked with the records of the Treasury, and are classified under secondary in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data on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ns extended by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d repaid to Turkish Government are monitored with other sources (the Treasury, the Official Gazette, newspaper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garding primary income accoun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 Assets and F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unts held withi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Central B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ed on an accrual basi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liance with the balance of payments methodolog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(Exceptions: income on Loans and Portfolio Investment of General Gover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611280" y="1197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Way Forw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S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ntacted with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nsuran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sion of Direct Reporting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Way Forw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New Services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nducted by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operation am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Central Bank of Tur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nistry of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Turkish Statistic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ompilation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20108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Leg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ompilation System,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ansi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Legal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97" name="Oval 7"/>
          <p:cNvSpPr/>
          <p:nvPr/>
        </p:nvSpPr>
        <p:spPr>
          <a:xfrm>
            <a:off x="826920" y="1197000"/>
            <a:ext cx="5616720" cy="43196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Diagram 8" descr=""/>
          <p:cNvPicPr/>
          <p:nvPr/>
        </p:nvPicPr>
        <p:blipFill>
          <a:blip r:embed="rId2"/>
          <a:stretch/>
        </p:blipFill>
        <p:spPr>
          <a:xfrm>
            <a:off x="817560" y="1225440"/>
            <a:ext cx="6478560" cy="4462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>
            <a:hlinkClick r:id="rId3" action="ppaction://hlinksldjump"/>
          </p:cNvPr>
          <p:cNvSpPr/>
          <p:nvPr/>
        </p:nvSpPr>
        <p:spPr>
          <a:xfrm>
            <a:off x="6732720" y="4437000"/>
            <a:ext cx="2255760" cy="1728720"/>
          </a:xfrm>
          <a:prstGeom prst="rect">
            <a:avLst/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ial Statis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10" descr=""/>
          <p:cNvPicPr/>
          <p:nvPr/>
        </p:nvPicPr>
        <p:blipFill>
          <a:blip r:embed="rId4"/>
          <a:stretch/>
        </p:blipFill>
        <p:spPr>
          <a:xfrm>
            <a:off x="2914560" y="4260960"/>
            <a:ext cx="31212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ompilation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20108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T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irect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urkish Statistical Institute, Turk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Compilation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556000" y="1224000"/>
            <a:ext cx="1728720" cy="360360"/>
          </a:xfrm>
          <a:prstGeom prst="rect">
            <a:avLst/>
          </a:prstGeom>
          <a:solidFill>
            <a:srgbClr val="c00000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I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98440" y="1119240"/>
            <a:ext cx="1728720" cy="3603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CBRT I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98440" y="1935000"/>
            <a:ext cx="1728720" cy="360360"/>
          </a:xfrm>
          <a:prstGeom prst="rect">
            <a:avLst/>
          </a:prstGeom>
          <a:solidFill>
            <a:srgbClr val="8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IAL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018040" y="1224000"/>
            <a:ext cx="1728720" cy="360360"/>
          </a:xfrm>
          <a:prstGeom prst="rect">
            <a:avLst/>
          </a:prstGeom>
          <a:solidFill>
            <a:srgbClr val="44546a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SUPPLEMENTARY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162400" y="1871640"/>
            <a:ext cx="540000" cy="360360"/>
          </a:xfrm>
          <a:prstGeom prst="rect">
            <a:avLst/>
          </a:prstGeom>
          <a:solidFill>
            <a:srgbClr val="44546a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019840" y="2838600"/>
            <a:ext cx="541080" cy="360360"/>
          </a:xfrm>
          <a:prstGeom prst="rect">
            <a:avLst/>
          </a:prstGeom>
          <a:solidFill>
            <a:srgbClr val="44546a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34080" y="4964040"/>
            <a:ext cx="1728720" cy="358920"/>
          </a:xfrm>
          <a:prstGeom prst="rect">
            <a:avLst/>
          </a:prstGeom>
          <a:solidFill>
            <a:srgbClr val="0066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inistry of 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634080" y="4489560"/>
            <a:ext cx="1728720" cy="358560"/>
          </a:xfrm>
          <a:prstGeom prst="rect">
            <a:avLst/>
          </a:prstGeom>
          <a:solidFill>
            <a:srgbClr val="0066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556000" y="1882800"/>
            <a:ext cx="1728720" cy="3855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nsactions of 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2556000" y="2521080"/>
            <a:ext cx="1728720" cy="3855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nsactions of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2411280" y="1116000"/>
            <a:ext cx="2016360" cy="19447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5"/>
          <p:cNvSpPr/>
          <p:nvPr/>
        </p:nvSpPr>
        <p:spPr>
          <a:xfrm>
            <a:off x="4284720" y="1403280"/>
            <a:ext cx="733320" cy="0"/>
          </a:xfrm>
          <a:prstGeom prst="line">
            <a:avLst/>
          </a:prstGeom>
          <a:ln w="63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6"/>
          <p:cNvSpPr/>
          <p:nvPr/>
        </p:nvSpPr>
        <p:spPr>
          <a:xfrm flipV="1">
            <a:off x="5432400" y="1566360"/>
            <a:ext cx="0" cy="304920"/>
          </a:xfrm>
          <a:prstGeom prst="line">
            <a:avLst/>
          </a:prstGeom>
          <a:ln w="63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7"/>
          <p:cNvSpPr/>
          <p:nvPr/>
        </p:nvSpPr>
        <p:spPr>
          <a:xfrm flipV="1">
            <a:off x="5054760" y="1402920"/>
            <a:ext cx="0" cy="1422360"/>
          </a:xfrm>
          <a:prstGeom prst="line">
            <a:avLst/>
          </a:prstGeom>
          <a:ln w="63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8"/>
          <p:cNvCxnSpPr>
            <a:stCxn id="107" idx="3"/>
            <a:endCxn id="115" idx="1"/>
          </p:cNvCxnSpPr>
          <p:nvPr/>
        </p:nvCxnSpPr>
        <p:spPr>
          <a:xfrm>
            <a:off x="2026800" y="1299960"/>
            <a:ext cx="529200" cy="1415160"/>
          </a:xfrm>
          <a:prstGeom prst="straightConnector1">
            <a:avLst/>
          </a:prstGeom>
          <a:ln w="6480">
            <a:solidFill>
              <a:srgbClr val="333f50"/>
            </a:solidFill>
            <a:prstDash val="sysDash"/>
            <a:miter/>
            <a:headEnd len="med" type="arrow" w="med"/>
            <a:tailEnd len="med" type="arrow" w="med"/>
          </a:ln>
        </p:spPr>
      </p:cxnSp>
      <p:cxnSp>
        <p:nvCxnSpPr>
          <p:cNvPr id="121" name="Straight Arrow Connector 19"/>
          <p:cNvCxnSpPr>
            <a:stCxn id="107" idx="3"/>
            <a:endCxn id="114" idx="1"/>
          </p:cNvCxnSpPr>
          <p:nvPr/>
        </p:nvCxnSpPr>
        <p:spPr>
          <a:xfrm>
            <a:off x="2026800" y="1300320"/>
            <a:ext cx="529200" cy="775440"/>
          </a:xfrm>
          <a:prstGeom prst="straightConnector1">
            <a:avLst/>
          </a:prstGeom>
          <a:ln w="6480">
            <a:solidFill>
              <a:srgbClr val="333f5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122" name="Rectangle 20"/>
          <p:cNvSpPr/>
          <p:nvPr/>
        </p:nvSpPr>
        <p:spPr>
          <a:xfrm>
            <a:off x="7199280" y="1204920"/>
            <a:ext cx="1727280" cy="35892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DIRECT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4427640" y="4527720"/>
            <a:ext cx="1728720" cy="465120"/>
          </a:xfrm>
          <a:prstGeom prst="rect">
            <a:avLst/>
          </a:prstGeom>
          <a:solidFill>
            <a:srgbClr val="c9c9c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ntral Registry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4425840" y="5081760"/>
            <a:ext cx="1728720" cy="466560"/>
          </a:xfrm>
          <a:prstGeom prst="rect">
            <a:avLst/>
          </a:prstGeom>
          <a:solidFill>
            <a:srgbClr val="c9c9c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ustodian Bank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1330200" y="3613320"/>
            <a:ext cx="172728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URKST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4"/>
          <p:cNvCxnSpPr>
            <a:stCxn id="108" idx="3"/>
            <a:endCxn id="114" idx="1"/>
          </p:cNvCxnSpPr>
          <p:nvPr/>
        </p:nvCxnSpPr>
        <p:spPr>
          <a:xfrm flipV="1">
            <a:off x="2026800" y="2074680"/>
            <a:ext cx="529200" cy="40320"/>
          </a:xfrm>
          <a:prstGeom prst="straightConnector1">
            <a:avLst/>
          </a:prstGeom>
          <a:ln w="6480">
            <a:solidFill>
              <a:srgbClr val="c00000"/>
            </a:solidFill>
            <a:prstDash val="sysDash"/>
            <a:miter/>
            <a:tailEnd len="med" type="arrow" w="med"/>
          </a:ln>
        </p:spPr>
      </p:cxnSp>
      <p:cxnSp>
        <p:nvCxnSpPr>
          <p:cNvPr id="127" name="Straight Arrow Connector 25"/>
          <p:cNvCxnSpPr>
            <a:stCxn id="113" idx="0"/>
            <a:endCxn id="111" idx="2"/>
          </p:cNvCxnSpPr>
          <p:nvPr/>
        </p:nvCxnSpPr>
        <p:spPr>
          <a:xfrm flipH="1" flipV="1">
            <a:off x="5290920" y="3198240"/>
            <a:ext cx="2208960" cy="1291320"/>
          </a:xfrm>
          <a:prstGeom prst="straightConnector1">
            <a:avLst/>
          </a:prstGeom>
          <a:ln w="6480">
            <a:solidFill>
              <a:srgbClr val="0066ff"/>
            </a:solidFill>
            <a:prstDash val="sysDash"/>
            <a:miter/>
            <a:tailEnd len="med" type="arrow" w="med"/>
          </a:ln>
        </p:spPr>
      </p:cxnSp>
      <p:sp>
        <p:nvSpPr>
          <p:cNvPr id="128" name="Rectangle 26"/>
          <p:cNvSpPr/>
          <p:nvPr/>
        </p:nvSpPr>
        <p:spPr>
          <a:xfrm>
            <a:off x="7199280" y="180504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le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7199280" y="223668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nspor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7199280" y="266868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ews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7199280" y="3105000"/>
            <a:ext cx="1727280" cy="35892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7199280" y="3533760"/>
            <a:ext cx="1727280" cy="360360"/>
          </a:xfrm>
          <a:prstGeom prst="rect">
            <a:avLst/>
          </a:prstGeom>
          <a:solidFill>
            <a:srgbClr val="ff99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egal Consu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7059600" y="1052640"/>
            <a:ext cx="1936800" cy="309708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379440" y="414972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oreing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2201760" y="415908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ou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379440" y="553248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ade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35"/>
          <p:cNvCxnSpPr>
            <a:stCxn id="108" idx="3"/>
            <a:endCxn id="108" idx="3"/>
          </p:cNvCxnSpPr>
          <p:nvPr/>
        </p:nvCxnSpPr>
        <p:spPr>
          <a:xfrm>
            <a:off x="2026800" y="2114280"/>
            <a:ext cx="108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38" name="Straight Arrow Connector 36"/>
          <p:cNvCxnSpPr>
            <a:stCxn id="110" idx="1"/>
            <a:endCxn id="114" idx="3"/>
          </p:cNvCxnSpPr>
          <p:nvPr/>
        </p:nvCxnSpPr>
        <p:spPr>
          <a:xfrm flipH="1">
            <a:off x="4284360" y="2052720"/>
            <a:ext cx="878400" cy="23040"/>
          </a:xfrm>
          <a:prstGeom prst="straightConnector1">
            <a:avLst/>
          </a:prstGeom>
          <a:ln w="6480">
            <a:solidFill>
              <a:srgbClr val="44546a"/>
            </a:solidFill>
            <a:prstDash val="sysDash"/>
            <a:miter/>
            <a:tailEnd len="med" type="arrow" w="med"/>
          </a:ln>
        </p:spPr>
      </p:cxnSp>
      <p:cxnSp>
        <p:nvCxnSpPr>
          <p:cNvPr id="139" name="Straight Arrow Connector 37"/>
          <p:cNvCxnSpPr>
            <a:stCxn id="111" idx="1"/>
            <a:endCxn id="114" idx="3"/>
          </p:cNvCxnSpPr>
          <p:nvPr/>
        </p:nvCxnSpPr>
        <p:spPr>
          <a:xfrm flipH="1" flipV="1">
            <a:off x="4284360" y="2074320"/>
            <a:ext cx="735840" cy="943560"/>
          </a:xfrm>
          <a:prstGeom prst="straightConnector1">
            <a:avLst/>
          </a:prstGeom>
          <a:ln w="6480">
            <a:solidFill>
              <a:srgbClr val="44546a"/>
            </a:solidFill>
            <a:prstDash val="sysDash"/>
            <a:miter/>
            <a:tailEnd len="med" type="arrow" w="med"/>
          </a:ln>
        </p:spPr>
      </p:cxnSp>
      <p:sp>
        <p:nvSpPr>
          <p:cNvPr id="140" name="Rectangle 38"/>
          <p:cNvSpPr/>
          <p:nvPr/>
        </p:nvSpPr>
        <p:spPr>
          <a:xfrm>
            <a:off x="2193840" y="462924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Shuttl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379440" y="4635360"/>
            <a:ext cx="1728720" cy="35892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r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298440" y="3463920"/>
            <a:ext cx="3745080" cy="278748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6615000" y="5418000"/>
            <a:ext cx="172908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Calibri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6634080" y="5889600"/>
            <a:ext cx="1728720" cy="358920"/>
          </a:xfrm>
          <a:prstGeom prst="rect">
            <a:avLst/>
          </a:prstGeom>
          <a:solidFill>
            <a:srgbClr val="00b0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ministrat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2193840" y="508176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2205000" y="553572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5"/>
          <p:cNvSpPr/>
          <p:nvPr/>
        </p:nvSpPr>
        <p:spPr>
          <a:xfrm>
            <a:off x="379440" y="5067360"/>
            <a:ext cx="1728720" cy="36036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Freight 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Transition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0167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ap BPM5 to BPM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y to use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or remain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Seek cooperation with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Collect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Goods an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70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Processing and Repair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Data provided by Turks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For processing, FTS are adj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Repairs not included in 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In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ing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72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, Repairs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-254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Before adjustment; Goods: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63,724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After adjustment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Arial"/>
              </a:rPr>
              <a:t>$63,542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Goods an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4883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e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Mer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oved unde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Postal and Couri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  <a:ea typeface="Arial"/>
              </a:rPr>
              <a:t>Moved under Other Transport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9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7212e"/>
                </a:solidFill>
                <a:latin typeface="Arial"/>
              </a:rPr>
              <a:t>Goods an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4883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Supplementary Breakdown, obtained from Turk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TCMB LOGO_buyuk_gri zemin"/>
          <p:cNvPicPr/>
          <p:nvPr/>
        </p:nvPicPr>
        <p:blipFill>
          <a:blip r:embed="rId1"/>
          <a:stretch/>
        </p:blipFill>
        <p:spPr>
          <a:xfrm>
            <a:off x="250920" y="333360"/>
            <a:ext cx="1908000" cy="39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2"/>
          <p:cNvGraphicFramePr/>
          <p:nvPr/>
        </p:nvGraphicFramePr>
        <p:xfrm>
          <a:off x="1692360" y="3573360"/>
          <a:ext cx="5111640" cy="21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573360"/>
                    <a:ext cx="51116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1:54:41Z</dcterms:created>
  <dc:creator>OKMGSPE</dc:creator>
  <dc:description/>
  <dc:language>en-US</dc:language>
  <cp:lastModifiedBy>Sisene</cp:lastModifiedBy>
  <cp:lastPrinted>2015-03-23T07:34:17Z</cp:lastPrinted>
  <dcterms:modified xsi:type="dcterms:W3CDTF">2015-04-07T12:04:39Z</dcterms:modified>
  <cp:revision>58</cp:revision>
  <dc:subject/>
  <dc:title>Slide 1</dc:title>
</cp:coreProperties>
</file>