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5145088"/>
  <p:notesSz cx="68072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2A3B-A43A-4BE7-ADB3-8D314110A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651672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8480" y="3013200"/>
            <a:ext cx="651672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01B3-3ECA-4396-9C3B-9F79F3D2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8480" y="301320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37840" y="301320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5E34-5ACB-4C5D-BB09-0F4EB4E85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01680" y="137124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05240" y="137124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8480" y="301320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01680" y="301320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05240" y="301320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8283-CB01-47ED-9E51-145E97F13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6CB4-C78A-426F-A6D7-4AFCCA19C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98480" y="1371240"/>
            <a:ext cx="6516720" cy="31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162B-B9E6-47EE-8C90-2F7E7F41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651672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26C8-E680-49B0-A0FF-D08B8EE8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5DFA-7415-4912-B66B-FA92EBE4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A460-8611-4221-B09E-8532D4A0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98480" y="399600"/>
            <a:ext cx="651672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94C0-0C68-463B-ABC0-0314EF7B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98480" y="301320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CA78-A270-43A8-BB4D-585FD652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8480" y="1371240"/>
            <a:ext cx="6516720" cy="31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CA83-3A50-4924-8774-4ECAF2AE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37840" y="301320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780B-FD52-4EBD-83B3-D16A39B6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98480" y="3013200"/>
            <a:ext cx="651672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B774-CE2A-4FF3-86CF-275F0560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651672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98480" y="3013200"/>
            <a:ext cx="651672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F37A-D116-4B39-AFF8-CD6072F0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98480" y="301320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37840" y="301320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37CC-D661-4E56-8C4D-6417BE03A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01680" y="137124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05240" y="137124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98480" y="301320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01680" y="301320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05240" y="301320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72AF-84D8-4869-923A-FBF67E7FC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AFDCA-2407-4BC8-BBD9-CAAA50ED4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98480" y="1371240"/>
            <a:ext cx="6516720" cy="31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F60E5-6FDE-48F3-AA11-A85B1711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651672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ACA75-4081-4694-A9CB-AADFD7F9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30E4D-DA14-4EA2-AFA3-73DF2931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9A2B0-3970-4D0C-A008-52803038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651672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9561-2077-44B5-B6B7-11C8E3E6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98480" y="399600"/>
            <a:ext cx="651672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9485B-E6BB-46A6-AD7F-E8E88B45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98480" y="301320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CFEA3-C503-4C0F-A226-36EC6390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137840" y="301320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24337-FD08-4158-B7B8-506F56E9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98480" y="3013200"/>
            <a:ext cx="651672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46EA4-CBDB-40FB-A4E8-BA764930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651672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98480" y="3013200"/>
            <a:ext cx="651672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B4D20-3DF4-45F6-917D-A0127425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480" y="301320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137840" y="301320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F4F92-A273-47C9-BE4C-2822CDD2E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001680" y="137124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205240" y="137124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98480" y="301320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001680" y="301320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205240" y="301320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1F7B7-9E4E-4936-82BD-B37DA2C22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59893-209E-45A3-AFD0-2399E86BB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98480" y="1371240"/>
            <a:ext cx="6516720" cy="31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ABB73-159F-4BA7-9550-884E01AF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651672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ABC7D-7029-4F36-B1EE-032EDAEE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2B5D-5B6D-4E36-BD35-AA0D524F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2080C-43BF-4016-9640-AFCC4BF2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89B00-D7D6-4812-B653-7CBE5168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98480" y="399600"/>
            <a:ext cx="651672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7BB42-F7AD-4446-BDC3-75460B3F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98480" y="301320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5E7A2-70E2-4A3F-8F8F-02777414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137840" y="301320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00A8F-0257-437B-A838-84B03AB7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98480" y="3013200"/>
            <a:ext cx="651672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C1A01-9BD5-4375-B1B9-19537896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651672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98480" y="3013200"/>
            <a:ext cx="651672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0A57C-FBEB-45B8-8722-DC0A962F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480" y="301320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137840" y="301320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96507-1253-4C65-8A96-AAD5B2492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01680" y="137124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205240" y="137124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98480" y="301320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01680" y="301320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205240" y="301320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2C12F-E034-44EB-B86C-2358B6282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CFAAE-FA86-43B6-9881-0612C2AD1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E0AB-1837-4A3D-8895-FCA552CA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98480" y="1371240"/>
            <a:ext cx="6516720" cy="31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6EA8F-A5A2-4C6A-A90B-7B7C92F5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651672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0E5CE-6314-4B6C-9593-16C1D794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1E98C-AFA4-4DC5-837E-87FA53F9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70C08-AECD-4C1C-A651-F73ABECC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98480" y="399600"/>
            <a:ext cx="651672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6607B-E8D9-4354-8F36-DC826A25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98480" y="301320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19254-AF81-4AE8-8DED-784E5761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137840" y="301320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0F542-0391-4920-9085-F8E9714B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8480" y="3013200"/>
            <a:ext cx="651672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AEDC8-9FE8-453E-A596-CBD36458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651672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98480" y="3013200"/>
            <a:ext cx="651672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5C8EF-B80A-45D5-BAD6-F8004CCE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98480" y="301320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137840" y="301320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65851-1AE0-465E-A970-291AA2059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98480" y="399600"/>
            <a:ext cx="651672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1492-66B6-493B-83DA-941217D8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001680" y="137124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205240" y="137124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798480" y="301320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001680" y="301320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205240" y="301320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B82A7-9948-4921-A1E1-D0349662A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798480" y="1371240"/>
            <a:ext cx="6516720" cy="31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651672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798480" y="399600"/>
            <a:ext cx="651672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798480" y="301320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137840" y="301320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8480" y="3013200"/>
            <a:ext cx="651672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8480" y="301320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B777-25F7-46DF-9FF1-DE5012F6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651672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798480" y="3013200"/>
            <a:ext cx="651672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798480" y="301320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137840" y="301320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001680" y="137124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205240" y="137124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798480" y="301320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001680" y="301320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205240" y="3013200"/>
            <a:ext cx="20980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37840" y="301320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838C-6E25-4496-A6F7-5977017F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848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37840" y="1371240"/>
            <a:ext cx="317988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8480" y="3013200"/>
            <a:ext cx="6516720" cy="149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EE2B-FF5F-4E07-ADEF-3A2CA8D0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00aeef"/>
                </a:solidFill>
                <a:latin typeface="Franklin Gothic Medium"/>
              </a:rPr>
              <a:t>Click to edit the title text format</a:t>
            </a: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8480" y="1371240"/>
            <a:ext cx="651672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04840" indent="-17136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Click to edit the outline text format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1" marL="444600" indent="-17172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Second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2" marL="582480" indent="-13644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Third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3" marL="719280" indent="-13680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Fourth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4" marL="822240" indent="-10152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Fifth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5" marL="822240" indent="-1015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Sixth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6" marL="822240" indent="-1015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Seventh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200560" y="4615920"/>
            <a:ext cx="1028880" cy="2048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tr-TR" sz="800" spc="-1" strike="noStrike">
                <a:solidFill>
                  <a:srgbClr val="595959"/>
                </a:solidFill>
                <a:latin typeface="Franklin Gothic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AF2DAE54-A612-4F65-B8FD-9CB09C924B7E}" type="datetime">
              <a:rPr b="0" lang="tr-TR" sz="800" spc="-1" strike="noStrike">
                <a:solidFill>
                  <a:srgbClr val="595959"/>
                </a:solidFill>
                <a:latin typeface="Franklin Gothic Medium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98120" y="4615920"/>
            <a:ext cx="4241880" cy="2048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00800" y="4615920"/>
            <a:ext cx="914400" cy="2048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tr-TR" sz="800" spc="-1" strike="noStrike">
                <a:solidFill>
                  <a:srgbClr val="595959"/>
                </a:solidFill>
                <a:latin typeface="Franklin Gothic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056BA522-AD97-40D8-8400-16A58E0AA3A4}" type="slidenum">
              <a:rPr b="0" lang="tr-TR" sz="800" spc="-1" strike="noStrike">
                <a:solidFill>
                  <a:srgbClr val="595959"/>
                </a:solidFill>
                <a:latin typeface="Franklin Gothic Mediu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00aeef"/>
                </a:solidFill>
                <a:latin typeface="Franklin Gothic Medium"/>
              </a:rPr>
              <a:t>Click to edit the title text format</a:t>
            </a: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98480" y="1371240"/>
            <a:ext cx="651672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04840" indent="-17136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Click to edit the outline text format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1" marL="444600" indent="-17172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Second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2" marL="582480" indent="-13644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Third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3" marL="719280" indent="-13680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Fourth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4" marL="822240" indent="-10152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Fifth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5" marL="822240" indent="-1015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Sixth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6" marL="822240" indent="-1015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Seventh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200560" y="4615920"/>
            <a:ext cx="1028880" cy="2048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tr-TR" sz="800" spc="-1" strike="noStrike">
                <a:solidFill>
                  <a:srgbClr val="595959"/>
                </a:solidFill>
                <a:latin typeface="Franklin Gothic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95E527FB-2BCC-414D-AA0D-21361FE70ACB}" type="datetime">
              <a:rPr b="0" lang="tr-TR" sz="800" spc="-1" strike="noStrike">
                <a:solidFill>
                  <a:srgbClr val="595959"/>
                </a:solidFill>
                <a:latin typeface="Franklin Gothic Medium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798120" y="4615920"/>
            <a:ext cx="4241880" cy="2048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00800" y="4615920"/>
            <a:ext cx="914400" cy="2048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tr-TR" sz="800" spc="-1" strike="noStrike">
                <a:solidFill>
                  <a:srgbClr val="595959"/>
                </a:solidFill>
                <a:latin typeface="Franklin Gothic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98D9E5DF-9CB7-40ED-B050-D71D8A20ABC9}" type="slidenum">
              <a:rPr b="0" lang="tr-TR" sz="800" spc="-1" strike="noStrike">
                <a:solidFill>
                  <a:srgbClr val="595959"/>
                </a:solidFill>
                <a:latin typeface="Franklin Gothic Mediu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00aeef"/>
                </a:solidFill>
                <a:latin typeface="Franklin Gothic Medium"/>
              </a:rPr>
              <a:t>Click to edit the title text format</a:t>
            </a: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98480" y="1371240"/>
            <a:ext cx="651672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04840" indent="-17136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Click to edit the outline text format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1" marL="444600" indent="-17172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Second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2" marL="582480" indent="-13644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Third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3" marL="719280" indent="-13680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Fourth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4" marL="822240" indent="-10152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Fifth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5" marL="822240" indent="-1015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Sixth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6" marL="822240" indent="-1015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Seventh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200560" y="4615920"/>
            <a:ext cx="1028880" cy="2048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tr-TR" sz="800" spc="-1" strike="noStrike">
                <a:solidFill>
                  <a:srgbClr val="595959"/>
                </a:solidFill>
                <a:latin typeface="Franklin Gothic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5DC26CA0-0433-4834-9F3F-C5CEC66D8C22}" type="datetime">
              <a:rPr b="0" lang="tr-TR" sz="800" spc="-1" strike="noStrike">
                <a:solidFill>
                  <a:srgbClr val="595959"/>
                </a:solidFill>
                <a:latin typeface="Franklin Gothic Medium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798120" y="4615920"/>
            <a:ext cx="4241880" cy="2048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00800" y="4615920"/>
            <a:ext cx="914400" cy="2048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tr-TR" sz="800" spc="-1" strike="noStrike">
                <a:solidFill>
                  <a:srgbClr val="595959"/>
                </a:solidFill>
                <a:latin typeface="Franklin Gothic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949B056B-7443-4497-8C2A-7251C550DB9C}" type="slidenum">
              <a:rPr b="0" lang="tr-TR" sz="800" spc="-1" strike="noStrike">
                <a:solidFill>
                  <a:srgbClr val="595959"/>
                </a:solidFill>
                <a:latin typeface="Franklin Gothic Mediu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00aeef"/>
                </a:solidFill>
                <a:latin typeface="Franklin Gothic Medium"/>
              </a:rPr>
              <a:t>Click to edit the title text format</a:t>
            </a: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98480" y="1371240"/>
            <a:ext cx="651672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04840" indent="-17136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Click to edit the outline text format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1" marL="444600" indent="-17172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Second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2" marL="582480" indent="-13644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Third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3" marL="719280" indent="-13680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Fourth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4" marL="822240" indent="-10152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Fifth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5" marL="822240" indent="-1015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Sixth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6" marL="822240" indent="-1015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Seventh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200560" y="4615920"/>
            <a:ext cx="1028880" cy="2048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tr-TR" sz="800" spc="-1" strike="noStrike">
                <a:solidFill>
                  <a:srgbClr val="595959"/>
                </a:solidFill>
                <a:latin typeface="Franklin Gothic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DB27D73E-DA86-4647-9D9F-C03A118C0B4E}" type="datetime">
              <a:rPr b="0" lang="tr-TR" sz="800" spc="-1" strike="noStrike">
                <a:solidFill>
                  <a:srgbClr val="595959"/>
                </a:solidFill>
                <a:latin typeface="Franklin Gothic Medium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798120" y="4615920"/>
            <a:ext cx="4241880" cy="2048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667640" y="4587480"/>
            <a:ext cx="914400" cy="2048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tr-TR" sz="800" spc="-1" strike="noStrike">
                <a:solidFill>
                  <a:srgbClr val="595959"/>
                </a:solidFill>
                <a:latin typeface="Franklin Gothic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290A54B1-DC8C-4532-A517-A09065CEFB5C}" type="slidenum">
              <a:rPr b="0" lang="tr-TR" sz="800" spc="-1" strike="noStrike">
                <a:solidFill>
                  <a:srgbClr val="595959"/>
                </a:solidFill>
                <a:latin typeface="Franklin Gothic Mediu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00aeef"/>
                </a:solidFill>
                <a:latin typeface="Franklin Gothic Medium"/>
              </a:rPr>
              <a:t>Click to edit the title text format</a:t>
            </a: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98480" y="1371240"/>
            <a:ext cx="651672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04840" indent="-17136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Click to edit the outline text format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1" marL="444600" indent="-17172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Second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2" marL="582480" indent="-13644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Third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3" marL="719280" indent="-13680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Fourth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4" marL="822240" indent="-10152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Fifth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5" marL="822240" indent="-1015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Sixth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6" marL="822240" indent="-1015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Seventh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200560" y="4615920"/>
            <a:ext cx="1028880" cy="2048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tr-TR" sz="800" spc="-1" strike="noStrike">
                <a:solidFill>
                  <a:srgbClr val="595959"/>
                </a:solidFill>
                <a:latin typeface="Franklin Gothic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95ADEDF6-2D8F-401B-8A67-72D00B0367BA}" type="datetime">
              <a:rPr b="0" lang="tr-TR" sz="800" spc="-1" strike="noStrike">
                <a:solidFill>
                  <a:srgbClr val="595959"/>
                </a:solidFill>
                <a:latin typeface="Franklin Gothic Medium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798120" y="4615920"/>
            <a:ext cx="4241880" cy="2048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885080" y="4587480"/>
            <a:ext cx="914400" cy="2048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tr-TR" sz="800" spc="-1" strike="noStrike">
                <a:solidFill>
                  <a:srgbClr val="595959"/>
                </a:solidFill>
                <a:latin typeface="Franklin Gothic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E32A7A33-8374-4C6D-A12D-5FA097C4BBEB}" type="slidenum">
              <a:rPr b="0" lang="tr-TR" sz="800" spc="-1" strike="noStrike">
                <a:solidFill>
                  <a:srgbClr val="595959"/>
                </a:solidFill>
                <a:latin typeface="Franklin Gothic Mediu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98480" y="399600"/>
            <a:ext cx="6516720" cy="80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00aeef"/>
                </a:solidFill>
                <a:latin typeface="Franklin Gothic Medium"/>
              </a:rPr>
              <a:t>Click to edit the title text format</a:t>
            </a:r>
            <a:endParaRPr b="1" lang="en-US" sz="27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98480" y="1371240"/>
            <a:ext cx="6516720" cy="3143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04840" indent="-17136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Click to edit the outline text format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1" marL="444600" indent="-17172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Second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2" marL="582480" indent="-13644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Third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3" marL="719280" indent="-13680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Fourth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4" marL="822240" indent="-10152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Fifth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5" marL="822240" indent="-1015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Sixth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  <a:p>
            <a:pPr lvl="6" marL="822240" indent="-1015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Franklin Gothic Medium"/>
              </a:rPr>
              <a:t>Seventh Outline Level</a:t>
            </a:r>
            <a:endParaRPr b="0" lang="en-US" sz="1500" spc="-1" strike="noStrike">
              <a:solidFill>
                <a:srgbClr val="595959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3640" y="1419120"/>
            <a:ext cx="8515080" cy="1152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3300" spc="-1" strike="noStrike">
                <a:solidFill>
                  <a:srgbClr val="d61031"/>
                </a:solidFill>
                <a:latin typeface="Franklin Gothic Medium"/>
              </a:rPr>
              <a:t> </a:t>
            </a:r>
            <a:r>
              <a:rPr b="1" lang="ru-RU" sz="2800" spc="-1" strike="noStrike">
                <a:solidFill>
                  <a:srgbClr val="d61031"/>
                </a:solidFill>
                <a:latin typeface="Franklin Gothic Medium"/>
              </a:rPr>
              <a:t>ФИНАНСОВАЯ СТАТИСТИКА</a:t>
            </a:r>
            <a:br>
              <a:rPr sz="2800"/>
            </a:br>
            <a:r>
              <a:rPr b="1" lang="ru-RU" sz="2800" spc="-1" strike="noStrike">
                <a:solidFill>
                  <a:srgbClr val="d61031"/>
                </a:solidFill>
                <a:latin typeface="Franklin Gothic Medium"/>
              </a:rPr>
              <a:t>ГОСУДАРСТВЕННОГО УПРАВЛЕНИЯ</a:t>
            </a:r>
            <a:endParaRPr b="1" lang="en-US" sz="2800" spc="-1" strike="noStrike">
              <a:solidFill>
                <a:srgbClr val="00aeef"/>
              </a:solidFill>
              <a:latin typeface="Franklin Gothic Medium"/>
            </a:endParaRPr>
          </a:p>
        </p:txBody>
      </p:sp>
      <p:sp>
        <p:nvSpPr>
          <p:cNvPr id="244" name="Dikdörtgen 1"/>
          <p:cNvSpPr/>
          <p:nvPr/>
        </p:nvSpPr>
        <p:spPr>
          <a:xfrm>
            <a:off x="304920" y="2381400"/>
            <a:ext cx="643068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marL="257040" indent="-257040">
              <a:lnSpc>
                <a:spcPct val="150000"/>
              </a:lnSpc>
              <a:buClr>
                <a:srgbClr val="cb1664"/>
              </a:buClr>
              <a:buFont typeface="Courier New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595959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500" spc="-1" strike="noStrike">
                <a:solidFill>
                  <a:srgbClr val="595959"/>
                </a:solidFill>
                <a:latin typeface="Franklin Gothic Medium"/>
                <a:ea typeface="Courier New"/>
              </a:rPr>
              <a:t>Последние достиж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595959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500" spc="-1" strike="noStrike">
                <a:solidFill>
                  <a:srgbClr val="595959"/>
                </a:solidFill>
                <a:latin typeface="Franklin Gothic Medium"/>
                <a:ea typeface="Courier New"/>
              </a:rPr>
              <a:t>Текущая ситуац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d6103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d6103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d6103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r">
              <a:lnSpc>
                <a:spcPct val="150000"/>
              </a:lnSpc>
              <a:buClr>
                <a:srgbClr val="cb1664"/>
              </a:buClr>
              <a:buFont typeface="Courier New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cb1664"/>
              </a:buClr>
              <a:buFont typeface="Courier New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cb1664"/>
              </a:buClr>
              <a:buFont typeface="Courier New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cb1664"/>
              </a:buClr>
              <a:buFont typeface="Courier New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cb1664"/>
              </a:buClr>
              <a:buFont typeface="Courier New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cb1664"/>
              </a:buClr>
              <a:buFont typeface="Courier New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cb1664"/>
              </a:buClr>
              <a:buFont typeface="Courier New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http://www.logoeps.net/wp-content/uploads/2012/03/maliye-bakanligi-logo.jpg"/>
          <p:cNvPicPr/>
          <p:nvPr/>
        </p:nvPicPr>
        <p:blipFill>
          <a:blip r:embed="rId1"/>
          <a:stretch/>
        </p:blipFill>
        <p:spPr>
          <a:xfrm>
            <a:off x="3851280" y="123840"/>
            <a:ext cx="1116000" cy="771480"/>
          </a:xfrm>
          <a:prstGeom prst="rect">
            <a:avLst/>
          </a:prstGeom>
          <a:ln w="0">
            <a:noFill/>
          </a:ln>
        </p:spPr>
      </p:pic>
      <p:sp>
        <p:nvSpPr>
          <p:cNvPr id="246" name="Slide Number Placeholder 3"/>
          <p:cNvSpPr/>
          <p:nvPr/>
        </p:nvSpPr>
        <p:spPr>
          <a:xfrm>
            <a:off x="6400800" y="4616280"/>
            <a:ext cx="9144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960F9D66-EE5E-4CAE-9803-059A478AE29A}" type="slidenum">
              <a:rPr b="0" lang="tr-TR" sz="800" spc="-1" strike="noStrike">
                <a:solidFill>
                  <a:srgbClr val="595959"/>
                </a:solidFill>
                <a:latin typeface="Franklin Gothic Mediu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Yuvarlatılmış Dikdörtgen 1"/>
          <p:cNvSpPr/>
          <p:nvPr/>
        </p:nvSpPr>
        <p:spPr>
          <a:xfrm>
            <a:off x="299880" y="1166760"/>
            <a:ext cx="8588520" cy="3946680"/>
          </a:xfrm>
          <a:prstGeom prst="roundRect">
            <a:avLst>
              <a:gd name="adj" fmla="val 16667"/>
            </a:avLst>
          </a:prstGeom>
          <a:solidFill>
            <a:srgbClr val="fef6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Franklin Gothic Medium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Franklin Gothic Medium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Yuvarlatılmış Dikdörtgen 3"/>
          <p:cNvSpPr/>
          <p:nvPr/>
        </p:nvSpPr>
        <p:spPr>
          <a:xfrm>
            <a:off x="517680" y="542880"/>
            <a:ext cx="8170560" cy="351000"/>
          </a:xfrm>
          <a:prstGeom prst="roundRect">
            <a:avLst>
              <a:gd name="adj" fmla="val 16667"/>
            </a:avLst>
          </a:prstGeom>
          <a:solidFill>
            <a:srgbClr val="f149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rebuchet MS"/>
              </a:rPr>
              <a:t>ТЕКУЩАЯ СИТУ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Metin kutusu 5"/>
          <p:cNvSpPr/>
          <p:nvPr/>
        </p:nvSpPr>
        <p:spPr>
          <a:xfrm>
            <a:off x="820800" y="1547640"/>
            <a:ext cx="7238880" cy="28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В </a:t>
            </a:r>
            <a:r>
              <a:rPr b="0" lang="tr-TR" sz="1500" spc="-1" strike="noStrike">
                <a:solidFill>
                  <a:srgbClr val="000000"/>
                </a:solidFill>
                <a:latin typeface="Calibri"/>
                <a:ea typeface="Arial"/>
              </a:rPr>
              <a:t>2015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 году вступили в силу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равила счетов государственного управления</a:t>
            </a:r>
            <a:r>
              <a:rPr b="0" lang="tr-TR" sz="15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Наши новые таблицы, оформленные в соответствии с СГФ </a:t>
            </a:r>
            <a:r>
              <a:rPr b="0" lang="tr-TR" sz="15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Отчет о чистом балансе 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над строкой Отчета о государственных операциях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Отчет о чистом финансовом балансе 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под строкой Отчета о государственных операциях</a:t>
            </a:r>
            <a:r>
              <a:rPr b="0" lang="tr-TR" sz="11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15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Отчет о функциональной классификации расходов</a:t>
            </a:r>
            <a:r>
              <a:rPr b="0" lang="tr-TR" sz="15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tr-TR" sz="11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Издержки по функциям Правительства</a:t>
            </a:r>
            <a:r>
              <a:rPr b="0" lang="tr-TR" sz="11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15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Отчет об условных активах и обязательствах </a:t>
            </a:r>
            <a:r>
              <a:rPr b="0" lang="tr-TR" sz="11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МСФООС № </a:t>
            </a:r>
            <a:r>
              <a:rPr b="0" lang="tr-TR" sz="1100" spc="-1" strike="noStrike">
                <a:solidFill>
                  <a:srgbClr val="000000"/>
                </a:solidFill>
                <a:latin typeface="Calibri"/>
                <a:ea typeface="Arial"/>
              </a:rPr>
              <a:t>19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0" lang="tr-TR" sz="11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Статья </a:t>
            </a:r>
            <a:r>
              <a:rPr b="0" lang="tr-TR" sz="1100" spc="-1" strike="noStrike">
                <a:solidFill>
                  <a:srgbClr val="000000"/>
                </a:solidFill>
                <a:latin typeface="Calibri"/>
                <a:ea typeface="Arial"/>
              </a:rPr>
              <a:t>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15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Баланс </a:t>
            </a:r>
            <a:r>
              <a:rPr b="0" lang="tr-TR" sz="11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СГФ, Таблица </a:t>
            </a:r>
            <a:r>
              <a:rPr b="0" lang="tr-TR" sz="11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, Баланс</a:t>
            </a:r>
            <a:r>
              <a:rPr b="0" lang="tr-TR" sz="11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15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Таблица движения наличных средств </a:t>
            </a:r>
            <a:r>
              <a:rPr b="0" lang="tr-TR" sz="11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Отчет по источникам и применению наличных средств</a:t>
            </a:r>
            <a:r>
              <a:rPr b="0" lang="tr-TR" sz="11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Köşeli Çift Ayraç 9"/>
          <p:cNvSpPr/>
          <p:nvPr/>
        </p:nvSpPr>
        <p:spPr>
          <a:xfrm>
            <a:off x="380880" y="1697040"/>
            <a:ext cx="271440" cy="108000"/>
          </a:xfrm>
          <a:custGeom>
            <a:avLst/>
            <a:gdLst>
              <a:gd name="textAreaLeft" fmla="*/ 0 w 271440"/>
              <a:gd name="textAreaRight" fmla="*/ 271800 w 2714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5" y="0"/>
                </a:lnTo>
                <a:lnTo>
                  <a:pt x="21600" y="10800"/>
                </a:lnTo>
                <a:lnTo>
                  <a:pt x="17305" y="21600"/>
                </a:lnTo>
                <a:lnTo>
                  <a:pt x="0" y="21600"/>
                </a:lnTo>
                <a:lnTo>
                  <a:pt x="4295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Resim 10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777160" y="50760"/>
            <a:ext cx="366840" cy="2826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"/>
          <p:cNvPicPr/>
          <p:nvPr/>
        </p:nvPicPr>
        <p:blipFill>
          <a:blip r:embed="rId2"/>
          <a:stretch/>
        </p:blipFill>
        <p:spPr>
          <a:xfrm>
            <a:off x="893880" y="2387520"/>
            <a:ext cx="317520" cy="1335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3" descr=""/>
          <p:cNvPicPr/>
          <p:nvPr/>
        </p:nvPicPr>
        <p:blipFill>
          <a:blip r:embed="rId3"/>
          <a:stretch/>
        </p:blipFill>
        <p:spPr>
          <a:xfrm>
            <a:off x="893880" y="2741760"/>
            <a:ext cx="317520" cy="1332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"/>
          <p:cNvPicPr/>
          <p:nvPr/>
        </p:nvPicPr>
        <p:blipFill>
          <a:blip r:embed="rId4"/>
          <a:stretch/>
        </p:blipFill>
        <p:spPr>
          <a:xfrm>
            <a:off x="893880" y="3114720"/>
            <a:ext cx="317520" cy="1332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"/>
          <p:cNvPicPr/>
          <p:nvPr/>
        </p:nvPicPr>
        <p:blipFill>
          <a:blip r:embed="rId5"/>
          <a:stretch/>
        </p:blipFill>
        <p:spPr>
          <a:xfrm>
            <a:off x="893880" y="3417840"/>
            <a:ext cx="317520" cy="1335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"/>
          <p:cNvPicPr/>
          <p:nvPr/>
        </p:nvPicPr>
        <p:blipFill>
          <a:blip r:embed="rId6"/>
          <a:stretch/>
        </p:blipFill>
        <p:spPr>
          <a:xfrm>
            <a:off x="893880" y="3795840"/>
            <a:ext cx="317520" cy="1332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7" descr=""/>
          <p:cNvPicPr/>
          <p:nvPr/>
        </p:nvPicPr>
        <p:blipFill>
          <a:blip r:embed="rId7"/>
          <a:stretch/>
        </p:blipFill>
        <p:spPr>
          <a:xfrm>
            <a:off x="893880" y="4084560"/>
            <a:ext cx="317520" cy="133560"/>
          </a:xfrm>
          <a:prstGeom prst="rect">
            <a:avLst/>
          </a:prstGeom>
          <a:ln w="0">
            <a:noFill/>
          </a:ln>
        </p:spPr>
      </p:pic>
      <p:sp>
        <p:nvSpPr>
          <p:cNvPr id="332" name="Slide Number Placeholder 2"/>
          <p:cNvSpPr/>
          <p:nvPr/>
        </p:nvSpPr>
        <p:spPr>
          <a:xfrm>
            <a:off x="7885080" y="4587840"/>
            <a:ext cx="9144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8B0DD39A-1A55-4408-BD71-4D6047B6F718}" type="slidenum">
              <a:rPr b="0" lang="tr-TR" sz="800" spc="-1" strike="noStrike">
                <a:solidFill>
                  <a:srgbClr val="595959"/>
                </a:solidFill>
                <a:latin typeface="Franklin Gothic Mediu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Yuvarlatılmış Dikdörtgen 3"/>
          <p:cNvSpPr/>
          <p:nvPr/>
        </p:nvSpPr>
        <p:spPr>
          <a:xfrm>
            <a:off x="517680" y="571680"/>
            <a:ext cx="8170560" cy="350640"/>
          </a:xfrm>
          <a:prstGeom prst="roundRect">
            <a:avLst>
              <a:gd name="adj" fmla="val 16667"/>
            </a:avLst>
          </a:prstGeom>
          <a:solidFill>
            <a:srgbClr val="f149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rebuchet MS"/>
              </a:rPr>
              <a:t>ЗАДА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Resim 10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777160" y="50760"/>
            <a:ext cx="366840" cy="282600"/>
          </a:xfrm>
          <a:prstGeom prst="rect">
            <a:avLst/>
          </a:prstGeom>
          <a:ln w="0">
            <a:noFill/>
          </a:ln>
        </p:spPr>
      </p:pic>
      <p:sp>
        <p:nvSpPr>
          <p:cNvPr id="335" name="Metin kutusu 12"/>
          <p:cNvSpPr/>
          <p:nvPr/>
        </p:nvSpPr>
        <p:spPr>
          <a:xfrm>
            <a:off x="468360" y="1058760"/>
            <a:ext cx="7542000" cy="37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1500" spc="-1" strike="noStrike">
                <a:solidFill>
                  <a:srgbClr val="000000"/>
                </a:solidFill>
                <a:latin typeface="Calibri"/>
                <a:ea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аблицы движения наличных средств в техническом отношении основаны на критериях МСФООС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требление фиксированного капитала рассчитывается в конце года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существляется оценка квартального и месячного потребления фиксированного капитала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ля ежемесячных и ежеквартальных таблиц СГФ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центные расходы определяются с использованием наличной основы данных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ля годовых таблиц СГФ процентные расходы определяются с использованием данных по принципу начислений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0" lang="tr-TR" sz="15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Köşeli Çift Ayraç 13"/>
          <p:cNvSpPr/>
          <p:nvPr/>
        </p:nvSpPr>
        <p:spPr>
          <a:xfrm>
            <a:off x="650880" y="2066760"/>
            <a:ext cx="295200" cy="144720"/>
          </a:xfrm>
          <a:custGeom>
            <a:avLst/>
            <a:gdLst>
              <a:gd name="textAreaLeft" fmla="*/ 0 w 295200"/>
              <a:gd name="textAreaRight" fmla="*/ 295200 w 29520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316" y="0"/>
                </a:lnTo>
                <a:lnTo>
                  <a:pt x="21600" y="10800"/>
                </a:lnTo>
                <a:lnTo>
                  <a:pt x="16316" y="21600"/>
                </a:lnTo>
                <a:lnTo>
                  <a:pt x="0" y="21600"/>
                </a:lnTo>
                <a:lnTo>
                  <a:pt x="5284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Köşeli Çift Ayraç 14"/>
          <p:cNvSpPr/>
          <p:nvPr/>
        </p:nvSpPr>
        <p:spPr>
          <a:xfrm>
            <a:off x="666720" y="3292560"/>
            <a:ext cx="320760" cy="144360"/>
          </a:xfrm>
          <a:custGeom>
            <a:avLst/>
            <a:gdLst>
              <a:gd name="textAreaLeft" fmla="*/ 0 w 320760"/>
              <a:gd name="textAreaRight" fmla="*/ 321120 w 32076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35" y="0"/>
                </a:lnTo>
                <a:lnTo>
                  <a:pt x="21600" y="10800"/>
                </a:lnTo>
                <a:lnTo>
                  <a:pt x="16735" y="21600"/>
                </a:lnTo>
                <a:lnTo>
                  <a:pt x="0" y="21600"/>
                </a:lnTo>
                <a:lnTo>
                  <a:pt x="4865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Köşeli Çift Ayraç 16"/>
          <p:cNvSpPr/>
          <p:nvPr/>
        </p:nvSpPr>
        <p:spPr>
          <a:xfrm>
            <a:off x="596880" y="1276200"/>
            <a:ext cx="320760" cy="144720"/>
          </a:xfrm>
          <a:custGeom>
            <a:avLst/>
            <a:gdLst>
              <a:gd name="textAreaLeft" fmla="*/ 0 w 320760"/>
              <a:gd name="textAreaRight" fmla="*/ 321120 w 32076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35" y="0"/>
                </a:lnTo>
                <a:lnTo>
                  <a:pt x="21600" y="10800"/>
                </a:lnTo>
                <a:lnTo>
                  <a:pt x="16735" y="21600"/>
                </a:lnTo>
                <a:lnTo>
                  <a:pt x="0" y="21600"/>
                </a:lnTo>
                <a:lnTo>
                  <a:pt x="4865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1"/>
          <p:cNvSpPr/>
          <p:nvPr/>
        </p:nvSpPr>
        <p:spPr>
          <a:xfrm>
            <a:off x="7885080" y="4587840"/>
            <a:ext cx="9144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330519AB-A3F8-43CB-AC18-9A510B547E65}" type="slidenum">
              <a:rPr b="0" lang="tr-TR" sz="800" spc="-1" strike="noStrike">
                <a:solidFill>
                  <a:srgbClr val="595959"/>
                </a:solidFill>
                <a:latin typeface="Franklin Gothic Mediu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Metin kutusu 5"/>
          <p:cNvSpPr/>
          <p:nvPr/>
        </p:nvSpPr>
        <p:spPr>
          <a:xfrm>
            <a:off x="820800" y="1166760"/>
            <a:ext cx="7238880" cy="27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Генеральный директорат государственных сче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Resim 10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777160" y="50760"/>
            <a:ext cx="366840" cy="282600"/>
          </a:xfrm>
          <a:prstGeom prst="rect">
            <a:avLst/>
          </a:prstGeom>
          <a:ln w="0">
            <a:noFill/>
          </a:ln>
        </p:spPr>
      </p:pic>
      <p:sp>
        <p:nvSpPr>
          <p:cNvPr id="342" name="Slide Number Placeholder 1"/>
          <p:cNvSpPr/>
          <p:nvPr/>
        </p:nvSpPr>
        <p:spPr>
          <a:xfrm>
            <a:off x="7885080" y="4587840"/>
            <a:ext cx="9144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FC18C390-C175-4723-9556-94126EE32180}" type="slidenum">
              <a:rPr b="0" lang="tr-TR" sz="800" spc="-1" strike="noStrike">
                <a:solidFill>
                  <a:srgbClr val="595959"/>
                </a:solidFill>
                <a:latin typeface="Franklin Gothic Mediu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Yuvarlatılmış Dikdörtgen 1"/>
          <p:cNvSpPr/>
          <p:nvPr/>
        </p:nvSpPr>
        <p:spPr>
          <a:xfrm>
            <a:off x="324000" y="893880"/>
            <a:ext cx="8588160" cy="3946320"/>
          </a:xfrm>
          <a:prstGeom prst="roundRect">
            <a:avLst>
              <a:gd name="adj" fmla="val 16667"/>
            </a:avLst>
          </a:prstGeom>
          <a:solidFill>
            <a:srgbClr val="fef6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Yuvarlatılmış Dikdörtgen 3"/>
          <p:cNvSpPr/>
          <p:nvPr/>
        </p:nvSpPr>
        <p:spPr>
          <a:xfrm>
            <a:off x="517680" y="542880"/>
            <a:ext cx="8170560" cy="351000"/>
          </a:xfrm>
          <a:prstGeom prst="roundRect">
            <a:avLst>
              <a:gd name="adj" fmla="val 16667"/>
            </a:avLst>
          </a:prstGeom>
          <a:solidFill>
            <a:srgbClr val="f149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rebuchet MS"/>
              </a:rPr>
              <a:t>СОДЕРЖАНИЕ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Metin kutusu 5"/>
          <p:cNvSpPr/>
          <p:nvPr/>
        </p:nvSpPr>
        <p:spPr>
          <a:xfrm>
            <a:off x="820800" y="987480"/>
            <a:ext cx="771192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овый процесс, инициированный в связи с законом о государственном финансовом управлении и надз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армонизация в рамках отраслевого охв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армонизация с международной классификац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бор и обработка данных, служащих в качестве основы для финансовой статис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пытки повысить качество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екущая ситуация и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Köşeli Çift Ayraç 9"/>
          <p:cNvSpPr/>
          <p:nvPr/>
        </p:nvSpPr>
        <p:spPr>
          <a:xfrm>
            <a:off x="395280" y="1542960"/>
            <a:ext cx="270000" cy="108000"/>
          </a:xfrm>
          <a:custGeom>
            <a:avLst/>
            <a:gdLst>
              <a:gd name="textAreaLeft" fmla="*/ 0 w 270000"/>
              <a:gd name="textAreaRight" fmla="*/ 270360 w 2700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0" y="21600"/>
                </a:lnTo>
                <a:lnTo>
                  <a:pt x="4320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Resim 10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777160" y="50760"/>
            <a:ext cx="366840" cy="282600"/>
          </a:xfrm>
          <a:prstGeom prst="rect">
            <a:avLst/>
          </a:prstGeom>
          <a:ln w="0">
            <a:noFill/>
          </a:ln>
        </p:spPr>
      </p:pic>
      <p:sp>
        <p:nvSpPr>
          <p:cNvPr id="252" name="Köşeli Çift Ayraç 6"/>
          <p:cNvSpPr/>
          <p:nvPr/>
        </p:nvSpPr>
        <p:spPr>
          <a:xfrm>
            <a:off x="419040" y="4048200"/>
            <a:ext cx="271440" cy="108000"/>
          </a:xfrm>
          <a:custGeom>
            <a:avLst/>
            <a:gdLst>
              <a:gd name="textAreaLeft" fmla="*/ 0 w 271440"/>
              <a:gd name="textAreaRight" fmla="*/ 271800 w 2714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5" y="0"/>
                </a:lnTo>
                <a:lnTo>
                  <a:pt x="21600" y="10800"/>
                </a:lnTo>
                <a:lnTo>
                  <a:pt x="17305" y="21600"/>
                </a:lnTo>
                <a:lnTo>
                  <a:pt x="0" y="21600"/>
                </a:lnTo>
                <a:lnTo>
                  <a:pt x="4295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Köşeli Çift Ayraç 7"/>
          <p:cNvSpPr/>
          <p:nvPr/>
        </p:nvSpPr>
        <p:spPr>
          <a:xfrm>
            <a:off x="395280" y="2338560"/>
            <a:ext cx="270000" cy="107640"/>
          </a:xfrm>
          <a:custGeom>
            <a:avLst/>
            <a:gdLst>
              <a:gd name="textAreaLeft" fmla="*/ 0 w 270000"/>
              <a:gd name="textAreaRight" fmla="*/ 270360 w 270000"/>
              <a:gd name="textAreaTop" fmla="*/ 0 h 107640"/>
              <a:gd name="textAreaBottom" fmla="*/ 10800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0" y="21600"/>
                </a:lnTo>
                <a:lnTo>
                  <a:pt x="4320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Köşeli Çift Ayraç 8"/>
          <p:cNvSpPr/>
          <p:nvPr/>
        </p:nvSpPr>
        <p:spPr>
          <a:xfrm>
            <a:off x="412920" y="2752560"/>
            <a:ext cx="269640" cy="108000"/>
          </a:xfrm>
          <a:custGeom>
            <a:avLst/>
            <a:gdLst>
              <a:gd name="textAreaLeft" fmla="*/ 0 w 269640"/>
              <a:gd name="textAreaRight" fmla="*/ 270000 w 2696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0" y="21600"/>
                </a:lnTo>
                <a:lnTo>
                  <a:pt x="4320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Köşeli Çift Ayraç 11"/>
          <p:cNvSpPr/>
          <p:nvPr/>
        </p:nvSpPr>
        <p:spPr>
          <a:xfrm>
            <a:off x="395280" y="3171960"/>
            <a:ext cx="270000" cy="107640"/>
          </a:xfrm>
          <a:custGeom>
            <a:avLst/>
            <a:gdLst>
              <a:gd name="textAreaLeft" fmla="*/ 0 w 270000"/>
              <a:gd name="textAreaRight" fmla="*/ 270360 w 270000"/>
              <a:gd name="textAreaTop" fmla="*/ 0 h 107640"/>
              <a:gd name="textAreaBottom" fmla="*/ 10800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0" y="21600"/>
                </a:lnTo>
                <a:lnTo>
                  <a:pt x="4320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Köşeli Çift Ayraç 12"/>
          <p:cNvSpPr/>
          <p:nvPr/>
        </p:nvSpPr>
        <p:spPr>
          <a:xfrm>
            <a:off x="420840" y="4479840"/>
            <a:ext cx="269640" cy="108000"/>
          </a:xfrm>
          <a:custGeom>
            <a:avLst/>
            <a:gdLst>
              <a:gd name="textAreaLeft" fmla="*/ 0 w 269640"/>
              <a:gd name="textAreaRight" fmla="*/ 270000 w 2696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0" y="21600"/>
                </a:lnTo>
                <a:lnTo>
                  <a:pt x="4320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2"/>
          <p:cNvSpPr/>
          <p:nvPr/>
        </p:nvSpPr>
        <p:spPr>
          <a:xfrm>
            <a:off x="7885080" y="4587840"/>
            <a:ext cx="9144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3112C277-07BB-4832-9191-47830DDE93FD}" type="slidenum">
              <a:rPr b="0" lang="tr-TR" sz="800" spc="-1" strike="noStrike">
                <a:solidFill>
                  <a:srgbClr val="595959"/>
                </a:solidFill>
                <a:latin typeface="Franklin Gothic Mediu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Yuvarlatılmış Dikdörtgen 1"/>
          <p:cNvSpPr/>
          <p:nvPr/>
        </p:nvSpPr>
        <p:spPr>
          <a:xfrm>
            <a:off x="374760" y="893880"/>
            <a:ext cx="8589960" cy="3946320"/>
          </a:xfrm>
          <a:prstGeom prst="roundRect">
            <a:avLst>
              <a:gd name="adj" fmla="val 16667"/>
            </a:avLst>
          </a:prstGeom>
          <a:solidFill>
            <a:srgbClr val="fef6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Yuvarlatılmış Dikdörtgen 3"/>
          <p:cNvSpPr/>
          <p:nvPr/>
        </p:nvSpPr>
        <p:spPr>
          <a:xfrm>
            <a:off x="509760" y="542880"/>
            <a:ext cx="8170560" cy="351000"/>
          </a:xfrm>
          <a:prstGeom prst="roundRect">
            <a:avLst>
              <a:gd name="adj" fmla="val 16667"/>
            </a:avLst>
          </a:prstGeom>
          <a:solidFill>
            <a:srgbClr val="f149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rebuchet MS"/>
              </a:rPr>
              <a:t>ЗАКОН О ГОСУДАРСТВЕННОМ ФИНАНСОВОМ УПРАВЛЕНИИ И НАДЗО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Metin kutusu 5"/>
          <p:cNvSpPr/>
          <p:nvPr/>
        </p:nvSpPr>
        <p:spPr>
          <a:xfrm>
            <a:off x="820800" y="1166760"/>
            <a:ext cx="7238880" cy="23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инансовая статистика, впервые концептуально введенная  в Зак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реход от консолидированного бюджетного охвата к общему государственному охва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реход от системы учета наличных средств к системе учета по методу на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Köşeli Çift Ayraç 9"/>
          <p:cNvSpPr/>
          <p:nvPr/>
        </p:nvSpPr>
        <p:spPr>
          <a:xfrm>
            <a:off x="380880" y="1697040"/>
            <a:ext cx="271440" cy="108000"/>
          </a:xfrm>
          <a:custGeom>
            <a:avLst/>
            <a:gdLst>
              <a:gd name="textAreaLeft" fmla="*/ 0 w 271440"/>
              <a:gd name="textAreaRight" fmla="*/ 271800 w 2714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5" y="0"/>
                </a:lnTo>
                <a:lnTo>
                  <a:pt x="21600" y="10800"/>
                </a:lnTo>
                <a:lnTo>
                  <a:pt x="17305" y="21600"/>
                </a:lnTo>
                <a:lnTo>
                  <a:pt x="0" y="21600"/>
                </a:lnTo>
                <a:lnTo>
                  <a:pt x="4295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Resim 10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777160" y="50760"/>
            <a:ext cx="366840" cy="282600"/>
          </a:xfrm>
          <a:prstGeom prst="rect">
            <a:avLst/>
          </a:prstGeom>
          <a:ln w="0">
            <a:noFill/>
          </a:ln>
        </p:spPr>
      </p:pic>
      <p:sp>
        <p:nvSpPr>
          <p:cNvPr id="263" name="Köşeli Çift Ayraç 6"/>
          <p:cNvSpPr/>
          <p:nvPr/>
        </p:nvSpPr>
        <p:spPr>
          <a:xfrm>
            <a:off x="374760" y="2139840"/>
            <a:ext cx="271440" cy="108000"/>
          </a:xfrm>
          <a:custGeom>
            <a:avLst/>
            <a:gdLst>
              <a:gd name="textAreaLeft" fmla="*/ 0 w 271440"/>
              <a:gd name="textAreaRight" fmla="*/ 271800 w 2714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5" y="0"/>
                </a:lnTo>
                <a:lnTo>
                  <a:pt x="21600" y="10800"/>
                </a:lnTo>
                <a:lnTo>
                  <a:pt x="17305" y="21600"/>
                </a:lnTo>
                <a:lnTo>
                  <a:pt x="0" y="21600"/>
                </a:lnTo>
                <a:lnTo>
                  <a:pt x="4295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Köşeli Çift Ayraç 8"/>
          <p:cNvSpPr/>
          <p:nvPr/>
        </p:nvSpPr>
        <p:spPr>
          <a:xfrm>
            <a:off x="414360" y="2968560"/>
            <a:ext cx="270000" cy="108000"/>
          </a:xfrm>
          <a:custGeom>
            <a:avLst/>
            <a:gdLst>
              <a:gd name="textAreaLeft" fmla="*/ 0 w 270000"/>
              <a:gd name="textAreaRight" fmla="*/ 270360 w 2700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0" y="21600"/>
                </a:lnTo>
                <a:lnTo>
                  <a:pt x="4320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2"/>
          <p:cNvSpPr/>
          <p:nvPr/>
        </p:nvSpPr>
        <p:spPr>
          <a:xfrm>
            <a:off x="7885080" y="4587840"/>
            <a:ext cx="9144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81AADF4D-D464-48A6-8825-BC434A006D4E}" type="slidenum">
              <a:rPr b="0" lang="tr-TR" sz="800" spc="-1" strike="noStrike">
                <a:solidFill>
                  <a:srgbClr val="595959"/>
                </a:solidFill>
                <a:latin typeface="Franklin Gothic Mediu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Yuvarlatılmış Dikdörtgen 1"/>
          <p:cNvSpPr/>
          <p:nvPr/>
        </p:nvSpPr>
        <p:spPr>
          <a:xfrm>
            <a:off x="324000" y="1023840"/>
            <a:ext cx="8588160" cy="3944880"/>
          </a:xfrm>
          <a:prstGeom prst="roundRect">
            <a:avLst>
              <a:gd name="adj" fmla="val 16667"/>
            </a:avLst>
          </a:prstGeom>
          <a:solidFill>
            <a:srgbClr val="fef6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Yuvarlatılmış Dikdörtgen 3"/>
          <p:cNvSpPr/>
          <p:nvPr/>
        </p:nvSpPr>
        <p:spPr>
          <a:xfrm>
            <a:off x="531720" y="542880"/>
            <a:ext cx="8172720" cy="351000"/>
          </a:xfrm>
          <a:prstGeom prst="roundRect">
            <a:avLst>
              <a:gd name="adj" fmla="val 16667"/>
            </a:avLst>
          </a:prstGeom>
          <a:solidFill>
            <a:srgbClr val="f149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rebuchet MS"/>
              </a:rPr>
              <a:t>ГАРМОНИЗАЦИЯ В РАМКАХ ОТРАСЛЕВОГО ОХВ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Metin kutusu 5"/>
          <p:cNvSpPr/>
          <p:nvPr/>
        </p:nvSpPr>
        <p:spPr>
          <a:xfrm>
            <a:off x="820800" y="1166760"/>
            <a:ext cx="72388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бочее совещание, проведенное для определения охвата центрального правитель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олномочия по определению и обновлению данных об охвате по согласованию с заинтересованными учреждениями переданы МФ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Охват, предусмотренный в международных стандартах, введен в силу в соответствии с Общим Коммюн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тало правилом обновлять данные об охвате каждые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3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года по согласованию с заинтересованными учрежде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Такой же охват применяется в настоящее время для подготовки таблиц СГФ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МВФ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)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роцедур по чрезмерному дефициту (ПЧД) и ЕСС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ЕВРОСТАТ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Köşeli Çift Ayraç 9"/>
          <p:cNvSpPr/>
          <p:nvPr/>
        </p:nvSpPr>
        <p:spPr>
          <a:xfrm>
            <a:off x="415800" y="1365120"/>
            <a:ext cx="270000" cy="108000"/>
          </a:xfrm>
          <a:custGeom>
            <a:avLst/>
            <a:gdLst>
              <a:gd name="textAreaLeft" fmla="*/ 0 w 270000"/>
              <a:gd name="textAreaRight" fmla="*/ 270360 w 2700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0" y="21600"/>
                </a:lnTo>
                <a:lnTo>
                  <a:pt x="4320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Resim 10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777160" y="50760"/>
            <a:ext cx="366840" cy="282600"/>
          </a:xfrm>
          <a:prstGeom prst="rect">
            <a:avLst/>
          </a:prstGeom>
          <a:ln w="0">
            <a:noFill/>
          </a:ln>
        </p:spPr>
      </p:pic>
      <p:sp>
        <p:nvSpPr>
          <p:cNvPr id="271" name="Köşeli Çift Ayraç 12"/>
          <p:cNvSpPr/>
          <p:nvPr/>
        </p:nvSpPr>
        <p:spPr>
          <a:xfrm>
            <a:off x="396720" y="3508200"/>
            <a:ext cx="270000" cy="142920"/>
          </a:xfrm>
          <a:custGeom>
            <a:avLst/>
            <a:gdLst>
              <a:gd name="textAreaLeft" fmla="*/ 0 w 270000"/>
              <a:gd name="textAreaRight" fmla="*/ 270360 w 27000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882" y="0"/>
                </a:lnTo>
                <a:lnTo>
                  <a:pt x="21600" y="10800"/>
                </a:lnTo>
                <a:lnTo>
                  <a:pt x="15882" y="21600"/>
                </a:lnTo>
                <a:lnTo>
                  <a:pt x="0" y="21600"/>
                </a:lnTo>
                <a:lnTo>
                  <a:pt x="5718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Köşeli Çift Ayraç 14"/>
          <p:cNvSpPr/>
          <p:nvPr/>
        </p:nvSpPr>
        <p:spPr>
          <a:xfrm>
            <a:off x="417600" y="2103480"/>
            <a:ext cx="269640" cy="108000"/>
          </a:xfrm>
          <a:custGeom>
            <a:avLst/>
            <a:gdLst>
              <a:gd name="textAreaLeft" fmla="*/ 0 w 269640"/>
              <a:gd name="textAreaRight" fmla="*/ 270000 w 2696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0" y="21600"/>
                </a:lnTo>
                <a:lnTo>
                  <a:pt x="4320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Köşeli Çift Ayraç 15"/>
          <p:cNvSpPr/>
          <p:nvPr/>
        </p:nvSpPr>
        <p:spPr>
          <a:xfrm>
            <a:off x="414360" y="2824200"/>
            <a:ext cx="271440" cy="108000"/>
          </a:xfrm>
          <a:custGeom>
            <a:avLst/>
            <a:gdLst>
              <a:gd name="textAreaLeft" fmla="*/ 0 w 271440"/>
              <a:gd name="textAreaRight" fmla="*/ 271800 w 2714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5" y="0"/>
                </a:lnTo>
                <a:lnTo>
                  <a:pt x="21600" y="10800"/>
                </a:lnTo>
                <a:lnTo>
                  <a:pt x="17305" y="21600"/>
                </a:lnTo>
                <a:lnTo>
                  <a:pt x="0" y="21600"/>
                </a:lnTo>
                <a:lnTo>
                  <a:pt x="4295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Köşeli Çift Ayraç 16"/>
          <p:cNvSpPr/>
          <p:nvPr/>
        </p:nvSpPr>
        <p:spPr>
          <a:xfrm>
            <a:off x="415800" y="4264200"/>
            <a:ext cx="270000" cy="107640"/>
          </a:xfrm>
          <a:custGeom>
            <a:avLst/>
            <a:gdLst>
              <a:gd name="textAreaLeft" fmla="*/ 0 w 270000"/>
              <a:gd name="textAreaRight" fmla="*/ 270360 w 270000"/>
              <a:gd name="textAreaTop" fmla="*/ 0 h 107640"/>
              <a:gd name="textAreaBottom" fmla="*/ 10800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0" y="21600"/>
                </a:lnTo>
                <a:lnTo>
                  <a:pt x="4320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2"/>
          <p:cNvSpPr/>
          <p:nvPr/>
        </p:nvSpPr>
        <p:spPr>
          <a:xfrm>
            <a:off x="7885080" y="4587840"/>
            <a:ext cx="9144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277DC485-5976-406D-BB84-E7EA68238999}" type="slidenum">
              <a:rPr b="0" lang="tr-TR" sz="800" spc="-1" strike="noStrike">
                <a:solidFill>
                  <a:srgbClr val="595959"/>
                </a:solidFill>
                <a:latin typeface="Franklin Gothic Mediu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Yuvarlatılmış Dikdörtgen 1"/>
          <p:cNvSpPr/>
          <p:nvPr/>
        </p:nvSpPr>
        <p:spPr>
          <a:xfrm>
            <a:off x="324000" y="893880"/>
            <a:ext cx="8588160" cy="3622680"/>
          </a:xfrm>
          <a:prstGeom prst="roundRect">
            <a:avLst>
              <a:gd name="adj" fmla="val 16667"/>
            </a:avLst>
          </a:prstGeom>
          <a:solidFill>
            <a:srgbClr val="fef6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Yuvarlatılmış Dikdörtgen 3"/>
          <p:cNvSpPr/>
          <p:nvPr/>
        </p:nvSpPr>
        <p:spPr>
          <a:xfrm>
            <a:off x="517680" y="542880"/>
            <a:ext cx="8170560" cy="351000"/>
          </a:xfrm>
          <a:prstGeom prst="roundRect">
            <a:avLst>
              <a:gd name="adj" fmla="val 16667"/>
            </a:avLst>
          </a:prstGeom>
          <a:solidFill>
            <a:srgbClr val="f149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rebuchet MS"/>
              </a:rPr>
              <a:t>ГАРМОНИЗАЦИЯ С МЕЖДУНАРОДНОЙ КЛАССИФИКАЦИ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Metin kutusu 5"/>
          <p:cNvSpPr/>
          <p:nvPr/>
        </p:nvSpPr>
        <p:spPr>
          <a:xfrm>
            <a:off x="820800" y="1166760"/>
            <a:ext cx="7238880" cy="27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именение аналитической бюджетной классификаци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Экономическа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ункциональна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нституциональна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инансовая классифик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еобразование кодов по подробному плану счетов в Коды Е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еобразование кодов по подробному плану счетов в Коды СГ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егулярный пересмотр сопоставительных табл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Köşeli Çift Ayraç 9"/>
          <p:cNvSpPr/>
          <p:nvPr/>
        </p:nvSpPr>
        <p:spPr>
          <a:xfrm>
            <a:off x="380880" y="1697040"/>
            <a:ext cx="271440" cy="108000"/>
          </a:xfrm>
          <a:custGeom>
            <a:avLst/>
            <a:gdLst>
              <a:gd name="textAreaLeft" fmla="*/ 0 w 271440"/>
              <a:gd name="textAreaRight" fmla="*/ 271800 w 2714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5" y="0"/>
                </a:lnTo>
                <a:lnTo>
                  <a:pt x="21600" y="10800"/>
                </a:lnTo>
                <a:lnTo>
                  <a:pt x="17305" y="21600"/>
                </a:lnTo>
                <a:lnTo>
                  <a:pt x="0" y="21600"/>
                </a:lnTo>
                <a:lnTo>
                  <a:pt x="4295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Resim 10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777160" y="50760"/>
            <a:ext cx="366840" cy="282600"/>
          </a:xfrm>
          <a:prstGeom prst="rect">
            <a:avLst/>
          </a:prstGeom>
          <a:ln w="0">
            <a:noFill/>
          </a:ln>
        </p:spPr>
      </p:pic>
      <p:sp>
        <p:nvSpPr>
          <p:cNvPr id="281" name="Köşeli Çift Ayraç 7"/>
          <p:cNvSpPr/>
          <p:nvPr/>
        </p:nvSpPr>
        <p:spPr>
          <a:xfrm>
            <a:off x="395280" y="2949480"/>
            <a:ext cx="270000" cy="108000"/>
          </a:xfrm>
          <a:custGeom>
            <a:avLst/>
            <a:gdLst>
              <a:gd name="textAreaLeft" fmla="*/ 0 w 270000"/>
              <a:gd name="textAreaRight" fmla="*/ 270360 w 2700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0" y="21600"/>
                </a:lnTo>
                <a:lnTo>
                  <a:pt x="4320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Köşeli Çift Ayraç 8"/>
          <p:cNvSpPr/>
          <p:nvPr/>
        </p:nvSpPr>
        <p:spPr>
          <a:xfrm>
            <a:off x="426960" y="3795840"/>
            <a:ext cx="270000" cy="108000"/>
          </a:xfrm>
          <a:custGeom>
            <a:avLst/>
            <a:gdLst>
              <a:gd name="textAreaLeft" fmla="*/ 0 w 270000"/>
              <a:gd name="textAreaRight" fmla="*/ 270360 w 2700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0" y="21600"/>
                </a:lnTo>
                <a:lnTo>
                  <a:pt x="4320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Köşeli Çift Ayraç 11"/>
          <p:cNvSpPr/>
          <p:nvPr/>
        </p:nvSpPr>
        <p:spPr>
          <a:xfrm>
            <a:off x="395280" y="3351240"/>
            <a:ext cx="270000" cy="108000"/>
          </a:xfrm>
          <a:custGeom>
            <a:avLst/>
            <a:gdLst>
              <a:gd name="textAreaLeft" fmla="*/ 0 w 270000"/>
              <a:gd name="textAreaRight" fmla="*/ 270360 w 2700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0" y="21600"/>
                </a:lnTo>
                <a:lnTo>
                  <a:pt x="4320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1258920" y="2139840"/>
            <a:ext cx="317520" cy="133560"/>
          </a:xfrm>
          <a:prstGeom prst="rect">
            <a:avLst/>
          </a:prstGeom>
          <a:ln w="0">
            <a:noFill/>
          </a:ln>
        </p:spPr>
      </p:pic>
      <p:sp>
        <p:nvSpPr>
          <p:cNvPr id="285" name="Slide Number Placeholder 2"/>
          <p:cNvSpPr/>
          <p:nvPr/>
        </p:nvSpPr>
        <p:spPr>
          <a:xfrm>
            <a:off x="7885080" y="4587840"/>
            <a:ext cx="9144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A71C0E88-A69E-4375-A7F7-8BB495A299D4}" type="slidenum">
              <a:rPr b="0" lang="tr-TR" sz="800" spc="-1" strike="noStrike">
                <a:solidFill>
                  <a:srgbClr val="595959"/>
                </a:solidFill>
                <a:latin typeface="Franklin Gothic Mediu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Yuvarlatılmış Dikdörtgen 1"/>
          <p:cNvSpPr/>
          <p:nvPr/>
        </p:nvSpPr>
        <p:spPr>
          <a:xfrm>
            <a:off x="324000" y="1066680"/>
            <a:ext cx="8588160" cy="3946680"/>
          </a:xfrm>
          <a:prstGeom prst="roundRect">
            <a:avLst>
              <a:gd name="adj" fmla="val 16667"/>
            </a:avLst>
          </a:prstGeom>
          <a:solidFill>
            <a:srgbClr val="fef6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Yuvarlatılmış Dikdörtgen 3"/>
          <p:cNvSpPr/>
          <p:nvPr/>
        </p:nvSpPr>
        <p:spPr>
          <a:xfrm>
            <a:off x="517680" y="542880"/>
            <a:ext cx="8170560" cy="444600"/>
          </a:xfrm>
          <a:prstGeom prst="roundRect">
            <a:avLst>
              <a:gd name="adj" fmla="val 16667"/>
            </a:avLst>
          </a:prstGeom>
          <a:solidFill>
            <a:srgbClr val="f149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rebuchet MS"/>
              </a:rPr>
              <a:t>СБОР И ОБРАБОТКА ДАННЫХ, СЛУЖАЩИХ В КАЧЕСТВЕ ОСНОВЫ ДЛЯ ФИНАНСОВОЙ СТАТИС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Metin kutusu 5"/>
          <p:cNvSpPr/>
          <p:nvPr/>
        </p:nvSpPr>
        <p:spPr>
          <a:xfrm>
            <a:off x="803160" y="1203480"/>
            <a:ext cx="7440840" cy="37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истема финансовой статистики государственного управле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ФС ГУ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се данные основываются на административных документах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  <a:ea typeface="Arial"/>
              </a:rPr>
              <a:t>0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униципалитето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, 53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пециальных провинциальных администр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  <a:ea typeface="Arial"/>
              </a:rPr>
              <a:t>009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бъединений местных администраци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, 3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униципальных фили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26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гентств по развит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небюджетные фонды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чреждения социального обеспечения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 также другие данные, основанные на бухгалтерских счетах о прибыли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асходах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ктивах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бязательствах и капита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бор данных на ежемесячной и ежеквартальной осн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Köşeli Çift Ayraç 9"/>
          <p:cNvSpPr/>
          <p:nvPr/>
        </p:nvSpPr>
        <p:spPr>
          <a:xfrm>
            <a:off x="404640" y="1822320"/>
            <a:ext cx="270000" cy="123840"/>
          </a:xfrm>
          <a:custGeom>
            <a:avLst/>
            <a:gdLst>
              <a:gd name="textAreaLeft" fmla="*/ 0 w 270000"/>
              <a:gd name="textAreaRight" fmla="*/ 270360 w 27000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645" y="0"/>
                </a:lnTo>
                <a:lnTo>
                  <a:pt x="21600" y="10800"/>
                </a:lnTo>
                <a:lnTo>
                  <a:pt x="16645" y="21600"/>
                </a:lnTo>
                <a:lnTo>
                  <a:pt x="0" y="21600"/>
                </a:lnTo>
                <a:lnTo>
                  <a:pt x="4955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Resim 10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777160" y="50760"/>
            <a:ext cx="366840" cy="282600"/>
          </a:xfrm>
          <a:prstGeom prst="rect">
            <a:avLst/>
          </a:prstGeom>
          <a:ln w="0">
            <a:noFill/>
          </a:ln>
        </p:spPr>
      </p:pic>
      <p:sp>
        <p:nvSpPr>
          <p:cNvPr id="291" name="Köşeli Çift Ayraç 6"/>
          <p:cNvSpPr/>
          <p:nvPr/>
        </p:nvSpPr>
        <p:spPr>
          <a:xfrm>
            <a:off x="380880" y="2260440"/>
            <a:ext cx="271440" cy="108000"/>
          </a:xfrm>
          <a:custGeom>
            <a:avLst/>
            <a:gdLst>
              <a:gd name="textAreaLeft" fmla="*/ 0 w 271440"/>
              <a:gd name="textAreaRight" fmla="*/ 271800 w 2714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5" y="0"/>
                </a:lnTo>
                <a:lnTo>
                  <a:pt x="21600" y="10800"/>
                </a:lnTo>
                <a:lnTo>
                  <a:pt x="17305" y="21600"/>
                </a:lnTo>
                <a:lnTo>
                  <a:pt x="0" y="21600"/>
                </a:lnTo>
                <a:lnTo>
                  <a:pt x="4295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Köşeli Çift Ayraç 8"/>
          <p:cNvSpPr/>
          <p:nvPr/>
        </p:nvSpPr>
        <p:spPr>
          <a:xfrm>
            <a:off x="368280" y="3041640"/>
            <a:ext cx="270000" cy="108000"/>
          </a:xfrm>
          <a:custGeom>
            <a:avLst/>
            <a:gdLst>
              <a:gd name="textAreaLeft" fmla="*/ 0 w 270000"/>
              <a:gd name="textAreaRight" fmla="*/ 270360 w 2700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0" y="21600"/>
                </a:lnTo>
                <a:lnTo>
                  <a:pt x="4320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Köşeli Çift Ayraç 11"/>
          <p:cNvSpPr/>
          <p:nvPr/>
        </p:nvSpPr>
        <p:spPr>
          <a:xfrm>
            <a:off x="368280" y="3517920"/>
            <a:ext cx="271440" cy="108000"/>
          </a:xfrm>
          <a:custGeom>
            <a:avLst/>
            <a:gdLst>
              <a:gd name="textAreaLeft" fmla="*/ 0 w 271440"/>
              <a:gd name="textAreaRight" fmla="*/ 271800 w 2714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5" y="0"/>
                </a:lnTo>
                <a:lnTo>
                  <a:pt x="21600" y="10800"/>
                </a:lnTo>
                <a:lnTo>
                  <a:pt x="17305" y="21600"/>
                </a:lnTo>
                <a:lnTo>
                  <a:pt x="0" y="21600"/>
                </a:lnTo>
                <a:lnTo>
                  <a:pt x="4295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Köşeli Çift Ayraç 14"/>
          <p:cNvSpPr/>
          <p:nvPr/>
        </p:nvSpPr>
        <p:spPr>
          <a:xfrm>
            <a:off x="368280" y="2662200"/>
            <a:ext cx="271440" cy="108000"/>
          </a:xfrm>
          <a:custGeom>
            <a:avLst/>
            <a:gdLst>
              <a:gd name="textAreaLeft" fmla="*/ 0 w 271440"/>
              <a:gd name="textAreaRight" fmla="*/ 271800 w 2714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5" y="0"/>
                </a:lnTo>
                <a:lnTo>
                  <a:pt x="21600" y="10800"/>
                </a:lnTo>
                <a:lnTo>
                  <a:pt x="17305" y="21600"/>
                </a:lnTo>
                <a:lnTo>
                  <a:pt x="0" y="21600"/>
                </a:lnTo>
                <a:lnTo>
                  <a:pt x="4295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2"/>
          <a:stretch/>
        </p:blipFill>
        <p:spPr>
          <a:xfrm>
            <a:off x="320760" y="4732200"/>
            <a:ext cx="317520" cy="133560"/>
          </a:xfrm>
          <a:prstGeom prst="rect">
            <a:avLst/>
          </a:prstGeom>
          <a:ln w="0">
            <a:noFill/>
          </a:ln>
        </p:spPr>
      </p:pic>
      <p:sp>
        <p:nvSpPr>
          <p:cNvPr id="296" name="Slide Number Placeholder 2"/>
          <p:cNvSpPr/>
          <p:nvPr/>
        </p:nvSpPr>
        <p:spPr>
          <a:xfrm>
            <a:off x="7885080" y="4587840"/>
            <a:ext cx="9144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CC27876E-7B4E-455D-A24F-D1E79B99F910}" type="slidenum">
              <a:rPr b="0" lang="tr-TR" sz="800" spc="-1" strike="noStrike">
                <a:solidFill>
                  <a:srgbClr val="595959"/>
                </a:solidFill>
                <a:latin typeface="Franklin Gothic Mediu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Yuvarlatılmış Dikdörtgen 1"/>
          <p:cNvSpPr/>
          <p:nvPr/>
        </p:nvSpPr>
        <p:spPr>
          <a:xfrm>
            <a:off x="380880" y="1166760"/>
            <a:ext cx="8589960" cy="3946680"/>
          </a:xfrm>
          <a:prstGeom prst="roundRect">
            <a:avLst>
              <a:gd name="adj" fmla="val 16667"/>
            </a:avLst>
          </a:prstGeom>
          <a:solidFill>
            <a:srgbClr val="fef6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Yuvarlatılmış Dikdörtgen 3"/>
          <p:cNvSpPr/>
          <p:nvPr/>
        </p:nvSpPr>
        <p:spPr>
          <a:xfrm>
            <a:off x="503280" y="542880"/>
            <a:ext cx="8170920" cy="351000"/>
          </a:xfrm>
          <a:prstGeom prst="roundRect">
            <a:avLst>
              <a:gd name="adj" fmla="val 16667"/>
            </a:avLst>
          </a:prstGeom>
          <a:solidFill>
            <a:srgbClr val="f149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rebuchet MS"/>
              </a:rPr>
              <a:t>ПОПЫТКИ ПОВЫСИТЬ КАЧЕСТВО ДА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Metin kutusu 5"/>
          <p:cNvSpPr/>
          <p:nvPr/>
        </p:nvSpPr>
        <p:spPr>
          <a:xfrm>
            <a:off x="785880" y="893880"/>
            <a:ext cx="723888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бзоры, проведенные М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удиторские отчеты по государственной финансовой статистике, подготовленные Счетным судом Турции и представленные Великому национальному собра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втоматический контроль внедрен в Систему финансовой статистики Центрального правительства (СФС ЦП) наряду с результатами обследований и ауди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ля заинтересованных учреждений проводится подготовка в области финансовой статис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Köşeli Çift Ayraç 9"/>
          <p:cNvSpPr/>
          <p:nvPr/>
        </p:nvSpPr>
        <p:spPr>
          <a:xfrm>
            <a:off x="399960" y="1419120"/>
            <a:ext cx="271440" cy="108000"/>
          </a:xfrm>
          <a:custGeom>
            <a:avLst/>
            <a:gdLst>
              <a:gd name="textAreaLeft" fmla="*/ 0 w 271440"/>
              <a:gd name="textAreaRight" fmla="*/ 271800 w 2714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5" y="0"/>
                </a:lnTo>
                <a:lnTo>
                  <a:pt x="21600" y="10800"/>
                </a:lnTo>
                <a:lnTo>
                  <a:pt x="17305" y="21600"/>
                </a:lnTo>
                <a:lnTo>
                  <a:pt x="0" y="21600"/>
                </a:lnTo>
                <a:lnTo>
                  <a:pt x="4295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Resim 10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777160" y="50760"/>
            <a:ext cx="366840" cy="282600"/>
          </a:xfrm>
          <a:prstGeom prst="rect">
            <a:avLst/>
          </a:prstGeom>
          <a:ln w="0">
            <a:noFill/>
          </a:ln>
        </p:spPr>
      </p:pic>
      <p:sp>
        <p:nvSpPr>
          <p:cNvPr id="302" name="Köşeli Çift Ayraç 6"/>
          <p:cNvSpPr/>
          <p:nvPr/>
        </p:nvSpPr>
        <p:spPr>
          <a:xfrm>
            <a:off x="399960" y="1851120"/>
            <a:ext cx="271440" cy="108000"/>
          </a:xfrm>
          <a:custGeom>
            <a:avLst/>
            <a:gdLst>
              <a:gd name="textAreaLeft" fmla="*/ 0 w 271440"/>
              <a:gd name="textAreaRight" fmla="*/ 271800 w 2714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5" y="0"/>
                </a:lnTo>
                <a:lnTo>
                  <a:pt x="21600" y="10800"/>
                </a:lnTo>
                <a:lnTo>
                  <a:pt x="17305" y="21600"/>
                </a:lnTo>
                <a:lnTo>
                  <a:pt x="0" y="21600"/>
                </a:lnTo>
                <a:lnTo>
                  <a:pt x="4295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Köşeli Çift Ayraç 8"/>
          <p:cNvSpPr/>
          <p:nvPr/>
        </p:nvSpPr>
        <p:spPr>
          <a:xfrm>
            <a:off x="417600" y="3086280"/>
            <a:ext cx="269640" cy="107640"/>
          </a:xfrm>
          <a:custGeom>
            <a:avLst/>
            <a:gdLst>
              <a:gd name="textAreaLeft" fmla="*/ 0 w 269640"/>
              <a:gd name="textAreaRight" fmla="*/ 270000 w 269640"/>
              <a:gd name="textAreaTop" fmla="*/ 0 h 107640"/>
              <a:gd name="textAreaBottom" fmla="*/ 10800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0" y="21600"/>
                </a:lnTo>
                <a:lnTo>
                  <a:pt x="4320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Köşeli Çift Ayraç 12"/>
          <p:cNvSpPr/>
          <p:nvPr/>
        </p:nvSpPr>
        <p:spPr>
          <a:xfrm>
            <a:off x="417600" y="4300560"/>
            <a:ext cx="269640" cy="108000"/>
          </a:xfrm>
          <a:custGeom>
            <a:avLst/>
            <a:gdLst>
              <a:gd name="textAreaLeft" fmla="*/ 0 w 269640"/>
              <a:gd name="textAreaRight" fmla="*/ 270000 w 2696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0" y="21600"/>
                </a:lnTo>
                <a:lnTo>
                  <a:pt x="4320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2"/>
          <p:cNvSpPr/>
          <p:nvPr/>
        </p:nvSpPr>
        <p:spPr>
          <a:xfrm>
            <a:off x="7885080" y="4587840"/>
            <a:ext cx="9144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AD864C78-BB23-4814-8648-92A55B2C10AC}" type="slidenum">
              <a:rPr b="0" lang="tr-TR" sz="800" spc="-1" strike="noStrike">
                <a:solidFill>
                  <a:srgbClr val="595959"/>
                </a:solidFill>
                <a:latin typeface="Franklin Gothic Mediu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Yuvarlatılmış Dikdörtgen 1"/>
          <p:cNvSpPr/>
          <p:nvPr/>
        </p:nvSpPr>
        <p:spPr>
          <a:xfrm>
            <a:off x="378000" y="1197000"/>
            <a:ext cx="8588160" cy="3709800"/>
          </a:xfrm>
          <a:prstGeom prst="roundRect">
            <a:avLst>
              <a:gd name="adj" fmla="val 16667"/>
            </a:avLst>
          </a:prstGeom>
          <a:solidFill>
            <a:srgbClr val="fef6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Franklin Gothic Medium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Franklin Gothic Medium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Yuvarlatılmış Dikdörtgen 3"/>
          <p:cNvSpPr/>
          <p:nvPr/>
        </p:nvSpPr>
        <p:spPr>
          <a:xfrm>
            <a:off x="517680" y="542880"/>
            <a:ext cx="8170560" cy="351000"/>
          </a:xfrm>
          <a:prstGeom prst="roundRect">
            <a:avLst>
              <a:gd name="adj" fmla="val 16667"/>
            </a:avLst>
          </a:prstGeom>
          <a:solidFill>
            <a:srgbClr val="f149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rebuchet MS"/>
              </a:rPr>
              <a:t>ТЕКУЩАЯ СИТУ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Metin kutusu 5"/>
          <p:cNvSpPr/>
          <p:nvPr/>
        </p:nvSpPr>
        <p:spPr>
          <a:xfrm>
            <a:off x="820800" y="1166760"/>
            <a:ext cx="7238880" cy="35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хват статистики государственного управления приведен в соответствие с международными стандартами, такими как руководство по СГ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СС и СН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хват пересматривается каждые 3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дминистративные документы, основанные на системе учета по методу на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аспространение ежеквартальной финансовой статистики в соответствии с международной практи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Köşeli Çift Ayraç 9"/>
          <p:cNvSpPr/>
          <p:nvPr/>
        </p:nvSpPr>
        <p:spPr>
          <a:xfrm>
            <a:off x="380880" y="1766880"/>
            <a:ext cx="271440" cy="108000"/>
          </a:xfrm>
          <a:custGeom>
            <a:avLst/>
            <a:gdLst>
              <a:gd name="textAreaLeft" fmla="*/ 0 w 271440"/>
              <a:gd name="textAreaRight" fmla="*/ 271800 w 2714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5" y="0"/>
                </a:lnTo>
                <a:lnTo>
                  <a:pt x="21600" y="10800"/>
                </a:lnTo>
                <a:lnTo>
                  <a:pt x="17305" y="21600"/>
                </a:lnTo>
                <a:lnTo>
                  <a:pt x="0" y="21600"/>
                </a:lnTo>
                <a:lnTo>
                  <a:pt x="4295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Resim 10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777160" y="50760"/>
            <a:ext cx="366840" cy="282600"/>
          </a:xfrm>
          <a:prstGeom prst="rect">
            <a:avLst/>
          </a:prstGeom>
          <a:ln w="0">
            <a:noFill/>
          </a:ln>
        </p:spPr>
      </p:pic>
      <p:sp>
        <p:nvSpPr>
          <p:cNvPr id="311" name="Köşeli Çift Ayraç 7"/>
          <p:cNvSpPr/>
          <p:nvPr/>
        </p:nvSpPr>
        <p:spPr>
          <a:xfrm>
            <a:off x="419040" y="2932200"/>
            <a:ext cx="270000" cy="108000"/>
          </a:xfrm>
          <a:custGeom>
            <a:avLst/>
            <a:gdLst>
              <a:gd name="textAreaLeft" fmla="*/ 0 w 270000"/>
              <a:gd name="textAreaRight" fmla="*/ 270360 w 2700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0" y="21600"/>
                </a:lnTo>
                <a:lnTo>
                  <a:pt x="4320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Köşeli Çift Ayraç 8"/>
          <p:cNvSpPr/>
          <p:nvPr/>
        </p:nvSpPr>
        <p:spPr>
          <a:xfrm>
            <a:off x="417600" y="3363840"/>
            <a:ext cx="269640" cy="108000"/>
          </a:xfrm>
          <a:custGeom>
            <a:avLst/>
            <a:gdLst>
              <a:gd name="textAreaLeft" fmla="*/ 0 w 269640"/>
              <a:gd name="textAreaRight" fmla="*/ 270000 w 2696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0" y="21600"/>
                </a:lnTo>
                <a:lnTo>
                  <a:pt x="4320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Köşeli Çift Ayraç 13"/>
          <p:cNvSpPr/>
          <p:nvPr/>
        </p:nvSpPr>
        <p:spPr>
          <a:xfrm>
            <a:off x="414360" y="4192560"/>
            <a:ext cx="270000" cy="108000"/>
          </a:xfrm>
          <a:custGeom>
            <a:avLst/>
            <a:gdLst>
              <a:gd name="textAreaLeft" fmla="*/ 0 w 270000"/>
              <a:gd name="textAreaRight" fmla="*/ 270360 w 2700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0" y="21600"/>
                </a:lnTo>
                <a:lnTo>
                  <a:pt x="4320" y="10800"/>
                </a:lnTo>
                <a:close/>
              </a:path>
            </a:pathLst>
          </a:custGeom>
          <a:solidFill>
            <a:srgbClr val="f14965"/>
          </a:solidFill>
          <a:ln w="25560">
            <a:solidFill>
              <a:srgbClr val="ed1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2"/>
          <p:cNvSpPr/>
          <p:nvPr/>
        </p:nvSpPr>
        <p:spPr>
          <a:xfrm>
            <a:off x="7885080" y="4587840"/>
            <a:ext cx="9144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9B26E322-3920-4A93-AE24-1D8F3F27297F}" type="slidenum">
              <a:rPr b="0" lang="tr-TR" sz="800" spc="-1" strike="noStrike">
                <a:solidFill>
                  <a:srgbClr val="595959"/>
                </a:solidFill>
                <a:latin typeface="Franklin Gothic Mediu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Yuvarlatılmış Dikdörtgen 1"/>
          <p:cNvSpPr/>
          <p:nvPr/>
        </p:nvSpPr>
        <p:spPr>
          <a:xfrm>
            <a:off x="299880" y="1166760"/>
            <a:ext cx="8588520" cy="3637080"/>
          </a:xfrm>
          <a:prstGeom prst="roundRect">
            <a:avLst>
              <a:gd name="adj" fmla="val 16667"/>
            </a:avLst>
          </a:prstGeom>
          <a:solidFill>
            <a:srgbClr val="fef6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Franklin Gothic Medium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Yuvarlatılmış Dikdörtgen 3"/>
          <p:cNvSpPr/>
          <p:nvPr/>
        </p:nvSpPr>
        <p:spPr>
          <a:xfrm>
            <a:off x="517680" y="542880"/>
            <a:ext cx="8170560" cy="351000"/>
          </a:xfrm>
          <a:prstGeom prst="roundRect">
            <a:avLst>
              <a:gd name="adj" fmla="val 16667"/>
            </a:avLst>
          </a:prstGeom>
          <a:solidFill>
            <a:srgbClr val="f149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rebuchet MS"/>
              </a:rPr>
              <a:t>ТЕКУЩАЯ СИТУ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Metin kutusu 5"/>
          <p:cNvSpPr/>
          <p:nvPr/>
        </p:nvSpPr>
        <p:spPr>
          <a:xfrm>
            <a:off x="820800" y="1166760"/>
            <a:ext cx="7238880" cy="31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инансовая статистика была впервые определена с помощью Правил счетов государственного управления, т.е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инансовая статистика – это объединенные таблицы, формирующие информацию по доходам подразделений сектора государственного управления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 также их расходам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ктивам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тветственности и капиталу. Они составляются на основе статистических принципов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Resim 10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777160" y="50760"/>
            <a:ext cx="366840" cy="2826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"/>
          <p:cNvPicPr/>
          <p:nvPr/>
        </p:nvPicPr>
        <p:blipFill>
          <a:blip r:embed="rId2"/>
          <a:stretch/>
        </p:blipFill>
        <p:spPr>
          <a:xfrm>
            <a:off x="446040" y="1738440"/>
            <a:ext cx="317520" cy="133200"/>
          </a:xfrm>
          <a:prstGeom prst="rect">
            <a:avLst/>
          </a:prstGeom>
          <a:ln w="0">
            <a:noFill/>
          </a:ln>
        </p:spPr>
      </p:pic>
      <p:sp>
        <p:nvSpPr>
          <p:cNvPr id="320" name="Slide Number Placeholder 2"/>
          <p:cNvSpPr/>
          <p:nvPr/>
        </p:nvSpPr>
        <p:spPr>
          <a:xfrm>
            <a:off x="7885080" y="4587840"/>
            <a:ext cx="9144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16834876-5E58-44D6-8C62-6C2DB8BFA368}" type="slidenum">
              <a:rPr b="0" lang="tr-TR" sz="800" spc="-1" strike="noStrike">
                <a:solidFill>
                  <a:srgbClr val="595959"/>
                </a:solidFill>
                <a:latin typeface="Franklin Gothic Mediu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7T10:43:04Z</dcterms:created>
  <dc:creator/>
  <dc:description/>
  <dc:language>en-US</dc:language>
  <cp:lastModifiedBy/>
  <dcterms:modified xsi:type="dcterms:W3CDTF">2015-04-15T15:02:1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8952669991</vt:lpwstr>
  </property>
</Properties>
</file>