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548-D3D5-47DF-8E4E-D24692FC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574-3E3C-4823-9DD1-C97EB209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126-07EB-47E0-8B59-AD71C735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B94-2CBE-47AD-97F5-514BFCFD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58D2-315B-4A43-B9FD-C126CDB8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F8C2-2DA5-417D-9645-5961CA9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7858-0625-439B-A581-737C932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D11F-4597-472A-9B66-8E17648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207-6333-4F67-8420-44C3275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16FD-8C73-4D8B-A2AC-DAC80184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32DF-409C-4AC6-A0F5-782C4F5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543-5DCB-4A7C-BF4F-4213A06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947-8C7A-4B69-BA0C-8BCCE5C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3A53-6B33-47EE-9D0B-3A3B1E3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D1AB-2ACC-480B-A635-184E53E6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F52-A488-44FC-98EF-5E8324B8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0C78-98B9-4943-A307-8E35F8C3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A036-31F0-4EF9-8AC1-0D37A8BF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32B5-19E0-48DE-8775-50A209A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CEE8-3CC8-4B95-A133-FD03C11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238D-32D3-4871-826D-73D2030A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E7FF-D0D3-443C-8FD9-6980CAD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256-F438-4ACA-AC94-23D72848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B531-681E-433A-91BE-DF9EA98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42E6-C699-40A4-8EB4-186969F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AD37-A79B-41DB-879C-526F95F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1DE3-4172-4CE6-BB1B-AC5B4F1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EC17-C6B9-41FB-9CEA-1949C00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9014-1B4F-4FF4-BBB6-43214C8C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DF61-AB6F-4DA9-BA78-EFC60E6B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C8F7-5896-447C-8832-BF0647A5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3FDD-0891-4D9E-BF6F-B9B3676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E5DD-0AD9-4F90-AB6E-7994B99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5BB-979D-4BFA-A44D-0A58AAEC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C89CE-CB10-48C3-B131-74925DD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4F48-38EA-420A-8CE4-D9BD60B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AFAC-E6BA-4464-A006-D0EE0A6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001B-89B0-43CE-A744-602AF03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2E45-C6BC-4A68-BA51-0FF1FDB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2574-136F-42BD-946D-8C376D8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C466-B015-43C2-9A7E-7356ABA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D666-4527-4824-A8A8-767D9DCC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EA8D-E94E-4B98-8277-99E8F12E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2435-3AAF-40E5-831F-32E76A11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0BD-C79C-4B71-9A27-BA688DD6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71E3-25FD-4EB6-A149-BD246C17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B2A6-4DD3-4E2A-BA25-2E4123FC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FDBD-C6C6-46A3-A4D7-958DB22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3480A-1CA6-4006-BD8C-2374CC2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855B-3F5D-4C52-9B7E-6DD6E37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2BF7-CB1F-4AD4-86DD-DE6D1EC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D8B5-88C9-46BE-95D2-25EFC4A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6F07-4F36-406D-AC01-97A883B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93F5-C317-4728-A11B-342041F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0DA3-6E7E-474C-9A5F-A6C7DED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951-4BD3-48BD-B3F2-9C559E9E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4EAA-E903-4B05-96B6-2E7F9DFD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982-FD27-4146-A839-E43AE5F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291-7FCF-4226-A95A-0680787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150-5016-438F-A578-9FA9EE5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97354E2-240D-429C-88D1-A1478EDDDD07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FF4B7D7-D1DE-4819-A948-1C4531FD5CC6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3B58F32-CBB7-4C30-B1F9-E3ED2EA319F6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EF88C54-72A5-45EB-A271-0774098BF1E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8BF43A1-6798-49BE-859A-B7507067FE94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05D0B10-0D77-4BC1-A06B-3A1889DA763E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3F2FF85-1B58-48D8-A067-647582CFA1C1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667640" y="458748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71F457E-7C2F-44B4-B3FD-81E847E161F4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88E2CB7-8BDD-4726-A55D-2366C46B8A5B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885080" y="458748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3AAEF48-96EF-48EA-A3EC-7A7D9EE079F8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1419120"/>
            <a:ext cx="8515080" cy="115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3300" spc="-1" strike="noStrike">
                <a:solidFill>
                  <a:srgbClr val="d61031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d61031"/>
                </a:solidFill>
                <a:latin typeface="Franklin Gothic Medium"/>
              </a:rPr>
              <a:t>ФИНАНСОВАЯ СТАТИСТИКА</a:t>
            </a:r>
            <a:br>
              <a:rPr sz="2800"/>
            </a:br>
            <a:r>
              <a:rPr b="1" lang="ru-RU" sz="2800" spc="-1" strike="noStrike">
                <a:solidFill>
                  <a:srgbClr val="d61031"/>
                </a:solidFill>
                <a:latin typeface="Franklin Gothic Medium"/>
              </a:rPr>
              <a:t>ГОСУДАРСТВЕННОГО УПРАВЛЕНИЯ</a:t>
            </a:r>
            <a:endParaRPr b="1" lang="en-US" sz="28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44" name="Dikdörtgen 1"/>
          <p:cNvSpPr/>
          <p:nvPr/>
        </p:nvSpPr>
        <p:spPr>
          <a:xfrm>
            <a:off x="304920" y="2381400"/>
            <a:ext cx="64306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595959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595959"/>
                </a:solidFill>
                <a:latin typeface="Franklin Gothic Medium"/>
                <a:ea typeface="Courier New"/>
              </a:rPr>
              <a:t>Последние дости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595959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595959"/>
                </a:solidFill>
                <a:latin typeface="Franklin Gothic Medium"/>
                <a:ea typeface="Courier New"/>
              </a:rPr>
              <a:t>Текущая ситу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http://www.logoeps.net/wp-content/uploads/2012/03/maliye-bakanligi-logo.jpg"/>
          <p:cNvPicPr/>
          <p:nvPr/>
        </p:nvPicPr>
        <p:blipFill>
          <a:blip r:embed="rId1"/>
          <a:stretch/>
        </p:blipFill>
        <p:spPr>
          <a:xfrm>
            <a:off x="3851280" y="123840"/>
            <a:ext cx="1116000" cy="77148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6400800" y="461628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B9E914B-72C0-4159-824C-70DCE6C08D94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Yuvarlatılmış Dikdörtgen 1"/>
          <p:cNvSpPr/>
          <p:nvPr/>
        </p:nvSpPr>
        <p:spPr>
          <a:xfrm>
            <a:off x="299880" y="1166760"/>
            <a:ext cx="858852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Metin kutusu 5"/>
          <p:cNvSpPr/>
          <p:nvPr/>
        </p:nvSpPr>
        <p:spPr>
          <a:xfrm>
            <a:off x="820800" y="1547640"/>
            <a:ext cx="723888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2015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году вступили в силу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счетов государственного управления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Наши новые таблицы, оформленные в соответствии с СГФ 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чистом балансе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над строкой Отчета о государственных операциях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чистом финансовом балансе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под строкой Отчета о государственных операциях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функциональной классификации расходов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здержки по функциям Правительства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б условных активах и обязательствах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МСФООС №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19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татья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Баланс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ГФ, Таблица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, Баланс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движения наличных средств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Отчет по источникам и применению наличных средств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893880" y="2387520"/>
            <a:ext cx="317520" cy="133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93880" y="274176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4"/>
          <a:stretch/>
        </p:blipFill>
        <p:spPr>
          <a:xfrm>
            <a:off x="893880" y="311472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5"/>
          <a:stretch/>
        </p:blipFill>
        <p:spPr>
          <a:xfrm>
            <a:off x="893880" y="3417840"/>
            <a:ext cx="317520" cy="1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6"/>
          <a:stretch/>
        </p:blipFill>
        <p:spPr>
          <a:xfrm>
            <a:off x="893880" y="379584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7"/>
          <a:stretch/>
        </p:blipFill>
        <p:spPr>
          <a:xfrm>
            <a:off x="893880" y="408456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AA9908A-F17B-4C9D-94C3-44F00BDEB267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Yuvarlatılmış Dikdörtgen 3"/>
          <p:cNvSpPr/>
          <p:nvPr/>
        </p:nvSpPr>
        <p:spPr>
          <a:xfrm>
            <a:off x="517680" y="571680"/>
            <a:ext cx="8170560" cy="35064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35" name="Metin kutusu 12"/>
          <p:cNvSpPr/>
          <p:nvPr/>
        </p:nvSpPr>
        <p:spPr>
          <a:xfrm>
            <a:off x="468360" y="1058760"/>
            <a:ext cx="75420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ы движения наличных средств в техническом отношении основаны на критериях МСФООС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ребление фиксированного капитала рассчитывается в конце года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уществляется оценка квартального и месячного потребления фиксированного капитала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ежемесячных и ежеквартальных таблиц СГФ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ные расходы определяются с использованием наличной основы данны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годовых таблиц СГФ процентные расходы определяются с использованием данных по принципу начислений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Köşeli Çift Ayraç 13"/>
          <p:cNvSpPr/>
          <p:nvPr/>
        </p:nvSpPr>
        <p:spPr>
          <a:xfrm>
            <a:off x="650880" y="2066760"/>
            <a:ext cx="295200" cy="144720"/>
          </a:xfrm>
          <a:custGeom>
            <a:avLst/>
            <a:gdLst>
              <a:gd name="textAreaLeft" fmla="*/ 0 w 295200"/>
              <a:gd name="textAreaRight" fmla="*/ 295200 w 295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16" y="0"/>
                </a:lnTo>
                <a:lnTo>
                  <a:pt x="21600" y="10800"/>
                </a:lnTo>
                <a:lnTo>
                  <a:pt x="16316" y="21600"/>
                </a:lnTo>
                <a:lnTo>
                  <a:pt x="0" y="21600"/>
                </a:lnTo>
                <a:lnTo>
                  <a:pt x="5284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Köşeli Çift Ayraç 14"/>
          <p:cNvSpPr/>
          <p:nvPr/>
        </p:nvSpPr>
        <p:spPr>
          <a:xfrm>
            <a:off x="666720" y="3292560"/>
            <a:ext cx="320760" cy="144360"/>
          </a:xfrm>
          <a:custGeom>
            <a:avLst/>
            <a:gdLst>
              <a:gd name="textAreaLeft" fmla="*/ 0 w 320760"/>
              <a:gd name="textAreaRight" fmla="*/ 321120 w 3207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5" y="0"/>
                </a:lnTo>
                <a:lnTo>
                  <a:pt x="21600" y="10800"/>
                </a:lnTo>
                <a:lnTo>
                  <a:pt x="16735" y="21600"/>
                </a:lnTo>
                <a:lnTo>
                  <a:pt x="0" y="21600"/>
                </a:lnTo>
                <a:lnTo>
                  <a:pt x="486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Köşeli Çift Ayraç 16"/>
          <p:cNvSpPr/>
          <p:nvPr/>
        </p:nvSpPr>
        <p:spPr>
          <a:xfrm>
            <a:off x="596880" y="1276200"/>
            <a:ext cx="320760" cy="144720"/>
          </a:xfrm>
          <a:custGeom>
            <a:avLst/>
            <a:gdLst>
              <a:gd name="textAreaLeft" fmla="*/ 0 w 320760"/>
              <a:gd name="textAreaRight" fmla="*/ 321120 w 320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5" y="0"/>
                </a:lnTo>
                <a:lnTo>
                  <a:pt x="21600" y="10800"/>
                </a:lnTo>
                <a:lnTo>
                  <a:pt x="16735" y="21600"/>
                </a:lnTo>
                <a:lnTo>
                  <a:pt x="0" y="21600"/>
                </a:lnTo>
                <a:lnTo>
                  <a:pt x="486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EDB39CE-4535-45EC-A9FE-D84257FD5825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etin kutusu 5"/>
          <p:cNvSpPr/>
          <p:nvPr/>
        </p:nvSpPr>
        <p:spPr>
          <a:xfrm>
            <a:off x="820800" y="1166760"/>
            <a:ext cx="723888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Генеральный директорат государственных 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5A9C0B6-5B8B-4F4C-98D8-762617C5FAAD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Yuvarlatılmış Dikdörtgen 1"/>
          <p:cNvSpPr/>
          <p:nvPr/>
        </p:nvSpPr>
        <p:spPr>
          <a:xfrm>
            <a:off x="324000" y="893880"/>
            <a:ext cx="8588160" cy="394632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ОДЕРЖАНИЕ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etin kutusu 5"/>
          <p:cNvSpPr/>
          <p:nvPr/>
        </p:nvSpPr>
        <p:spPr>
          <a:xfrm>
            <a:off x="820800" y="987480"/>
            <a:ext cx="7711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овый процесс, инициированный в связи с законом о государственном финансовом управлении и надз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армонизация в рамках отраслевого ох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армонизация с международной классифик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бор и обработка данных, служащих в качестве основы для финансовой 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пытки повысить качество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ущая ситуация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Köşeli Çift Ayraç 9"/>
          <p:cNvSpPr/>
          <p:nvPr/>
        </p:nvSpPr>
        <p:spPr>
          <a:xfrm>
            <a:off x="395280" y="15429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52" name="Köşeli Çift Ayraç 6"/>
          <p:cNvSpPr/>
          <p:nvPr/>
        </p:nvSpPr>
        <p:spPr>
          <a:xfrm>
            <a:off x="419040" y="4048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Köşeli Çift Ayraç 7"/>
          <p:cNvSpPr/>
          <p:nvPr/>
        </p:nvSpPr>
        <p:spPr>
          <a:xfrm>
            <a:off x="395280" y="233856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Köşeli Çift Ayraç 8"/>
          <p:cNvSpPr/>
          <p:nvPr/>
        </p:nvSpPr>
        <p:spPr>
          <a:xfrm>
            <a:off x="412920" y="275256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Köşeli Çift Ayraç 11"/>
          <p:cNvSpPr/>
          <p:nvPr/>
        </p:nvSpPr>
        <p:spPr>
          <a:xfrm>
            <a:off x="395280" y="317196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Köşeli Çift Ayraç 12"/>
          <p:cNvSpPr/>
          <p:nvPr/>
        </p:nvSpPr>
        <p:spPr>
          <a:xfrm>
            <a:off x="420840" y="447984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7FF8ED0-F558-43BC-92FC-D951D2D6129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Yuvarlatılmış Dikdörtgen 1"/>
          <p:cNvSpPr/>
          <p:nvPr/>
        </p:nvSpPr>
        <p:spPr>
          <a:xfrm>
            <a:off x="374760" y="893880"/>
            <a:ext cx="8589960" cy="394632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Yuvarlatılmış Dikdörtgen 3"/>
          <p:cNvSpPr/>
          <p:nvPr/>
        </p:nvSpPr>
        <p:spPr>
          <a:xfrm>
            <a:off x="50976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ЗАКОН О ГОСУДАРСТВЕННОМ ФИНАНСОВОМ УПРАВЛЕНИИ И НАДЗ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etin kutusu 5"/>
          <p:cNvSpPr/>
          <p:nvPr/>
        </p:nvSpPr>
        <p:spPr>
          <a:xfrm>
            <a:off x="820800" y="1166760"/>
            <a:ext cx="72388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, впервые концептуально введенная  в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от консолидированного бюджетного охвата к общему государственному охв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от системы учета наличных средств к системе учета по методу на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63" name="Köşeli Çift Ayraç 6"/>
          <p:cNvSpPr/>
          <p:nvPr/>
        </p:nvSpPr>
        <p:spPr>
          <a:xfrm>
            <a:off x="374760" y="21398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Köşeli Çift Ayraç 8"/>
          <p:cNvSpPr/>
          <p:nvPr/>
        </p:nvSpPr>
        <p:spPr>
          <a:xfrm>
            <a:off x="414360" y="29685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39CB1E4-0B94-4497-9084-DD1DED672947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Yuvarlatılmış Dikdörtgen 1"/>
          <p:cNvSpPr/>
          <p:nvPr/>
        </p:nvSpPr>
        <p:spPr>
          <a:xfrm>
            <a:off x="324000" y="1023840"/>
            <a:ext cx="8588160" cy="39448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Yuvarlatılmış Dikdörtgen 3"/>
          <p:cNvSpPr/>
          <p:nvPr/>
        </p:nvSpPr>
        <p:spPr>
          <a:xfrm>
            <a:off x="531720" y="542880"/>
            <a:ext cx="817272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ГАРМОНИЗАЦИЯ В РАМКАХ ОТРАСЛЕВОГО ОХ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etin kutusu 5"/>
          <p:cNvSpPr/>
          <p:nvPr/>
        </p:nvSpPr>
        <p:spPr>
          <a:xfrm>
            <a:off x="820800" y="1166760"/>
            <a:ext cx="72388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чее совещание, проведенное для определения охвата центрального прав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номочия по определению и обновлению данных об охвате по согласованию с заинтересованными учреждениями переданы М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хват, предусмотренный в международных стандартах, введен в силу в соответствии с Общим Коммю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ло правилом обновлять данные об охвате кажды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ода по согласованию с заинтересованными учрежд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кой же охват применяется в настоящее время для подготовки таблиц СГФ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В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цедур по чрезмерному дефициту (ПЧД) и ЕСС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ВРОСТА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öşeli Çift Ayraç 9"/>
          <p:cNvSpPr/>
          <p:nvPr/>
        </p:nvSpPr>
        <p:spPr>
          <a:xfrm>
            <a:off x="415800" y="136512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71" name="Köşeli Çift Ayraç 12"/>
          <p:cNvSpPr/>
          <p:nvPr/>
        </p:nvSpPr>
        <p:spPr>
          <a:xfrm>
            <a:off x="396720" y="3508200"/>
            <a:ext cx="270000" cy="142920"/>
          </a:xfrm>
          <a:custGeom>
            <a:avLst/>
            <a:gdLst>
              <a:gd name="textAreaLeft" fmla="*/ 0 w 270000"/>
              <a:gd name="textAreaRight" fmla="*/ 270360 w 270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82" y="0"/>
                </a:lnTo>
                <a:lnTo>
                  <a:pt x="21600" y="10800"/>
                </a:lnTo>
                <a:lnTo>
                  <a:pt x="15882" y="21600"/>
                </a:lnTo>
                <a:lnTo>
                  <a:pt x="0" y="21600"/>
                </a:lnTo>
                <a:lnTo>
                  <a:pt x="5718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öşeli Çift Ayraç 14"/>
          <p:cNvSpPr/>
          <p:nvPr/>
        </p:nvSpPr>
        <p:spPr>
          <a:xfrm>
            <a:off x="417600" y="210348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Köşeli Çift Ayraç 15"/>
          <p:cNvSpPr/>
          <p:nvPr/>
        </p:nvSpPr>
        <p:spPr>
          <a:xfrm>
            <a:off x="414360" y="2824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Köşeli Çift Ayraç 16"/>
          <p:cNvSpPr/>
          <p:nvPr/>
        </p:nvSpPr>
        <p:spPr>
          <a:xfrm>
            <a:off x="415800" y="426420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1CD5A76-F342-4F01-9A6A-66C751DF908D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Yuvarlatılmış Dikdörtgen 1"/>
          <p:cNvSpPr/>
          <p:nvPr/>
        </p:nvSpPr>
        <p:spPr>
          <a:xfrm>
            <a:off x="324000" y="893880"/>
            <a:ext cx="8588160" cy="3622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ГАРМОНИЗАЦИЯ С МЕЖДУНАРОДНОЙ КЛАССИФИКАЦ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Metin kutusu 5"/>
          <p:cNvSpPr/>
          <p:nvPr/>
        </p:nvSpPr>
        <p:spPr>
          <a:xfrm>
            <a:off x="820800" y="1166760"/>
            <a:ext cx="723888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менение аналитической бюджетной классифик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ункциональн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титуциональн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кодов по подробному плану счетов в Коды 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кодов по подробному плану счетов в Коды СГ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ый пересмотр сопоставительны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81" name="Köşeli Çift Ayraç 7"/>
          <p:cNvSpPr/>
          <p:nvPr/>
        </p:nvSpPr>
        <p:spPr>
          <a:xfrm>
            <a:off x="395280" y="294948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Köşeli Çift Ayraç 8"/>
          <p:cNvSpPr/>
          <p:nvPr/>
        </p:nvSpPr>
        <p:spPr>
          <a:xfrm>
            <a:off x="426960" y="37958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Köşeli Çift Ayraç 11"/>
          <p:cNvSpPr/>
          <p:nvPr/>
        </p:nvSpPr>
        <p:spPr>
          <a:xfrm>
            <a:off x="395280" y="33512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1258920" y="213984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C15403E-B181-43DB-8447-BF498E3B4439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Yuvarlatılmış Dikdörtgen 1"/>
          <p:cNvSpPr/>
          <p:nvPr/>
        </p:nvSpPr>
        <p:spPr>
          <a:xfrm>
            <a:off x="324000" y="1066680"/>
            <a:ext cx="858816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Yuvarlatılmış Dikdörtgen 3"/>
          <p:cNvSpPr/>
          <p:nvPr/>
        </p:nvSpPr>
        <p:spPr>
          <a:xfrm>
            <a:off x="517680" y="542880"/>
            <a:ext cx="8170560" cy="4446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БОР И ОБРАБОТКА ДАННЫХ, СЛУЖАЩИХ В КАЧЕСТВЕ ОСНОВЫ ДЛЯ ФИНАНСОВОЙ СТАТ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Metin kutusu 5"/>
          <p:cNvSpPr/>
          <p:nvPr/>
        </p:nvSpPr>
        <p:spPr>
          <a:xfrm>
            <a:off x="803160" y="1203480"/>
            <a:ext cx="744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 финансовой статистики государствен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ФС Г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данные основываются на административных документ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ите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5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ьных провинциальных админи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ъединений местных администрац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3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ьных фил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6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гентств по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ебюджетные фонды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реждения социального обеспечения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также другие данные, основанные на бухгалтерских счетах о прибыли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тив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ствах и капит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бор данных на ежемесячной и ежекварталь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Köşeli Çift Ayraç 9"/>
          <p:cNvSpPr/>
          <p:nvPr/>
        </p:nvSpPr>
        <p:spPr>
          <a:xfrm>
            <a:off x="404640" y="1822320"/>
            <a:ext cx="270000" cy="123840"/>
          </a:xfrm>
          <a:custGeom>
            <a:avLst/>
            <a:gdLst>
              <a:gd name="textAreaLeft" fmla="*/ 0 w 270000"/>
              <a:gd name="textAreaRight" fmla="*/ 270360 w 270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5" y="0"/>
                </a:lnTo>
                <a:lnTo>
                  <a:pt x="21600" y="10800"/>
                </a:lnTo>
                <a:lnTo>
                  <a:pt x="16645" y="21600"/>
                </a:lnTo>
                <a:lnTo>
                  <a:pt x="0" y="21600"/>
                </a:lnTo>
                <a:lnTo>
                  <a:pt x="495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91" name="Köşeli Çift Ayraç 6"/>
          <p:cNvSpPr/>
          <p:nvPr/>
        </p:nvSpPr>
        <p:spPr>
          <a:xfrm>
            <a:off x="380880" y="22604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Köşeli Çift Ayraç 8"/>
          <p:cNvSpPr/>
          <p:nvPr/>
        </p:nvSpPr>
        <p:spPr>
          <a:xfrm>
            <a:off x="368280" y="30416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Köşeli Çift Ayraç 11"/>
          <p:cNvSpPr/>
          <p:nvPr/>
        </p:nvSpPr>
        <p:spPr>
          <a:xfrm>
            <a:off x="368280" y="35179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Köşeli Çift Ayraç 14"/>
          <p:cNvSpPr/>
          <p:nvPr/>
        </p:nvSpPr>
        <p:spPr>
          <a:xfrm>
            <a:off x="368280" y="2662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320760" y="473220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A331C09-7548-4B39-A3AC-1617E9EED48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Yuvarlatılmış Dikdörtgen 1"/>
          <p:cNvSpPr/>
          <p:nvPr/>
        </p:nvSpPr>
        <p:spPr>
          <a:xfrm>
            <a:off x="380880" y="1166760"/>
            <a:ext cx="858996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Yuvarlatılmış Dikdörtgen 3"/>
          <p:cNvSpPr/>
          <p:nvPr/>
        </p:nvSpPr>
        <p:spPr>
          <a:xfrm>
            <a:off x="503280" y="542880"/>
            <a:ext cx="817092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ПОПЫТКИ ПОВЫСИТЬ КАЧЕСТВО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Metin kutusu 5"/>
          <p:cNvSpPr/>
          <p:nvPr/>
        </p:nvSpPr>
        <p:spPr>
          <a:xfrm>
            <a:off x="785880" y="893880"/>
            <a:ext cx="72388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зоры, проведенные 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удиторские отчеты по государственной финансовой статистике, подготовленные Счетным судом Турции и представленные Великому национальному собр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втоматический контроль внедрен в Систему финансовой статистики Центрального правительства (СФС ЦП) наряду с результатами обследований и ауд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заинтересованных учреждений проводится подготовка в области финансовой 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Köşeli Çift Ayraç 9"/>
          <p:cNvSpPr/>
          <p:nvPr/>
        </p:nvSpPr>
        <p:spPr>
          <a:xfrm>
            <a:off x="399960" y="14191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02" name="Köşeli Çift Ayraç 6"/>
          <p:cNvSpPr/>
          <p:nvPr/>
        </p:nvSpPr>
        <p:spPr>
          <a:xfrm>
            <a:off x="399960" y="18511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Köşeli Çift Ayraç 8"/>
          <p:cNvSpPr/>
          <p:nvPr/>
        </p:nvSpPr>
        <p:spPr>
          <a:xfrm>
            <a:off x="417600" y="3086280"/>
            <a:ext cx="269640" cy="107640"/>
          </a:xfrm>
          <a:custGeom>
            <a:avLst/>
            <a:gdLst>
              <a:gd name="textAreaLeft" fmla="*/ 0 w 269640"/>
              <a:gd name="textAreaRight" fmla="*/ 270000 w 2696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Köşeli Çift Ayraç 12"/>
          <p:cNvSpPr/>
          <p:nvPr/>
        </p:nvSpPr>
        <p:spPr>
          <a:xfrm>
            <a:off x="417600" y="430056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6D82ED5-9E0C-4BC1-A3D4-DF151D6E582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Yuvarlatılmış Dikdörtgen 1"/>
          <p:cNvSpPr/>
          <p:nvPr/>
        </p:nvSpPr>
        <p:spPr>
          <a:xfrm>
            <a:off x="378000" y="1197000"/>
            <a:ext cx="8588160" cy="370980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Metin kutusu 5"/>
          <p:cNvSpPr/>
          <p:nvPr/>
        </p:nvSpPr>
        <p:spPr>
          <a:xfrm>
            <a:off x="820800" y="1166760"/>
            <a:ext cx="723888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хват статистики государственного управления приведен в соответствие с международными стандартами, такими как руководство по СГ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С и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хват пересматривается каждые 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министративные документы, основанные на системе учета по методу на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пространение ежеквартальной финансовой статистики в соответствии с международной пра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Köşeli Çift Ayraç 9"/>
          <p:cNvSpPr/>
          <p:nvPr/>
        </p:nvSpPr>
        <p:spPr>
          <a:xfrm>
            <a:off x="380880" y="176688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11" name="Köşeli Çift Ayraç 7"/>
          <p:cNvSpPr/>
          <p:nvPr/>
        </p:nvSpPr>
        <p:spPr>
          <a:xfrm>
            <a:off x="419040" y="293220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Köşeli Çift Ayraç 8"/>
          <p:cNvSpPr/>
          <p:nvPr/>
        </p:nvSpPr>
        <p:spPr>
          <a:xfrm>
            <a:off x="417600" y="336384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Köşeli Çift Ayraç 13"/>
          <p:cNvSpPr/>
          <p:nvPr/>
        </p:nvSpPr>
        <p:spPr>
          <a:xfrm>
            <a:off x="414360" y="41925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89A5614-746F-4572-A390-3EBCE848F4F3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Yuvarlatılmış Dikdörtgen 1"/>
          <p:cNvSpPr/>
          <p:nvPr/>
        </p:nvSpPr>
        <p:spPr>
          <a:xfrm>
            <a:off x="299880" y="1166760"/>
            <a:ext cx="8588520" cy="36370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Metin kutusu 5"/>
          <p:cNvSpPr/>
          <p:nvPr/>
        </p:nvSpPr>
        <p:spPr>
          <a:xfrm>
            <a:off x="820800" y="1166760"/>
            <a:ext cx="7238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 была впервые определена с помощью Правил счетов государственного управления, т.е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 – это объединенные таблицы, формирующие информацию по доходам подразделений сектора государственного управления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также их расходам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тивам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ственности и капиталу. Они составляются на основе статистических принципов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46040" y="1738440"/>
            <a:ext cx="317520" cy="133200"/>
          </a:xfrm>
          <a:prstGeom prst="rect">
            <a:avLst/>
          </a:prstGeom>
          <a:ln w="0">
            <a:noFill/>
          </a:ln>
        </p:spPr>
      </p:pic>
      <p:sp>
        <p:nvSpPr>
          <p:cNvPr id="320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D8E7B07-AF6C-4E71-86F0-7D06C246D9BD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0:43:04Z</dcterms:created>
  <dc:creator/>
  <dc:description/>
  <dc:language>en-US</dc:language>
  <cp:lastModifiedBy/>
  <dcterms:modified xsi:type="dcterms:W3CDTF">2015-04-15T15:02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952669991</vt:lpwstr>
  </property>
</Properties>
</file>