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EEE-C7AD-4EDF-830B-D9806A16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CBB-CFD2-48BA-AF88-FC612744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F0E-EF02-42DA-B464-C14316F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56B-6B5E-49CE-9F35-C9C4A0EE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184-3272-40F3-B168-624666EC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7F4-A591-4D01-B927-FF645C3C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6C4-6128-44AF-B300-99BD6D7F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0DC-4666-4405-A315-7670517E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148-9C95-4185-9BB7-F0BFBA55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99B-EDD8-4B0F-87E8-7920185D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C62-5C41-4424-B7E9-9A57CA0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002-899C-4430-AAF9-00B0D21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35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C642-C5E7-431D-9B48-8C8BBFDEC56B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EFE-A848-418F-B87D-8B649B384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2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3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4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5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6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7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8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9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60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d3a911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61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2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d3a911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63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64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65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66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167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168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69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38a3b2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170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171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1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176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177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181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182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183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184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185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186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187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88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189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190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191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92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94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95"/>
          <p:cNvGrpSpPr/>
          <p:nvPr/>
        </p:nvGrpSpPr>
        <p:grpSpPr>
          <a:xfrm>
            <a:off x="0" y="357120"/>
            <a:ext cx="1157040" cy="1123920"/>
            <a:chOff x="0" y="357120"/>
            <a:chExt cx="1157040" cy="1123920"/>
          </a:xfrm>
        </p:grpSpPr>
        <p:pic>
          <p:nvPicPr>
            <p:cNvPr id="43" name="Picture 196" descr="pan01"/>
            <p:cNvPicPr/>
            <p:nvPr/>
          </p:nvPicPr>
          <p:blipFill>
            <a:blip r:embed="rId2"/>
            <a:srcRect l="46696" t="0" r="2340" b="0"/>
            <a:stretch/>
          </p:blipFill>
          <p:spPr>
            <a:xfrm>
              <a:off x="3240" y="357120"/>
              <a:ext cx="115380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Freeform 197"/>
            <p:cNvGrpSpPr/>
            <p:nvPr/>
          </p:nvGrpSpPr>
          <p:grpSpPr>
            <a:xfrm>
              <a:off x="0" y="396000"/>
              <a:ext cx="1103400" cy="1005840"/>
              <a:chOff x="0" y="396000"/>
              <a:chExt cx="1103400" cy="1005840"/>
            </a:xfrm>
          </p:grpSpPr>
          <p:pic>
            <p:nvPicPr>
              <p:cNvPr id="45" name="Freeform 19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96720"/>
                <a:ext cx="11034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0" y="396000"/>
                <a:ext cx="1101600" cy="10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Group 198"/>
          <p:cNvGrpSpPr/>
          <p:nvPr/>
        </p:nvGrpSpPr>
        <p:grpSpPr>
          <a:xfrm>
            <a:off x="-6480" y="195120"/>
            <a:ext cx="1057320" cy="1143000"/>
            <a:chOff x="-6480" y="195120"/>
            <a:chExt cx="1057320" cy="1143000"/>
          </a:xfrm>
        </p:grpSpPr>
        <p:pic>
          <p:nvPicPr>
            <p:cNvPr id="48" name="Picture 199" descr="pan01"/>
            <p:cNvPicPr/>
            <p:nvPr/>
          </p:nvPicPr>
          <p:blipFill>
            <a:blip r:embed="rId4"/>
            <a:srcRect l="51739" t="0" r="2334" b="0"/>
            <a:stretch/>
          </p:blipFill>
          <p:spPr>
            <a:xfrm>
              <a:off x="-6480" y="195120"/>
              <a:ext cx="1057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200"/>
            <p:cNvSpPr/>
            <p:nvPr/>
          </p:nvSpPr>
          <p:spPr>
            <a:xfrm>
              <a:off x="-6480" y="233280"/>
              <a:ext cx="1000080" cy="102708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01"/>
          <p:cNvGrpSpPr/>
          <p:nvPr/>
        </p:nvGrpSpPr>
        <p:grpSpPr>
          <a:xfrm>
            <a:off x="0" y="0"/>
            <a:ext cx="933480" cy="1239840"/>
            <a:chOff x="0" y="0"/>
            <a:chExt cx="933480" cy="1239840"/>
          </a:xfrm>
        </p:grpSpPr>
        <p:pic>
          <p:nvPicPr>
            <p:cNvPr id="51" name="Picture 202" descr="pan01"/>
            <p:cNvPicPr/>
            <p:nvPr/>
          </p:nvPicPr>
          <p:blipFill>
            <a:blip r:embed="rId6"/>
            <a:srcRect l="60441" t="0" r="2335" b="0"/>
            <a:stretch/>
          </p:blipFill>
          <p:spPr>
            <a:xfrm>
              <a:off x="2520" y="0"/>
              <a:ext cx="9309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203"/>
            <p:cNvSpPr/>
            <p:nvPr/>
          </p:nvSpPr>
          <p:spPr>
            <a:xfrm>
              <a:off x="0" y="41040"/>
              <a:ext cx="871560" cy="111420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8B63-F5CA-4350-B1BB-53EC39F1E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8208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8d3e28"/>
                </a:solidFill>
                <a:latin typeface="Arial"/>
              </a:rPr>
              <a:t>Transition of National Accounts of the Republic of Belarus to 2008 SNA Methodology and Cooperation between Producers of Official Statistic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57520" y="5013360"/>
            <a:ext cx="376236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18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290f"/>
                </a:solidFill>
                <a:latin typeface="Calibri"/>
              </a:rPr>
              <a:t>National Statistical Committee of the Republic of Belarus  </a:t>
            </a:r>
            <a:br>
              <a:rPr sz="2000"/>
            </a:br>
            <a:r>
              <a:rPr b="0" lang="en-US" sz="2000" spc="-1" strike="noStrike">
                <a:solidFill>
                  <a:srgbClr val="88290f"/>
                </a:solidFill>
                <a:latin typeface="Calibri"/>
              </a:rPr>
              <a:t>I.V.Sergeychenk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8388360" y="1197000"/>
            <a:ext cx="755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700560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4E69-ED61-4BF4-8BCF-A63EFDDE6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500040" y="23572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ISIM after Distribution by Types of Economic A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1052640"/>
          <a:ext cx="8964720" cy="5746680"/>
        </p:xfrm>
        <a:graphic>
          <a:graphicData uri="http://schemas.openxmlformats.org/drawingml/2006/table">
            <a:tbl>
              <a:tblPr/>
              <a:tblGrid>
                <a:gridCol w="5472000"/>
                <a:gridCol w="1728720"/>
                <a:gridCol w="1764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percentage of GDP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 SN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percentage of GDP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00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domestic produ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ing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xes less subsidies o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value ad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e, hunting &amp; fores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ng and quarry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ity, gas and water sup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sale &amp; retail trade; repai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 and restaura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, storage and communic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interme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 estate, renting &amp; business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administration and defence; compulsory social secur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and social 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ommunity, social and personal servic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IM (Financial intermediation services indirectly measu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1EDF-EBA1-4327-87E8-8B07C6154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9"/>
          <p:cNvSpPr/>
          <p:nvPr/>
        </p:nvSpPr>
        <p:spPr>
          <a:xfrm>
            <a:off x="500040" y="2357280"/>
            <a:ext cx="83581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rding to the 93 SNA methodology, the housing services are estimated using annual average square of owners occupied housing an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nditur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al expenditure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luding communal payment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household survey are added to the estimat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rding to the 2008 SNA, a user expenditure method has been used to determine imputed rent of owner occupied ho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642960" y="1428840"/>
            <a:ext cx="4786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wner Occupied Hou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FF64-3A42-4060-A319-B114F100C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wner Occupied Housing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00000" y="1844640"/>
          <a:ext cx="7559640" cy="3672000"/>
        </p:xfrm>
        <a:graphic>
          <a:graphicData uri="http://schemas.openxmlformats.org/drawingml/2006/table">
            <a:tbl>
              <a:tblPr/>
              <a:tblGrid>
                <a:gridCol w="1260720"/>
                <a:gridCol w="1258920"/>
                <a:gridCol w="1260360"/>
                <a:gridCol w="755640"/>
                <a:gridCol w="1763640"/>
                <a:gridCol w="12603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s in G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BDF-D373-4411-99E6-D175117CE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9"/>
          <p:cNvSpPr/>
          <p:nvPr/>
        </p:nvSpPr>
        <p:spPr>
          <a:xfrm>
            <a:off x="500040" y="2357280"/>
            <a:ext cx="835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terdepartmental group on development and implementation of the classification has been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lassification has been developed by the CIS Statistical Committee and 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ations on application of the ECE classification of institutional sectors in member-states of the Eurasian Economic Union have been pre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642960" y="1428840"/>
            <a:ext cx="4786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lassification of institutional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D77-6B03-48F0-9A4F-E6B8C6CD7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8856720" cy="51433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9"/>
          <p:cNvSpPr/>
          <p:nvPr/>
        </p:nvSpPr>
        <p:spPr>
          <a:xfrm>
            <a:off x="500040" y="1428840"/>
            <a:ext cx="83581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Arial"/>
              </a:rPr>
              <a:t>Non-observed econom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economic activit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captured by the official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idden economy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n activity which is permitted by l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s intentionally hidden to defraud the revenue and avoid to pay taxes and other mandatory payment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formal econom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n activity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roducti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tion and disposition of goods and services which is conducted mainly according to the law by individuals, private entrepreneu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informal relationshi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production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llegal a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activity which is forbidden by l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types of activity which are performed without permission, for example, unlicensed medical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B0DF-5A95-4A3E-91CB-1C7D475C8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 of the 2008 SNA Methodology on GDP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 Metho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 Year of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1484280"/>
          <a:ext cx="7416720" cy="3608280"/>
        </p:xfrm>
        <a:graphic>
          <a:graphicData uri="http://schemas.openxmlformats.org/drawingml/2006/table">
            <a:tbl>
              <a:tblPr/>
              <a:tblGrid>
                <a:gridCol w="5041800"/>
                <a:gridCol w="2374920"/>
              </a:tblGrid>
              <a:tr h="66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act on GDP in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changes affecting GDP as per the2008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 in accounting of research and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 in accounting of military expendi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ted payment of owner occupied hou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SN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070-0FC1-4212-9A29-92B0434C8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 of the 2008 SNA Methodology on GDP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-use Metho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 Year of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341360"/>
          <a:ext cx="7704000" cy="5181840"/>
        </p:xfrm>
        <a:graphic>
          <a:graphicData uri="http://schemas.openxmlformats.org/drawingml/2006/table">
            <a:tbl>
              <a:tblPr/>
              <a:tblGrid>
                <a:gridCol w="5327640"/>
                <a:gridCol w="2376360"/>
              </a:tblGrid>
              <a:tr h="47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act on GDP in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 of househol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 of general government, including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35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consumption of general govern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35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ective consumption of general govern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consumption expenditure of NPISH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capital form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fixed capital form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s in invento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balance on goods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 of goods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orts of goods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discrepancy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7BF1-A489-4490-816C-88497DD8C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2"/>
          <p:cNvSpPr txBox="1"/>
          <p:nvPr/>
        </p:nvSpPr>
        <p:spPr>
          <a:xfrm>
            <a:off x="4716360" y="2276640"/>
            <a:ext cx="43434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Thank you for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your attention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7740720" y="1197000"/>
            <a:ext cx="647640" cy="576360"/>
          </a:xfrm>
          <a:prstGeom prst="rect">
            <a:avLst/>
          </a:prstGeom>
          <a:solidFill>
            <a:srgbClr val="e1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8388360" y="1197000"/>
            <a:ext cx="755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179A-3361-4503-933C-73B1D8616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285840"/>
            <a:ext cx="69912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ccounts of the Republic of Belar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7920000" cy="3404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9"/>
          <p:cNvSpPr/>
          <p:nvPr/>
        </p:nvSpPr>
        <p:spPr>
          <a:xfrm>
            <a:off x="700200" y="2349360"/>
            <a:ext cx="718488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s and services ac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accoun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on of income accoun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on of primary income ac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ondary distribution of income  ac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of income accou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accoun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4759200" cy="844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1"/>
          <p:cNvSpPr/>
          <p:nvPr/>
        </p:nvSpPr>
        <p:spPr>
          <a:xfrm>
            <a:off x="826920" y="1628640"/>
            <a:ext cx="36720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rren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C310-18E5-47D9-A669-DD01075B5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312840"/>
            <a:ext cx="712008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s in Implementation of the 2008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13800" cy="3998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9"/>
          <p:cNvSpPr/>
          <p:nvPr/>
        </p:nvSpPr>
        <p:spPr>
          <a:xfrm>
            <a:off x="785880" y="2428920"/>
            <a:ext cx="807228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working group has been approved for implementation of the 2008 SNA main provisions into statistical pract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ction plan for implementation of the 2008 SNA has been approve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ssistance by IMF expert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ment of national account experts in training worksho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215C-9F08-424E-B389-9AF8586E2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8850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79280" y="1571760"/>
            <a:ext cx="8856720" cy="4378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9"/>
          <p:cNvSpPr/>
          <p:nvPr/>
        </p:nvSpPr>
        <p:spPr>
          <a:xfrm>
            <a:off x="785880" y="1989000"/>
            <a:ext cx="807228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of new classification o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 activities (CCE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005-201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ince January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uch classification has been developed based on classification o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 activities of 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an Union NAC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2.0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ditures for R&amp;D activitie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sion of military expenditures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al intermediation services indirectly measure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 of owner occupied housin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ment and implementation of classification of institutional units by economic sectors in line with the recommendations of the 2008 SN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d estimates of non-observed econom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A455-9DE7-46FC-97BB-911F9C7AA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9280" y="1870200"/>
            <a:ext cx="8856720" cy="407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9"/>
          <p:cNvSpPr/>
          <p:nvPr/>
        </p:nvSpPr>
        <p:spPr>
          <a:xfrm>
            <a:off x="785880" y="2643120"/>
            <a:ext cx="7553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 surveys by types of economic activiti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e conducted for two years with two versions of CCE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ospective calculations by indicators of national accounts have been performed sinc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714240" y="1428840"/>
            <a:ext cx="48657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lassification of economic activities CCEA 005-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95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EAD-7954-40BB-BA9A-54FD71037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9"/>
          <p:cNvSpPr/>
          <p:nvPr/>
        </p:nvSpPr>
        <p:spPr>
          <a:xfrm>
            <a:off x="785880" y="2643120"/>
            <a:ext cx="755316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ggregation of survey data and data validation has been conducte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allowed calculation of outpu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 consumption an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ss fixed capital formation by three grou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roduc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on the marke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roduc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do not have sale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&amp;D development is performed at own expens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s of general government sect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714240" y="1428840"/>
            <a:ext cx="442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penditures  on R&amp;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C61A-7104-4EE9-9323-5FA429561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9"/>
          <p:cNvSpPr/>
          <p:nvPr/>
        </p:nvSpPr>
        <p:spPr>
          <a:xfrm>
            <a:off x="500040" y="2357280"/>
            <a:ext cx="839304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issue has been resolv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cooperation with the Ministry of Def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termined expenditures for armament systems, which are constantly used for production of defence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nual data on expenditures for armament systems have been provided, as well as data on volume and prices of assets  in the year of acquisition and service-li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ption of fixed capital has been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714240" y="1571760"/>
            <a:ext cx="4721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clusion of military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C8A2-D04A-4093-A66A-95079786D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79280" y="1951200"/>
            <a:ext cx="8856720" cy="399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669960" y="1413000"/>
            <a:ext cx="4687920" cy="844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9"/>
          <p:cNvSpPr/>
          <p:nvPr/>
        </p:nvSpPr>
        <p:spPr>
          <a:xfrm>
            <a:off x="500040" y="2357280"/>
            <a:ext cx="83581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the FISIM is calculated according to the 93 SNA and is presented as a separate economic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line with the 2008 SNA, the estimates for FISIM are done separately for deposits and loans using referenc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ssessing the reference rate, the interbank rates were taken into account, as well as the highest bank deposit rat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west credit rates and long-term government bond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714240" y="1428840"/>
            <a:ext cx="4429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inancial intermediation services indirectly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riorities for Improvement of National Accounts and Implementation of th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B87A-9CD4-44CD-B792-5D6CF71EA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00040" y="23572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22860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inancial Intermediation Services Indirectly Measu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26920" y="1557360"/>
          <a:ext cx="7500960" cy="3381480"/>
        </p:xfrm>
        <a:graphic>
          <a:graphicData uri="http://schemas.openxmlformats.org/drawingml/2006/table">
            <a:tbl>
              <a:tblPr/>
              <a:tblGrid>
                <a:gridCol w="2156040"/>
                <a:gridCol w="1206360"/>
                <a:gridCol w="1121040"/>
                <a:gridCol w="218880"/>
                <a:gridCol w="1354320"/>
                <a:gridCol w="1444320"/>
              </a:tblGrid>
              <a:tr h="357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I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n B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n B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i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1:59:19Z</dcterms:created>
  <dc:creator>Елена Тарашкевич</dc:creator>
  <dc:description/>
  <dc:language>en-US</dc:language>
  <cp:lastModifiedBy>onu</cp:lastModifiedBy>
  <dcterms:modified xsi:type="dcterms:W3CDTF">2015-05-05T21:26:34Z</dcterms:modified>
  <cp:revision>167</cp:revision>
  <dc:subject/>
  <dc:title>ThemeGallery PowerTemplate</dc:title>
</cp:coreProperties>
</file>