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DC8-1AF1-42D4-83B8-2AA06CD1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3C1-FA67-42D4-A6DB-A34B2F62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D78-9AB4-463C-B0E0-BA952D3A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FCB-8B46-4750-86D7-74B5861A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06C-6139-443E-B007-82A6574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BDF-4696-4DE5-87C5-2FD25024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554-4CBE-49D7-9F62-0BEBB8D8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693-ED94-4CA4-BD3B-FECB043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08D-8E38-4DDB-9E24-6FECCEDB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5E4-404B-4BC2-96E1-45C4CA7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E89-8B38-41D5-AE76-69D51DA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833-5737-4640-BBF7-7508B88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AEB8-EBDD-41E7-A9E2-642D7AAC1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5675-458E-4BEE-BEC1-8446E91F4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233\Desktop\Gerb_Azerbaijan_Abali.ru_.png"/>
          <p:cNvPicPr/>
          <p:nvPr/>
        </p:nvPicPr>
        <p:blipFill>
          <a:blip r:embed="rId1"/>
          <a:stretch/>
        </p:blipFill>
        <p:spPr>
          <a:xfrm>
            <a:off x="395280" y="318960"/>
            <a:ext cx="863640" cy="89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Users\User233\Desktop\az-stat-logo.gif"/>
          <p:cNvPicPr/>
          <p:nvPr/>
        </p:nvPicPr>
        <p:blipFill>
          <a:blip r:embed="rId2"/>
          <a:stretch/>
        </p:blipFill>
        <p:spPr>
          <a:xfrm>
            <a:off x="8129520" y="436680"/>
            <a:ext cx="854280" cy="7063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250920" y="25988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ncial Corporations Sector, its subsec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stitution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1357200" y="477720"/>
            <a:ext cx="65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STATISTICAL COMMITTEE OF AZERBAIJAN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285880"/>
            <a:ext cx="6400800" cy="3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stanbul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y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6-8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4000" y="1143000"/>
            <a:ext cx="85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ssion fees and other incomes are considered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arket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as a difference between total output and market out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output of the central bank is used 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consump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other financial corporations as well as by units of the government sector and non-financial corporation sector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arket output of the central bank is shown in secondary distribution of income account as a current transfer from the financial corporations sector to general government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8760" y="500040"/>
            <a:ext cx="82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the Central Ban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D5C7-AF2A-4AB1-859D-A21710C02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500040" y="1714680"/>
            <a:ext cx="8143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deposit taking corporations consists of two types of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in return for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Intermediation Services Indirectly Measur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5840" y="357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B5DC-AE39-4BFD-A6C0-DF811E2D2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500040" y="1633680"/>
            <a:ext cx="81439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ourc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profit and loss statement of commercial ban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lance sheet of commercial ban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n credit and deposit rate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f statistical form No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indicators of financial and economic activity of financial and credit institution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91A4-298C-4D0F-A83E-2B3350302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500040" y="2000160"/>
            <a:ext cx="81439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ervices provided in return for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s – the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by summing up the following items from the profit and loss statemen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s (charges)  from account managemen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(charges) from other services render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perating in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E92-DDA5-47A0-8D49-9F508E5B1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500040" y="164304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Financial Intermediation Services Indirectly Measured (FISIM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using the standard formula be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(rL – r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y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y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credit stock for the reference peri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deposit stock for the reference peri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n interest ra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 interest rat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 interest ra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5840" y="3571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B574-ED72-4F95-B3F5-0DCF0A8AE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500040" y="1643040"/>
            <a:ext cx="81439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culated using data on balances and interest rates on credits and deposits of legal entities and individuals in national and foreign currencies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rime rates are calculate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ssets denominated in national currency and assets denominates in foreign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rates are calculated as weighted average of credits and deposit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21CC-6336-4EEF-AC44-AEE592A78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500040" y="1643040"/>
            <a:ext cx="831996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M is distributed by institutional secto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ubs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annual average of credits and deposits stocks based on data provided by the 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SIM export and import are not calculated ye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insignificant share of external transactions with credits and deposits and the lack of necessary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B466-8D5D-483C-BA80-164B101DC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following types of insurance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insurance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insuran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fe insuran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surance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F925-FAB8-4AB7-9CC1-AA8DA657A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00040" y="1714680"/>
            <a:ext cx="8143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ourc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f statistical form No.1-insurance “On activity of insurers (reinsurers) and insurance brokers having corporate stat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f the State Agency for Insurance Supervision (Ministry of Financ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81B3-20E8-47F7-8418-B12580B8E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717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insurance services, for non-life insur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using formula be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 premiums ear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ums supp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claims pay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claims payabl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ssessed based on the analysis of insurance compensations data for the last 5-7 y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63AB-F5E5-4BDB-9483-9ECCB1BE2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rporations 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ncial corporations secto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all resident corporations whose principal activity is providing financial services including financial intermediation, insurance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ion fund services, and units that provide activit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financial intermediation. In addition, th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NPIs engaged in market production of a fina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 such as those financed by subscriptions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enterprises whose role is to promote and serve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s of those enterprise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em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9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926D-0F0C-47B7-8772-1F69B46C8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00120"/>
            <a:ext cx="8472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life insurance servi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as follow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 premiums ear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ums supp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d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(plus decrease) of life insurance technical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surance servic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using the same formula as for non-life insur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B0B0-E542-44C2-8D12-F65B5D32B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873720" y="2771640"/>
            <a:ext cx="76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ctors of Financial Corporation Sector in SNA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85724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deposit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inancial intermediari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an insurance corporations and pension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uxiliary financial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surance corporations and pension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71E9-E726-43BB-AAFA-5D5FBC5E2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ctors of Financial Corporation Sector in SNA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14280"/>
          <a:ext cx="7972560" cy="4449960"/>
        </p:xfrm>
        <a:graphic>
          <a:graphicData uri="http://schemas.openxmlformats.org/drawingml/2006/table">
            <a:tbl>
              <a:tblPr/>
              <a:tblGrid>
                <a:gridCol w="2879640"/>
                <a:gridCol w="622440"/>
                <a:gridCol w="622080"/>
                <a:gridCol w="633600"/>
                <a:gridCol w="3214800"/>
              </a:tblGrid>
              <a:tr h="35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s in SNA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s in SNA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53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depository corpo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sit-taking corporations except the Central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 market funds (MM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financial intermediar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than insurance corporations and pension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MMF investmen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financial intermediaries except insurance corporations and pension funds (ICP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xili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xili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ive financial institutions and  money le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corporations and pension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corpo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cxnSp>
        <p:nvCxnSpPr>
          <p:cNvPr id="54" name="Straight Arrow Connector 5"/>
          <p:cNvCxnSpPr/>
          <p:nvPr/>
        </p:nvCxnSpPr>
        <p:spPr>
          <a:xfrm>
            <a:off x="4071600" y="171468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4"/>
          <p:cNvCxnSpPr/>
          <p:nvPr/>
        </p:nvCxnSpPr>
        <p:spPr>
          <a:xfrm>
            <a:off x="4071600" y="207180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16"/>
          <p:cNvCxnSpPr/>
          <p:nvPr/>
        </p:nvCxnSpPr>
        <p:spPr>
          <a:xfrm>
            <a:off x="4070880" y="2928960"/>
            <a:ext cx="429480" cy="6433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17"/>
          <p:cNvCxnSpPr/>
          <p:nvPr/>
        </p:nvCxnSpPr>
        <p:spPr>
          <a:xfrm>
            <a:off x="4071600" y="292896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19"/>
          <p:cNvCxnSpPr/>
          <p:nvPr/>
        </p:nvCxnSpPr>
        <p:spPr>
          <a:xfrm>
            <a:off x="4070880" y="2071800"/>
            <a:ext cx="429480" cy="4291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21"/>
          <p:cNvCxnSpPr/>
          <p:nvPr/>
        </p:nvCxnSpPr>
        <p:spPr>
          <a:xfrm>
            <a:off x="4071600" y="421488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22"/>
          <p:cNvCxnSpPr/>
          <p:nvPr/>
        </p:nvCxnSpPr>
        <p:spPr>
          <a:xfrm>
            <a:off x="4070880" y="4214880"/>
            <a:ext cx="429480" cy="4291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23"/>
          <p:cNvCxnSpPr/>
          <p:nvPr/>
        </p:nvCxnSpPr>
        <p:spPr>
          <a:xfrm>
            <a:off x="4071600" y="507204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24"/>
          <p:cNvCxnSpPr/>
          <p:nvPr/>
        </p:nvCxnSpPr>
        <p:spPr>
          <a:xfrm>
            <a:off x="4070880" y="5071680"/>
            <a:ext cx="429480" cy="5007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7"/>
          <p:cNvSpPr/>
          <p:nvPr/>
        </p:nvSpPr>
        <p:spPr>
          <a:xfrm>
            <a:off x="500040" y="5929200"/>
            <a:ext cx="2857680" cy="30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ing companie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3"/>
          <p:cNvSpPr/>
          <p:nvPr/>
        </p:nvSpPr>
        <p:spPr>
          <a:xfrm>
            <a:off x="3357720" y="6083280"/>
            <a:ext cx="5286240" cy="60480"/>
          </a:xfrm>
          <a:prstGeom prst="line">
            <a:avLst/>
          </a:prstGeom>
          <a:ln w="158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35"/>
          <p:cNvSpPr/>
          <p:nvPr/>
        </p:nvSpPr>
        <p:spPr>
          <a:xfrm flipV="1">
            <a:off x="8643960" y="4644720"/>
            <a:ext cx="1440" cy="1498680"/>
          </a:xfrm>
          <a:prstGeom prst="line">
            <a:avLst/>
          </a:prstGeom>
          <a:ln w="158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9"/>
          <p:cNvCxnSpPr/>
          <p:nvPr/>
        </p:nvCxnSpPr>
        <p:spPr>
          <a:xfrm flipH="1" flipV="1">
            <a:off x="8429040" y="4642560"/>
            <a:ext cx="214920" cy="2520"/>
          </a:xfrm>
          <a:prstGeom prst="straightConnector1">
            <a:avLst/>
          </a:prstGeom>
          <a:ln w="1584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F514-C9E5-4F95-839C-01494D3BC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5726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ctors of Financial Corporation Sector in Azerbaija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cordance with SN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1714320"/>
            <a:ext cx="7944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-taking corporations except the Central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intermediaries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cep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corporations and pension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inancial auxili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ive financial institutions 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ey-le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surance corpo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07EE-D3BD-494A-9D8F-E6AA0D716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28760" y="1571760"/>
          <a:ext cx="8572320" cy="5059080"/>
        </p:xfrm>
        <a:graphic>
          <a:graphicData uri="http://schemas.openxmlformats.org/drawingml/2006/table">
            <a:tbl>
              <a:tblPr/>
              <a:tblGrid>
                <a:gridCol w="717480"/>
                <a:gridCol w="3139920"/>
                <a:gridCol w="3310200"/>
                <a:gridCol w="1404720"/>
              </a:tblGrid>
              <a:tr h="112212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itutional Uni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 of Activity Codes under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E rev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264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Republic of Azerbai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sit-taking corporations except the Central 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rcial bank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un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21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financial intermediarie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ept insurance corporations and pension f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sing compan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xil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ker's office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ck exchange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ment companies, et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9, 661, 662, 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2" name="Title 1"/>
          <p:cNvSpPr/>
          <p:nvPr/>
        </p:nvSpPr>
        <p:spPr>
          <a:xfrm>
            <a:off x="285840" y="28584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of Institutional Units Operating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erbaijan by Subsectors of Financial Corporatio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1823-9EFD-4458-B326-3E384352D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28760" y="1571760"/>
          <a:ext cx="8572320" cy="4154400"/>
        </p:xfrm>
        <a:graphic>
          <a:graphicData uri="http://schemas.openxmlformats.org/drawingml/2006/table">
            <a:tbl>
              <a:tblPr/>
              <a:tblGrid>
                <a:gridCol w="717480"/>
                <a:gridCol w="3139920"/>
                <a:gridCol w="3310200"/>
                <a:gridCol w="1404720"/>
              </a:tblGrid>
              <a:tr h="112212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itutional Uni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 of Activity Codes under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E rev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0824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ive financial institutions an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-l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ank credit organiz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finance institution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tions through which the government credit programs are implement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wnsh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corpo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organization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sit insurance f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1, 6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5" name="Title 1"/>
          <p:cNvSpPr/>
          <p:nvPr/>
        </p:nvSpPr>
        <p:spPr>
          <a:xfrm>
            <a:off x="285840" y="28584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of Institutional Units Operating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erbaijan by Subsectors of Financial Corporatio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8D96-8D51-494D-B9BF-073FCBCA8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214280" y="1403280"/>
            <a:ext cx="6786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the Central Bank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outpu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arket outpu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B output is calculated in two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130120" y="47628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the Centr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10B5-F3B8-4F63-B8AD-143BCCF31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24000" y="1143000"/>
            <a:ext cx="85327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irst stag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B total output is calculated as sum of costs based on data from the CB profit and loss statement using the following items of operating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d fe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ciation deductions on permanent assets and intangible asse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related to production and delivery of bank notes 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ing docume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28760" y="500040"/>
            <a:ext cx="82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the Central Ban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1A23-47E3-4BBC-AEA0-0114BE83C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0:22:17Z</dcterms:created>
  <dc:creator>Rasim</dc:creator>
  <dc:description/>
  <dc:language>en-US</dc:language>
  <cp:lastModifiedBy>onu</cp:lastModifiedBy>
  <cp:lastPrinted>2015-03-30T06:39:21Z</cp:lastPrinted>
  <dcterms:modified xsi:type="dcterms:W3CDTF">2015-05-06T21:37:02Z</dcterms:modified>
  <cp:revision>179</cp:revision>
  <dc:subject/>
  <dc:title>PowerPoint Presentation</dc:title>
</cp:coreProperties>
</file>