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355-E72B-4B44-BF44-ECF0F26D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8E6-45F0-40D1-8540-1D81046C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11B-598B-4169-B102-1FB28C09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91C-45AE-4C8B-8FAB-95A88F73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727-C7D3-4A51-AD1C-D09E7C82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ABB-0F62-452C-B275-36146446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C7B-8A59-4480-8DC7-9EA3ADB2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6D8-D49E-4A7C-8ED4-A57579F4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AB1-22A0-4E27-BE81-165E60DF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198-40B0-4151-9D4D-6C6B5B98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11C-514C-4568-9CA3-CCD68DAE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45B-6F7F-40A0-A411-8C251A58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ACAD-0D44-48FE-897F-B59616D64A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8393-F8E9-4F5A-83CE-AC9364650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233\Desktop\Gerb_Azerbaijan_Abali.ru_.png"/>
          <p:cNvPicPr/>
          <p:nvPr/>
        </p:nvPicPr>
        <p:blipFill>
          <a:blip r:embed="rId1"/>
          <a:stretch/>
        </p:blipFill>
        <p:spPr>
          <a:xfrm>
            <a:off x="395280" y="318960"/>
            <a:ext cx="863640" cy="895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:\Users\User233\Desktop\az-stat-logo.gif"/>
          <p:cNvPicPr/>
          <p:nvPr/>
        </p:nvPicPr>
        <p:blipFill>
          <a:blip r:embed="rId2"/>
          <a:stretch/>
        </p:blipFill>
        <p:spPr>
          <a:xfrm>
            <a:off x="8129520" y="436680"/>
            <a:ext cx="854280" cy="7063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"/>
          <p:cNvSpPr/>
          <p:nvPr/>
        </p:nvSpPr>
        <p:spPr>
          <a:xfrm>
            <a:off x="250920" y="25988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ancial Corporations Sector, its subsecto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nstitutional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1357200" y="477720"/>
            <a:ext cx="65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STATISTICAL COMMITTEE OF AZERBAIJAN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285880"/>
            <a:ext cx="6400800" cy="3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Istanbul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y 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6-8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4000" y="1143000"/>
            <a:ext cx="8532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ssion fees and other incomes are considered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 out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Central Ban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arket out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culated as a difference between total output and market outpu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 output of the central bank is used a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consumpti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other financial corporations as well as by units of the government sector and non-financial corporation sector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arket output of the central bank is shown in secondary distribution of income account as a current transfer from the financial corporations sector to general government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28760" y="500040"/>
            <a:ext cx="82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the Central Bank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68FD-32DF-4A41-9FC5-C78629575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500040" y="1714680"/>
            <a:ext cx="81439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of deposit taking corporations consists of two types of servic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ervic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d in return for 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Intermediation Services Indirectly Measure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I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85840" y="35712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Credit Organiz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80E1-0282-461D-9ADD-D14E15EBF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500040" y="1633680"/>
            <a:ext cx="81439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ource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idated profit and loss statement of commercial bank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Ban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idated balance sheet of commercial bank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Ban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n credit and deposit rate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Ban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f statistical form No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indicators of financial and economic activity of financial and credit institution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85840" y="35712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Credit Organization Service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0DE9-E110-4C91-AEA3-E0044EF66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9"/>
          <p:cNvSpPr/>
          <p:nvPr/>
        </p:nvSpPr>
        <p:spPr>
          <a:xfrm>
            <a:off x="500040" y="2000160"/>
            <a:ext cx="81439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ervices provided in return for 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s – the out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culated by summing up the following items from the profit and loss statemen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s (charges)  from account managemen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(charges) from other services rendere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operating in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85840" y="35712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Credit Organization Service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BEB8-43F7-4737-B990-D651EA25D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9"/>
          <p:cNvSpPr/>
          <p:nvPr/>
        </p:nvSpPr>
        <p:spPr>
          <a:xfrm>
            <a:off x="500040" y="1643040"/>
            <a:ext cx="8143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4985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of Financial Intermediation Services Indirectly Measured (FISIM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culated using the standard formula belo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498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498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I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(rL – r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y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+ [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y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4985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498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rage credit stock for the reference peri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498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deposit stock for the reference peri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4985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n interest rat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498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 interest rat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4985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e interest rat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85840" y="3571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Credit Organization Service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5D27-4D92-42B1-B84E-8E9C22275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9"/>
          <p:cNvSpPr/>
          <p:nvPr/>
        </p:nvSpPr>
        <p:spPr>
          <a:xfrm>
            <a:off x="500040" y="1643040"/>
            <a:ext cx="814392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alculated using data on balances and interest rates on credits and deposits of legal entities and individuals in national and foreign currencies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rime rates are calculate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ssets denominated in national currency and assets denominates in foreign 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rates are calculated as weighted average of credits and deposits 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85840" y="35712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Credit Organization Service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C7D9-999D-4E3F-A2AD-F30925923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500040" y="1643040"/>
            <a:ext cx="831996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IM is distributed by institutional secto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ubse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tion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annual average of credits and deposits stocks based on data provided by the Central Ban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784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SIM export and import are not calculated ye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insignificant share of external transactions with credits and deposits and the lack of necessary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85840" y="35712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Credit Organization Service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5D3F-5395-4378-BDAF-1A7C94C91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rance Out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 following types of insurance servic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insurance servic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in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insuran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life insuran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nsurance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rance Servi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35D1-0D99-4D41-B669-395F39674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00040" y="1714680"/>
            <a:ext cx="8143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ourc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f statistical form No.1-insurance “On activity of insurers (reinsurers) and insurance brokers having corporate stat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f the State Agency for Insurance Supervision (Ministry of Financ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85840" y="35712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rance Service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990B-DA44-4260-8F2B-24CDA67A2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7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rance Service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717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of insurance services, for non-life insur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culated using formula belo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 premiums ear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iums supp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s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ed claims pay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ed claims payabl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ssessed based on the analysis of insurance compensations data for the last 5-7 yea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FCA4-4EB3-4C63-ACAC-F25845975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rporations S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ancial corporations secto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all resident corporations whose principal activity is providing financial services including financial intermediation, insurance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sion fund services, and units that provide activitie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financial intermediation. In addition, th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NPIs engaged in market production of a fina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e such as those financed by subscriptions f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enterprises whose role is to promote and serve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s of those enterprise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tem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9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A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0294-2522-464C-9247-7D852EA16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rance Service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500120"/>
            <a:ext cx="8472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of life insurance servic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culated as follow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 premiums ear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iums supp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s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d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(plus decrease) of life insurance technical reser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o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nsurance servic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culated using the same formula as for non-life insur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67F9-513C-46D3-B873-70E97E9FE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873720" y="2771640"/>
            <a:ext cx="762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ectors of Financial Corporation Sector in SNA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85724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deposit organiz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financial intermediari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than insurance corporations and pension f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uxiliary financial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nsurance corporations and pension f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7E18-239F-4710-B362-B625191D8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ectors of Financial Corporation Sector in SNA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14280"/>
          <a:ext cx="7972560" cy="4449960"/>
        </p:xfrm>
        <a:graphic>
          <a:graphicData uri="http://schemas.openxmlformats.org/drawingml/2006/table">
            <a:tbl>
              <a:tblPr/>
              <a:tblGrid>
                <a:gridCol w="2879640"/>
                <a:gridCol w="622440"/>
                <a:gridCol w="622080"/>
                <a:gridCol w="633600"/>
                <a:gridCol w="3214800"/>
              </a:tblGrid>
              <a:tr h="354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sectors in SNA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sectors in SNA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al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al Bank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53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depository corpo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osit-taking corporations except the Central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ey market funds (MM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financial intermediarie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than insurance corporations and pension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MMF investment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financial intermediaries except insurance corporations and pension funds (ICP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 auxilia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 auxilia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tive financial institutions and  money len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urance corporations and pension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urance corpo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ion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cxnSp>
        <p:nvCxnSpPr>
          <p:cNvPr id="54" name="Straight Arrow Connector 5"/>
          <p:cNvCxnSpPr/>
          <p:nvPr/>
        </p:nvCxnSpPr>
        <p:spPr>
          <a:xfrm>
            <a:off x="4071600" y="1714680"/>
            <a:ext cx="429480" cy="21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14"/>
          <p:cNvCxnSpPr/>
          <p:nvPr/>
        </p:nvCxnSpPr>
        <p:spPr>
          <a:xfrm>
            <a:off x="4071600" y="2071800"/>
            <a:ext cx="429480" cy="21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16"/>
          <p:cNvCxnSpPr/>
          <p:nvPr/>
        </p:nvCxnSpPr>
        <p:spPr>
          <a:xfrm>
            <a:off x="4070880" y="2928960"/>
            <a:ext cx="429480" cy="64332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Straight Arrow Connector 17"/>
          <p:cNvCxnSpPr/>
          <p:nvPr/>
        </p:nvCxnSpPr>
        <p:spPr>
          <a:xfrm>
            <a:off x="4071600" y="2928960"/>
            <a:ext cx="429480" cy="21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Straight Arrow Connector 19"/>
          <p:cNvCxnSpPr/>
          <p:nvPr/>
        </p:nvCxnSpPr>
        <p:spPr>
          <a:xfrm>
            <a:off x="4070880" y="2071800"/>
            <a:ext cx="429480" cy="42912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Straight Arrow Connector 21"/>
          <p:cNvCxnSpPr/>
          <p:nvPr/>
        </p:nvCxnSpPr>
        <p:spPr>
          <a:xfrm>
            <a:off x="4071600" y="4214880"/>
            <a:ext cx="429480" cy="21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22"/>
          <p:cNvCxnSpPr/>
          <p:nvPr/>
        </p:nvCxnSpPr>
        <p:spPr>
          <a:xfrm>
            <a:off x="4070880" y="4214880"/>
            <a:ext cx="429480" cy="42912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Straight Arrow Connector 23"/>
          <p:cNvCxnSpPr/>
          <p:nvPr/>
        </p:nvCxnSpPr>
        <p:spPr>
          <a:xfrm>
            <a:off x="4071600" y="5072040"/>
            <a:ext cx="429480" cy="21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24"/>
          <p:cNvCxnSpPr/>
          <p:nvPr/>
        </p:nvCxnSpPr>
        <p:spPr>
          <a:xfrm>
            <a:off x="4070880" y="5071680"/>
            <a:ext cx="429480" cy="5007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Box 27"/>
          <p:cNvSpPr/>
          <p:nvPr/>
        </p:nvSpPr>
        <p:spPr>
          <a:xfrm>
            <a:off x="500040" y="5929200"/>
            <a:ext cx="2857680" cy="307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ing companies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33"/>
          <p:cNvSpPr/>
          <p:nvPr/>
        </p:nvSpPr>
        <p:spPr>
          <a:xfrm>
            <a:off x="3357720" y="6083280"/>
            <a:ext cx="5286240" cy="60480"/>
          </a:xfrm>
          <a:prstGeom prst="line">
            <a:avLst/>
          </a:prstGeom>
          <a:ln w="158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35"/>
          <p:cNvSpPr/>
          <p:nvPr/>
        </p:nvSpPr>
        <p:spPr>
          <a:xfrm flipV="1">
            <a:off x="8643960" y="4644720"/>
            <a:ext cx="1440" cy="1498680"/>
          </a:xfrm>
          <a:prstGeom prst="line">
            <a:avLst/>
          </a:prstGeom>
          <a:ln w="158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39"/>
          <p:cNvCxnSpPr/>
          <p:nvPr/>
        </p:nvCxnSpPr>
        <p:spPr>
          <a:xfrm flipH="1" flipV="1">
            <a:off x="8429040" y="4642560"/>
            <a:ext cx="214920" cy="2520"/>
          </a:xfrm>
          <a:prstGeom prst="straightConnector1">
            <a:avLst/>
          </a:prstGeom>
          <a:ln w="1584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6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3191-0B98-4783-A563-5F51A3075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85726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ectors of Financial Corporation Sector in Azerbaija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cordance with SN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3880" y="1714320"/>
            <a:ext cx="7944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-taking corporations except the Central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intermediaries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cep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rance corporations and pension f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inancial auxilia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ive financial institutions an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ey-len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1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nsurance corpo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0301-58D9-467A-B332-8FB18C8AC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28760" y="1571760"/>
          <a:ext cx="8572320" cy="5059080"/>
        </p:xfrm>
        <a:graphic>
          <a:graphicData uri="http://schemas.openxmlformats.org/drawingml/2006/table">
            <a:tbl>
              <a:tblPr/>
              <a:tblGrid>
                <a:gridCol w="717480"/>
                <a:gridCol w="3139920"/>
                <a:gridCol w="3310200"/>
                <a:gridCol w="1404720"/>
              </a:tblGrid>
              <a:tr h="112212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s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titutional Uni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ype of Activity Codes under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CE rev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264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al 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al Bank o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Republic of Azerbaij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08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osit-taking corporations except the Central 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rcial bank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un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6216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financial intermediarie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ept insurance corporations and pension f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sing compan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08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 auxili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ker's office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ck exchange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stment companies, et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99, 661, 662, 6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2" name="Title 1"/>
          <p:cNvSpPr/>
          <p:nvPr/>
        </p:nvSpPr>
        <p:spPr>
          <a:xfrm>
            <a:off x="285840" y="285840"/>
            <a:ext cx="864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of Institutional Units Operating i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erbaijan by Subsectors of Financial Corporation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A7B3-1424-47E0-A4E6-96D1D48B5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28760" y="1571760"/>
          <a:ext cx="8572320" cy="4154400"/>
        </p:xfrm>
        <a:graphic>
          <a:graphicData uri="http://schemas.openxmlformats.org/drawingml/2006/table">
            <a:tbl>
              <a:tblPr/>
              <a:tblGrid>
                <a:gridCol w="717480"/>
                <a:gridCol w="3139920"/>
                <a:gridCol w="3310200"/>
                <a:gridCol w="1404720"/>
              </a:tblGrid>
              <a:tr h="112212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s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titutional Uni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ype of Activity Codes under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CE rev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0824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tive financial institutions an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ey-le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bank credit organiz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finance institution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tions through which the government credit programs are implemente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wnsh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urance corpo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urance organization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osit insurance f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1, 6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5" name="Title 1"/>
          <p:cNvSpPr/>
          <p:nvPr/>
        </p:nvSpPr>
        <p:spPr>
          <a:xfrm>
            <a:off x="285840" y="285840"/>
            <a:ext cx="864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of Institutional Units Operating i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erbaijan by Subsectors of Financial Corporation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5434-B03E-43CD-98F2-8F2DC0664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214280" y="1403280"/>
            <a:ext cx="678672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of the Central Bank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ivided int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 outpu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arket outpu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B output is calculated in two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130120" y="47628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the Central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C8FD-2845-4C50-8E5F-A172EF1A2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24000" y="1143000"/>
            <a:ext cx="853272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first stag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B total output is calculated as sum of costs based on data from the CB profit and loss statement using the following items of operating expens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d fe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e expens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expens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reciation deductions on permanent assets and intangible asset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related to production and delivery of bank notes an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ing document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expens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28760" y="500040"/>
            <a:ext cx="82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of the Central Bank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E692-CB8C-410C-AF72-323AB9805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0:22:17Z</dcterms:created>
  <dc:creator>Rasim</dc:creator>
  <dc:description/>
  <dc:language>en-US</dc:language>
  <cp:lastModifiedBy>onu</cp:lastModifiedBy>
  <cp:lastPrinted>2015-03-30T06:39:21Z</cp:lastPrinted>
  <dcterms:modified xsi:type="dcterms:W3CDTF">2015-05-06T21:37:02Z</dcterms:modified>
  <cp:revision>179</cp:revision>
  <dc:subject/>
  <dc:title>PowerPoint Presentation</dc:title>
</cp:coreProperties>
</file>