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95F-B41E-44C9-9536-F82D3947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65F7-9D29-4269-BD76-536105C7932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E06-CCA2-4BC9-91B5-1CDB817B754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41A-3E98-48BD-9003-F4F781D1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8CB-6700-4788-9F1A-D18A5002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BE2-64B9-4836-A58B-9F7C0209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753-13DA-4EE4-9DCD-42959D4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B27-4E09-44D6-97FE-B029B696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B0FC-AC41-43D7-9DBC-1242A7CB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BE0-2B59-46EF-A766-2A33EF3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41EF-BC09-4279-B82C-451F2FD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9B3-A182-42F5-AE9E-89CCC7F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E528-B260-4EC8-A54C-8240C553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141-4C24-4F23-A02A-E993DEA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4D9-9492-4834-9EE6-DD694ED9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6198-686C-4CBE-9FDD-83DA061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EB2-E5D3-4654-82BD-8659077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9A7-4A77-45B0-BACE-591459C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8A8-B0BD-496E-A693-98C1C1CF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EB22-7014-4EE9-95CD-259044C3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5F0-3675-4EBD-A60A-14D676DE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CAE-500D-4002-9DAC-285C0147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65C-02D9-40AF-95D8-BBEC911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188-BB64-49C7-B34C-5B83C37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208-E083-4116-89DD-19C57D0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D44-47C6-448E-AF19-4D3649B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569-A1C2-4053-AA1A-F4D4816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1066680"/>
            <a:ext cx="8686800" cy="108000"/>
            <a:chOff x="0" y="1066680"/>
            <a:chExt cx="8686800" cy="108000"/>
          </a:xfrm>
        </p:grpSpPr>
        <p:sp>
          <p:nvSpPr>
            <p:cNvPr id="1" name="Rectangle 2"/>
            <p:cNvSpPr/>
            <p:nvPr/>
          </p:nvSpPr>
          <p:spPr>
            <a:xfrm>
              <a:off x="0" y="1073160"/>
              <a:ext cx="213372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447920" y="1066680"/>
              <a:ext cx="723888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891-B0F1-45E9-995D-0E44B73CCD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8" name="Freeform 9"/>
          <p:cNvSpPr/>
          <p:nvPr/>
        </p:nvSpPr>
        <p:spPr>
          <a:xfrm>
            <a:off x="685800" y="152280"/>
            <a:ext cx="15228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" name="Freeform 10"/>
          <p:cNvSpPr/>
          <p:nvPr/>
        </p:nvSpPr>
        <p:spPr>
          <a:xfrm>
            <a:off x="8263080" y="7632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1676520"/>
            <a:ext cx="4876920" cy="16002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962520" y="1676520"/>
            <a:ext cx="4724280" cy="13716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50000">
                <a:srgbClr val="ffffff"/>
              </a:gs>
              <a:gs pos="100000">
                <a:srgbClr val="297cd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09480" y="1523880"/>
            <a:ext cx="304920" cy="19051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7772400" y="1219320"/>
            <a:ext cx="380880" cy="2143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50" name="Picture 18" descr="gerb"/>
          <p:cNvPicPr/>
          <p:nvPr/>
        </p:nvPicPr>
        <p:blipFill>
          <a:blip r:embed="rId2"/>
          <a:stretch/>
        </p:blipFill>
        <p:spPr>
          <a:xfrm>
            <a:off x="380880" y="228600"/>
            <a:ext cx="9813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2571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MCA-Armenia-SIGN-LIGHT"/>
          <p:cNvPicPr/>
          <p:nvPr/>
        </p:nvPicPr>
        <p:blipFill>
          <a:blip r:embed="rId4"/>
          <a:stretch/>
        </p:blipFill>
        <p:spPr>
          <a:xfrm>
            <a:off x="3200400" y="228600"/>
            <a:ext cx="2523960" cy="80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762-3E54-4748-8E86-ADA6463EF06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66680" y="123840"/>
            <a:ext cx="903240" cy="8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1263600" cy="71748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1066680" y="2076480"/>
            <a:ext cx="6858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onitoring Poverty in Armenia using Multidimensional Poverty Indicators</a:t>
            </a:r>
            <a:endParaRPr b="0" lang="en-US" sz="3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66680" y="4543560"/>
            <a:ext cx="6858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Diana Martirosov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National Statistical Service of the Republic of Armen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Moritz Meyer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Nistha Sinha 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Senior 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4680" y="36720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0f8"/>
                </a:solidFill>
                <a:latin typeface="Arial"/>
              </a:rPr>
              <a:t>UNECE conference in Geneva, 4-6 May 2015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53120" y="123840"/>
            <a:ext cx="1771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60240" y="52236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oadmap: Multidimensional poverty in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000" y="1447920"/>
            <a:ext cx="766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Our vis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Describe complexity, depth and persistence of povert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Concept: How do households experience poverty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is characterized by whether an individuals experiences deprivations 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spects of welfare that are a development priority (such as being healthy or hav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 job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Benefit: Complement consumption poverty by multidimensional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easure reflects aspects of quality of life which are not captured by consumpti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(such as having access to good quality education and health services and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having adequate heating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Policy: 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ultidimensional poverty can be based on government’s development priorities.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This presentat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Focus on methodology, findings and polic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1A5-C258-4353-BD7E-E046DEC78555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60240" y="304920"/>
            <a:ext cx="779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A pilot multidimensional poverty index for Armenia: 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hoice of unit of analysis, dimensions and indicators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60240" y="1600200"/>
          <a:ext cx="7793280" cy="4572000"/>
        </p:xfrm>
        <a:graphic>
          <a:graphicData uri="http://schemas.openxmlformats.org/drawingml/2006/table">
            <a:tbl>
              <a:tblPr/>
              <a:tblGrid>
                <a:gridCol w="1778040"/>
                <a:gridCol w="6015240"/>
              </a:tblGrid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Dimension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ndicator: a household is defined as deprived if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above the age of 15 years ha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ess than 5 years of 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child of compulsory schooling age between 6 and 14 years i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attending schoo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l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eports poor or very poor health statu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bo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nemployed household member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the household hea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s out of the labor for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: most informed household member evaluat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 conditions as bad or very b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Water: household do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have centralized water system and/ or hot wat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Garbage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cks a garbage disposal syste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ting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ses wood, carbon or other heating mean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xtreme pover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consumption expenditures ar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below the national food poverty li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52FB-CA50-4101-A582-D0F2668F7BE2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7793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Findings from pilot multidimensional poverty measure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Identify time trends, count and index (by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0240" y="1599840"/>
            <a:ext cx="3911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is deprived in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indicator on heat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household dimension) 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88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experiences deprivations related to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imension on labor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Content Placeholder 5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4054680" cy="36640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4" descr=""/>
          <p:cNvPicPr/>
          <p:nvPr/>
        </p:nvPicPr>
        <p:blipFill>
          <a:blip r:embed="rId2"/>
          <a:stretch/>
        </p:blipFill>
        <p:spPr>
          <a:xfrm>
            <a:off x="4638600" y="2511360"/>
            <a:ext cx="404820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C4F-2557-4D99-9B43-37650459E6CE}" type="slidenum">
              <a:rPr b="0" lang="ru-RU" sz="11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696080" y="57913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1240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658280" y="5791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How do households experience poverty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ount number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D737-8FA1-4EAA-BCA0-78DEF7D20325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experiences “0” to “4 or more”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0240" y="228240"/>
            <a:ext cx="7793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Time trend for the multidimensional poverty index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Describe incidence and intensity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able Placeholder 4" descr=""/>
          <p:cNvPicPr/>
          <p:nvPr/>
        </p:nvPicPr>
        <p:blipFill>
          <a:blip r:embed="rId1"/>
          <a:stretch/>
        </p:blipFill>
        <p:spPr>
          <a:xfrm>
            <a:off x="914400" y="251136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80E-27E3-497B-B54A-7520B7074EA9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cidence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population which is classified as multidimensional poor.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tensity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deprivations wher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eprived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 households experience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1680" y="228600"/>
            <a:ext cx="7761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egional variation of multidimensional poverty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Level and nature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514600"/>
          <a:ext cx="7315200" cy="3600360"/>
        </p:xfrm>
        <a:graphic>
          <a:graphicData uri="http://schemas.openxmlformats.org/drawingml/2006/table">
            <a:tbl>
              <a:tblPr/>
              <a:tblGrid>
                <a:gridCol w="958680"/>
                <a:gridCol w="1533600"/>
                <a:gridCol w="1619280"/>
                <a:gridCol w="1785960"/>
                <a:gridCol w="1417680"/>
              </a:tblGrid>
              <a:tr h="73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ational lev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ural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Other urban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7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1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8FB0-7101-407C-AD19-88A3510A1434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poor– breakdown by loc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228240"/>
            <a:ext cx="772164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Calibri"/>
              </a:rPr>
              <a:t>Policy: Drawing a full picture of poverty - multidimensional poverty complements consumption poverty, Armenia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7F5-AA68-4731-9C62-84BC632DB35A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and consumption poor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using the upper national poverty line)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5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ustomize agenda of multidimensional poverty to the Armenian context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Which dimensions and indicators should be included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Use Integrated Living Conditions Survey to complement existing tools to monitor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onsultations with different stakeholders in Armenia: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w are the NSS RA, different line ministries and civil society going to use this measure for the policy design and coordination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Ensure that dimensions and indicators of multidimensional poverty reflect development progress in the countr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660240" y="228600"/>
            <a:ext cx="7797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Times New Roman"/>
              </a:rPr>
              <a:t>Looking ahead – tailor a national measure of multidimensional poverty to the country context of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705720" y="624852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9288-63C0-4651-B220-E950DF25B5E6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60240" y="6248520"/>
            <a:ext cx="779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1:20:27Z</dcterms:created>
  <dc:creator>Hasmik</dc:creator>
  <dc:description/>
  <dc:language>en-US</dc:language>
  <cp:lastModifiedBy>Vania Etropolska</cp:lastModifiedBy>
  <dcterms:modified xsi:type="dcterms:W3CDTF">2015-05-04T07:08:13Z</dcterms:modified>
  <cp:revision>768</cp:revision>
  <dc:subject/>
  <dc:title>Slide 1</dc:title>
</cp:coreProperties>
</file>