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5509-F382-4158-B4F5-774B13DA3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Armeni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B826-6D19-4EBD-8540-887723485288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BFC1-42D9-4F19-9917-534D7D950D9B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84C-C0A2-47E9-84C8-057FA6BE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60" y="354024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500D-6C77-41C7-9B5D-9BBAF0FC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75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F0F-E02E-4D92-BA1D-8640A2FF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232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252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176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232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252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4E0-ED6F-4709-B85A-40771EBF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44AE-0534-47FD-A15C-8BC8592F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C420-D6A6-47C1-878E-F0CC6310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EC57-C4B5-4638-87F7-0D185B6D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C2EA-C40F-48E0-8EC3-F7C6E266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BD74-3C14-4F91-8348-7B6A1E93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228240"/>
            <a:ext cx="71582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BFF1-BDBC-439D-8B15-E3C1A803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80E5-8C0E-4F7C-A636-29E3A6A9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A5C-5646-4B34-A1B5-CC07C7BF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75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B3C2-877D-4C52-9ECB-B6BB8F85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5697-6343-4944-825E-E757C794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61760" y="354024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4DC9-3FA3-45B4-80FD-7E59AE3C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75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6BEE-9B59-4763-A713-9B1A023E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5232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2520" y="182880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6176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5232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2520" y="3540240"/>
            <a:ext cx="246672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3CCC-7D76-4F6D-B83D-4FB9C405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6DBF-D010-4F3D-A371-EC7C8EFC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66A-E1EA-4EC8-B1A1-9F940C37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A97-880E-4E45-A118-0C2461FC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6680" y="228240"/>
            <a:ext cx="71582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D694-4865-49B1-B02A-A3CD4218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ACC-AF29-4175-8CE2-2FA6A01F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7560" y="354024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C2B-FDF5-471F-8BF2-68699DC9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7560" y="1828800"/>
            <a:ext cx="3738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3540240"/>
            <a:ext cx="766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48B-AFB6-40A4-8DF9-473B2758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1066680"/>
            <a:ext cx="8686800" cy="108000"/>
            <a:chOff x="0" y="1066680"/>
            <a:chExt cx="8686800" cy="108000"/>
          </a:xfrm>
        </p:grpSpPr>
        <p:sp>
          <p:nvSpPr>
            <p:cNvPr id="1" name="Rectangle 2"/>
            <p:cNvSpPr/>
            <p:nvPr/>
          </p:nvSpPr>
          <p:spPr>
            <a:xfrm>
              <a:off x="0" y="1073160"/>
              <a:ext cx="2133720" cy="101520"/>
            </a:xfrm>
            <a:prstGeom prst="rect">
              <a:avLst/>
            </a:prstGeom>
            <a:gradFill rotWithShape="0">
              <a:gsLst>
                <a:gs pos="0">
                  <a:srgbClr val="297cd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Armeni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1447920" y="1066680"/>
              <a:ext cx="7238880" cy="101520"/>
            </a:xfrm>
            <a:prstGeom prst="rect">
              <a:avLst/>
            </a:prstGeom>
            <a:gradFill rotWithShape="0">
              <a:gsLst>
                <a:gs pos="0">
                  <a:srgbClr val="297cd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Armeni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53520" indent="-35352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02000" indent="-347040">
              <a:spcBef>
                <a:spcPts val="79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022040" indent="-31824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328040" indent="-304560">
              <a:spcBef>
                <a:spcPts val="79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1635120" indent="-30600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1635120" indent="-3060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1635120" indent="-3060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ing Poverty in Armenia using Multidimensional Poverty Indicators</a:t>
            </a:r>
            <a:endParaRPr b="0" lang="en-US" sz="1000" spc="-1" strike="noStrike">
              <a:solidFill>
                <a:srgbClr val="000000"/>
              </a:solidFill>
              <a:latin typeface="Times Armeni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0415-ED22-4961-94FE-963D63C6E39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Armenian"/>
            </a:endParaRPr>
          </a:p>
        </p:txBody>
      </p:sp>
      <p:sp>
        <p:nvSpPr>
          <p:cNvPr id="8" name="Freeform 9"/>
          <p:cNvSpPr/>
          <p:nvPr/>
        </p:nvSpPr>
        <p:spPr>
          <a:xfrm>
            <a:off x="685800" y="152280"/>
            <a:ext cx="152280" cy="10670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9" name="Freeform 10"/>
          <p:cNvSpPr/>
          <p:nvPr/>
        </p:nvSpPr>
        <p:spPr>
          <a:xfrm>
            <a:off x="8263080" y="7632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1676520"/>
            <a:ext cx="4876920" cy="1600200"/>
          </a:xfrm>
          <a:prstGeom prst="rect">
            <a:avLst/>
          </a:prstGeom>
          <a:gradFill rotWithShape="0">
            <a:gsLst>
              <a:gs pos="0">
                <a:srgbClr val="297cd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3962520" y="1676520"/>
            <a:ext cx="4724280" cy="1371600"/>
          </a:xfrm>
          <a:prstGeom prst="rect">
            <a:avLst/>
          </a:prstGeom>
          <a:gradFill rotWithShape="0">
            <a:gsLst>
              <a:gs pos="0">
                <a:srgbClr val="297cd7"/>
              </a:gs>
              <a:gs pos="50000">
                <a:srgbClr val="ffffff"/>
              </a:gs>
              <a:gs pos="100000">
                <a:srgbClr val="297cd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48" name="Freeform 10"/>
          <p:cNvSpPr/>
          <p:nvPr/>
        </p:nvSpPr>
        <p:spPr>
          <a:xfrm>
            <a:off x="609480" y="1523880"/>
            <a:ext cx="304920" cy="19051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49" name="Freeform 11"/>
          <p:cNvSpPr/>
          <p:nvPr/>
        </p:nvSpPr>
        <p:spPr>
          <a:xfrm>
            <a:off x="7772400" y="1219320"/>
            <a:ext cx="380880" cy="21430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pic>
        <p:nvPicPr>
          <p:cNvPr id="50" name="Picture 18" descr="gerb"/>
          <p:cNvPicPr/>
          <p:nvPr/>
        </p:nvPicPr>
        <p:blipFill>
          <a:blip r:embed="rId2"/>
          <a:stretch/>
        </p:blipFill>
        <p:spPr>
          <a:xfrm>
            <a:off x="380880" y="228600"/>
            <a:ext cx="981360" cy="95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"/>
          <p:cNvPicPr/>
          <p:nvPr/>
        </p:nvPicPr>
        <p:blipFill>
          <a:blip r:embed="rId3"/>
          <a:stretch/>
        </p:blipFill>
        <p:spPr>
          <a:xfrm>
            <a:off x="1676520" y="304920"/>
            <a:ext cx="125712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MCA-Armenia-SIGN-LIGHT"/>
          <p:cNvPicPr/>
          <p:nvPr/>
        </p:nvPicPr>
        <p:blipFill>
          <a:blip r:embed="rId4"/>
          <a:stretch/>
        </p:blipFill>
        <p:spPr>
          <a:xfrm>
            <a:off x="3200400" y="228600"/>
            <a:ext cx="2523960" cy="800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61760" y="1828800"/>
            <a:ext cx="766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53520" indent="-35352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02000" indent="-347040">
              <a:spcBef>
                <a:spcPts val="79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022040" indent="-31824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328040" indent="-304560">
              <a:spcBef>
                <a:spcPts val="79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1635120" indent="-306000">
              <a:spcBef>
                <a:spcPts val="799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1635120" indent="-3060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1635120" indent="-3060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Monitoring Poverty in Armenia using Multidimensional Poverty Indicators</a:t>
            </a:r>
            <a:endParaRPr b="0" lang="en-US" sz="1000" spc="-1" strike="noStrike">
              <a:solidFill>
                <a:srgbClr val="000000"/>
              </a:solidFill>
              <a:latin typeface="Times Armeni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F699-446E-4484-BBDF-D4824A2746D3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Armeni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066680" y="123840"/>
            <a:ext cx="903240" cy="866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1263600" cy="717480"/>
          </a:xfrm>
          <a:prstGeom prst="rect">
            <a:avLst/>
          </a:prstGeom>
          <a:ln w="0">
            <a:noFill/>
          </a:ln>
        </p:spPr>
      </p:pic>
      <p:sp>
        <p:nvSpPr>
          <p:cNvPr id="103" name="Content Placeholder 2"/>
          <p:cNvSpPr/>
          <p:nvPr/>
        </p:nvSpPr>
        <p:spPr>
          <a:xfrm>
            <a:off x="1066680" y="2076480"/>
            <a:ext cx="68580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Monitoring Poverty in Armenia using Multidimensional Poverty Indicators</a:t>
            </a:r>
            <a:endParaRPr b="0" lang="en-US" sz="3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066680" y="4543560"/>
            <a:ext cx="68580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Diana Martirosova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National Statistical Service of the Republic of Armenia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Moritz Meyer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Economist, Poverty GP, Europe and Central Asia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Nistha Sinha 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Senior Economist, Poverty GP, Europe and Central Asia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714680" y="36720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30f8"/>
                </a:solidFill>
                <a:latin typeface="Arial"/>
              </a:rPr>
              <a:t>UNECE conference in Geneva, 4-6 May 2015</a:t>
            </a: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153120" y="123840"/>
            <a:ext cx="1771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660240" y="522360"/>
            <a:ext cx="77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Roadmap: Multidimensional poverty in Armenia</a:t>
            </a:r>
            <a:endParaRPr b="0" lang="en-US" sz="20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92000" y="1447920"/>
            <a:ext cx="7661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51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Our vision: </a:t>
            </a: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Describe complexity, depth and persistence of poverty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Concept: How do households experience poverty?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Poverty is characterized by whether an individuals experiences deprivations on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aspects of welfare that are a development priority (such as being healthy or having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a job)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Benefit: Complement consumption poverty by multidimensional poverty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Measure reflects aspects of quality of life which are not captured by consumption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poverty (such as having access to good quality education and health services and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having adequate heating)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Policy: Monitor progress on development goals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Multidimensional poverty can be based on government’s development priorities.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Monitor progress on development goals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This presentation: </a:t>
            </a: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Focus on methodology, findings and policy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ABAE-7803-40C3-94A8-363001D2DA61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10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660240" y="304920"/>
            <a:ext cx="779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A pilot multidimensional poverty index for Armenia: </a:t>
            </a:r>
            <a:endParaRPr b="0" lang="en-US" sz="2000" spc="-1" strike="noStrike">
              <a:solidFill>
                <a:srgbClr val="292929"/>
              </a:solidFill>
              <a:latin typeface="Times Armeni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Choice of unit of analysis, dimensions and indicators</a:t>
            </a:r>
            <a:endParaRPr b="0" lang="en-US" sz="2000" spc="-1" strike="noStrike">
              <a:solidFill>
                <a:srgbClr val="292929"/>
              </a:solidFill>
              <a:latin typeface="Times Armeni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60240" y="1600200"/>
          <a:ext cx="7793280" cy="4572000"/>
        </p:xfrm>
        <a:graphic>
          <a:graphicData uri="http://schemas.openxmlformats.org/drawingml/2006/table">
            <a:tbl>
              <a:tblPr/>
              <a:tblGrid>
                <a:gridCol w="1778040"/>
                <a:gridCol w="6015240"/>
              </a:tblGrid>
              <a:tr h="3189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Dimension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Indicator: a household is defined as deprived if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 rowSpan="2"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Educatio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at least one household member above the age of 15 years has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less than 5 years of educatio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at least one child of compulsory schooling age between 6 and 14 years is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not attending school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ealth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at least one household member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reports poor or very poor health statu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Labor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at least one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unemployed household member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the household head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is out of the labor forc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ousing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ousing: most informed household member evaluates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ousing conditions as bad or very ba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Water: household does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not have centralized water system and/ or hot water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Garbage: household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lacks a garbage disposal system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Heating: household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uses wood, carbon or other heating mean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Extreme povert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consumption expenditures are </a:t>
                      </a:r>
                      <a:r>
                        <a:rPr b="0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below the national food poverty lin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5838-5E02-4946-8BE8-91C1D5AE47B6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14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779328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Findings from pilot multidimensional poverty measure:</a:t>
            </a:r>
            <a:br>
              <a:rPr sz="2000"/>
            </a:b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Identify time trends, count and index (by reg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0240" y="1599840"/>
            <a:ext cx="39117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which is deprived in the </a:t>
            </a: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indicator on heating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(household dimension) – breakdown by locations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3881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which experiences deprivations related to the </a:t>
            </a: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dimension on labor 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– breakdown by locations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Content Placeholder 5" descr=""/>
          <p:cNvPicPr/>
          <p:nvPr/>
        </p:nvPicPr>
        <p:blipFill>
          <a:blip r:embed="rId1"/>
          <a:stretch/>
        </p:blipFill>
        <p:spPr>
          <a:xfrm>
            <a:off x="450720" y="2511360"/>
            <a:ext cx="4054680" cy="3664080"/>
          </a:xfrm>
          <a:prstGeom prst="rect">
            <a:avLst/>
          </a:prstGeom>
          <a:ln w="0">
            <a:noFill/>
          </a:ln>
        </p:spPr>
      </p:pic>
      <p:pic>
        <p:nvPicPr>
          <p:cNvPr id="119" name="Content Placeholder 4" descr=""/>
          <p:cNvPicPr/>
          <p:nvPr/>
        </p:nvPicPr>
        <p:blipFill>
          <a:blip r:embed="rId2"/>
          <a:stretch/>
        </p:blipFill>
        <p:spPr>
          <a:xfrm>
            <a:off x="4638600" y="2511360"/>
            <a:ext cx="4048200" cy="3614760"/>
          </a:xfrm>
          <a:prstGeom prst="rect">
            <a:avLst/>
          </a:prstGeom>
          <a:ln w="0">
            <a:noFill/>
          </a:ln>
        </p:spPr>
      </p:pic>
      <p:sp>
        <p:nvSpPr>
          <p:cNvPr id="120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0AC4-1129-455E-852F-AF963C02A1C5}" type="slidenum">
              <a:rPr b="0" lang="ru-RU" sz="11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7696080" y="5791320"/>
            <a:ext cx="9144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3124080" y="57913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Yerevan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7658280" y="5791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Yerevan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How do households experience poverty: </a:t>
            </a:r>
            <a:br>
              <a:rPr sz="2000"/>
            </a:b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Count number of deprivations, Armenia 2008 to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ontent Placeholder 4" descr=""/>
          <p:cNvPicPr/>
          <p:nvPr/>
        </p:nvPicPr>
        <p:blipFill>
          <a:blip r:embed="rId1"/>
          <a:stretch/>
        </p:blipFill>
        <p:spPr>
          <a:xfrm>
            <a:off x="914400" y="2517840"/>
            <a:ext cx="7315200" cy="365112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E0D1-F89D-4112-B294-468E59BAFAE6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29" name="Text Placeholder 2"/>
          <p:cNvSpPr/>
          <p:nvPr/>
        </p:nvSpPr>
        <p:spPr>
          <a:xfrm>
            <a:off x="914400" y="163368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(in percent) which experiences “0” to “4 or more” deprivations.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0240" y="228240"/>
            <a:ext cx="779328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Time trend for the multidimensional poverty index: </a:t>
            </a:r>
            <a:br>
              <a:rPr sz="2000"/>
            </a:b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Describe incidence and intensity, Armenia 2008 to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Table Placeholder 4" descr=""/>
          <p:cNvPicPr/>
          <p:nvPr/>
        </p:nvPicPr>
        <p:blipFill>
          <a:blip r:embed="rId1"/>
          <a:stretch/>
        </p:blipFill>
        <p:spPr>
          <a:xfrm>
            <a:off x="914400" y="251136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22E4-022E-49D2-BC7C-44DAA16CEB60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33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914400" y="163368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830f8"/>
                </a:solidFill>
                <a:latin typeface="Arial"/>
              </a:rPr>
              <a:t>Incidence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: Share of population which is classified as multidimensional poor. 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830f8"/>
                </a:solidFill>
                <a:latin typeface="Arial"/>
              </a:rPr>
              <a:t>Intensity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: Share of deprivations where </a:t>
            </a:r>
            <a:r>
              <a:rPr b="1" lang="en-US" sz="1400" spc="-1" strike="noStrike">
                <a:solidFill>
                  <a:srgbClr val="0830f8"/>
                </a:solidFill>
                <a:latin typeface="Arial"/>
              </a:rPr>
              <a:t>deprived</a:t>
            </a: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 households experience deprivations.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61680" y="228600"/>
            <a:ext cx="77612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Regional variation of multidimensional poverty:</a:t>
            </a:r>
            <a:br>
              <a:rPr sz="2000"/>
            </a:br>
            <a:r>
              <a:rPr b="1" lang="en-US" sz="2000" spc="-1" strike="noStrike">
                <a:solidFill>
                  <a:srgbClr val="ff61d6"/>
                </a:solidFill>
                <a:latin typeface="Arial"/>
              </a:rPr>
              <a:t>Level and nature of deprivations, Armenia 2008 to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2514600"/>
          <a:ext cx="7315200" cy="3600360"/>
        </p:xfrm>
        <a:graphic>
          <a:graphicData uri="http://schemas.openxmlformats.org/drawingml/2006/table">
            <a:tbl>
              <a:tblPr/>
              <a:tblGrid>
                <a:gridCol w="958680"/>
                <a:gridCol w="1533600"/>
                <a:gridCol w="1619280"/>
                <a:gridCol w="1785960"/>
                <a:gridCol w="1417680"/>
              </a:tblGrid>
              <a:tr h="73656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National level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Rural area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Other urban area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Yereva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.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7.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1.9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1.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2.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5.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9.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1.1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9.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.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5.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1.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6.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9.9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2.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30f8"/>
                          </a:solidFill>
                          <a:latin typeface="Arial"/>
                          <a:ea typeface="Times New Roman"/>
                        </a:rPr>
                        <a:t>16.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Times Armenian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BA64-C9CD-472A-8C59-D3978820F0FB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38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39" name="Text Placeholder 2"/>
          <p:cNvSpPr/>
          <p:nvPr/>
        </p:nvSpPr>
        <p:spPr>
          <a:xfrm>
            <a:off x="914400" y="163368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(in percent) which is multidimensionally poor– breakdown by locations.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9880" y="228240"/>
            <a:ext cx="772164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  <a:ea typeface="Calibri"/>
              </a:rPr>
              <a:t>Policy: Drawing a full picture of poverty - multidimensional poverty complements consumption poverty, Armenia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Content Placeholder 3" descr=""/>
          <p:cNvPicPr/>
          <p:nvPr/>
        </p:nvPicPr>
        <p:blipFill>
          <a:blip r:embed="rId1"/>
          <a:stretch/>
        </p:blipFill>
        <p:spPr>
          <a:xfrm>
            <a:off x="914400" y="2517840"/>
            <a:ext cx="7315200" cy="365112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5EF7-ADA4-4C4A-AF72-EACD7916CB51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43" name="Footer Placeholder 2"/>
          <p:cNvSpPr/>
          <p:nvPr/>
        </p:nvSpPr>
        <p:spPr>
          <a:xfrm>
            <a:off x="660240" y="6248520"/>
            <a:ext cx="779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44" name="Text Placeholder 2"/>
          <p:cNvSpPr/>
          <p:nvPr/>
        </p:nvSpPr>
        <p:spPr>
          <a:xfrm>
            <a:off x="914400" y="163368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Share of population (in percent) which is multidimensionally and consumption poor 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(using the upper national poverty line).</a:t>
            </a:r>
            <a:endParaRPr b="0" lang="en-US" sz="14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7853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51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Customize agenda of multidimensional poverty to the Armenian context: </a:t>
            </a:r>
            <a:r>
              <a:rPr b="0" lang="en-US" sz="1800" spc="-1" strike="noStrike">
                <a:solidFill>
                  <a:srgbClr val="0830f8"/>
                </a:solidFill>
                <a:latin typeface="Arial"/>
              </a:rPr>
              <a:t>Which dimensions and indicators should be included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Use Integrated Living Conditions Survey to complement existing tools to monitor poverty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51"/>
              </a:spcBef>
              <a:buClr>
                <a:srgbClr val="ff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0f8"/>
                </a:solidFill>
                <a:latin typeface="Arial"/>
              </a:rPr>
              <a:t>Consultations with different stakeholders in Armenia: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ow are the NSS RA, different line ministries and civil society going to use this measure for the policy design and coordination?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349"/>
              </a:spcBef>
              <a:buClr>
                <a:srgbClr val="ff33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30f8"/>
                </a:solidFill>
                <a:latin typeface="Arial"/>
              </a:rPr>
              <a:t>Ensure that dimensions and indicators of multidimensional poverty reflect development progress in the country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660240" y="228600"/>
            <a:ext cx="7797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d6"/>
                </a:solidFill>
                <a:latin typeface="Arial"/>
                <a:ea typeface="Times New Roman"/>
              </a:rPr>
              <a:t>Looking ahead – tailor a national measure of multidimensional poverty to the country context of Armenia</a:t>
            </a:r>
            <a:endParaRPr b="0" lang="en-US" sz="20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47" name="Slide Number Placeholder 2"/>
          <p:cNvSpPr/>
          <p:nvPr/>
        </p:nvSpPr>
        <p:spPr>
          <a:xfrm>
            <a:off x="6705720" y="624852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E1CD-D05F-4A6D-B1C3-6CFE1B58C8DD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  <p:sp>
        <p:nvSpPr>
          <p:cNvPr id="148" name="Footer Placeholder 2"/>
          <p:cNvSpPr/>
          <p:nvPr/>
        </p:nvSpPr>
        <p:spPr>
          <a:xfrm>
            <a:off x="660240" y="6248520"/>
            <a:ext cx="779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rtirosova, Meyer and Sinha (2015): Monitoring Poverty in Armenia using Multidimensional Poverty Indicators</a:t>
            </a:r>
            <a:endParaRPr b="0" lang="en-US" sz="1200" spc="-1" strike="noStrike">
              <a:solidFill>
                <a:srgbClr val="292929"/>
              </a:solidFill>
              <a:latin typeface="Times Armeni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21:20:27Z</dcterms:created>
  <dc:creator>Hasmik</dc:creator>
  <dc:description/>
  <dc:language>en-US</dc:language>
  <cp:lastModifiedBy>Vania Etropolska</cp:lastModifiedBy>
  <dcterms:modified xsi:type="dcterms:W3CDTF">2015-05-04T07:08:13Z</dcterms:modified>
  <cp:revision>768</cp:revision>
  <dc:subject/>
  <dc:title>Slide 1</dc:title>
</cp:coreProperties>
</file>