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2E9D-B397-4921-A180-418F5DCFB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941F-A1D5-437D-ADA2-D0111F700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0EFB-19AF-451D-AC25-6C3068B2B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9CE1-D5B5-4F90-8471-154973648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09CBD-7E30-4FF3-A1CC-EBCA9D3F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FB8D2-910E-4168-BDB9-030C6ED0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BD631-7EDB-49C1-9BAA-6EB2D73B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D5C3A-4705-45D8-AC07-950BA91D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FE3E0-F3B9-4472-806C-A4013D55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6B649-2A2F-429B-8134-D35B1C31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57BD5-6137-481C-9FFA-31E1961A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5140-2ED9-4F24-86BE-58DD61D0B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D3151-AC10-4D7C-BAC8-9641A6BA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D7E57-3C5F-43FF-A66D-8D708CFC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A9AA9-8CFC-42C9-8C79-94D985A9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CF660-CF8A-43B9-8123-0FA1D52D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F24C1-14BA-4D6A-AFC5-83AD15A1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623C-6D91-446B-A0F0-713516BFC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6119-CD33-4B60-A3C8-147A32E1F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5BAA-ED4D-47DE-8C2E-8D5C23FF5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D47B-3F32-439A-9C2B-143E91672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C152-15B8-4736-9FA4-5052A4B64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6F44-4E70-4BCE-A89A-173EC4393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497B-E8A2-448E-8B83-7BB185842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2760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4B12-DF0B-45FD-BB40-1A86EC8EF1D8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4"/>
          </p:nvPr>
        </p:nvSpPr>
        <p:spPr>
          <a:xfrm>
            <a:off x="842760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C8E6-90EA-47AC-857D-7D2682321748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396720" y="1773360"/>
            <a:ext cx="82789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304920" indent="-304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Multidimensional poverty measurement for EU-SILC countr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Times New Roman Bold"/>
              </a:rPr>
              <a:t>Sabina Alkire, Mauricio Apablaza, Euijin Ju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aramond"/>
                <a:ea typeface="Times New Roman Bold"/>
              </a:rPr>
              <a:t>UNECE meeting, Geneva May 6, 201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AAAC-9161-46E6-A1C4-FF17CA83674A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2" name="Chart 6" descr=""/>
          <p:cNvPicPr/>
          <p:nvPr/>
        </p:nvPicPr>
        <p:blipFill>
          <a:blip r:embed="rId1"/>
          <a:stretch/>
        </p:blipFill>
        <p:spPr>
          <a:xfrm>
            <a:off x="-12600" y="425520"/>
            <a:ext cx="9245520" cy="6483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4144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Measures 1-3: Weighting Structu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Straight Connector 7"/>
          <p:cNvSpPr/>
          <p:nvPr/>
        </p:nvSpPr>
        <p:spPr>
          <a:xfrm>
            <a:off x="1258920" y="3213000"/>
            <a:ext cx="179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Straight Connector 8"/>
          <p:cNvSpPr/>
          <p:nvPr/>
        </p:nvSpPr>
        <p:spPr>
          <a:xfrm>
            <a:off x="1258920" y="2205000"/>
            <a:ext cx="179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9B40-16EB-4EB0-ABCB-39BCB91F4F62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7" name="Chart 6" descr=""/>
          <p:cNvPicPr/>
          <p:nvPr/>
        </p:nvPicPr>
        <p:blipFill>
          <a:blip r:embed="rId1"/>
          <a:stretch/>
        </p:blipFill>
        <p:spPr>
          <a:xfrm>
            <a:off x="-12600" y="425520"/>
            <a:ext cx="9245520" cy="6483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4144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Measures 1-3: Weights &amp; Poverty cutoff </a:t>
            </a:r>
            <a:r>
              <a:rPr b="1" i="1" lang="en-GB" sz="32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Straight Connector 7"/>
          <p:cNvSpPr/>
          <p:nvPr/>
        </p:nvSpPr>
        <p:spPr>
          <a:xfrm>
            <a:off x="1258920" y="3213000"/>
            <a:ext cx="179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Straight Connector 8"/>
          <p:cNvSpPr/>
          <p:nvPr/>
        </p:nvSpPr>
        <p:spPr>
          <a:xfrm>
            <a:off x="1258920" y="2205000"/>
            <a:ext cx="179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Rounded Rectangle 9"/>
          <p:cNvSpPr/>
          <p:nvPr/>
        </p:nvSpPr>
        <p:spPr>
          <a:xfrm>
            <a:off x="1835280" y="3789360"/>
            <a:ext cx="64908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aramond"/>
              </a:rPr>
              <a:t>26%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Rounded Rectangle 10"/>
          <p:cNvSpPr/>
          <p:nvPr/>
        </p:nvSpPr>
        <p:spPr>
          <a:xfrm>
            <a:off x="4427640" y="3975120"/>
            <a:ext cx="64764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aramond"/>
              </a:rPr>
              <a:t>21%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Rounded Rectangle 11"/>
          <p:cNvSpPr/>
          <p:nvPr/>
        </p:nvSpPr>
        <p:spPr>
          <a:xfrm>
            <a:off x="7093080" y="3429000"/>
            <a:ext cx="64764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aramond"/>
              </a:rPr>
              <a:t>34%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Straight Connector 12"/>
          <p:cNvSpPr/>
          <p:nvPr/>
        </p:nvSpPr>
        <p:spPr>
          <a:xfrm>
            <a:off x="826920" y="4210200"/>
            <a:ext cx="26654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Straight Connector 13"/>
          <p:cNvSpPr/>
          <p:nvPr/>
        </p:nvSpPr>
        <p:spPr>
          <a:xfrm>
            <a:off x="3419640" y="4508640"/>
            <a:ext cx="2665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Straight Connector 14"/>
          <p:cNvSpPr/>
          <p:nvPr/>
        </p:nvSpPr>
        <p:spPr>
          <a:xfrm>
            <a:off x="6084720" y="3933720"/>
            <a:ext cx="2664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48B3-E122-4B7F-AC9A-FE401BFEA419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Chart 16" descr=""/>
          <p:cNvPicPr/>
          <p:nvPr/>
        </p:nvPicPr>
        <p:blipFill>
          <a:blip r:embed="rId1"/>
          <a:stretch/>
        </p:blipFill>
        <p:spPr>
          <a:xfrm>
            <a:off x="406440" y="353880"/>
            <a:ext cx="8331120" cy="60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Table 3: Correlations (Cramers’ V) across uncensored deprivation headcount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D4EE-FA49-46E7-ADB7-6924F6479702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380960"/>
          <a:ext cx="9144000" cy="3907080"/>
        </p:xfrm>
        <a:graphic>
          <a:graphicData uri="http://schemas.openxmlformats.org/drawingml/2006/table">
            <a:tbl>
              <a:tblPr/>
              <a:tblGrid>
                <a:gridCol w="1012680"/>
                <a:gridCol w="676440"/>
                <a:gridCol w="776160"/>
                <a:gridCol w="800280"/>
                <a:gridCol w="633240"/>
                <a:gridCol w="777960"/>
                <a:gridCol w="615960"/>
                <a:gridCol w="750960"/>
                <a:gridCol w="547560"/>
                <a:gridCol w="995400"/>
                <a:gridCol w="880920"/>
                <a:gridCol w="676440"/>
              </a:tblGrid>
              <a:tr h="82764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q-job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 mat d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o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l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r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u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hr. ill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rb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.m.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q-job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 mat d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o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l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r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u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hr ill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rb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m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Table 4: Redundancy values across uncensored deprivation headcount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FC9D-DE4A-48D1-8E08-F582243D9146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1341360"/>
          <a:ext cx="8785440" cy="3897360"/>
        </p:xfrm>
        <a:graphic>
          <a:graphicData uri="http://schemas.openxmlformats.org/drawingml/2006/table">
            <a:tbl>
              <a:tblPr/>
              <a:tblGrid>
                <a:gridCol w="936720"/>
                <a:gridCol w="719280"/>
                <a:gridCol w="792000"/>
                <a:gridCol w="792360"/>
                <a:gridCol w="576000"/>
                <a:gridCol w="792360"/>
                <a:gridCol w="476280"/>
                <a:gridCol w="747720"/>
                <a:gridCol w="647640"/>
                <a:gridCol w="720720"/>
                <a:gridCol w="936720"/>
                <a:gridCol w="647640"/>
              </a:tblGrid>
              <a:tr h="82764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q-job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ev. mat d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o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l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r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u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hr. ill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rb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.m.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q-job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ev. mat d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o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l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r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u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0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hr. ill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rb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.m.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Oval 4"/>
          <p:cNvSpPr/>
          <p:nvPr/>
        </p:nvSpPr>
        <p:spPr>
          <a:xfrm>
            <a:off x="1116000" y="1916280"/>
            <a:ext cx="7192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7524720" y="4149720"/>
            <a:ext cx="7192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1332000" y="5589720"/>
            <a:ext cx="65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: ratio of percentage deprived in both indicators to lower of the two total deprivation headcount rati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2: Adjusted Headcount Ratio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poverty cut-off 2006-2009-201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1863-1124-4EFB-BDF7-6BB1171613E9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468360" y="1197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Measure 1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   Measure 2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      Measure 3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203640" y="1738440"/>
            <a:ext cx="2952720" cy="468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6100920" y="1773360"/>
            <a:ext cx="2863800" cy="4645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34920" y="1698480"/>
            <a:ext cx="3097080" cy="47293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5"/>
          <p:cNvSpPr/>
          <p:nvPr/>
        </p:nvSpPr>
        <p:spPr>
          <a:xfrm>
            <a:off x="250920" y="1547640"/>
            <a:ext cx="64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3348000" y="1557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6227640" y="154764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Box 19"/>
          <p:cNvSpPr/>
          <p:nvPr/>
        </p:nvSpPr>
        <p:spPr>
          <a:xfrm>
            <a:off x="2843280" y="5867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Box 20"/>
          <p:cNvSpPr/>
          <p:nvPr/>
        </p:nvSpPr>
        <p:spPr>
          <a:xfrm>
            <a:off x="5867280" y="5867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Box 21"/>
          <p:cNvSpPr/>
          <p:nvPr/>
        </p:nvSpPr>
        <p:spPr>
          <a:xfrm>
            <a:off x="8675640" y="5877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-14400" y="6373800"/>
            <a:ext cx="9250560" cy="137376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overty reduced 2006-12, but not necessarily significant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: Measure 1 Adjusted Headcount Ratio (M­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poverty cut-off 2006-2009-2012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4419-9A7C-4367-AA81-4D429F4482E7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539640" y="123984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2006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  2009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      201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4920" y="1601640"/>
            <a:ext cx="2967120" cy="4707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2987640" y="1628640"/>
            <a:ext cx="2852640" cy="4722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5867280" y="1628640"/>
            <a:ext cx="3025800" cy="47991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4"/>
          <p:cNvSpPr/>
          <p:nvPr/>
        </p:nvSpPr>
        <p:spPr>
          <a:xfrm>
            <a:off x="324000" y="1413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3276720" y="14749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Box 16"/>
          <p:cNvSpPr/>
          <p:nvPr/>
        </p:nvSpPr>
        <p:spPr>
          <a:xfrm>
            <a:off x="6156360" y="14749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2771640" y="5661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Box 18"/>
          <p:cNvSpPr/>
          <p:nvPr/>
        </p:nvSpPr>
        <p:spPr>
          <a:xfrm>
            <a:off x="5580000" y="573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Box 19"/>
          <p:cNvSpPr/>
          <p:nvPr/>
        </p:nvSpPr>
        <p:spPr>
          <a:xfrm>
            <a:off x="8604360" y="5796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-14400" y="6291360"/>
            <a:ext cx="9250560" cy="94716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Southern Europe is always poorest k=1-40%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4: Dimensional Breakdown SILC selected countries 2006-2009-201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1D3D-C4F9-427A-BC34-E05BFB67ECD3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1964" t="0" r="3540" b="0"/>
          <a:stretch/>
        </p:blipFill>
        <p:spPr>
          <a:xfrm>
            <a:off x="0" y="1341360"/>
            <a:ext cx="9144000" cy="4319640"/>
          </a:xfrm>
          <a:prstGeom prst="rect">
            <a:avLst/>
          </a:prstGeom>
          <a:ln w="0">
            <a:noFill/>
          </a:ln>
        </p:spPr>
      </p:pic>
      <p:sp>
        <p:nvSpPr>
          <p:cNvPr id="157" name="Rounded Rectangle 5"/>
          <p:cNvSpPr/>
          <p:nvPr/>
        </p:nvSpPr>
        <p:spPr>
          <a:xfrm>
            <a:off x="755640" y="1484280"/>
            <a:ext cx="1512720" cy="1224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Rounded Rectangle 6"/>
          <p:cNvSpPr/>
          <p:nvPr/>
        </p:nvSpPr>
        <p:spPr>
          <a:xfrm>
            <a:off x="755640" y="4005360"/>
            <a:ext cx="4103640" cy="1224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ounded Rectangle 7"/>
          <p:cNvSpPr/>
          <p:nvPr/>
        </p:nvSpPr>
        <p:spPr>
          <a:xfrm>
            <a:off x="3059280" y="1484280"/>
            <a:ext cx="576000" cy="122400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1224000"/>
              <a:gd name="textAreaBottom" fmla="*/ 1195920 h 1224000"/>
            </a:gdLst>
            <a:ahLst/>
            <a:rect l="textAreaLeft" t="textAreaTop" r="textAreaRight" b="textAreaBottom"/>
            <a:pathLst>
              <a:path w="21600" h="45885">
                <a:moveTo>
                  <a:pt x="3600" y="0"/>
                </a:moveTo>
                <a:arcTo wR="3600" hR="3600" stAng="16200000" swAng="-5400000"/>
                <a:lnTo>
                  <a:pt x="0" y="42285"/>
                </a:lnTo>
                <a:arcTo wR="3600" hR="3600" stAng="10800000" swAng="-5400000"/>
                <a:lnTo>
                  <a:pt x="18000" y="458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Rounded Rectangle 8"/>
          <p:cNvSpPr/>
          <p:nvPr/>
        </p:nvSpPr>
        <p:spPr>
          <a:xfrm>
            <a:off x="5003640" y="4005360"/>
            <a:ext cx="576360" cy="12240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224000"/>
              <a:gd name="textAreaBottom" fmla="*/ 1195920 h 1224000"/>
            </a:gdLst>
            <a:ahLst/>
            <a:rect l="textAreaLeft" t="textAreaTop" r="textAreaRight" b="textAreaBottom"/>
            <a:pathLst>
              <a:path w="21600" h="45856">
                <a:moveTo>
                  <a:pt x="3600" y="0"/>
                </a:moveTo>
                <a:arcTo wR="3600" hR="3600" stAng="16200000" swAng="-5400000"/>
                <a:lnTo>
                  <a:pt x="0" y="42256"/>
                </a:lnTo>
                <a:arcTo wR="3600" hR="3600" stAng="10800000" swAng="-5400000"/>
                <a:lnTo>
                  <a:pt x="18000" y="458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Rounded Rectangle 9"/>
          <p:cNvSpPr/>
          <p:nvPr/>
        </p:nvSpPr>
        <p:spPr>
          <a:xfrm>
            <a:off x="4500720" y="1484280"/>
            <a:ext cx="1871640" cy="1224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Rounded Rectangle 10"/>
          <p:cNvSpPr/>
          <p:nvPr/>
        </p:nvSpPr>
        <p:spPr>
          <a:xfrm>
            <a:off x="5724360" y="4005360"/>
            <a:ext cx="1079640" cy="122400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224000"/>
              <a:gd name="textAreaBottom" fmla="*/ 1171440 h 1224000"/>
            </a:gdLst>
            <a:ahLst/>
            <a:rect l="textAreaLeft" t="textAreaTop" r="textAreaRight" b="textAreaBottom"/>
            <a:pathLst>
              <a:path w="21600" h="24487">
                <a:moveTo>
                  <a:pt x="3600" y="0"/>
                </a:moveTo>
                <a:arcTo wR="3600" hR="3600" stAng="16200000" swAng="-5400000"/>
                <a:lnTo>
                  <a:pt x="0" y="20887"/>
                </a:lnTo>
                <a:arcTo wR="3600" hR="3600" stAng="10800000" swAng="-5400000"/>
                <a:lnTo>
                  <a:pt x="18000" y="24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-120600" y="5916600"/>
            <a:ext cx="9252000" cy="137376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Headcount ratio:    4-43% M1            5-39% M2              1-18% M3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5: Dimensional Decomposition Measure 1 k=26% by country (2009) ranked from poore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39FD-A444-4644-93D3-186DF7509617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71280" y="1197000"/>
            <a:ext cx="896472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6: Dimensional Decomposition Measure 2 k=21% by country (2009), ranked from poore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AD71-F8D1-4914-8955-AE6720166D60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108000" y="1211400"/>
            <a:ext cx="892800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1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A8F6-225A-45A8-8F54-85246A8E56F3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954000" y="476280"/>
            <a:ext cx="8010720" cy="54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Three possible Measu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743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M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Garamond"/>
                <a:ea typeface="ヒラギノ角ゴ ProN W3"/>
              </a:rPr>
              <a:t>0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 , H , 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743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Dimensional breakdow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743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Dynamic Analys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743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Decomposi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Recommendations for EU-SILC surve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7: Dimensional Decomposition Measure 3 k=34% by country (2009), ranked from poore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A649-05AF-4B30-BE37-E2A9581AE34E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71280" y="1150920"/>
            <a:ext cx="8964720" cy="566280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10"/>
          <p:cNvSpPr/>
          <p:nvPr/>
        </p:nvSpPr>
        <p:spPr>
          <a:xfrm>
            <a:off x="4140360" y="1484280"/>
            <a:ext cx="0" cy="5184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6280" y="269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8: Raw and Censored Headcount Ratios Measure 3 k=34% for Norway, Hungary and Portugal (2009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9072-8646-4E68-B48A-2F80F47A927D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13"/>
          <p:cNvSpPr/>
          <p:nvPr/>
        </p:nvSpPr>
        <p:spPr>
          <a:xfrm>
            <a:off x="4067280" y="5229360"/>
            <a:ext cx="57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Straight Connector 14"/>
          <p:cNvSpPr/>
          <p:nvPr/>
        </p:nvSpPr>
        <p:spPr>
          <a:xfrm>
            <a:off x="3492360" y="5229360"/>
            <a:ext cx="358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6156360" y="522936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Straight Connector 16"/>
          <p:cNvSpPr/>
          <p:nvPr/>
        </p:nvSpPr>
        <p:spPr>
          <a:xfrm>
            <a:off x="5435640" y="5229360"/>
            <a:ext cx="64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Straight Connector 17"/>
          <p:cNvSpPr/>
          <p:nvPr/>
        </p:nvSpPr>
        <p:spPr>
          <a:xfrm>
            <a:off x="6875640" y="5229360"/>
            <a:ext cx="64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Straight Connector 21"/>
          <p:cNvSpPr/>
          <p:nvPr/>
        </p:nvSpPr>
        <p:spPr>
          <a:xfrm>
            <a:off x="4859280" y="5229360"/>
            <a:ext cx="433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0: Adjusted Headcount Ratio for all Measures by country (2006-2012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F32F-1043-4933-BB3B-FD8D01D38B76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0" y="1557360"/>
            <a:ext cx="30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3059280" y="1557360"/>
            <a:ext cx="3060360" cy="3959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6119640" y="1557360"/>
            <a:ext cx="3060720" cy="395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"/>
          <p:cNvPicPr/>
          <p:nvPr/>
        </p:nvPicPr>
        <p:blipFill>
          <a:blip r:embed="rId4"/>
          <a:srcRect l="0" t="85795" r="0" b="2980"/>
          <a:stretch/>
        </p:blipFill>
        <p:spPr>
          <a:xfrm>
            <a:off x="71280" y="5589720"/>
            <a:ext cx="8964720" cy="7920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1"/>
          <p:cNvSpPr/>
          <p:nvPr/>
        </p:nvSpPr>
        <p:spPr>
          <a:xfrm>
            <a:off x="179280" y="1125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1 k=26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Box 12"/>
          <p:cNvSpPr/>
          <p:nvPr/>
        </p:nvSpPr>
        <p:spPr>
          <a:xfrm>
            <a:off x="3276720" y="112536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2 k=21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264360" y="112536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3 k=34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1: Poverty contributions by country, population-weighted Measure 1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839F-0D99-433F-96B4-95FBDFE8F66C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08000" y="1309680"/>
            <a:ext cx="8785080" cy="550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2: Bubble graph of changes Measure 1 by H and A 2006-2009-201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7036-E8B0-42D7-9C04-952373D82E36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08000" y="1158840"/>
            <a:ext cx="8964720" cy="5270400"/>
          </a:xfrm>
          <a:prstGeom prst="rect">
            <a:avLst/>
          </a:prstGeom>
          <a:ln w="0">
            <a:noFill/>
          </a:ln>
        </p:spPr>
      </p:pic>
      <p:sp>
        <p:nvSpPr>
          <p:cNvPr id="198" name="Oval 6"/>
          <p:cNvSpPr/>
          <p:nvPr/>
        </p:nvSpPr>
        <p:spPr>
          <a:xfrm>
            <a:off x="5364000" y="3716280"/>
            <a:ext cx="64800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7885080" y="2421000"/>
            <a:ext cx="863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3851280" y="1916280"/>
            <a:ext cx="865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4859280" y="2349360"/>
            <a:ext cx="865080" cy="2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2916360" y="4365720"/>
            <a:ext cx="9349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2411280" y="5157720"/>
            <a:ext cx="64800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3: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Measure, Gender and Yea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F00D-6B11-4E33-967B-40507D64F150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1222200" y="1268280"/>
            <a:ext cx="666288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4b: Contributions to National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Gender 2012 (Measure 1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6194-CC88-4F4F-BDD5-F38451E18292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98360" y="1484280"/>
            <a:ext cx="88376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6a: Aggregate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Gender and Year Measure 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0897-E89D-4982-A37F-84C102523A48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712000" cy="50115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"/>
          <p:cNvSpPr/>
          <p:nvPr/>
        </p:nvSpPr>
        <p:spPr>
          <a:xfrm>
            <a:off x="-108000" y="6199200"/>
            <a:ext cx="9252000" cy="137376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Women have higher deprivations overall in education and healt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6b: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Gender and country Measure 1 (A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E6A9-8A90-4D2C-A7CB-AE87F52EE67D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922320" y="1268280"/>
            <a:ext cx="7610400" cy="5185080"/>
            <a:chOff x="922320" y="1268280"/>
            <a:chExt cx="7610400" cy="5185080"/>
          </a:xfrm>
        </p:grpSpPr>
        <p:pic>
          <p:nvPicPr>
            <p:cNvPr id="217" name="Picture 3" descr=""/>
            <p:cNvPicPr/>
            <p:nvPr/>
          </p:nvPicPr>
          <p:blipFill>
            <a:blip r:embed="rId1"/>
            <a:srcRect l="81357" t="32169" r="0" b="33173"/>
            <a:stretch/>
          </p:blipFill>
          <p:spPr>
            <a:xfrm>
              <a:off x="7194600" y="1893240"/>
              <a:ext cx="1338120" cy="357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Group 7"/>
            <p:cNvGrpSpPr/>
            <p:nvPr/>
          </p:nvGrpSpPr>
          <p:grpSpPr>
            <a:xfrm>
              <a:off x="922320" y="1268280"/>
              <a:ext cx="7057800" cy="5185080"/>
              <a:chOff x="922320" y="1268280"/>
              <a:chExt cx="7057800" cy="5185080"/>
            </a:xfrm>
          </p:grpSpPr>
          <p:pic>
            <p:nvPicPr>
              <p:cNvPr id="219" name="Picture 2" descr=""/>
              <p:cNvPicPr/>
              <p:nvPr/>
            </p:nvPicPr>
            <p:blipFill>
              <a:blip r:embed="rId2"/>
              <a:srcRect l="0" t="96085" r="9263" b="0"/>
              <a:stretch/>
            </p:blipFill>
            <p:spPr>
              <a:xfrm>
                <a:off x="922320" y="6043680"/>
                <a:ext cx="7057800" cy="40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Picture 2" descr=""/>
              <p:cNvPicPr/>
              <p:nvPr/>
            </p:nvPicPr>
            <p:blipFill>
              <a:blip r:embed="rId3"/>
              <a:srcRect l="0" t="2075" r="16389" b="52013"/>
              <a:stretch/>
            </p:blipFill>
            <p:spPr>
              <a:xfrm>
                <a:off x="922320" y="1268280"/>
                <a:ext cx="6464880" cy="477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1" name="TextBox 8"/>
          <p:cNvSpPr/>
          <p:nvPr/>
        </p:nvSpPr>
        <p:spPr>
          <a:xfrm>
            <a:off x="-108000" y="6199200"/>
            <a:ext cx="9252000" cy="137376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Women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Garamond"/>
              </a:rPr>
              <a:t>always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have higher deprivations in education and healt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6b: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Gender and country Measure 1 (B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2960-13B7-47E8-BAE0-7CC6A671A11D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24" name="Group 7"/>
          <p:cNvGrpSpPr/>
          <p:nvPr/>
        </p:nvGrpSpPr>
        <p:grpSpPr>
          <a:xfrm>
            <a:off x="1116000" y="1268280"/>
            <a:ext cx="7201080" cy="5256360"/>
            <a:chOff x="1116000" y="1268280"/>
            <a:chExt cx="7201080" cy="5256360"/>
          </a:xfrm>
        </p:grpSpPr>
        <p:pic>
          <p:nvPicPr>
            <p:cNvPr id="225" name="Picture 2" descr=""/>
            <p:cNvPicPr/>
            <p:nvPr/>
          </p:nvPicPr>
          <p:blipFill>
            <a:blip r:embed="rId1"/>
            <a:srcRect l="0" t="47498" r="16624" b="0"/>
            <a:stretch/>
          </p:blipFill>
          <p:spPr>
            <a:xfrm>
              <a:off x="1116000" y="1268280"/>
              <a:ext cx="6101280" cy="52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2" descr=""/>
            <p:cNvPicPr/>
            <p:nvPr/>
          </p:nvPicPr>
          <p:blipFill>
            <a:blip r:embed="rId2"/>
            <a:srcRect l="82664" t="32169" r="0" b="32285"/>
            <a:stretch/>
          </p:blipFill>
          <p:spPr>
            <a:xfrm>
              <a:off x="7088400" y="1957680"/>
              <a:ext cx="1228680" cy="344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TextBox 6"/>
          <p:cNvSpPr/>
          <p:nvPr/>
        </p:nvSpPr>
        <p:spPr>
          <a:xfrm>
            <a:off x="-108000" y="6199200"/>
            <a:ext cx="9252000" cy="94716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ere there are exceptions. For ed: DE, SE, IS, and NO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395280" y="-27000"/>
            <a:ext cx="849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1. Backgroun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50920" y="907920"/>
            <a:ext cx="8642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ong tradition of counting meas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Severe Material Deprivation Indic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EU-202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Whelan Nolan Maitre (2014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This paper: seeks to 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illustrate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the kinds of analyses that could be possible by implementing an AF methodology using limited variables across cross-sectional data 2006-2012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7a: Percentage contributions to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age and year Measure 1 (A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2D66-0A57-4FF2-85CE-388FF8CC36D2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30" name="Group 11"/>
          <p:cNvGrpSpPr/>
          <p:nvPr/>
        </p:nvGrpSpPr>
        <p:grpSpPr>
          <a:xfrm>
            <a:off x="395280" y="1197000"/>
            <a:ext cx="8353440" cy="5400720"/>
            <a:chOff x="395280" y="1197000"/>
            <a:chExt cx="8353440" cy="5400720"/>
          </a:xfrm>
        </p:grpSpPr>
        <p:grpSp>
          <p:nvGrpSpPr>
            <p:cNvPr id="231" name="Group 8"/>
            <p:cNvGrpSpPr/>
            <p:nvPr/>
          </p:nvGrpSpPr>
          <p:grpSpPr>
            <a:xfrm>
              <a:off x="395280" y="1197000"/>
              <a:ext cx="7676280" cy="5400720"/>
              <a:chOff x="395280" y="1197000"/>
              <a:chExt cx="7676280" cy="5400720"/>
            </a:xfrm>
          </p:grpSpPr>
          <p:pic>
            <p:nvPicPr>
              <p:cNvPr id="232" name="Picture 2" descr=""/>
              <p:cNvPicPr/>
              <p:nvPr/>
            </p:nvPicPr>
            <p:blipFill>
              <a:blip r:embed="rId1"/>
              <a:srcRect l="0" t="2042" r="13776" b="53039"/>
              <a:stretch/>
            </p:blipFill>
            <p:spPr>
              <a:xfrm>
                <a:off x="395280" y="1197000"/>
                <a:ext cx="7450560" cy="484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Picture 3" descr=""/>
              <p:cNvPicPr/>
              <p:nvPr/>
            </p:nvPicPr>
            <p:blipFill>
              <a:blip r:embed="rId2"/>
              <a:srcRect l="0" t="95891" r="12111" b="-985"/>
              <a:stretch/>
            </p:blipFill>
            <p:spPr>
              <a:xfrm>
                <a:off x="477360" y="6046920"/>
                <a:ext cx="7594200" cy="5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4" name="Picture 4" descr=""/>
            <p:cNvPicPr/>
            <p:nvPr/>
          </p:nvPicPr>
          <p:blipFill>
            <a:blip r:embed="rId3"/>
            <a:srcRect l="87896" t="39739" r="0" b="40872"/>
            <a:stretch/>
          </p:blipFill>
          <p:spPr>
            <a:xfrm>
              <a:off x="7702200" y="2519640"/>
              <a:ext cx="1046520" cy="209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Box 9"/>
          <p:cNvSpPr/>
          <p:nvPr/>
        </p:nvSpPr>
        <p:spPr>
          <a:xfrm>
            <a:off x="0" y="6045120"/>
            <a:ext cx="9252000" cy="137376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Youth contribution highest in UK; NO 2012; Elder hig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7a: Percentage contributions to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age and year Measure 1 (B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0501-B287-430D-8AC9-9A597E02A782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38" name="Group 7"/>
          <p:cNvGrpSpPr/>
          <p:nvPr/>
        </p:nvGrpSpPr>
        <p:grpSpPr>
          <a:xfrm>
            <a:off x="144360" y="1268280"/>
            <a:ext cx="8820360" cy="5185080"/>
            <a:chOff x="144360" y="1268280"/>
            <a:chExt cx="8820360" cy="5185080"/>
          </a:xfrm>
        </p:grpSpPr>
        <p:pic>
          <p:nvPicPr>
            <p:cNvPr id="239" name="Picture 2" descr=""/>
            <p:cNvPicPr/>
            <p:nvPr/>
          </p:nvPicPr>
          <p:blipFill>
            <a:blip r:embed="rId1"/>
            <a:srcRect l="0" t="50967" r="13776" b="0"/>
            <a:stretch/>
          </p:blipFill>
          <p:spPr>
            <a:xfrm>
              <a:off x="144360" y="1268280"/>
              <a:ext cx="7838280" cy="51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" descr=""/>
            <p:cNvPicPr/>
            <p:nvPr/>
          </p:nvPicPr>
          <p:blipFill>
            <a:blip r:embed="rId2"/>
            <a:srcRect l="87896" t="39739" r="0" b="40872"/>
            <a:stretch/>
          </p:blipFill>
          <p:spPr>
            <a:xfrm>
              <a:off x="7863840" y="2563560"/>
              <a:ext cx="1100880" cy="20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Rounded Rectangle 8"/>
          <p:cNvSpPr/>
          <p:nvPr/>
        </p:nvSpPr>
        <p:spPr>
          <a:xfrm>
            <a:off x="1258920" y="1700280"/>
            <a:ext cx="360360" cy="4334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3440"/>
              <a:gd name="textAreaBottom" fmla="*/ 416160 h 433440"/>
            </a:gdLst>
            <a:ahLst/>
            <a:rect l="textAreaLeft" t="textAreaTop" r="textAreaRight" b="textAreaBottom"/>
            <a:pathLst>
              <a:path w="21600" h="25976">
                <a:moveTo>
                  <a:pt x="3600" y="0"/>
                </a:moveTo>
                <a:arcTo wR="3600" hR="3600" stAng="16200000" swAng="-5400000"/>
                <a:lnTo>
                  <a:pt x="0" y="22376"/>
                </a:lnTo>
                <a:arcTo wR="3600" hR="3600" stAng="10800000" swAng="-5400000"/>
                <a:lnTo>
                  <a:pt x="18000" y="259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ounded Rectangle 9"/>
          <p:cNvSpPr/>
          <p:nvPr/>
        </p:nvSpPr>
        <p:spPr>
          <a:xfrm>
            <a:off x="4500720" y="1700280"/>
            <a:ext cx="3384360" cy="433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0" y="6045120"/>
            <a:ext cx="9252000" cy="94716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France has distinctively high elder poverty 65+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7b: Percentage contributions to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Age, Dimension and Year Measure 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9C7E-F7D7-4A94-A22B-4A278B1FC368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116000" y="1093680"/>
            <a:ext cx="6912000" cy="5720040"/>
          </a:xfrm>
          <a:prstGeom prst="rect">
            <a:avLst/>
          </a:prstGeom>
          <a:ln w="0">
            <a:noFill/>
          </a:ln>
        </p:spPr>
      </p:pic>
      <p:sp>
        <p:nvSpPr>
          <p:cNvPr id="247" name="Rounded Rectangle 6"/>
          <p:cNvSpPr/>
          <p:nvPr/>
        </p:nvSpPr>
        <p:spPr>
          <a:xfrm>
            <a:off x="2484360" y="6165720"/>
            <a:ext cx="2232000" cy="43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Rounded Rectangle 7"/>
          <p:cNvSpPr/>
          <p:nvPr/>
        </p:nvSpPr>
        <p:spPr>
          <a:xfrm>
            <a:off x="5219640" y="6165720"/>
            <a:ext cx="1081080" cy="43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Rounded Rectangle 8"/>
          <p:cNvSpPr/>
          <p:nvPr/>
        </p:nvSpPr>
        <p:spPr>
          <a:xfrm>
            <a:off x="2050920" y="2060640"/>
            <a:ext cx="158436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Rounded Rectangle 9"/>
          <p:cNvSpPr/>
          <p:nvPr/>
        </p:nvSpPr>
        <p:spPr>
          <a:xfrm>
            <a:off x="4356000" y="2060640"/>
            <a:ext cx="151128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179280" y="0"/>
            <a:ext cx="880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Recommendations for EU-SILC survey ques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179280" y="907920"/>
            <a:ext cx="86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Highest ISCED level of schooling attained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: levels do not have the same number of years across countries or; or, at times, across age cohorts or subnational regions.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Recommendation: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supplement with the number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Garamond"/>
              </a:rPr>
              <a:t>years of schooling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ompleted, to facilitate comparison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3708360"/>
          <a:ext cx="9144000" cy="3400560"/>
        </p:xfrm>
        <a:graphic>
          <a:graphicData uri="http://schemas.openxmlformats.org/drawingml/2006/table">
            <a:tbl>
              <a:tblPr/>
              <a:tblGrid>
                <a:gridCol w="4506840"/>
                <a:gridCol w="4637160"/>
              </a:tblGrid>
              <a:tr h="19976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ducation LEVEL (Adult and Child above 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ircle the appropriate  ISCED 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hat is the highest level of school (NAME) has attend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-school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SKIP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imary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292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Education YEARS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                    (Adult and child above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What is the highest grade (NAME) completed at this level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43080" y="9360"/>
            <a:ext cx="849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Recommendations for EU-SILC surve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179280" y="907920"/>
            <a:ext cx="86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Self-Assessed Health: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utoff points may be differently defined according to age, gender, culture, language, health knowledge or aspirations, making comparisons difficult.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Recommendation: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replace with objective indicators, or with more focused self-report on health functionings (mppn.org) – or health state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43080" y="9360"/>
            <a:ext cx="849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Recommendations for EU-SILC surve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179280" y="907920"/>
            <a:ext cx="86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Perception of Crime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: responses have been documented to be inversely related to objective incidents of violence.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Recommendation: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replace with reported violence against person or property in last 12 months and the severity of that violence (mppn.org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3195720"/>
          <a:ext cx="9144000" cy="39258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 the last 12 months, did someone steal or try to steal something you or a member of your household owns, whether it was in your dwelling, or was outside (like vehicles), or whether it damaged your home or property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w many times in the last year did this happe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hat is the value of the property that was stolen or damag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 the past year, were you or a member of your household attacked or forcibly assaulted whether without any weapon, or whether by someone with a gun, knife, bomb or another instrument? This may have occurred inside or outside your hom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w many times in the last year did this happe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d anyone die in any of these incident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 the worst incident were you or anyone else seriously injured and could not continue their normal activities for a period of time?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95280" y="469800"/>
            <a:ext cx="849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In Summar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Box 1"/>
          <p:cNvSpPr/>
          <p:nvPr/>
        </p:nvSpPr>
        <p:spPr>
          <a:xfrm>
            <a:off x="395280" y="1333440"/>
            <a:ext cx="86407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onstructs 3 Multidimensional Poverty meas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Report poverty, headcount and intens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ompares these on aggregate 2006-201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Decomposes by regions, countries – across tim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nalyses decomposition by dimen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nalyses changes over time by H and A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Decomposes results by gender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Decomposes results by age categor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Recommends gathering comparable social indic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urpose: illustrates a measurement methodology and the analyses it can generat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95280" y="40464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1. Backgroun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395280" y="148428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Garamond"/>
              </a:rPr>
              <a:t>Changes from previous draf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Three new meas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hanged indicator defini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Standard err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Registry data countries includ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roposals for EU-SILC survey desig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Comparable questions on Education, Health, and Living Environment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269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60000"/>
                </a:solidFill>
                <a:latin typeface="Garamond"/>
                <a:ea typeface="Arial"/>
              </a:rPr>
              <a:t>New: dimensional breakdow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50920" y="134136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The poverty measure is also the sum of the weighted ‘censored headcounts’ of each indicato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Censored Headcount for dimension j: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 The percentage of the population that is identified as poor, 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 is deprived in indicator j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65" name="TextBox 4" descr=""/>
          <p:cNvPicPr/>
          <p:nvPr/>
        </p:nvPicPr>
        <p:blipFill>
          <a:blip r:embed="rId1"/>
          <a:stretch/>
        </p:blipFill>
        <p:spPr>
          <a:xfrm>
            <a:off x="1878120" y="2779560"/>
            <a:ext cx="54306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95280" y="-27000"/>
            <a:ext cx="849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2. Methodolo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Box 1"/>
          <p:cNvSpPr/>
          <p:nvPr/>
        </p:nvSpPr>
        <p:spPr>
          <a:xfrm>
            <a:off x="395280" y="549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4560" y="62064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Select Dimensions, Indicators and Valu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pply Deprivation cutoffs for each indicato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reate weighted deprivation score per pers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pply a poverty cutoff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Garamond"/>
              </a:rPr>
              <a:t>identify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who is poor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Garamond"/>
              </a:rPr>
              <a:t>Aggregate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information about poverty in a measu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We use Alkire Foster 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measu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347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Reflects prevalence (H), intensity (A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aramond"/>
              </a:rPr>
              <a:t>Key Properties for analysis: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subgroup decomposability, dimensional monotonicity, dimensional breakdown (post-identification), ordinality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Alkire, Sabina and James Foster  </a:t>
            </a:r>
            <a:r>
              <a:rPr b="0" i="1" lang="en-GB" sz="2000" spc="-1" strike="noStrike">
                <a:solidFill>
                  <a:srgbClr val="000000"/>
                </a:solidFill>
                <a:latin typeface="Garamond"/>
              </a:rPr>
              <a:t>J. of Public Economics 2011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60000"/>
                </a:solidFill>
                <a:latin typeface="Garamond"/>
                <a:ea typeface="Arial"/>
              </a:rPr>
              <a:t>Counting-based Identification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Select Dimensions, Indicator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Weights, and Cutoff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Create deprivation profiles per pers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Identify who is po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e.g. if sco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  <a:ea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34%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  <a:p>
            <a:pPr marL="36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470640" y="1073160"/>
            <a:ext cx="2751120" cy="2139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592600" y="4437000"/>
            <a:ext cx="3560760" cy="23860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5940360" y="1197000"/>
            <a:ext cx="719280" cy="7340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395280" y="3449520"/>
            <a:ext cx="720720" cy="7340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871880" y="5516640"/>
            <a:ext cx="720720" cy="7340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1488960" y="3089160"/>
            <a:ext cx="3743280" cy="18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3: Headcount ratio and intensity SILC selected countries 2006-2009-201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E740-CEE4-4D32-A66F-7BC29C36A1FF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Box 20"/>
          <p:cNvSpPr/>
          <p:nvPr/>
        </p:nvSpPr>
        <p:spPr>
          <a:xfrm>
            <a:off x="179280" y="1989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1 k=26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TextBox 21"/>
          <p:cNvSpPr/>
          <p:nvPr/>
        </p:nvSpPr>
        <p:spPr>
          <a:xfrm>
            <a:off x="3276720" y="198900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2 k=21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Box 22"/>
          <p:cNvSpPr/>
          <p:nvPr/>
        </p:nvSpPr>
        <p:spPr>
          <a:xfrm>
            <a:off x="6264360" y="198900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3 k=34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tretch/>
        </p:blipFill>
        <p:spPr>
          <a:xfrm>
            <a:off x="-36360" y="2492280"/>
            <a:ext cx="3060720" cy="2457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2"/>
          <a:stretch/>
        </p:blipFill>
        <p:spPr>
          <a:xfrm>
            <a:off x="2987640" y="2492280"/>
            <a:ext cx="3060720" cy="2457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"/>
          <p:cNvPicPr/>
          <p:nvPr/>
        </p:nvPicPr>
        <p:blipFill>
          <a:blip r:embed="rId3"/>
          <a:stretch/>
        </p:blipFill>
        <p:spPr>
          <a:xfrm>
            <a:off x="6048360" y="2492280"/>
            <a:ext cx="3060720" cy="2457720"/>
          </a:xfrm>
          <a:prstGeom prst="rect">
            <a:avLst/>
          </a:prstGeom>
          <a:ln w="0">
            <a:noFill/>
          </a:ln>
        </p:spPr>
      </p:pic>
      <p:cxnSp>
        <p:nvCxnSpPr>
          <p:cNvPr id="277" name="Straight Arrow Connector 30"/>
          <p:cNvCxnSpPr/>
          <p:nvPr/>
        </p:nvCxnSpPr>
        <p:spPr>
          <a:xfrm flipH="1">
            <a:off x="1115640" y="3284280"/>
            <a:ext cx="1224720" cy="216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8" name="Straight Arrow Connector 32"/>
          <p:cNvCxnSpPr/>
          <p:nvPr/>
        </p:nvCxnSpPr>
        <p:spPr>
          <a:xfrm flipH="1">
            <a:off x="4426920" y="3644640"/>
            <a:ext cx="93708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9" name="Straight Arrow Connector 35"/>
          <p:cNvCxnSpPr/>
          <p:nvPr/>
        </p:nvCxnSpPr>
        <p:spPr>
          <a:xfrm flipH="1">
            <a:off x="7666920" y="3860640"/>
            <a:ext cx="577080" cy="14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0" name="TextBox 12"/>
          <p:cNvSpPr/>
          <p:nvPr/>
        </p:nvSpPr>
        <p:spPr>
          <a:xfrm>
            <a:off x="-14400" y="6373800"/>
            <a:ext cx="9250560" cy="523800"/>
          </a:xfrm>
          <a:prstGeom prst="rect">
            <a:avLst/>
          </a:prstGeom>
          <a:solidFill>
            <a:srgbClr val="cba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9: Changes in the adjusted headcount ratio 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 by region over tim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C985-023A-4C59-8890-679EE3C1299D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83" name="Picture 1" descr=""/>
          <p:cNvPicPr/>
          <p:nvPr/>
        </p:nvPicPr>
        <p:blipFill>
          <a:blip r:embed="rId1"/>
          <a:stretch/>
        </p:blipFill>
        <p:spPr>
          <a:xfrm>
            <a:off x="34920" y="1916280"/>
            <a:ext cx="3060720" cy="4537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3024360" y="1946160"/>
            <a:ext cx="3060360" cy="4578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3"/>
          <a:stretch/>
        </p:blipFill>
        <p:spPr>
          <a:xfrm>
            <a:off x="6048360" y="1922400"/>
            <a:ext cx="3060720" cy="45309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2"/>
          <p:cNvSpPr/>
          <p:nvPr/>
        </p:nvSpPr>
        <p:spPr>
          <a:xfrm>
            <a:off x="179280" y="1341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1 k=26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3276720" y="134136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2 k=21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6264360" y="134136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Measure 3 k=34%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TextBox 16"/>
          <p:cNvSpPr/>
          <p:nvPr/>
        </p:nvSpPr>
        <p:spPr>
          <a:xfrm>
            <a:off x="179280" y="176364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Box 17"/>
          <p:cNvSpPr/>
          <p:nvPr/>
        </p:nvSpPr>
        <p:spPr>
          <a:xfrm>
            <a:off x="3132000" y="177336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Box 18"/>
          <p:cNvSpPr/>
          <p:nvPr/>
        </p:nvSpPr>
        <p:spPr>
          <a:xfrm>
            <a:off x="6156360" y="1773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Box 19"/>
          <p:cNvSpPr/>
          <p:nvPr/>
        </p:nvSpPr>
        <p:spPr>
          <a:xfrm>
            <a:off x="2700360" y="5508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Box 20"/>
          <p:cNvSpPr/>
          <p:nvPr/>
        </p:nvSpPr>
        <p:spPr>
          <a:xfrm>
            <a:off x="5724360" y="5580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Box 21"/>
          <p:cNvSpPr/>
          <p:nvPr/>
        </p:nvSpPr>
        <p:spPr>
          <a:xfrm>
            <a:off x="8748720" y="5508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4a: Contributions to National Multidimensional Poverty (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) by Gender 2006 (Measure 1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D3D9-E2AB-456B-B136-55EB8EA44C3F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9180360" cy="5121360"/>
          </a:xfrm>
          <a:prstGeom prst="rect">
            <a:avLst/>
          </a:prstGeom>
          <a:ln w="0">
            <a:noFill/>
          </a:ln>
        </p:spPr>
      </p:pic>
      <p:cxnSp>
        <p:nvCxnSpPr>
          <p:cNvPr id="298" name="Straight Arrow Connector 9"/>
          <p:cNvCxnSpPr/>
          <p:nvPr/>
        </p:nvCxnSpPr>
        <p:spPr>
          <a:xfrm>
            <a:off x="0" y="5084280"/>
            <a:ext cx="396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9" name="Straight Arrow Connector 10"/>
          <p:cNvCxnSpPr/>
          <p:nvPr/>
        </p:nvCxnSpPr>
        <p:spPr>
          <a:xfrm>
            <a:off x="0" y="5300280"/>
            <a:ext cx="396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igure 15: Gender Decomposition of 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 by Country 2006 and 2012 (Measure 3)                                                                                                                                                                                                     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75E7-B832-42A8-9E72-57A892CCE83B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385920" y="1125360"/>
            <a:ext cx="8507160" cy="5759640"/>
          </a:xfrm>
          <a:prstGeom prst="rect">
            <a:avLst/>
          </a:prstGeom>
          <a:ln w="0">
            <a:noFill/>
          </a:ln>
        </p:spPr>
      </p:pic>
      <p:cxnSp>
        <p:nvCxnSpPr>
          <p:cNvPr id="303" name="Straight Arrow Connector 13"/>
          <p:cNvCxnSpPr/>
          <p:nvPr/>
        </p:nvCxnSpPr>
        <p:spPr>
          <a:xfrm>
            <a:off x="0" y="1267920"/>
            <a:ext cx="216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269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60000"/>
                </a:solidFill>
                <a:latin typeface="Garamond"/>
                <a:ea typeface="Arial"/>
              </a:rPr>
              <a:t>FGT-based Aggreg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162864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Poverty measure is the product of two components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1)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Prevalence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~ the percentage of people who are poor, or the headcount ratio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2)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Intensity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of people’s deprivation ~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the average share of dimensions in which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poore people are deprived 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643040" y="2286000"/>
            <a:ext cx="5429160" cy="13057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cbaf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d0d0d"/>
                </a:solidFill>
                <a:latin typeface="Garamond"/>
                <a:ea typeface="Arial"/>
              </a:rPr>
              <a:t>M</a:t>
            </a:r>
            <a:r>
              <a:rPr b="1" lang="en-GB" sz="2800" spc="-1" strike="noStrike" baseline="-25000">
                <a:solidFill>
                  <a:srgbClr val="0d0d0d"/>
                </a:solidFill>
                <a:latin typeface="Garamond"/>
                <a:ea typeface="Arial"/>
              </a:rPr>
              <a:t>0 </a:t>
            </a:r>
            <a:r>
              <a:rPr b="1" lang="en-GB" sz="2800" spc="-1" strike="noStrike">
                <a:solidFill>
                  <a:srgbClr val="0d0d0d"/>
                </a:solidFill>
                <a:latin typeface="Garamond"/>
                <a:ea typeface="Arial"/>
              </a:rPr>
              <a:t>= </a:t>
            </a:r>
            <a:r>
              <a:rPr b="1" i="1" lang="en-GB" sz="2800" spc="-1" strike="noStrike">
                <a:solidFill>
                  <a:srgbClr val="0d0d0d"/>
                </a:solidFill>
                <a:latin typeface="Garamond"/>
                <a:ea typeface="Arial"/>
              </a:rPr>
              <a:t>H</a:t>
            </a:r>
            <a:r>
              <a:rPr b="1" lang="en-GB" sz="2800" spc="-1" strike="noStrike">
                <a:solidFill>
                  <a:srgbClr val="0d0d0d"/>
                </a:solidFill>
                <a:latin typeface="Garamond"/>
                <a:ea typeface="Arial"/>
              </a:rPr>
              <a:t> × </a:t>
            </a:r>
            <a:r>
              <a:rPr b="1" i="1" lang="en-GB" sz="2800" spc="-1" strike="noStrike">
                <a:solidFill>
                  <a:srgbClr val="0d0d0d"/>
                </a:solidFill>
                <a:latin typeface="Garamond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95280" y="40464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3. Experimental measu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395280" y="1052640"/>
            <a:ext cx="86407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3 measures constructe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Units of identification and of analysis: individual 16+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Four, Five, and Six Dimension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Living Environm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Living Standards (all EU-2020 indicators not below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428840" indent="-514440">
              <a:lnSpc>
                <a:spcPct val="100000"/>
              </a:lnSpc>
              <a:buClr>
                <a:srgbClr val="000000"/>
              </a:buClr>
              <a:buFont typeface="Garamond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Material Depriv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428840" indent="-514440">
              <a:lnSpc>
                <a:spcPct val="100000"/>
              </a:lnSpc>
              <a:buClr>
                <a:srgbClr val="000000"/>
              </a:buClr>
              <a:buFont typeface="Garamond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Quasi Joblessn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ountries aggregated if data covers 6 waves 2006-1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5280" y="40464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Garamond"/>
              </a:rPr>
              <a:t>3. Experimental measu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50920" y="836640"/>
            <a:ext cx="8642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Indicators: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Same in all meas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Health: 4, Env: 4; Educ: 1, EU-2020: 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Weights: Differ for each measu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1: EU-2020 as one dimension; equal weight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2: EU-2020 = [AROP + QJ] and [Severe Mat Dep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3: EU-2020: one dimension ea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Poverty Cutoffs: Strictly more than 1 (1,2) or 2 (3) D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ヒラギノ角ゴ ProN W3"/>
              </a:rPr>
              <a:t>26% in measure 1, 21% in measure 2; 34% in M 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Table 5: Dimensions, Indicators and Weights for Measures (M) 1, 2 and 3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8B6E-9007-42AD-95FE-7E81C1E61C74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9280" y="1177920"/>
          <a:ext cx="8785440" cy="4915080"/>
        </p:xfrm>
        <a:graphic>
          <a:graphicData uri="http://schemas.openxmlformats.org/drawingml/2006/table">
            <a:tbl>
              <a:tblPr/>
              <a:tblGrid>
                <a:gridCol w="1079640"/>
                <a:gridCol w="1225440"/>
                <a:gridCol w="4896000"/>
                <a:gridCol w="576360"/>
                <a:gridCol w="576000"/>
                <a:gridCol w="432000"/>
              </a:tblGrid>
              <a:tr h="2872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dent is not deprived if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’s equivalized disposable income is above 60 per cent of the national med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160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si-Jobless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lives in household where the ratio of the total number of months that all - household members aged 16-59 have worked during the income reference year and the total number of months the same household members theoretically could have worked in the same period is higher than 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63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vere material depr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has at least six of the following: the ability to make ends meet; to afford one week of holidays; a meal with meat, chicken, fish or vegi equivalent; to face unexpected expenses; and, to keep home adequately warm. Or the respondent has a car, a colour TV, a washing machine, and a telepho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427960" y="6467400"/>
            <a:ext cx="25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3A3F-9481-4105-87BA-B506B8A0BA22}" type="slidenum">
              <a:rPr b="0" lang="en-US" sz="1200" spc="-1" strike="noStrike">
                <a:solidFill>
                  <a:srgbClr val="878787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84240"/>
          <a:ext cx="8785440" cy="6081480"/>
        </p:xfrm>
        <a:graphic>
          <a:graphicData uri="http://schemas.openxmlformats.org/drawingml/2006/table">
            <a:tbl>
              <a:tblPr/>
              <a:tblGrid>
                <a:gridCol w="1368360"/>
                <a:gridCol w="1224000"/>
                <a:gridCol w="4464360"/>
                <a:gridCol w="576000"/>
                <a:gridCol w="576360"/>
                <a:gridCol w="576360"/>
              </a:tblGrid>
              <a:tr h="2872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dent is not deprived if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has completed primary 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47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lives in a household with low noise from neighbourhood or from the str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01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lives in a household with low pollution, grime or other environmental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lives in a household with low crime, violence or vandalism in the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78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lives in a household with no leaking roof, damp walls, rot in window frames or fl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considers her own health as fair or ab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onic Ill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has no chronic illness or long-term 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b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has no limitations due to health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met Med.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spondent does not report unmet medical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qehs0524</dc:creator>
  <dc:description/>
  <dc:language>en-US</dc:language>
  <cp:lastModifiedBy>Vania Etropolska</cp:lastModifiedBy>
  <dcterms:modified xsi:type="dcterms:W3CDTF">2015-05-06T07:17:54Z</dcterms:modified>
  <cp:revision>334</cp:revision>
  <dc:subject/>
  <dc:title>Slide 1</dc:title>
</cp:coreProperties>
</file>