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AA0A-AD4A-4C77-A4E7-2D9BAC05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4166-4AAC-40C6-937A-6B4B4B09F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A41B-1275-47B0-B0FB-DEFD5FF3D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E922-F71C-40BC-B877-A790FA33C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4033A-0BDC-428E-80D0-F6752C0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9CCEA-D118-4881-A081-BD904C4F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7562B-E0F3-4CA7-A911-DEE64F4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04EF3-65A9-465F-94B5-A7E8959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F3CA6-C7FA-457D-964C-C48CFB79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3E0EF-B7D2-46B3-A509-22043F9B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14693-6E13-49B1-9FAB-4370AC6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F7B7-ADDD-498E-AF3E-5E93CD114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A1366-5E76-4A5F-96F4-62E6ECD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03619-EB0B-4C2E-9FD7-605C1ED0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82E88-84ED-41E2-A192-F83B7C3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F7AA0-2D42-4620-9AF1-770C9C45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1EEA-2F45-4ECE-BEFE-2EEF7DD9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FA09-5F69-4D64-A380-E01F05E77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8612-2861-42D4-A220-3B07A8B15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C018-C2E3-4B6A-A4CB-EEA15EC19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31F2-8472-4AFC-B983-303B867E2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508E-71E7-4748-A6AF-F6A951B5E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E8E6-4E48-47AC-A1F4-729546AC8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46C6-6AD9-486A-962D-EA312CDB1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2760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1FC-8654-4662-9EA2-86B313C0D151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4"/>
          </p:nvPr>
        </p:nvSpPr>
        <p:spPr>
          <a:xfrm>
            <a:off x="842760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79FA-DE6D-483B-8BFE-416021B24180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396720" y="1773360"/>
            <a:ext cx="8278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304920" indent="-304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ultidimensional poverty measurement for EU-SILC countr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 Bold"/>
              </a:rPr>
              <a:t>Sabina Alkire, Mauricio Apablaza, Euijin Ju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aramond"/>
                <a:ea typeface="Times New Roman Bold"/>
              </a:rPr>
              <a:t>UNECE meeting, Geneva May 6, 201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CB1-372A-4D23-917F-7EF3985C8E6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Chart 6" descr=""/>
          <p:cNvPicPr/>
          <p:nvPr/>
        </p:nvPicPr>
        <p:blipFill>
          <a:blip r:embed="rId1"/>
          <a:stretch/>
        </p:blipFill>
        <p:spPr>
          <a:xfrm>
            <a:off x="-12600" y="425520"/>
            <a:ext cx="9245520" cy="6483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easures 1-3: Weighting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Straight Connector 7"/>
          <p:cNvSpPr/>
          <p:nvPr/>
        </p:nvSpPr>
        <p:spPr>
          <a:xfrm>
            <a:off x="1258920" y="3213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Straight Connector 8"/>
          <p:cNvSpPr/>
          <p:nvPr/>
        </p:nvSpPr>
        <p:spPr>
          <a:xfrm>
            <a:off x="1258920" y="2205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EEE-7EA7-464B-8698-61379E670F1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Chart 6" descr=""/>
          <p:cNvPicPr/>
          <p:nvPr/>
        </p:nvPicPr>
        <p:blipFill>
          <a:blip r:embed="rId1"/>
          <a:stretch/>
        </p:blipFill>
        <p:spPr>
          <a:xfrm>
            <a:off x="-12600" y="425520"/>
            <a:ext cx="9245520" cy="6483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easures 1-3: Weights &amp; Poverty cutoff </a:t>
            </a:r>
            <a:r>
              <a:rPr b="1" i="1" lang="en-GB" sz="32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Straight Connector 7"/>
          <p:cNvSpPr/>
          <p:nvPr/>
        </p:nvSpPr>
        <p:spPr>
          <a:xfrm>
            <a:off x="1258920" y="3213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1258920" y="2205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1835280" y="378936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Rounded Rectangle 10"/>
          <p:cNvSpPr/>
          <p:nvPr/>
        </p:nvSpPr>
        <p:spPr>
          <a:xfrm>
            <a:off x="4427640" y="3975120"/>
            <a:ext cx="64764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21%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Rounded Rectangle 11"/>
          <p:cNvSpPr/>
          <p:nvPr/>
        </p:nvSpPr>
        <p:spPr>
          <a:xfrm>
            <a:off x="7093080" y="3429000"/>
            <a:ext cx="64764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34%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Straight Connector 12"/>
          <p:cNvSpPr/>
          <p:nvPr/>
        </p:nvSpPr>
        <p:spPr>
          <a:xfrm>
            <a:off x="826920" y="4210200"/>
            <a:ext cx="26654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Straight Connector 13"/>
          <p:cNvSpPr/>
          <p:nvPr/>
        </p:nvSpPr>
        <p:spPr>
          <a:xfrm>
            <a:off x="3419640" y="4508640"/>
            <a:ext cx="2665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Straight Connector 14"/>
          <p:cNvSpPr/>
          <p:nvPr/>
        </p:nvSpPr>
        <p:spPr>
          <a:xfrm>
            <a:off x="6084720" y="3933720"/>
            <a:ext cx="266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C4EF-B4FD-45FA-869D-3579D0D15B2B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Chart 16" descr=""/>
          <p:cNvPicPr/>
          <p:nvPr/>
        </p:nvPicPr>
        <p:blipFill>
          <a:blip r:embed="rId1"/>
          <a:stretch/>
        </p:blipFill>
        <p:spPr>
          <a:xfrm>
            <a:off x="406440" y="353880"/>
            <a:ext cx="833112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able 3: Correlations (Cramers’ V) across uncensored deprivation headcount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49E-B621-4AA0-8DB7-45728DC14920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380960"/>
          <a:ext cx="9144000" cy="3907080"/>
        </p:xfrm>
        <a:graphic>
          <a:graphicData uri="http://schemas.openxmlformats.org/drawingml/2006/table">
            <a:tbl>
              <a:tblPr/>
              <a:tblGrid>
                <a:gridCol w="1012680"/>
                <a:gridCol w="676440"/>
                <a:gridCol w="776160"/>
                <a:gridCol w="800280"/>
                <a:gridCol w="633240"/>
                <a:gridCol w="777960"/>
                <a:gridCol w="615960"/>
                <a:gridCol w="750960"/>
                <a:gridCol w="547560"/>
                <a:gridCol w="995400"/>
                <a:gridCol w="880920"/>
                <a:gridCol w="676440"/>
              </a:tblGrid>
              <a:tr h="82764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.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m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m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able 4: Redundancy values across uncensored deprivation headcount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3BC-33DD-4171-B010-5978FE3A595F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341360"/>
          <a:ext cx="8785440" cy="3897360"/>
        </p:xfrm>
        <a:graphic>
          <a:graphicData uri="http://schemas.openxmlformats.org/drawingml/2006/table">
            <a:tbl>
              <a:tblPr/>
              <a:tblGrid>
                <a:gridCol w="936720"/>
                <a:gridCol w="719280"/>
                <a:gridCol w="792000"/>
                <a:gridCol w="792360"/>
                <a:gridCol w="576000"/>
                <a:gridCol w="792360"/>
                <a:gridCol w="476280"/>
                <a:gridCol w="747720"/>
                <a:gridCol w="647640"/>
                <a:gridCol w="720720"/>
                <a:gridCol w="936720"/>
                <a:gridCol w="647640"/>
              </a:tblGrid>
              <a:tr h="82764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v.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.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m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v.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.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m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Oval 4"/>
          <p:cNvSpPr/>
          <p:nvPr/>
        </p:nvSpPr>
        <p:spPr>
          <a:xfrm>
            <a:off x="1116000" y="1916280"/>
            <a:ext cx="7192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7524720" y="4149720"/>
            <a:ext cx="719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332000" y="558972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: ratio of percentage deprived in both indicators to lower of the two total deprivation headcount rat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2: Adjusted Headcount Ratio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poverty cut-off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50D8-5DC8-4371-83C8-87F793AC62A9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68360" y="119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Measure 1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Measure 2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   Measure 3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203640" y="1738440"/>
            <a:ext cx="2952720" cy="468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6100920" y="1773360"/>
            <a:ext cx="2863800" cy="464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34920" y="1698480"/>
            <a:ext cx="3097080" cy="47293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5"/>
          <p:cNvSpPr/>
          <p:nvPr/>
        </p:nvSpPr>
        <p:spPr>
          <a:xfrm>
            <a:off x="250920" y="1547640"/>
            <a:ext cx="64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3348000" y="155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6227640" y="1547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2843280" y="5867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5867280" y="5867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Box 21"/>
          <p:cNvSpPr/>
          <p:nvPr/>
        </p:nvSpPr>
        <p:spPr>
          <a:xfrm>
            <a:off x="8675640" y="5877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-14400" y="6373800"/>
            <a:ext cx="925056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verty reduced 2006-12, but not necessarily significant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: Measure 1 Adjusted Headcount Ratio (M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poverty cut-off 2006-2009-2012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3D3D-5640-4F7E-B7BF-12DBF43F8ED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539640" y="12398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2006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2009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   201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4920" y="1601640"/>
            <a:ext cx="2967120" cy="4707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2852640" cy="472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3025800" cy="4799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324000" y="1413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3276720" y="14749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6156360" y="14749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2771640" y="566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5580000" y="573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Box 19"/>
          <p:cNvSpPr/>
          <p:nvPr/>
        </p:nvSpPr>
        <p:spPr>
          <a:xfrm>
            <a:off x="8604360" y="5796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-14400" y="6291360"/>
            <a:ext cx="9250560" cy="9471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outhern Europe is always poorest k=1-40%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4: Dimensional Breakdown SILC selected countries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556-3C30-4381-83D5-01F94E2D2FB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964" t="0" r="3540" b="0"/>
          <a:stretch/>
        </p:blipFill>
        <p:spPr>
          <a:xfrm>
            <a:off x="0" y="134136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le 5"/>
          <p:cNvSpPr/>
          <p:nvPr/>
        </p:nvSpPr>
        <p:spPr>
          <a:xfrm>
            <a:off x="755640" y="1484280"/>
            <a:ext cx="151272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Rounded Rectangle 6"/>
          <p:cNvSpPr/>
          <p:nvPr/>
        </p:nvSpPr>
        <p:spPr>
          <a:xfrm>
            <a:off x="755640" y="4005360"/>
            <a:ext cx="410364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ounded Rectangle 7"/>
          <p:cNvSpPr/>
          <p:nvPr/>
        </p:nvSpPr>
        <p:spPr>
          <a:xfrm>
            <a:off x="3059280" y="1484280"/>
            <a:ext cx="576000" cy="122400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85">
                <a:moveTo>
                  <a:pt x="3600" y="0"/>
                </a:moveTo>
                <a:arcTo wR="3600" hR="3600" stAng="16200000" swAng="-5400000"/>
                <a:lnTo>
                  <a:pt x="0" y="42285"/>
                </a:lnTo>
                <a:arcTo wR="3600" hR="3600" stAng="10800000" swAng="-5400000"/>
                <a:lnTo>
                  <a:pt x="18000" y="45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Rounded Rectangle 8"/>
          <p:cNvSpPr/>
          <p:nvPr/>
        </p:nvSpPr>
        <p:spPr>
          <a:xfrm>
            <a:off x="5003640" y="400536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Rounded Rectangle 9"/>
          <p:cNvSpPr/>
          <p:nvPr/>
        </p:nvSpPr>
        <p:spPr>
          <a:xfrm>
            <a:off x="4500720" y="1484280"/>
            <a:ext cx="187164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ounded Rectangle 10"/>
          <p:cNvSpPr/>
          <p:nvPr/>
        </p:nvSpPr>
        <p:spPr>
          <a:xfrm>
            <a:off x="5724360" y="4005360"/>
            <a:ext cx="1079640" cy="122400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224000"/>
              <a:gd name="textAreaBottom" fmla="*/ 1171440 h 1224000"/>
            </a:gdLst>
            <a:ahLst/>
            <a:rect l="textAreaLeft" t="textAreaTop" r="textAreaRight" b="textAreaBottom"/>
            <a:pathLst>
              <a:path w="21600" h="24487">
                <a:moveTo>
                  <a:pt x="3600" y="0"/>
                </a:moveTo>
                <a:arcTo wR="3600" hR="3600" stAng="16200000" swAng="-5400000"/>
                <a:lnTo>
                  <a:pt x="0" y="20887"/>
                </a:lnTo>
                <a:arcTo wR="3600" hR="3600" stAng="10800000" swAng="-5400000"/>
                <a:lnTo>
                  <a:pt x="18000" y="24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-120600" y="591660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Headcount ratio:    4-43% M1            5-39% M2              1-18% M3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5: Dimensional Decomposition Measure 1 k=26% by country (2009) ranked from poo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2AC-F181-4092-9215-FC3A6A03BC9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71280" y="1197000"/>
            <a:ext cx="89647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6: Dimensional Decomposition Measure 2 k=21% by country (2009), ranked from poo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F9C-C1DE-4E53-B4C2-EC08977549CA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08000" y="1211400"/>
            <a:ext cx="892800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1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ED8-AEDA-4C85-8A30-0C2EF5EFE59C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54000" y="476280"/>
            <a:ext cx="801072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Three possible Meas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M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Garamond"/>
                <a:ea typeface="ヒラギノ角ゴ ProN W3"/>
              </a:rPr>
              <a:t>0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 , H , 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Dimensional break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Dynamic Analy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Recommendations for EU-SILC surv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7: Dimensional Decomposition Measure 3 k=34% by country (2009), ranked from poo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2C4-5DFD-46E0-9353-D88F6F710CF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71280" y="1150920"/>
            <a:ext cx="8964720" cy="566280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0"/>
          <p:cNvSpPr/>
          <p:nvPr/>
        </p:nvSpPr>
        <p:spPr>
          <a:xfrm>
            <a:off x="4140360" y="1484280"/>
            <a:ext cx="0" cy="518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8: Raw and Censored Headcount Ratios Measure 3 k=34% for Norway, Hungary and Portugal (2009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43E2-2167-48B9-92E3-CE919E7C38B1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13"/>
          <p:cNvSpPr/>
          <p:nvPr/>
        </p:nvSpPr>
        <p:spPr>
          <a:xfrm>
            <a:off x="4067280" y="5229360"/>
            <a:ext cx="57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Straight Connector 14"/>
          <p:cNvSpPr/>
          <p:nvPr/>
        </p:nvSpPr>
        <p:spPr>
          <a:xfrm>
            <a:off x="3492360" y="5229360"/>
            <a:ext cx="35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6156360" y="52293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Straight Connector 16"/>
          <p:cNvSpPr/>
          <p:nvPr/>
        </p:nvSpPr>
        <p:spPr>
          <a:xfrm>
            <a:off x="5435640" y="522936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6875640" y="522936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Straight Connector 21"/>
          <p:cNvSpPr/>
          <p:nvPr/>
        </p:nvSpPr>
        <p:spPr>
          <a:xfrm>
            <a:off x="4859280" y="5229360"/>
            <a:ext cx="43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0: Adjusted Headcount Ratio for all Measures by country (2006-201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402-CBCB-4793-9339-F40453B5759E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1557360"/>
            <a:ext cx="30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060360" cy="395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6119640" y="1557360"/>
            <a:ext cx="3060720" cy="395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4"/>
          <a:srcRect l="0" t="85795" r="0" b="2980"/>
          <a:stretch/>
        </p:blipFill>
        <p:spPr>
          <a:xfrm>
            <a:off x="71280" y="5589720"/>
            <a:ext cx="8964720" cy="792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1"/>
          <p:cNvSpPr/>
          <p:nvPr/>
        </p:nvSpPr>
        <p:spPr>
          <a:xfrm>
            <a:off x="179280" y="112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1 k=26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3276720" y="1125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2 k=21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264360" y="11253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3 k=34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1: Poverty contributions by country, population-weighted Measure 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F51-C52B-44F5-9AC2-B6E15107A10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08000" y="1309680"/>
            <a:ext cx="8785080" cy="55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2: Bubble graph of changes Measure 1 by H and A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A60-A54F-40E1-99DF-E7AB81E218D5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8000" y="1158840"/>
            <a:ext cx="8964720" cy="5270400"/>
          </a:xfrm>
          <a:prstGeom prst="rect">
            <a:avLst/>
          </a:prstGeom>
          <a:ln w="0">
            <a:noFill/>
          </a:ln>
        </p:spPr>
      </p:pic>
      <p:sp>
        <p:nvSpPr>
          <p:cNvPr id="198" name="Oval 6"/>
          <p:cNvSpPr/>
          <p:nvPr/>
        </p:nvSpPr>
        <p:spPr>
          <a:xfrm>
            <a:off x="5364000" y="3716280"/>
            <a:ext cx="648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7885080" y="2421000"/>
            <a:ext cx="863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3851280" y="1916280"/>
            <a:ext cx="865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859280" y="2349360"/>
            <a:ext cx="86508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2916360" y="4365720"/>
            <a:ext cx="9349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2411280" y="5157720"/>
            <a:ext cx="648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3: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Measure, Gender and Ye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4AE7-39B8-4CEC-80AD-22AC6DD9EECA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222200" y="1268280"/>
            <a:ext cx="666288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4b: Contributions to National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2012 (Measure 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AF95-DCFF-497D-A96A-0B121840300B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8837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6a: Aggregate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and Year Measure 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4596-ECC0-4455-82AD-6DFB9E7D6520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712000" cy="50115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-108000" y="619920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omen have higher deprivations overall in education and heal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6b: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and country Measure 1 (A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90E1-6169-4233-BAD8-ABB685D31F8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922320" y="1268280"/>
            <a:ext cx="7610400" cy="5185080"/>
            <a:chOff x="922320" y="1268280"/>
            <a:chExt cx="7610400" cy="5185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81357" t="32169" r="0" b="33173"/>
            <a:stretch/>
          </p:blipFill>
          <p:spPr>
            <a:xfrm>
              <a:off x="7194600" y="1893240"/>
              <a:ext cx="1338120" cy="357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7"/>
            <p:cNvGrpSpPr/>
            <p:nvPr/>
          </p:nvGrpSpPr>
          <p:grpSpPr>
            <a:xfrm>
              <a:off x="922320" y="1268280"/>
              <a:ext cx="7057800" cy="5185080"/>
              <a:chOff x="922320" y="1268280"/>
              <a:chExt cx="7057800" cy="5185080"/>
            </a:xfrm>
          </p:grpSpPr>
          <p:pic>
            <p:nvPicPr>
              <p:cNvPr id="219" name="Picture 2" descr=""/>
              <p:cNvPicPr/>
              <p:nvPr/>
            </p:nvPicPr>
            <p:blipFill>
              <a:blip r:embed="rId2"/>
              <a:srcRect l="0" t="96085" r="9263" b="0"/>
              <a:stretch/>
            </p:blipFill>
            <p:spPr>
              <a:xfrm>
                <a:off x="922320" y="6043680"/>
                <a:ext cx="7057800" cy="40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2" descr=""/>
              <p:cNvPicPr/>
              <p:nvPr/>
            </p:nvPicPr>
            <p:blipFill>
              <a:blip r:embed="rId3"/>
              <a:srcRect l="0" t="2075" r="16389" b="52013"/>
              <a:stretch/>
            </p:blipFill>
            <p:spPr>
              <a:xfrm>
                <a:off x="922320" y="1268280"/>
                <a:ext cx="6464880" cy="477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TextBox 8"/>
          <p:cNvSpPr/>
          <p:nvPr/>
        </p:nvSpPr>
        <p:spPr>
          <a:xfrm>
            <a:off x="-108000" y="619920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ome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always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have higher deprivations in education and heal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6b: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and country Measure 1 (B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75A7-188A-4922-950C-1D41A90BCC0A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1116000" y="1268280"/>
            <a:ext cx="7201080" cy="5256360"/>
            <a:chOff x="1116000" y="1268280"/>
            <a:chExt cx="7201080" cy="5256360"/>
          </a:xfrm>
        </p:grpSpPr>
        <p:pic>
          <p:nvPicPr>
            <p:cNvPr id="225" name="Picture 2" descr=""/>
            <p:cNvPicPr/>
            <p:nvPr/>
          </p:nvPicPr>
          <p:blipFill>
            <a:blip r:embed="rId1"/>
            <a:srcRect l="0" t="47498" r="16624" b="0"/>
            <a:stretch/>
          </p:blipFill>
          <p:spPr>
            <a:xfrm>
              <a:off x="1116000" y="1268280"/>
              <a:ext cx="6101280" cy="52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" descr=""/>
            <p:cNvPicPr/>
            <p:nvPr/>
          </p:nvPicPr>
          <p:blipFill>
            <a:blip r:embed="rId2"/>
            <a:srcRect l="82664" t="32169" r="0" b="32285"/>
            <a:stretch/>
          </p:blipFill>
          <p:spPr>
            <a:xfrm>
              <a:off x="7088400" y="1957680"/>
              <a:ext cx="1228680" cy="344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TextBox 6"/>
          <p:cNvSpPr/>
          <p:nvPr/>
        </p:nvSpPr>
        <p:spPr>
          <a:xfrm>
            <a:off x="-108000" y="6199200"/>
            <a:ext cx="9252000" cy="9471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ere there are exceptions. For ed: DE, SE, IS, and N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95280" y="-2700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1. Backgrou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50920" y="907920"/>
            <a:ext cx="8642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tradition of counting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evere Material Deprivation Indic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U-202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helan Nolan Maitre (2014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is paper: seeks to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illustrat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the kinds of analyses that could be possible by implementing an AF methodology using limited variables across cross-sectional data 2006-2012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7a: Percentage contributions to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age and year Measure 1 (A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39BA-F73A-4DED-8625-ADC3F9911510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395280" y="1197000"/>
            <a:ext cx="8353440" cy="5400720"/>
            <a:chOff x="395280" y="1197000"/>
            <a:chExt cx="8353440" cy="5400720"/>
          </a:xfrm>
        </p:grpSpPr>
        <p:grpSp>
          <p:nvGrpSpPr>
            <p:cNvPr id="231" name="Group 8"/>
            <p:cNvGrpSpPr/>
            <p:nvPr/>
          </p:nvGrpSpPr>
          <p:grpSpPr>
            <a:xfrm>
              <a:off x="395280" y="1197000"/>
              <a:ext cx="7676280" cy="5400720"/>
              <a:chOff x="395280" y="1197000"/>
              <a:chExt cx="7676280" cy="5400720"/>
            </a:xfrm>
          </p:grpSpPr>
          <p:pic>
            <p:nvPicPr>
              <p:cNvPr id="232" name="Picture 2" descr=""/>
              <p:cNvPicPr/>
              <p:nvPr/>
            </p:nvPicPr>
            <p:blipFill>
              <a:blip r:embed="rId1"/>
              <a:srcRect l="0" t="2042" r="13776" b="53039"/>
              <a:stretch/>
            </p:blipFill>
            <p:spPr>
              <a:xfrm>
                <a:off x="395280" y="1197000"/>
                <a:ext cx="7450560" cy="484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3" descr=""/>
              <p:cNvPicPr/>
              <p:nvPr/>
            </p:nvPicPr>
            <p:blipFill>
              <a:blip r:embed="rId2"/>
              <a:srcRect l="0" t="95891" r="12111" b="-985"/>
              <a:stretch/>
            </p:blipFill>
            <p:spPr>
              <a:xfrm>
                <a:off x="477360" y="6046920"/>
                <a:ext cx="759420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4" name="Picture 4" descr=""/>
            <p:cNvPicPr/>
            <p:nvPr/>
          </p:nvPicPr>
          <p:blipFill>
            <a:blip r:embed="rId3"/>
            <a:srcRect l="87896" t="39739" r="0" b="40872"/>
            <a:stretch/>
          </p:blipFill>
          <p:spPr>
            <a:xfrm>
              <a:off x="7702200" y="2519640"/>
              <a:ext cx="1046520" cy="20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Box 9"/>
          <p:cNvSpPr/>
          <p:nvPr/>
        </p:nvSpPr>
        <p:spPr>
          <a:xfrm>
            <a:off x="0" y="604512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Youth contribution highest in UK; NO 2012; Elder hi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7a: Percentage contributions to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age and year Measure 1 (B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10A-0439-4A2B-8FC9-290FD0F10145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8" name="Group 7"/>
          <p:cNvGrpSpPr/>
          <p:nvPr/>
        </p:nvGrpSpPr>
        <p:grpSpPr>
          <a:xfrm>
            <a:off x="144360" y="1268280"/>
            <a:ext cx="8820360" cy="5185080"/>
            <a:chOff x="144360" y="1268280"/>
            <a:chExt cx="8820360" cy="5185080"/>
          </a:xfrm>
        </p:grpSpPr>
        <p:pic>
          <p:nvPicPr>
            <p:cNvPr id="239" name="Picture 2" descr=""/>
            <p:cNvPicPr/>
            <p:nvPr/>
          </p:nvPicPr>
          <p:blipFill>
            <a:blip r:embed="rId1"/>
            <a:srcRect l="0" t="50967" r="13776" b="0"/>
            <a:stretch/>
          </p:blipFill>
          <p:spPr>
            <a:xfrm>
              <a:off x="144360" y="1268280"/>
              <a:ext cx="7838280" cy="51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"/>
            <p:cNvPicPr/>
            <p:nvPr/>
          </p:nvPicPr>
          <p:blipFill>
            <a:blip r:embed="rId2"/>
            <a:srcRect l="87896" t="39739" r="0" b="40872"/>
            <a:stretch/>
          </p:blipFill>
          <p:spPr>
            <a:xfrm>
              <a:off x="7863840" y="2563560"/>
              <a:ext cx="1100880" cy="20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Rounded Rectangle 8"/>
          <p:cNvSpPr/>
          <p:nvPr/>
        </p:nvSpPr>
        <p:spPr>
          <a:xfrm>
            <a:off x="1258920" y="1700280"/>
            <a:ext cx="360360" cy="4334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3440"/>
              <a:gd name="textAreaBottom" fmla="*/ 416160 h 433440"/>
            </a:gdLst>
            <a:ahLst/>
            <a:rect l="textAreaLeft" t="textAreaTop" r="textAreaRight" b="textAreaBottom"/>
            <a:pathLst>
              <a:path w="21600" h="25976">
                <a:moveTo>
                  <a:pt x="3600" y="0"/>
                </a:moveTo>
                <a:arcTo wR="3600" hR="3600" stAng="16200000" swAng="-5400000"/>
                <a:lnTo>
                  <a:pt x="0" y="22376"/>
                </a:lnTo>
                <a:arcTo wR="3600" hR="3600" stAng="10800000" swAng="-5400000"/>
                <a:lnTo>
                  <a:pt x="18000" y="25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ounded Rectangle 9"/>
          <p:cNvSpPr/>
          <p:nvPr/>
        </p:nvSpPr>
        <p:spPr>
          <a:xfrm>
            <a:off x="4500720" y="1700280"/>
            <a:ext cx="3384360" cy="433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0" y="6045120"/>
            <a:ext cx="9252000" cy="9471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rance has distinctively high elder poverty 65+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7b: Percentage contributions to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Age, Dimension and Year Measure 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F339-EBCF-422B-B224-F3A8EA7DFC34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093680"/>
            <a:ext cx="6912000" cy="572004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6"/>
          <p:cNvSpPr/>
          <p:nvPr/>
        </p:nvSpPr>
        <p:spPr>
          <a:xfrm>
            <a:off x="2484360" y="6165720"/>
            <a:ext cx="22320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ounded Rectangle 7"/>
          <p:cNvSpPr/>
          <p:nvPr/>
        </p:nvSpPr>
        <p:spPr>
          <a:xfrm>
            <a:off x="5219640" y="6165720"/>
            <a:ext cx="108108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ounded Rectangle 8"/>
          <p:cNvSpPr/>
          <p:nvPr/>
        </p:nvSpPr>
        <p:spPr>
          <a:xfrm>
            <a:off x="2050920" y="2060640"/>
            <a:ext cx="1584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4356000" y="2060640"/>
            <a:ext cx="151128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79280" y="0"/>
            <a:ext cx="880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Recommendations for EU-SILC survey ques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79280" y="90792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Highest ISCED level of schooling attained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: levels do not have the same number of years across countries or; or, at times, across age cohorts or subnational regions.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commendation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upplement with the number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years of schooling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mpleted, to facilitate comparis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3708360"/>
          <a:ext cx="9144000" cy="3400560"/>
        </p:xfrm>
        <a:graphic>
          <a:graphicData uri="http://schemas.openxmlformats.org/drawingml/2006/table">
            <a:tbl>
              <a:tblPr/>
              <a:tblGrid>
                <a:gridCol w="4506840"/>
                <a:gridCol w="4637160"/>
              </a:tblGrid>
              <a:tr h="19976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 LEVEL (Adult and Child above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rcle the appropriate  ISCED 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hat is the highest level of school (NAME) has attend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-school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SKIP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mary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29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ducation YEARS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                    (Adult and child above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What is the highest grade (NAME) completed at this level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43080" y="936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Recommendations for EU-SILC surv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179280" y="90792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Self-Assessed Health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utoff points may be differently defined according to age, gender, culture, language, health knowledge or aspirations, making comparisons difficult.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commendation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place with objective indicators, or with more focused self-report on health functionings (mppn.org) – or health state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43080" y="936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Recommendations for EU-SILC surv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79280" y="90792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Perception of Crim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 responses have been documented to be inversely related to objective incidents of violence.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commendation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place with reported violence against person or property in last 12 months and the severity of that violence (mppn.org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3195720"/>
          <a:ext cx="9144000" cy="3925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 the last 12 months, did someone steal or try to steal something you or a member of your household owns, whether it was in your dwelling, or was outside (like vehicles), or whether it damaged your home or propert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w many times in the last year did this happ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hat is the value of the property that was stolen or dama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 the past year, were you or a member of your household attacked or forcibly assaulted whether without any weapon, or whether by someone with a gun, knife, bomb or another instrument? This may have occurred inside or outside your ho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w many times in the last year did this happ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d anyone die in any of these incident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 the worst incident were you or anyone else seriously injured and could not continue their normal activities for a period of time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46980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395280" y="1333440"/>
            <a:ext cx="8640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nstructs 3 Multidimensional Poverty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port poverty, headcount and intens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mpares these on aggregate 2006-201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composes by regions, countries – across tim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nalyses decomposition by dimen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nalyses changes over time by H and A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composes results by gen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composes results by age catego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commends gathering comparable social indic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urpose: illustrates a measurement methodology and the analyses it can gener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95280" y="404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1. Backgrou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395280" y="148428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Garamond"/>
              </a:rPr>
              <a:t>Changes from previous draf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ree new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hanged indicator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gistry data countries includ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oposals for EU-SILC survey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Comparable questions on Education, Health, and Living Environment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26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60000"/>
                </a:solidFill>
                <a:latin typeface="Garamond"/>
                <a:ea typeface="Arial"/>
              </a:rPr>
              <a:t>New: dimensional breakdow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The poverty measure is also the sum of the weighted ‘censored headcounts’ of each indicat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Censored Headcount for dimension j: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 The percentage of the population that is identified as poor,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 is deprived in indicator j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5" name="TextBox 4" descr=""/>
          <p:cNvPicPr/>
          <p:nvPr/>
        </p:nvPicPr>
        <p:blipFill>
          <a:blip r:embed="rId1"/>
          <a:stretch/>
        </p:blipFill>
        <p:spPr>
          <a:xfrm>
            <a:off x="1878120" y="2779560"/>
            <a:ext cx="54306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95280" y="-2700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2. Method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395280" y="549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4560" y="62064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elect Dimensions, Indicators and Val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pply Deprivation cutoffs for each indicat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reate weighted deprivation score per pers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pply a poverty cutoff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identif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who is poor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Aggregat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information about poverty in a meas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e use Alkire Foster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meas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347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flects prevalence (H), intensity (A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aramond"/>
              </a:rPr>
              <a:t>Key Properties for analysis: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ubgroup decomposability, dimensional monotonicity, dimensional breakdown (post-identification), ordinality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Alkire, Sabina and James Foster  </a:t>
            </a:r>
            <a:r>
              <a:rPr b="0" i="1" lang="en-GB" sz="2000" spc="-1" strike="noStrike">
                <a:solidFill>
                  <a:srgbClr val="000000"/>
                </a:solidFill>
                <a:latin typeface="Garamond"/>
              </a:rPr>
              <a:t>J. of Public Economics 201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60000"/>
                </a:solidFill>
                <a:latin typeface="Garamond"/>
                <a:ea typeface="Arial"/>
              </a:rPr>
              <a:t>Counting-based Identification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elect Dimensions, Indicator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eights, and Cutoff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reate deprivation profiles per pers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dentify who is po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e.g. if sc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34%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70640" y="1073160"/>
            <a:ext cx="2751120" cy="2139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592600" y="4437000"/>
            <a:ext cx="3560760" cy="2386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5940360" y="1197000"/>
            <a:ext cx="719280" cy="734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95280" y="3449520"/>
            <a:ext cx="720720" cy="734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71880" y="5516640"/>
            <a:ext cx="720720" cy="734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488960" y="3089160"/>
            <a:ext cx="37432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3: Headcount ratio and intensity SILC selected countries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500-E788-49C5-8784-E84029A6547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179280" y="198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1 k=26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TextBox 21"/>
          <p:cNvSpPr/>
          <p:nvPr/>
        </p:nvSpPr>
        <p:spPr>
          <a:xfrm>
            <a:off x="3276720" y="19890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2 k=21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6264360" y="198900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3 k=34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-36360" y="2492280"/>
            <a:ext cx="3060720" cy="2457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2987640" y="2492280"/>
            <a:ext cx="3060720" cy="2457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"/>
          <p:cNvPicPr/>
          <p:nvPr/>
        </p:nvPicPr>
        <p:blipFill>
          <a:blip r:embed="rId3"/>
          <a:stretch/>
        </p:blipFill>
        <p:spPr>
          <a:xfrm>
            <a:off x="6048360" y="2492280"/>
            <a:ext cx="3060720" cy="2457720"/>
          </a:xfrm>
          <a:prstGeom prst="rect">
            <a:avLst/>
          </a:prstGeom>
          <a:ln w="0">
            <a:noFill/>
          </a:ln>
        </p:spPr>
      </p:pic>
      <p:cxnSp>
        <p:nvCxnSpPr>
          <p:cNvPr id="277" name="Straight Arrow Connector 30"/>
          <p:cNvCxnSpPr/>
          <p:nvPr/>
        </p:nvCxnSpPr>
        <p:spPr>
          <a:xfrm flipH="1">
            <a:off x="1115640" y="3284280"/>
            <a:ext cx="1224720" cy="21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Straight Arrow Connector 32"/>
          <p:cNvCxnSpPr/>
          <p:nvPr/>
        </p:nvCxnSpPr>
        <p:spPr>
          <a:xfrm flipH="1">
            <a:off x="4426920" y="3644640"/>
            <a:ext cx="93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9" name="Straight Arrow Connector 35"/>
          <p:cNvCxnSpPr/>
          <p:nvPr/>
        </p:nvCxnSpPr>
        <p:spPr>
          <a:xfrm flipH="1">
            <a:off x="7666920" y="3860640"/>
            <a:ext cx="577080" cy="1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0" name="TextBox 12"/>
          <p:cNvSpPr/>
          <p:nvPr/>
        </p:nvSpPr>
        <p:spPr>
          <a:xfrm>
            <a:off x="-14400" y="6373800"/>
            <a:ext cx="9250560" cy="52380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9: Changes in the adjusted headcount ratio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by region over t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209B-6479-415E-A0E5-D4FD4977280E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3060720" cy="453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024360" y="1946160"/>
            <a:ext cx="3060360" cy="457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6048360" y="1922400"/>
            <a:ext cx="3060720" cy="45309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2"/>
          <p:cNvSpPr/>
          <p:nvPr/>
        </p:nvSpPr>
        <p:spPr>
          <a:xfrm>
            <a:off x="179280" y="1341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1 k=26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3276720" y="1341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2 k=21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6264360" y="13413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3 k=34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179280" y="1763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3132000" y="177336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6156360" y="1773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2700360" y="5508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5724360" y="5580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8748720" y="5508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4a: Contributions to National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2006 (Measure 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BA52-A1D2-48FB-8368-C829177C833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80360" cy="5121360"/>
          </a:xfrm>
          <a:prstGeom prst="rect">
            <a:avLst/>
          </a:prstGeom>
          <a:ln w="0">
            <a:noFill/>
          </a:ln>
        </p:spPr>
      </p:pic>
      <p:cxnSp>
        <p:nvCxnSpPr>
          <p:cNvPr id="298" name="Straight Arrow Connector 9"/>
          <p:cNvCxnSpPr/>
          <p:nvPr/>
        </p:nvCxnSpPr>
        <p:spPr>
          <a:xfrm>
            <a:off x="0" y="5084280"/>
            <a:ext cx="396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Straight Arrow Connector 10"/>
          <p:cNvCxnSpPr/>
          <p:nvPr/>
        </p:nvCxnSpPr>
        <p:spPr>
          <a:xfrm>
            <a:off x="0" y="5300280"/>
            <a:ext cx="396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5: Gender Decomposition of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by Country 2006 and 2012 (Measure 3)                              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FA91-B242-43AA-B183-930E2F5E359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385920" y="1125360"/>
            <a:ext cx="8507160" cy="5759640"/>
          </a:xfrm>
          <a:prstGeom prst="rect">
            <a:avLst/>
          </a:prstGeom>
          <a:ln w="0">
            <a:noFill/>
          </a:ln>
        </p:spPr>
      </p:pic>
      <p:cxnSp>
        <p:nvCxnSpPr>
          <p:cNvPr id="303" name="Straight Arrow Connector 13"/>
          <p:cNvCxnSpPr/>
          <p:nvPr/>
        </p:nvCxnSpPr>
        <p:spPr>
          <a:xfrm>
            <a:off x="0" y="1267920"/>
            <a:ext cx="216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6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60000"/>
                </a:solidFill>
                <a:latin typeface="Garamond"/>
                <a:ea typeface="Arial"/>
              </a:rPr>
              <a:t>FGT-based Aggre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628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Poverty measure is the product of two component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1)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Prevalence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~ the percentage of people who are poor, or the headcount ratio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2)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Intensity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of people’s deprivation ~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the average share of dimensions in whic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poore people are deprived 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43040" y="2286000"/>
            <a:ext cx="5429160" cy="1305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cbaf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M</a:t>
            </a:r>
            <a:r>
              <a:rPr b="1" lang="en-GB" sz="2800" spc="-1" strike="noStrike" baseline="-25000">
                <a:solidFill>
                  <a:srgbClr val="0d0d0d"/>
                </a:solidFill>
                <a:latin typeface="Garamond"/>
                <a:ea typeface="Arial"/>
              </a:rPr>
              <a:t>0 </a:t>
            </a:r>
            <a:r>
              <a:rPr b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= </a:t>
            </a:r>
            <a:r>
              <a:rPr b="1" i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H</a:t>
            </a:r>
            <a:r>
              <a:rPr b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 × </a:t>
            </a:r>
            <a:r>
              <a:rPr b="1" i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404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3. Experimental meas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95280" y="1052640"/>
            <a:ext cx="8640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3 measures constructe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Units of identification and of analysis: individual 16+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our, Five, and Six Dimens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Living Environ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Living Standards (all EU-2020 indicators not below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4288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Material Depriv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4288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Quasi Joblessn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untries aggregated if data covers 6 waves 2006-1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404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3. Experimental meas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0920" y="836640"/>
            <a:ext cx="8642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dicators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Same in all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Health: 4, Env: 4; Educ: 1, EU-2020: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Weights: Differ for each meas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1: EU-2020 as one dimension; equal weigh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2: EU-2020 = [AROP + QJ] and [Severe Mat Dep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3: EU-2020: one dimension e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Poverty Cutoffs: Strictly more than 1 (1,2) or 2 (3) D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26% in measure 1, 21% in measure 2; 34% in M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able 5: Dimensions, Indicators and Weights for Measures (M) 1, 2 and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C1F-1A82-4DD1-A1B1-3C60498C3FDB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1177920"/>
          <a:ext cx="8785440" cy="4915080"/>
        </p:xfrm>
        <a:graphic>
          <a:graphicData uri="http://schemas.openxmlformats.org/drawingml/2006/table">
            <a:tbl>
              <a:tblPr/>
              <a:tblGrid>
                <a:gridCol w="1079640"/>
                <a:gridCol w="1225440"/>
                <a:gridCol w="4896000"/>
                <a:gridCol w="576360"/>
                <a:gridCol w="576000"/>
                <a:gridCol w="432000"/>
              </a:tblGrid>
              <a:tr h="28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dent is not deprived i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’s equivalized disposable income is above 60 per cent of the national 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si-Jobless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household where the ratio of the total number of months that all - household members aged 16-59 have worked during the income reference year and the total number of months the same household members theoretically could have worked in the same period is higher than 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3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e material depr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at least six of the following: the ability to make ends meet; to afford one week of holidays; a meal with meat, chicken, fish or vegi equivalent; to face unexpected expenses; and, to keep home adequately warm. Or the respondent has a car, a colour TV, a washing machine, and a teleph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F933-C2F0-468D-A909-CE14E2F173B6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84240"/>
          <a:ext cx="8785440" cy="6081480"/>
        </p:xfrm>
        <a:graphic>
          <a:graphicData uri="http://schemas.openxmlformats.org/drawingml/2006/table">
            <a:tbl>
              <a:tblPr/>
              <a:tblGrid>
                <a:gridCol w="1368360"/>
                <a:gridCol w="1224000"/>
                <a:gridCol w="4464360"/>
                <a:gridCol w="576000"/>
                <a:gridCol w="576360"/>
                <a:gridCol w="576360"/>
              </a:tblGrid>
              <a:tr h="28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dent is not deprived i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completed primary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47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low noise from neighbourhood or from the 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01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low pollution, grime or other environmental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low crime, violence or vandalism in the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78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no leaking roof, damp walls, rot in window frames or fl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considers her own health as fair or ab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no chronic illness or long-term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no limitations due to health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et Med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does not report unmet medical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qehs0524</dc:creator>
  <dc:description/>
  <dc:language>en-US</dc:language>
  <cp:lastModifiedBy>Vania Etropolska</cp:lastModifiedBy>
  <dcterms:modified xsi:type="dcterms:W3CDTF">2015-05-06T07:17:54Z</dcterms:modified>
  <cp:revision>334</cp:revision>
  <dc:subject/>
  <dc:title>Slide 1</dc:title>
</cp:coreProperties>
</file>