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EE32-7801-409B-BDEA-0BC1ABB9DE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7F2D-0530-43E9-B97D-8C2FDF9C71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84C5-0CE1-4C98-9492-3E92C355DE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FF7E-3DFC-4488-B44B-BA9CC1C233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725E-D12F-46B0-AA8F-BB2FBD4FD8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82C2-0082-4072-A117-C54D89A115E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7CD4-88EC-4A7A-9B14-8B156C5D628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B424-D2CC-491B-9A27-F1A4F220354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ADCD-5FB4-4E5E-AA98-2C545067FB8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C017-26F0-4D25-ADE8-12E6C53074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DA01-DD9C-4FEF-BA07-2EAA5DF532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6866-0D13-4736-9B23-E14A817CA1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D88C-9C3E-4646-B81D-FF76F5789BC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548-DCFD-4FEF-BFE4-C4F34B18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5FC-7215-4710-B753-81B25763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3A1-E9EA-4727-8F2F-DBEF4564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425-8A5C-4EB0-9531-0B9E9622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765-D68D-492A-B0FE-B0487449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A61-B0C8-4319-89FB-C70508D0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27D-185C-4EA5-8FCC-E6DC7764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BC6-92AD-4452-B642-1DDB6A9B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A14-4F2F-41B9-B77F-2164DEBE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D14-CE2C-4D9C-93D9-180714D4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D57-7E2B-4664-92C4-5975FC6C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B5B-79B9-4C83-BF2F-550A506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50C1-14AE-4286-816F-0D4C9BD86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мерная оценка бедност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пыт Украины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4427640" y="4581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на Осип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партамент обследований домохозяйст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сударственная служба статистики Укра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5280" y="868320"/>
            <a:ext cx="864072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3 году сред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ходящегося в риске относительной бедности,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имели 4 и более депривац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населения, находящегося в зоне абсолютной бедности по доходам, имели такое количество деприваций 40% насел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22% населения, имеющего 4 и более признака деприваций, были абсолютно бедными по доходам 15%, а в риске относительной бедности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насел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бывали одновременно в риске абсолютной, относительной и депривационной бедности 3% населения. В основном это неполные семьи с детьми, проживающие в сельской местности. Как правило, в таких домохозяйствах работает только один челов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ли хотя бы одну из этих форм бедности 39% населения (17 млн.человек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монетарных подходов наивысшие риски бедности характерны для многодетных семей и для семей, в составе которых одновременно есть дети и безработные. Повышенные риски также имеют домохозяйства с 2-мя и больше детьми, а также с детьми до 3-х лет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немонетарных критериев группой с наивысшими рисками бедности выступают домохозяйства, состоящие исключительно из лиц старших возрастов (75 лет и старше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0000"/>
                </a:solidFill>
                <a:latin typeface="Arial"/>
              </a:rPr>
              <a:t>Характ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еристика выборки обследования 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словий жизни домохозяйств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197000"/>
          <a:ext cx="8569080" cy="5184720"/>
        </p:xfrm>
        <a:graphic>
          <a:graphicData uri="http://schemas.openxmlformats.org/drawingml/2006/table">
            <a:tbl>
              <a:tblPr/>
              <a:tblGrid>
                <a:gridCol w="1439640"/>
                <a:gridCol w="720720"/>
                <a:gridCol w="936720"/>
                <a:gridCol w="863640"/>
                <a:gridCol w="1008000"/>
                <a:gridCol w="792000"/>
                <a:gridCol w="1011240"/>
                <a:gridCol w="789120"/>
                <a:gridCol w="1008000"/>
              </a:tblGrid>
              <a:tr h="1168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ные показатели на 2014-2018г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2015г. после изменений в связи с проведением АТО и аннексией Автономной Республики Крым и г. Севастоп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е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рай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е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рай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выборки, домохозяй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29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28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селенных пун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частия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г. (фа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вартал 2014г.(фа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9" name="TextBox 8"/>
          <p:cNvSpPr/>
          <p:nvPr/>
        </p:nvSpPr>
        <p:spPr>
          <a:xfrm>
            <a:off x="457200" y="6381720"/>
            <a:ext cx="843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08% от общего количества домохозяйст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5280" y="1414440"/>
            <a:ext cx="8640720" cy="47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действующей системы статистических наблюдений невозможно выявить все аспекты такого нового явления, как внезапная бедность домохозяйств, наступившая в результате боевых действий. Необходимо исследовать дополнительные, по отношению к традиционным, источники информации с целью углубленного изучения ситу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в практику работы статистической системы Украины концепции дохода домохозяйств, гармонизированной с требованиями Евростата. Это направление предусмотрено Планом мероприятий по имплементации Соглашения про ассоциацию между Украиной и Европейским Союзом на 2014 - 2017 годы (п.213), утвержденным правительством в сентябре 2014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т дополнены программы опроса домохозяйств по депривациям за счет некоторых показателей социального участия и материальной депривации детей. Будет обеспечен расчет показателя уровня бедности, в т.ч. связанной с материальными депривациями, с использованием европейской методолог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24000" y="730800"/>
            <a:ext cx="835164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12574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57480" indent="-12574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дность – это невозможность в связи с недостатком средств поддерживать образ жизни, присущий конкретному обществу в конкретный период времен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57480" indent="-12574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вень бедности - удельный вес населения, у которого уровень потребления (доходов) на одного человека ниже определенной черты бед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57480" indent="-12574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рта бедности – это уровень доходов (расходов) человека, ниже которого невозможно удовлетворить основные потре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57480" indent="-12574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житочный минимум – стоимостная величина достаточного для обеспечения нормального функционирования организма человека, сохранения его здоровья набора продуктов питания, а также минимального набора непродовольственных товаров и минимального набора услуг, необходимых для удовлетворения основных социальных и культурных потребностей личност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57480" indent="-12574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житочный минимум определяется для различных социально-демографических групп населения и служит основой для определения государственных социальных гарант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57480" indent="-1257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24000" y="691200"/>
            <a:ext cx="8351640" cy="60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оги и критерии для измерения бед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фициальный мониторинг бедно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575d1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75% медианного значения среднедушевых расходов в месяц – черта относительной 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медианного значения – черта крайней бедности </a:t>
            </a: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(удельный вес бедных определяется на основании критерия расходов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мый законодательно размер прожиточного минимума – черта абсолютной бедности (критерий - доход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5 долларов США на человека в сутки по паритету покупательной способности –черта абсолютной бедности для международных сравнений (критерий – расход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иторинг Цели 1 «Преодоление бедности» Целей развития тысячелет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575d1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75% медианного значения среднедушевых расходов в месяц (критерий – расходы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ий прожиточный минимум (определяется на основе законодательно установленного прожиточного минимума и фактических цен), (критерий – расход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5 долларов США на человека в сутки по паритету покупательной способности –(критерий – расход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всех показателей монетарной бедности предусматривает использование шкалы эквивалентности, согласно которой первое лицо домохозяйства имеет коэффициент 1, а все другие - 0,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95959"/>
                </a:solidFill>
                <a:latin typeface="Arial"/>
              </a:rPr>
              <a:t>Динамика уровня бедности по основным критериям определения, 2000-2013 годы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Диаграмма 4" descr=""/>
          <p:cNvPicPr/>
          <p:nvPr/>
        </p:nvPicPr>
        <p:blipFill>
          <a:blip r:embed="rId1"/>
          <a:stretch/>
        </p:blipFill>
        <p:spPr>
          <a:xfrm>
            <a:off x="103320" y="1395360"/>
            <a:ext cx="87166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Показатели бедности по разн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ым критериям,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000-2013гг.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Диаграмма 5" descr=""/>
          <p:cNvPicPr/>
          <p:nvPr/>
        </p:nvPicPr>
        <p:blipFill>
          <a:blip r:embed="rId1"/>
          <a:stretch/>
        </p:blipFill>
        <p:spPr>
          <a:xfrm>
            <a:off x="171360" y="1133640"/>
            <a:ext cx="89791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95280" y="1129680"/>
            <a:ext cx="864072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ивационная бедность характеризует ограничение возможностей части населения в доступе к определенным жизненным благам, при этом не только обеспечивающим минимально необходимые физиологические потребности, а и потребности, связанные с развитием личности и обеспечением достаточного уровня комфортности существования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циональный перечень были включены 18 признаков депривации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 депривационной бедности определена на уровне наличия в домохозяйстве 4 и более из 18 признаков деприв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изнаки прошли контро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ный (отбирали признаки, которые имелись в большинстве домохозяйств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нсусный (большинство респондентов их считали необходимыми для нормальной жизни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у на наличие взаимосвязи с уровнем благосостояния населения. Коэффициенты корреляции Пирсона почти по всем видам деприваций указывали на тесную зависимость распространенности каждой депривации от уровня доходов домохозяйства (Коэффициенты были рассчитаны по распределениям эквивалентных среднедушевых доходов  и распространенности деприваций среди децильных групп населе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17360" y="549360"/>
          <a:ext cx="9036000" cy="6375240"/>
        </p:xfrm>
        <a:graphic>
          <a:graphicData uri="http://schemas.openxmlformats.org/drawingml/2006/table">
            <a:tbl>
              <a:tblPr/>
              <a:tblGrid>
                <a:gridCol w="287280"/>
                <a:gridCol w="5256360"/>
                <a:gridCol w="1152720"/>
                <a:gridCol w="1008000"/>
                <a:gridCol w="1331640"/>
              </a:tblGrid>
              <a:tr h="423720">
                <a:tc gridSpan="2"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бедности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домохозяйств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орые в 2013 год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корреляции Пирсо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ли признаками бед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ли признаки бед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43560" rIns="43560" tIns="0" bIns="0" anchor="t">
                      <a:noAutofit/>
                    </a:bodyPr>
                    <a:p>
                      <a:pPr marL="2160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ая деприв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ни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ость средств для того, чтобы не отказывать себе в самых необходимых недорогих продуктах пит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</a:t>
                      </a: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04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довольственные това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ость средств д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новления при необходимости верхней одежды и обуви для холодного времени года для взрослых один раз в 5 л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0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иобретения при необходимости одежды и обуви для 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елевизо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0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холодильн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ые условия домохозяйс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жилья в нормальном состоянии (наличное жилье требует капитального ремонта, сырое, ветхое, старое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ость средств для своевременной и в полном объеме оплаты счетов за жилье и необходимые услуги по его содержанию или оплаты газа для приготовления ед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0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жилой площади, которая не превышает 5 кв.м. на особ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здоровья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ость средств для оплаты необходим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слуг врача (кроме стоматолога) в медицинском учреждении (при отсутствии или сложности получения таких услуг бесплатно), анализов, обследований, процедур, назначенных враче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9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лекарств и медицинского оборудования, назначенного враче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лечения в стационаре без проведения хирургической операции (при отсутствии таких услуг на бесплатной основе) или жизненно необходимой хирургической операции (кроме косметической) и дальнейшего связанного с этим лечением в стационаре (при отсутствии таких услуг на бесплатной основе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и дошкольное воспита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ость средств для получения какого-либо профессионального образова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8000" y="836640"/>
          <a:ext cx="9036000" cy="5529240"/>
        </p:xfrm>
        <a:graphic>
          <a:graphicData uri="http://schemas.openxmlformats.org/drawingml/2006/table">
            <a:tbl>
              <a:tblPr/>
              <a:tblGrid>
                <a:gridCol w="925560"/>
                <a:gridCol w="4618080"/>
                <a:gridCol w="1071360"/>
                <a:gridCol w="925560"/>
                <a:gridCol w="1495440"/>
              </a:tblGrid>
              <a:tr h="841320">
                <a:tc gridSpan="2"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беднос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домохозяйст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орые в 2013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корреляции Пирс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ли признаками бед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ли признаки бед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216000" indent="489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инфраструк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вблизи жилья объектов розничной торгов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в населенном пункте учреждений, которые предоставляют бытовые услуги  (парикмахерских, прачечных, химчистки, ремонта одежды, обуви и бытовой техники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вблизи жилья медицинского учреждения (фельдшерско-акушерского пункта, больничной амбулатории, поликлиники), апте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еспеченность населенного пункта своевременными услугами скор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вблизи жилья дошкольных учреждений (детских садиков, яс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регулярной ежедневной транспортной связи с другим населенным пунктом с более развитой инфраструктурой  (сетью магазинов, учреждений культуры, образования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4"/>
          <p:cNvGrpSpPr/>
          <p:nvPr/>
        </p:nvGrpSpPr>
        <p:grpSpPr>
          <a:xfrm>
            <a:off x="324000" y="662040"/>
            <a:ext cx="8743320" cy="4841640"/>
            <a:chOff x="324000" y="662040"/>
            <a:chExt cx="8743320" cy="4841640"/>
          </a:xfrm>
        </p:grpSpPr>
        <p:sp>
          <p:nvSpPr>
            <p:cNvPr id="62" name="AutoShape 5"/>
            <p:cNvSpPr/>
            <p:nvPr/>
          </p:nvSpPr>
          <p:spPr>
            <a:xfrm>
              <a:off x="324000" y="691920"/>
              <a:ext cx="7416720" cy="48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353520" y="662040"/>
              <a:ext cx="8713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ровни бедности, рассчитанные с использованием различных критериев, 2013 год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" name="AutoShape 4"/>
          <p:cNvSpPr/>
          <p:nvPr/>
        </p:nvSpPr>
        <p:spPr>
          <a:xfrm>
            <a:off x="203040" y="1844640"/>
            <a:ext cx="2316240" cy="2290680"/>
          </a:xfrm>
          <a:prstGeom prst="flowChartConnector">
            <a:avLst/>
          </a:prstGeom>
          <a:solidFill>
            <a:srgbClr val="97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2538360" y="1663560"/>
            <a:ext cx="1095480" cy="1062000"/>
          </a:xfrm>
          <a:prstGeom prst="flowChartConnector">
            <a:avLst/>
          </a:prstGeom>
          <a:solidFill>
            <a:srgbClr val="ff99cc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781280" y="3719520"/>
            <a:ext cx="2624040" cy="2478240"/>
          </a:xfrm>
          <a:prstGeom prst="flowChartConnector">
            <a:avLst/>
          </a:prstGeom>
          <a:solidFill>
            <a:srgbClr val="ffe26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о относительному критер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5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,7 млн.чел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576360" y="2557440"/>
            <a:ext cx="1257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депривация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9,5 млн.чел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505240" y="1733400"/>
            <a:ext cx="116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абсолютному критерию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4%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7 млн.чел.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5126040" y="1766880"/>
            <a:ext cx="2279520" cy="2201760"/>
          </a:xfrm>
          <a:prstGeom prst="flowChartConnector">
            <a:avLst/>
          </a:prstGeom>
          <a:solidFill>
            <a:srgbClr val="97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6970680" y="2660760"/>
            <a:ext cx="1087560" cy="1073160"/>
          </a:xfrm>
          <a:prstGeom prst="flowChartConnector">
            <a:avLst/>
          </a:prstGeom>
          <a:solidFill>
            <a:srgbClr val="ff99cc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6249960" y="2833560"/>
            <a:ext cx="2586240" cy="2463840"/>
          </a:xfrm>
          <a:prstGeom prst="flowChartConnector">
            <a:avLst/>
          </a:prstGeom>
          <a:solidFill>
            <a:srgbClr val="ffe26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7300800" y="2637000"/>
            <a:ext cx="655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959520" y="2681280"/>
            <a:ext cx="588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6899400" y="3032280"/>
            <a:ext cx="536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8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432480" y="3449520"/>
            <a:ext cx="587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643720" y="2505240"/>
            <a:ext cx="757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4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7062840" y="416736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7331040" y="1911240"/>
            <a:ext cx="17049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абсолютному критер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5375160" y="2935440"/>
            <a:ext cx="12574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депривация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743880" y="4441680"/>
            <a:ext cx="18968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относительному критер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Стрелка вправо 33"/>
          <p:cNvSpPr/>
          <p:nvPr/>
        </p:nvSpPr>
        <p:spPr>
          <a:xfrm>
            <a:off x="4145040" y="2373480"/>
            <a:ext cx="487440" cy="403200"/>
          </a:xfrm>
          <a:prstGeom prst="rightArrow">
            <a:avLst>
              <a:gd name="adj1" fmla="val 50000"/>
              <a:gd name="adj2" fmla="val 5014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Стрелка вправо 34"/>
          <p:cNvSpPr/>
          <p:nvPr/>
        </p:nvSpPr>
        <p:spPr>
          <a:xfrm>
            <a:off x="4154400" y="3030480"/>
            <a:ext cx="490680" cy="384120"/>
          </a:xfrm>
          <a:prstGeom prst="rightArrow">
            <a:avLst>
              <a:gd name="adj1" fmla="val 50000"/>
              <a:gd name="adj2" fmla="val 5013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Стрелка вправо 35"/>
          <p:cNvSpPr/>
          <p:nvPr/>
        </p:nvSpPr>
        <p:spPr>
          <a:xfrm>
            <a:off x="4179960" y="3666960"/>
            <a:ext cx="531720" cy="45252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5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4:38:54Z</dcterms:created>
  <dc:creator>user</dc:creator>
  <dc:description/>
  <dc:language>en-US</dc:language>
  <cp:lastModifiedBy>I.Osipova</cp:lastModifiedBy>
  <dcterms:modified xsi:type="dcterms:W3CDTF">2015-04-17T14:19:16Z</dcterms:modified>
  <cp:revision>294</cp:revision>
  <dc:subject/>
  <dc:title>ОПЫТ ВНЕДРЕНИЯ НАЦИОНАЛЬНЫХ ПРИНЦИПОВ ДЕЯТЕЛЬНОСТИ В ОРГАНАХ ГОСУДАРСТВЕННОЙ СТАТИСТИКИ УКРАИНЫ</dc:title>
</cp:coreProperties>
</file>