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6EA-B5DA-4C07-9AC6-3E8D5F65FA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A1E-357D-4FDF-BF3B-4C9F63968A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E83-4BA3-4620-837D-603E6ECEFD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5D2-33D8-4C0D-9020-3B7DA96A83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AB8-2DCC-46D8-A5F8-F94DF0B24E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CE2-1DC3-4864-B3F9-B34EE078C4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CCB-D191-44DD-A738-68DC6B6CAA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CF59-92FD-4B94-A257-9B9DADBC84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71C-FE5E-4F7D-A374-18CE79F8EF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60E0-B412-4CEF-A82B-AC87B8C3F1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934-E5A5-4BAD-9ED8-55B15F152E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648-84C4-4C68-8C1D-66C0F54367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003C-A221-4002-8D57-00AD68A6DF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AFF-33C1-4790-B437-21B52224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841-4D3E-4C7A-8321-6DE2C0E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CCC-82B1-4800-9D40-6EAA6743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3B9-D9E9-4ABE-A8E3-C3167094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74A-678D-4923-BDC9-308EE8C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45F-ECF8-44E4-BECC-8C3E905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C6B-CCF1-4830-8C3A-BE63184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423-7C80-44A0-8ACC-C8D6245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37B-492E-4B03-837F-393977A2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74D-9B6D-45E4-89DF-31226EB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B5D-EB56-4FB1-9954-3281BF7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761-52A5-427F-9612-711777B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57A-AA04-4D16-8A54-5DED78F55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мерная оценка бедност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ыт Украины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427640" y="45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на Оси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партамент обследований домохозяйст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сударственная служба статистики Укра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5280" y="868320"/>
            <a:ext cx="864072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сред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егося в риске относительной бедности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имели 4 и более депривац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аселения, находящегося в зоне абсолютной бедности по доходам, имели такое количество деприваций 40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22% населения, имеющего 4 и более признака деприваций, были абсолютно бедными по доходам 15%, а в риске относительной бедности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ывали одновременно в риске абсолютной, относительной и депривационной бедности 3% населения. В основном это неполные семьи с детьми, проживающие в сельской местности. Как правило, в таких домохозяйствах работает только один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ли хотя бы одну из этих форм бедности 39% населения (17 млн.человек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нетарных подходов наивысшие риски бедности характерны для многодетных семей и для семей, в составе которых одновременно есть дети и безработные. Повышенные риски также имеют домохозяйства с 2-мя и больше детьми, а также с детьми до 3-х ле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немонетарных критериев группой с наивысшими рисками бедности выступают домохозяйства, состоящие исключительно из лиц старших возрастов (75 лет и старше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Характ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ристика выборки обследования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ловий жизни домохозяйств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197000"/>
          <a:ext cx="8569080" cy="5184720"/>
        </p:xfrm>
        <a:graphic>
          <a:graphicData uri="http://schemas.openxmlformats.org/drawingml/2006/table">
            <a:tbl>
              <a:tblPr/>
              <a:tblGrid>
                <a:gridCol w="1439640"/>
                <a:gridCol w="720720"/>
                <a:gridCol w="936720"/>
                <a:gridCol w="863640"/>
                <a:gridCol w="1008000"/>
                <a:gridCol w="792000"/>
                <a:gridCol w="1011240"/>
                <a:gridCol w="789120"/>
                <a:gridCol w="1008000"/>
              </a:tblGrid>
              <a:tr h="1168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ые показатели на 2014-2018г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2015г. после изменений в связи с проведением АТО и аннексией Автономной Республики Крым и г. Севастоп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рай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выборки, домохозя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29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28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селенных пун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аст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г. (фа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ртал 2014г.(фа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9" name="TextBox 8"/>
          <p:cNvSpPr/>
          <p:nvPr/>
        </p:nvSpPr>
        <p:spPr>
          <a:xfrm>
            <a:off x="457200" y="6381720"/>
            <a:ext cx="84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8% от общего количества домохозяйст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5280" y="1414440"/>
            <a:ext cx="864072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ействующей системы статистических наблюдений невозможно выявить все аспекты такого нового явления, как внезапная бедность домохозяйств, наступившая в результате боевых действий. Необходимо исследовать дополнительные, по отношению к традиционным, источники информации с целью углубленного изучения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в практику работы статистической системы Украины концепции дохода домохозяйств, гармонизированной с требованиями Евростата. Это направление предусмотрено Планом мероприятий по имплементации Соглашения про ассоциацию между Украиной и Европейским Союзом на 2014 - 2017 годы (п.213), утвержденным правительством в сентябре 2014 г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 дополнены программы опроса домохозяйств по депривациям за счет некоторых показателей социального участия и материальной депривации детей. Будет обеспечен расчет показателя уровня бедности, в т.ч. связанной с материальными депривациями, с использованием европейской метод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24000" y="730800"/>
            <a:ext cx="83516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дность – это невозможность в связи с недостатком средств поддерживать образ жизни, присущий конкретному обществу в конкретный период време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ень бедности - удельный вес населения, у которого уровень потребления (доходов) на одного человека ниже определенной черты бед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та бедности – это уровень доходов (расходов) человека, ниже которого невозможно удовлетворить основные потре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житочный минимум – стоимостная величина достаточного для обеспечения нормального функционирования организма человека, сохранения его здоровья набора продуктов питания, а также минимального набора непродовольственных товаров и минимального набора услуг, необходимых для удовлетворения основных социальных и культурных потребностей лично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житочный минимум определяется для различных социально-демографических групп населения и служит основой для определения государственных социальных гарант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57480" indent="-1257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24000" y="691200"/>
            <a:ext cx="83516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оги и критерии для измерения бе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альный мониторинг бед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75% медианного значения среднедушевых расходов в месяц – черта относительной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медианного значения – черта крайней бедности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(удельный вес бедных определяется на основании критерия расходов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ый законодательно размер прожиточного минимума – черта абсолютной бедности (критерий - до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 долларов США на человека в сутки по паритету покупательной способности –черта абсолютной бедности для международных сравнений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 Цели 1 «Преодоление бедности» Целей развития тысячелет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75% медианного значения среднедушевых расходов в месяц (критерий – расход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й прожиточный минимум (определяется на основе законодательно установленного прожиточного минимума и фактических цен), (критерий – рас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 долларов США на человека в сутки по паритету покупательной способности –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всех показателей монетарной бедности предусматривает использование шкалы эквивалентности, согласно которой первое лицо домохозяйства имеет коэффициент 1, а все другие - 0,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95959"/>
                </a:solidFill>
                <a:latin typeface="Arial"/>
              </a:rPr>
              <a:t>Динамика уровня бедности по основным критериям определения, 2000-2013 годы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Диаграмма 4" descr=""/>
          <p:cNvPicPr/>
          <p:nvPr/>
        </p:nvPicPr>
        <p:blipFill>
          <a:blip r:embed="rId1"/>
          <a:stretch/>
        </p:blipFill>
        <p:spPr>
          <a:xfrm>
            <a:off x="103320" y="1395360"/>
            <a:ext cx="87166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оказатели бедности по раз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ым критериям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13гг.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Диаграмма 5" descr=""/>
          <p:cNvPicPr/>
          <p:nvPr/>
        </p:nvPicPr>
        <p:blipFill>
          <a:blip r:embed="rId1"/>
          <a:stretch/>
        </p:blipFill>
        <p:spPr>
          <a:xfrm>
            <a:off x="171360" y="1133640"/>
            <a:ext cx="8979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95280" y="1129680"/>
            <a:ext cx="864072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ивационная бедность характеризует ограничение возможностей части населения в доступе к определенным жизненным благам, при этом не только обеспечивающим минимально необходимые физиологические потребности, а и потребности, связанные с развитием личности и обеспечением достаточного уровня комфортности существования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циональный перечень были включены 18 признаков деприваци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 депривационной бедности определена на уровне наличия в домохозяйстве 4 и более из 18 признаков деприв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знаки прошли контро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ный (отбирали признаки, которые имелись в большинстве домохозяйст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сусный (большинство респондентов их считали необходимыми для нормальной жизн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у на наличие взаимосвязи с уровнем благосостояния населения. Коэффициенты корреляции Пирсона почти по всем видам деприваций указывали на тесную зависимость распространенности каждой депривации от уровня доходов домохозяйства (Коэффициенты были рассчитаны по распределениям эквивалентных среднедушевых доходов  и распространенности деприваций среди децильных групп населе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7360" y="549360"/>
          <a:ext cx="9036000" cy="6375240"/>
        </p:xfrm>
        <a:graphic>
          <a:graphicData uri="http://schemas.openxmlformats.org/drawingml/2006/table">
            <a:tbl>
              <a:tblPr/>
              <a:tblGrid>
                <a:gridCol w="287280"/>
                <a:gridCol w="5256360"/>
                <a:gridCol w="1152720"/>
                <a:gridCol w="1008000"/>
                <a:gridCol w="1331640"/>
              </a:tblGrid>
              <a:tr h="423720">
                <a:tc gridSpan="2"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бедности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домохозяйств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в 2013 го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корреляции Пирсо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и признаками бед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ли признаки бед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43560" rIns="43560" tIns="0" bIns="0" anchor="t">
                      <a:noAutofit/>
                    </a:bodyPr>
                    <a:p>
                      <a:pPr marL="216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деприв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того, чтобы не отказывать себе в самых необходимых недорогих продуктах пит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довольственные тов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новления при необходимости верхней одежды и обуви для холодного времени года для взрослых один раз в 5 л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обретения при необходимости одежды и обуви для 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левиз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олодиль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ые условия домохозяй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жилья в нормальном состоянии (наличное жилье требует капитального ремонта, сырое, ветхое, старо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своевременной и в полном объеме оплаты счетов за жилье и необходимые услуги по его содержанию или оплаты газа для приготовления ед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0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жилой площади, которая не превышает 5 кв.м. на особ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здоровья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оплаты необходим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луг врача (кроме стоматолога) в медицинском учреждении (при отсутствии или сложности получения таких услуг бесплатно), анализов, обследований, процедур, назначенных враче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карств и медицинского оборудования, назначенного враче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255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чения в стационаре без проведения хирургической операции (при отсутствии таких услуг на бесплатной основе) или жизненно необходимой хирургической операции (кроме косметической) и дальнейшего связанного с этим лечением в стационаре (при отсутствии таких услуг на бесплатной основ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и дошкольное воспит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ость средств для получения какого-либо профессионального образов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8000" y="836640"/>
          <a:ext cx="9036000" cy="5529240"/>
        </p:xfrm>
        <a:graphic>
          <a:graphicData uri="http://schemas.openxmlformats.org/drawingml/2006/table">
            <a:tbl>
              <a:tblPr/>
              <a:tblGrid>
                <a:gridCol w="925560"/>
                <a:gridCol w="4618080"/>
                <a:gridCol w="1071360"/>
                <a:gridCol w="925560"/>
                <a:gridCol w="1495440"/>
              </a:tblGrid>
              <a:tr h="84132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бед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домохозяйст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в 2013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корреляции Пир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и признаками бе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ли признаки бе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216000" indent="489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нфраструк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объектов розничной торгов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населенном пункте учреждений, которые предоставляют бытовые услуги  (парикмахерских, прачечных, химчистки, ремонта одежды, обуви и бытовой техники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медицинского учреждения (фельдшерско-акушерского пункта, больничной амбулатории, поликлиники), апте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еспеченность населенного пункта своевременными услугами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близи жилья дошкольных учреждений (детских садиков, яс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регулярной ежедневной транспортной связи с другим населенным пунктом с более развитой инфраструктурой  (сетью магазинов, учреждений культуры, образования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324000" y="662040"/>
            <a:ext cx="8743320" cy="4841640"/>
            <a:chOff x="324000" y="662040"/>
            <a:chExt cx="8743320" cy="4841640"/>
          </a:xfrm>
        </p:grpSpPr>
        <p:sp>
          <p:nvSpPr>
            <p:cNvPr id="62" name="AutoShape 5"/>
            <p:cNvSpPr/>
            <p:nvPr/>
          </p:nvSpPr>
          <p:spPr>
            <a:xfrm>
              <a:off x="324000" y="691920"/>
              <a:ext cx="7416720" cy="48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353520" y="662040"/>
              <a:ext cx="8713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ровни бедности, рассчитанные с использованием различных критериев, 2013 год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" name="AutoShape 4"/>
          <p:cNvSpPr/>
          <p:nvPr/>
        </p:nvSpPr>
        <p:spPr>
          <a:xfrm>
            <a:off x="203040" y="1844640"/>
            <a:ext cx="2316240" cy="229068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538360" y="1663560"/>
            <a:ext cx="1095480" cy="106200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781280" y="3719520"/>
            <a:ext cx="2624040" cy="24782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,7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76360" y="2557440"/>
            <a:ext cx="1257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9,5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05240" y="1733400"/>
            <a:ext cx="116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%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7 млн.чел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5126040" y="1766880"/>
            <a:ext cx="2279520" cy="220176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970680" y="2660760"/>
            <a:ext cx="1087560" cy="107316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249960" y="2833560"/>
            <a:ext cx="2586240" cy="24638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300800" y="2637000"/>
            <a:ext cx="655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959520" y="2681280"/>
            <a:ext cx="588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899400" y="3032280"/>
            <a:ext cx="536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8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32480" y="3449520"/>
            <a:ext cx="58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643720" y="2505240"/>
            <a:ext cx="757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7062840" y="416736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331040" y="1911240"/>
            <a:ext cx="17049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375160" y="2935440"/>
            <a:ext cx="1257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743880" y="4441680"/>
            <a:ext cx="1896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Стрелка вправо 33"/>
          <p:cNvSpPr/>
          <p:nvPr/>
        </p:nvSpPr>
        <p:spPr>
          <a:xfrm>
            <a:off x="4145040" y="2373480"/>
            <a:ext cx="487440" cy="40320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Стрелка вправо 34"/>
          <p:cNvSpPr/>
          <p:nvPr/>
        </p:nvSpPr>
        <p:spPr>
          <a:xfrm>
            <a:off x="4154400" y="3030480"/>
            <a:ext cx="490680" cy="3841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Стрелка вправо 35"/>
          <p:cNvSpPr/>
          <p:nvPr/>
        </p:nvSpPr>
        <p:spPr>
          <a:xfrm>
            <a:off x="4179960" y="3666960"/>
            <a:ext cx="531720" cy="4525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8:54Z</dcterms:created>
  <dc:creator>user</dc:creator>
  <dc:description/>
  <dc:language>en-US</dc:language>
  <cp:lastModifiedBy>I.Osipova</cp:lastModifiedBy>
  <dcterms:modified xsi:type="dcterms:W3CDTF">2015-04-17T14:19:16Z</dcterms:modified>
  <cp:revision>294</cp:revision>
  <dc:subject/>
  <dc:title>ОПЫТ ВНЕДРЕНИЯ НАЦИОНАЛЬНЫХ ПРИНЦИПОВ ДЕЯТЕЛЬНОСТИ В ОРГАНАХ ГОСУДАРСТВЕННОЙ СТАТИСТИКИ УКРАИНЫ</dc:title>
</cp:coreProperties>
</file>