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43E0-7419-4155-BBB4-4B8CAFF201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75FA-7FC2-4D67-A7F4-F4C44C7A2B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8C78-D0C9-43FD-A3DE-B44606EE19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9B55-B3D3-4486-BFF6-CEE646E305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494F-5BBD-4F08-BC25-37E182B816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3650-0C92-4F02-9545-574E7CC9F8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8CFC-6D95-4742-B5CA-6F5309ECD0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E405-4A77-4CD5-A1F4-893FE54612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5053-4102-4E43-8815-D7A732AA07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BFC3-04A2-4388-8DD8-D698886F6C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BB7B-0699-4598-B0A9-F98EC7520C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D64E-5EF8-4490-B9A2-B6FF8683FE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F71B-B323-40BD-9B27-0937963C52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B830-1330-4713-AFAB-879A8D011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C923-706A-46EA-BE5D-98A3A476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5E02-B3AE-463B-BC52-5377B1115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F009-4B9D-4D97-8861-D72DC7D27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673A-A40F-4026-858E-E0FFA25A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CB1E-5BCF-402A-80E7-36B3E916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BD33-984E-49DC-81CD-EF02A087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3756-F8C6-40D1-A984-2C43B1EB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4F1A-2ED6-4D99-9FE3-CADA2C57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B131-125C-4DBB-98B4-68EAD70D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6C2D-E84B-4626-8BB6-156306C2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2D86-17CF-4155-911A-851C5948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ABA3-D2C1-4511-8C2B-53D2F3DD5CE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16.04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Ива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70AE-99D3-4065-9F2F-8E1B1176D4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1114560" y="42840"/>
            <a:ext cx="6697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Межгосударственный статистический коми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одружества Независимых Государ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Calibri"/>
              </a:rPr>
              <a:t>(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таткомитет СНГ</a:t>
            </a:r>
            <a:r>
              <a:rPr b="1" lang="en-US" sz="1600" spc="-1" strike="noStrike">
                <a:solidFill>
                  <a:srgbClr val="000099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одзаголовок 7"/>
          <p:cNvSpPr/>
          <p:nvPr/>
        </p:nvSpPr>
        <p:spPr>
          <a:xfrm>
            <a:off x="324000" y="1125360"/>
            <a:ext cx="842472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роблемы сопоставимости данных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ри оценке бедности в странах Содруж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Валентина Брыс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Заместитель начальника Управления социально-демографической статис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Семинар по измерению бед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Жен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5-6 мая 2015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Содержимое 2"/>
          <p:cNvSpPr/>
          <p:nvPr/>
        </p:nvSpPr>
        <p:spPr>
          <a:xfrm>
            <a:off x="214200" y="1125360"/>
            <a:ext cx="8785440" cy="48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ля натуральных поступлений в доходах домашних хозяйств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 последним имеющимся да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омер слайда 9"/>
          <p:cNvSpPr/>
          <p:nvPr/>
        </p:nvSpPr>
        <p:spPr>
          <a:xfrm>
            <a:off x="8710560" y="6597720"/>
            <a:ext cx="3985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9000-248F-4458-BCB8-D12E6524F52C}" type="slidenum">
              <a:rPr b="0" lang="ru-RU" sz="16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50920" y="1911240"/>
            <a:ext cx="87138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755640" y="18900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туральные поступ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Диаграмма 6" descr=""/>
          <p:cNvPicPr/>
          <p:nvPr/>
        </p:nvPicPr>
        <p:blipFill>
          <a:blip r:embed="rId2"/>
          <a:stretch/>
        </p:blipFill>
        <p:spPr>
          <a:xfrm>
            <a:off x="2235240" y="2006640"/>
            <a:ext cx="57531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Содержимое 2"/>
          <p:cNvSpPr/>
          <p:nvPr/>
        </p:nvSpPr>
        <p:spPr>
          <a:xfrm>
            <a:off x="395280" y="1268280"/>
            <a:ext cx="85154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отношение показателей уровня абсолютной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относительной бед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населения  со среднедушевыми доходами (располагаемыми ресурсами) менее 60% от их медианного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вивалентного знач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ижение сопоставимости путем установления единых границ (например, 60% медианного значени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9"/>
          <p:cNvSpPr/>
          <p:nvPr/>
        </p:nvSpPr>
        <p:spPr>
          <a:xfrm>
            <a:off x="8710560" y="6597720"/>
            <a:ext cx="3985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EEFB-3AF4-4B44-99CA-028EA3330D26}" type="slidenum">
              <a:rPr b="0" lang="ru-RU" sz="16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755640" y="18900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тносительная бед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116000" y="1916280"/>
          <a:ext cx="6095880" cy="210960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93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ровень абсолютной бед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ровень относительной бедности</a:t>
                      </a:r>
                      <a:r>
                        <a:rPr b="1" lang="ru-RU" sz="18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арусь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01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ссия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01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раина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01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Содержимое 2"/>
          <p:cNvSpPr/>
          <p:nvPr/>
        </p:nvSpPr>
        <p:spPr>
          <a:xfrm>
            <a:off x="390600" y="484200"/>
            <a:ext cx="8785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9"/>
          <p:cNvSpPr/>
          <p:nvPr/>
        </p:nvSpPr>
        <p:spPr>
          <a:xfrm>
            <a:off x="8710560" y="6597720"/>
            <a:ext cx="3985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1996-CF1A-4ACE-A73F-A9566FCDB616}" type="slidenum">
              <a:rPr b="0" lang="ru-RU" sz="16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431640" y="863640"/>
            <a:ext cx="7883640" cy="51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ткомитет СНГ регулярно публикует основные социально-экономические индикаторы бедности в странах Содружества и других странах мира. Эта информация представляется руководящим органам стран Содружества, средствам массовой информации, представителям научной общественности, коммерческих организаций, международных организаций и другим пользовател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ткомитет СНГ в своей дальнейшей работе по данной теме планирует уделять первостепенное внимание новым  методам оценки бедности с учетом международного опы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й интерес представляют такие направления исследования, как  оценка уровня жизни домохозяйств с учетом их финансовых активов,  гендерные аспекты бедности, детская бед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дготовке обзора были использованы материалы, предоставленные национальными статистическими службами стран Содружества и размещенные на сайтах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755640" y="18900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Содержимое 2"/>
          <p:cNvSpPr/>
          <p:nvPr/>
        </p:nvSpPr>
        <p:spPr>
          <a:xfrm>
            <a:off x="166680" y="981000"/>
            <a:ext cx="8785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одержимое 2"/>
          <p:cNvSpPr/>
          <p:nvPr/>
        </p:nvSpPr>
        <p:spPr>
          <a:xfrm>
            <a:off x="2411280" y="3068640"/>
            <a:ext cx="43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47520" y="3068640"/>
            <a:ext cx="9036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9"/>
          <p:cNvSpPr/>
          <p:nvPr/>
        </p:nvSpPr>
        <p:spPr>
          <a:xfrm>
            <a:off x="8710560" y="6597720"/>
            <a:ext cx="3985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37D1-E934-49C3-BAD1-16CF8DEA2E91}" type="slidenum">
              <a:rPr b="0" lang="ru-RU" sz="16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Содержимое 2"/>
          <p:cNvSpPr/>
          <p:nvPr/>
        </p:nvSpPr>
        <p:spPr>
          <a:xfrm>
            <a:off x="179280" y="981000"/>
            <a:ext cx="8785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одержимое 2"/>
          <p:cNvSpPr/>
          <p:nvPr/>
        </p:nvSpPr>
        <p:spPr>
          <a:xfrm>
            <a:off x="324000" y="1052640"/>
            <a:ext cx="856908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транах Содружества приняты  различные подходы к  определению понятия «бедность». Каждая страна на различных этапах может использовать разные подходы к определению бедности в зависимости от целей проводимых исследов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ольшинстве стран Содружества используются  основные концепции, принятые для  измерения бедности в международной статистической практик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бсолют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снованная на соответствии доходов или расходов населения установленному минимуму средств существов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тноситель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снованная на соответствии доходов или расходов населения их медианным значения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убъективная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ная на субъективном мнении населения относительно суммы минимального дохода или оценки достигнутого уровня благосостоя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ногомерн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едности проводятся в отдельных странах Содруж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9"/>
          <p:cNvSpPr/>
          <p:nvPr/>
        </p:nvSpPr>
        <p:spPr>
          <a:xfrm>
            <a:off x="8710560" y="6597720"/>
            <a:ext cx="3985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0919-2858-4FB2-8A2D-A392FF4E8F6A}" type="slidenum">
              <a:rPr b="0" lang="ru-RU" sz="16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755640" y="18900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етоды оценки бедности в странах Содруж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Содержимое 2"/>
          <p:cNvSpPr/>
          <p:nvPr/>
        </p:nvSpPr>
        <p:spPr>
          <a:xfrm>
            <a:off x="179280" y="981000"/>
            <a:ext cx="8785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одержимое 2"/>
          <p:cNvSpPr/>
          <p:nvPr/>
        </p:nvSpPr>
        <p:spPr>
          <a:xfrm>
            <a:off x="179280" y="974880"/>
            <a:ext cx="8929800" cy="56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блица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ля населения с доходами (расходами)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же национальной черты бедности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baseline="30000">
                <a:solidFill>
                  <a:srgbClr val="000000"/>
                </a:solidFill>
                <a:latin typeface="Arial"/>
              </a:rPr>
              <a:t>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baseline="30000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4 г.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1999 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baseline="30000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7 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baseline="30000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9 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9"/>
          <p:cNvSpPr/>
          <p:nvPr/>
        </p:nvSpPr>
        <p:spPr>
          <a:xfrm>
            <a:off x="8710560" y="6597720"/>
            <a:ext cx="3985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6A44-46FA-40AF-ABA3-42EF05921240}" type="slidenum">
              <a:rPr b="0" lang="ru-RU" sz="16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755640" y="18900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ценки абсолютной бе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95520" y="1916280"/>
          <a:ext cx="6095880" cy="4073400"/>
        </p:xfrm>
        <a:graphic>
          <a:graphicData uri="http://schemas.openxmlformats.org/drawingml/2006/table">
            <a:tbl>
              <a:tblPr/>
              <a:tblGrid>
                <a:gridCol w="1584360"/>
                <a:gridCol w="1127160"/>
                <a:gridCol w="1128600"/>
                <a:gridCol w="1127160"/>
                <a:gridCol w="11286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</a:tr>
              <a:tr h="371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ербайдж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71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м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5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369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ару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71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зах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369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ыргыз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71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д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370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71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джики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,0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5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7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369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беки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7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а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Содержимое 2"/>
          <p:cNvSpPr/>
          <p:nvPr/>
        </p:nvSpPr>
        <p:spPr>
          <a:xfrm>
            <a:off x="179280" y="981000"/>
            <a:ext cx="8785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одержимое 2"/>
          <p:cNvSpPr/>
          <p:nvPr/>
        </p:nvSpPr>
        <p:spPr>
          <a:xfrm>
            <a:off x="755640" y="1014480"/>
            <a:ext cx="7561440" cy="56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бсолютн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нцепции бедности для официальной оценки численности бедного населения в большинстве  стран Содружества связано с тем, что основной целью такой оценки является определение численности лиц, нуждающихся в социальной поддерж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опоставимость данных по уровню бедности в странах Содружества вызвана рядом причи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ичиями в  подходах к формированию границ бед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м разных показателей благосостояния населения (доходов или расход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9"/>
          <p:cNvSpPr/>
          <p:nvPr/>
        </p:nvSpPr>
        <p:spPr>
          <a:xfrm>
            <a:off x="8710560" y="6597720"/>
            <a:ext cx="3985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2051-65DF-47B0-BBCB-E7C5ABEC62EA}" type="slidenum">
              <a:rPr b="0" lang="ru-RU" sz="16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755640" y="18900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ценки абсолютной бе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Содержимое 2"/>
          <p:cNvSpPr/>
          <p:nvPr/>
        </p:nvSpPr>
        <p:spPr>
          <a:xfrm>
            <a:off x="179280" y="907920"/>
            <a:ext cx="878544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одержимое 2"/>
          <p:cNvSpPr/>
          <p:nvPr/>
        </p:nvSpPr>
        <p:spPr>
          <a:xfrm>
            <a:off x="222120" y="873000"/>
            <a:ext cx="87138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блица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ценки абсолютной бедности в странах Содружест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использованием различных границ в 2013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9"/>
          <p:cNvSpPr/>
          <p:nvPr/>
        </p:nvSpPr>
        <p:spPr>
          <a:xfrm>
            <a:off x="8710560" y="6597720"/>
            <a:ext cx="3985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C27C-BCDF-4AEE-BD91-04F5EABE9990}" type="slidenum">
              <a:rPr b="0" lang="ru-RU" sz="16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6"/>
          <p:cNvSpPr/>
          <p:nvPr/>
        </p:nvSpPr>
        <p:spPr>
          <a:xfrm>
            <a:off x="755640" y="18900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циональная черта бе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89120" y="1773360"/>
          <a:ext cx="7921440" cy="4352760"/>
        </p:xfrm>
        <a:graphic>
          <a:graphicData uri="http://schemas.openxmlformats.org/drawingml/2006/table">
            <a:tbl>
              <a:tblPr/>
              <a:tblGrid>
                <a:gridCol w="1665000"/>
                <a:gridCol w="3052800"/>
                <a:gridCol w="1368720"/>
                <a:gridCol w="1834920"/>
              </a:tblGrid>
              <a:tr h="104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ля населения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% к средней заработной плате по экономике стра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ербайдж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cb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ния бед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cb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cb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cbf9"/>
                    </a:solidFill>
                  </a:tcPr>
                </a:tc>
              </a:tr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м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хняя общая черта бед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жняя общая черта бед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овольственная черта бед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536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ару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cb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житочный миниму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cb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cb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cbf9"/>
                    </a:solidFill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зах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житочный миниму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имальный продовольственный наб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Содержимое 2"/>
          <p:cNvSpPr/>
          <p:nvPr/>
        </p:nvSpPr>
        <p:spPr>
          <a:xfrm>
            <a:off x="179280" y="907920"/>
            <a:ext cx="878544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одержимое 2"/>
          <p:cNvSpPr/>
          <p:nvPr/>
        </p:nvSpPr>
        <p:spPr>
          <a:xfrm>
            <a:off x="222120" y="873000"/>
            <a:ext cx="87138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ол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ценки абсолютной бедности в странах Содружест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использованием различных границ в 2013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9"/>
          <p:cNvSpPr/>
          <p:nvPr/>
        </p:nvSpPr>
        <p:spPr>
          <a:xfrm>
            <a:off x="8710560" y="6597720"/>
            <a:ext cx="3985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9540-6B25-445E-9D98-E54681B89CBE}" type="slidenum">
              <a:rPr b="0" lang="ru-RU" sz="16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6"/>
          <p:cNvSpPr/>
          <p:nvPr/>
        </p:nvSpPr>
        <p:spPr>
          <a:xfrm>
            <a:off x="755640" y="18900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циональная черта бе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9120" y="1773360"/>
          <a:ext cx="7921440" cy="3771720"/>
        </p:xfrm>
        <a:graphic>
          <a:graphicData uri="http://schemas.openxmlformats.org/drawingml/2006/table">
            <a:tbl>
              <a:tblPr/>
              <a:tblGrid>
                <a:gridCol w="1665000"/>
                <a:gridCol w="3052800"/>
                <a:gridCol w="1297080"/>
                <a:gridCol w="1906560"/>
              </a:tblGrid>
              <a:tr h="104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ля населения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% к средней заработной плате по экономике стра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</a:tr>
              <a:tr h="678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ыргыз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cb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ая черта бед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йняя черта бед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cb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cb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cbf9"/>
                    </a:solidFill>
                  </a:tcPr>
                </a:tc>
              </a:tr>
              <a:tr h="978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д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та абсолютной бед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та экстремальной бед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534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cb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житочный миниму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cb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cb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cbf9"/>
                    </a:solidFill>
                  </a:tcPr>
                </a:tc>
              </a:tr>
              <a:tr h="535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а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житочный миниму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Содержимое 2"/>
          <p:cNvSpPr/>
          <p:nvPr/>
        </p:nvSpPr>
        <p:spPr>
          <a:xfrm>
            <a:off x="214200" y="977760"/>
            <a:ext cx="8785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авления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Стремление к установлению общих подходов при определени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селения, подверженных риску оказаться в бедности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определении таких категорий, как «дети», «молодежь» важно использование единых возрастных границ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 занятые, безработные и лица, не входящие в состав рабочей силы, должны определяться  на основе Резолюции 19 Международной конференции статистиков труда о статистике трудовой деятельности, занятости и недоиспользования рабочей си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омер слайда 9"/>
          <p:cNvSpPr/>
          <p:nvPr/>
        </p:nvSpPr>
        <p:spPr>
          <a:xfrm>
            <a:off x="8710560" y="6597720"/>
            <a:ext cx="3985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DC00-2FF7-4452-B0F9-53FFFB0BD44B}" type="slidenum">
              <a:rPr b="0" lang="ru-RU" sz="16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-3240" y="2090880"/>
            <a:ext cx="8713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755640" y="18900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Гармонизация понятий и опреде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Содержимое 2"/>
          <p:cNvSpPr/>
          <p:nvPr/>
        </p:nvSpPr>
        <p:spPr>
          <a:xfrm>
            <a:off x="468360" y="907920"/>
            <a:ext cx="844236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Достижение согласованных подходов при выбор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азателей благосостоя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а основе которых строятся ряды распределения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ценки бедности страны СНГ используют показатели, которые различаются как по названию, так и по их состав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9"/>
          <p:cNvSpPr/>
          <p:nvPr/>
        </p:nvSpPr>
        <p:spPr>
          <a:xfrm>
            <a:off x="8710560" y="6597720"/>
            <a:ext cx="3985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5969-26D7-408A-8A50-826E042500B3}" type="slidenum">
              <a:rPr b="0" lang="ru-RU" sz="16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-3240" y="2090880"/>
            <a:ext cx="8713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755640" y="18900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Гармонизация понятий и опреде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47720" y="2492280"/>
          <a:ext cx="7319880" cy="3208320"/>
        </p:xfrm>
        <a:graphic>
          <a:graphicData uri="http://schemas.openxmlformats.org/drawingml/2006/table">
            <a:tbl>
              <a:tblPr/>
              <a:tblGrid>
                <a:gridCol w="2095560"/>
                <a:gridCol w="5224320"/>
              </a:tblGrid>
              <a:tr h="641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ербайдж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ительские 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м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регированный  показатель потреб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ару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олагаемые рес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захст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, использованный на потреб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д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регированный  показатель потреб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бекист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окупный дох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а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й дох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Содержимое 2"/>
          <p:cNvSpPr/>
          <p:nvPr/>
        </p:nvSpPr>
        <p:spPr>
          <a:xfrm>
            <a:off x="214200" y="1125360"/>
            <a:ext cx="8785440" cy="48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тран Содружества помимо денежных доходов/расходов для оценки благосостояния важное значение имеют натуральные поступ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Что включать в состав натуральных поступлени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дукты пит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ступившие в виде продукции собственного производства и от самозаготовок, полученных в счет оплаты труда, в подарок и т.п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продовольственные това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лученные без опла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едоставленные работодателем, оплаченные полностью или частич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ьготы и дотаци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 виде полного или частичного освобождения от оплаты товаров и услуг), полученные в натуральном выражении от государственных, общественных или благотворительных организац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вно исчисленную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оимость услуг от пользова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ющимися в домохозяйств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оварами длительного польз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Какие методы оценки натуральных поступлений следует использов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9"/>
          <p:cNvSpPr/>
          <p:nvPr/>
        </p:nvSpPr>
        <p:spPr>
          <a:xfrm>
            <a:off x="8710560" y="6597720"/>
            <a:ext cx="3985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643E-13AE-45EC-9F47-690276727BED}" type="slidenum">
              <a:rPr b="0" lang="ru-RU" sz="16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250920" y="1911240"/>
            <a:ext cx="87138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6"/>
          <p:cNvSpPr/>
          <p:nvPr/>
        </p:nvSpPr>
        <p:spPr>
          <a:xfrm>
            <a:off x="755640" y="18900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туральные поступ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3T09:38:45Z</dcterms:created>
  <dc:creator>Юрий</dc:creator>
  <dc:description/>
  <dc:language>en-US</dc:language>
  <cp:lastModifiedBy>Vania Etropolska</cp:lastModifiedBy>
  <cp:lastPrinted>2015-04-29T09:39:19Z</cp:lastPrinted>
  <dcterms:modified xsi:type="dcterms:W3CDTF">2015-04-30T10:33:53Z</dcterms:modified>
  <cp:revision>435</cp:revision>
  <dc:subject/>
  <dc:title>МЕЖГОСУДАРСТВЕННЫЙ СТАТИСТИЧЕСКИЙ КОМИТЕТ СОДРУЖЕСТВА НЕЗАВИСИМЫХ ГОСУДАРСТВ</dc:title>
</cp:coreProperties>
</file>