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43B-C534-4560-B17B-FD4782ED5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39C5-1968-472C-A23E-EB13D34C01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259C-B6B7-4149-8B57-FF1C7688B6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BB38-03A6-4166-B406-62674A052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42A-1073-48A6-824E-F69E315337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A13-50DB-493F-A8B6-A6D3ECD20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8D70-7881-482B-8777-E462C365FC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E3A0-31E1-4CB8-9FB9-7EBE4A25A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EC8-C5D4-4ACF-A365-17D5284FDC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CCA9-275A-4580-9F4C-DDD74CDCD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6E4-497C-4542-B62B-23DF8D9484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1D8-AAC6-48AA-A3D4-09A368261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71D-A777-4CC7-90F8-B0A7791659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29D-65F4-45FA-A7E1-1D17E999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EC6-1679-4336-9426-6AF25FC2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FEA-97F9-4FFE-9A6F-6D15C28F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247-DA2D-4ECA-8EB5-512CB50A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960-23EA-42E4-A8BD-9BD23F91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A59-16DE-4473-809B-79BB839F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19D-4ED4-4601-AFC9-8E8DEBC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D94-E774-418B-A8B2-E19CE5C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FD7-9422-4FB1-BDFB-F36D36F2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519-84D0-432B-AC82-9F5A83F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036-D88A-4592-A3EC-6D2D8757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6D0-AD0A-440A-9637-ECFA14B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7C6C-FB57-4F26-BE13-D3BFAFDDE5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6.04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в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946-1B32-4E28-94AB-2EB7085FA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114560" y="42840"/>
            <a:ext cx="66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жгосударственный статистический ком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ружества Независимых Государ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таткомитет СНГ</a:t>
            </a:r>
            <a:r>
              <a:rPr b="1" lang="en-US" sz="16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7"/>
          <p:cNvSpPr/>
          <p:nvPr/>
        </p:nvSpPr>
        <p:spPr>
          <a:xfrm>
            <a:off x="324000" y="1125360"/>
            <a:ext cx="8424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блемы сопоставимости данных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 оценке бедности в странах Содру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алентина Брыс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Заместитель начальника Управления социально-демографической стат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еминар по измерению бед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Ж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5-6 мая 201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одержимое 2"/>
          <p:cNvSpPr/>
          <p:nvPr/>
        </p:nvSpPr>
        <p:spPr>
          <a:xfrm>
            <a:off x="214200" y="1125360"/>
            <a:ext cx="878544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я натуральных поступлений в доходах домашних хозяйст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следним имеющимся да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583-417F-46BB-9466-F4E030120DF8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1911240"/>
            <a:ext cx="8713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туральные по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6" descr=""/>
          <p:cNvPicPr/>
          <p:nvPr/>
        </p:nvPicPr>
        <p:blipFill>
          <a:blip r:embed="rId2"/>
          <a:stretch/>
        </p:blipFill>
        <p:spPr>
          <a:xfrm>
            <a:off x="2235240" y="2006640"/>
            <a:ext cx="5753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одержимое 2"/>
          <p:cNvSpPr/>
          <p:nvPr/>
        </p:nvSpPr>
        <p:spPr>
          <a:xfrm>
            <a:off x="395280" y="1268280"/>
            <a:ext cx="851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ошение показателей уровня абсолютн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носительной бед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населения  со среднедушевыми доходами (располагаемыми ресурсами) менее 60% от их медианн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ного зна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е сопоставимости путем установления единых границ (например, 60% медианного знач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00F2-3766-4740-8560-BA496C42C364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носительная бе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1916280"/>
          <a:ext cx="6095880" cy="2109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абсолютной б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относительной бедности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арусь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одержимое 2"/>
          <p:cNvSpPr/>
          <p:nvPr/>
        </p:nvSpPr>
        <p:spPr>
          <a:xfrm>
            <a:off x="390600" y="48420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CDB7-B3D1-4D2D-92F2-58EBDE3B0C73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31640" y="863640"/>
            <a:ext cx="788364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комитет СНГ регулярно публикует основные социально-экономические индикаторы бедности в странах Содружества и других странах мира. Эта информация представляется руководящим органам стран Содружества, средствам массовой информации, представителям научной общественности, коммерческих организаций, международных организаций и другим пользовател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комитет СНГ в своей дальнейшей работе по данной теме планирует уделять первостепенное внимание новым  методам оценки бедности с учетом международ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интерес представляют такие направления исследования, как  оценка уровня жизни домохозяйств с учетом их финансовых активов,  гендерные аспекты бедности, детская бе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дготовке обзора были использованы материалы, предоставленные национальными статистическими службами стран Содружества и размещенные на сайта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одержимое 2"/>
          <p:cNvSpPr/>
          <p:nvPr/>
        </p:nvSpPr>
        <p:spPr>
          <a:xfrm>
            <a:off x="166680" y="98100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2411280" y="306864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7520" y="3068640"/>
            <a:ext cx="903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012-93AD-4747-ADF1-B79AC958E541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2400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анах Содружества приняты  различные подходы к  определению понятия «бедность». Каждая страна на различных этапах может использовать разные подходы к определению бедности в зависимости от целей проводимых исслед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стран Содружества используются  основные концепции, принятые для  измерения бедности в международной статистической практи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анная на соответствии доходов или расходов населения установленному минимуму средств существ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нос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анная на соответствии доходов или расходов населения их медианным значен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бъективна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ная на субъективном мнении населения относительно суммы минимального дохода или оценки достигнутого уровня благосо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огомер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дности проводятся в отдельных странах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D80-91C7-4FB2-8BBE-61DE5C4D2950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755640" y="1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тоды оценки бедности в странах Содруж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179280" y="974880"/>
            <a:ext cx="892980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я населения с доходами (расходами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же национальной черты бедности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4 г.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199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9515-377B-42BE-9501-816D683F2060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ценки абсолютной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95520" y="1916280"/>
          <a:ext cx="6095880" cy="4073400"/>
        </p:xfrm>
        <a:graphic>
          <a:graphicData uri="http://schemas.openxmlformats.org/drawingml/2006/table">
            <a:tbl>
              <a:tblPr/>
              <a:tblGrid>
                <a:gridCol w="1584360"/>
                <a:gridCol w="1127160"/>
                <a:gridCol w="1128600"/>
                <a:gridCol w="1127160"/>
                <a:gridCol w="1128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5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5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7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7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755640" y="1014480"/>
            <a:ext cx="75614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цепции бедности для официальной оценки численности бедного населения в большинстве  стран Содружества связано с тем, что основной целью такой оценки является определение численности лиц, нуждающихся в социальной поддер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поставимость данных по уровню бедности в странах Содружества вызвана рядом прич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ми в  подходах к формированию границ бед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м разных показателей благосостояния населения (доходов или расход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7B7-BA4F-49C3-A9D3-EA1FD465C7FA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ценки абсолютной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одержимое 2"/>
          <p:cNvSpPr/>
          <p:nvPr/>
        </p:nvSpPr>
        <p:spPr>
          <a:xfrm>
            <a:off x="179280" y="907920"/>
            <a:ext cx="8785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222120" y="87300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и абсолютной бедности в странах Содруж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использованием различных границ в 2013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A399-1326-4711-A323-3B7687928EA2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циональная черта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9120" y="1773360"/>
          <a:ext cx="7921440" cy="4352760"/>
        </p:xfrm>
        <a:graphic>
          <a:graphicData uri="http://schemas.openxmlformats.org/drawingml/2006/table">
            <a:tbl>
              <a:tblPr/>
              <a:tblGrid>
                <a:gridCol w="1665000"/>
                <a:gridCol w="3052800"/>
                <a:gridCol w="1368720"/>
                <a:gridCol w="1834920"/>
              </a:tblGrid>
              <a:tr h="104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аселени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 к средней заработной плате по экономик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яя 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яя 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вольственн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3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ый продовольственный на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одержимое 2"/>
          <p:cNvSpPr/>
          <p:nvPr/>
        </p:nvSpPr>
        <p:spPr>
          <a:xfrm>
            <a:off x="179280" y="907920"/>
            <a:ext cx="8785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222120" y="87300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и абсолютной бедности в странах Содруж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использованием различных границ в 2013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9DE7-7B63-4C61-BAAF-7855FB3D5BA0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циональная черта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9120" y="1773360"/>
          <a:ext cx="7921440" cy="3771720"/>
        </p:xfrm>
        <a:graphic>
          <a:graphicData uri="http://schemas.openxmlformats.org/drawingml/2006/table">
            <a:tbl>
              <a:tblPr/>
              <a:tblGrid>
                <a:gridCol w="1665000"/>
                <a:gridCol w="3052800"/>
                <a:gridCol w="1297080"/>
                <a:gridCol w="1906560"/>
              </a:tblGrid>
              <a:tr h="104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аселени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 к средней заработной плате по экономик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678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йняя черта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а абсолютной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а экстремальной бе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cbf9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точный миним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214200" y="97776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тремление к установлению общих подходов при определен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селения, подверженных риску оказаться в бедност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пределении таких категорий, как «дети», «молодежь» важно использование единых возрастных гран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занятые, безработные и лица, не входящие в состав рабочей силы, должны определяться  на основе Резолюции 19 Международной конференции статистиков труда о статистике трудовой деятельности, занятости и недоиспользования рабочей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7344-9D62-402B-BA19-69E93FF8B10D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-3240" y="2090880"/>
            <a:ext cx="871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армонизация понятий и о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Содержимое 2"/>
          <p:cNvSpPr/>
          <p:nvPr/>
        </p:nvSpPr>
        <p:spPr>
          <a:xfrm>
            <a:off x="468360" y="907920"/>
            <a:ext cx="8442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остижение согласованных подходов при выб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ей благосостоя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основе которых строятся ряды распределения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ценки бедности страны СНГ используют показатели, которые различаются как по названию, так и по их соста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3EB-90A5-4100-8EC3-738E385AB9AB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3240" y="2090880"/>
            <a:ext cx="871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армонизация понятий и опре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47720" y="2492280"/>
          <a:ext cx="7319880" cy="3208320"/>
        </p:xfrm>
        <a:graphic>
          <a:graphicData uri="http://schemas.openxmlformats.org/drawingml/2006/table">
            <a:tbl>
              <a:tblPr/>
              <a:tblGrid>
                <a:gridCol w="2095560"/>
                <a:gridCol w="5224320"/>
              </a:tblGrid>
              <a:tr h="64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ированный  показатель потреб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агаем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, использованный на потре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ированный  показатель потреб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держимое 2"/>
          <p:cNvSpPr/>
          <p:nvPr/>
        </p:nvSpPr>
        <p:spPr>
          <a:xfrm>
            <a:off x="214200" y="1125360"/>
            <a:ext cx="878544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ран Содружества помимо денежных доходов/расходов для оценки благосостояния важное значение имеют натуральные посту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включать в состав натуральных поступлени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укты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тупившие в виде продукции собственного производства и от самозаготовок, полученных в счет оплаты труда, в подарок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одовольственные това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енные без опл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оставленные работодателем, оплаченные полностью или части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ьготы и дота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виде полного или частичного освобождения от оплаты товаров и услуг), полученные в натуральном выражении от государственных, общественных или благотворительных организ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о исчисленну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оимость услуг от польз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мися в домохозяйств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ами длительного 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кие методы оценки натуральных поступлений следует использо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9"/>
          <p:cNvSpPr/>
          <p:nvPr/>
        </p:nvSpPr>
        <p:spPr>
          <a:xfrm>
            <a:off x="8710560" y="6597720"/>
            <a:ext cx="398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B8E-48C8-4F49-BB6D-AA7C6E28B3C5}" type="slidenum">
              <a:rPr b="0" lang="ru-RU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50920" y="1911240"/>
            <a:ext cx="8713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755640" y="189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туральные по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9:38:45Z</dcterms:created>
  <dc:creator>Юрий</dc:creator>
  <dc:description/>
  <dc:language>en-US</dc:language>
  <cp:lastModifiedBy>Vania Etropolska</cp:lastModifiedBy>
  <cp:lastPrinted>2015-04-29T09:39:19Z</cp:lastPrinted>
  <dcterms:modified xsi:type="dcterms:W3CDTF">2015-04-30T10:33:53Z</dcterms:modified>
  <cp:revision>435</cp:revision>
  <dc:subject/>
  <dc:title>МЕЖГОСУДАРСТВЕННЫЙ СТАТИСТИЧЕСКИЙ КОМИТЕТ СОДРУЖЕСТВА НЕЗАВИСИМЫХ ГОСУДАРСТВ</dc:title>
</cp:coreProperties>
</file>