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CE327-56F9-4B56-877D-E346CF63AC11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6AB82-73E2-4568-87EA-72D68033759E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A90D6-4134-4DE4-9908-638921825B0B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B49F0-605E-42CB-A669-80B18AF1795E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EBDE1-B8C2-46C9-9BDD-67D0DABB7AE7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60DA8-2E18-40B6-ADF1-1FB0C8D61543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204B5-3D09-4A05-915F-611A3388B732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315B7-5783-4DAC-A6A3-BB092645E450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6C0AF-A8B2-4D78-B902-D4F6FC7EB8B4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2433A-C9C3-4942-83C1-B79781D5BE33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0FC57-DAAC-4E07-8298-E586C787A17D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5BC1-D64E-4D06-B1D0-D8D904B5E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426E-60EC-4FF3-925E-99E602CDC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D3C9-86B6-48A5-9517-5D5105BF7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8EBA-2BE6-4A6B-A42E-0E48612F8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BC59-6D57-4A01-88AB-F3274EDCE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4217-E784-4E31-97C3-845A1261A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41D7-50BF-4CBB-8BE2-60AC066AC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E002-928D-4EA1-BEBE-5427D4BB1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651E-3E62-4082-989E-F5E6336FF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1366-545D-46FB-81C7-7ED22AD1A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EEB9-E266-4EC5-8FAE-004B74241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704E-CA97-41F9-97ED-99773D1EA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6C578-579E-4728-B373-2E9BAEB2D4F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 некоторых вопросах методологии и практики оценивания бедности в Украине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9" name="TextBox 1"/>
          <p:cNvSpPr/>
          <p:nvPr/>
        </p:nvSpPr>
        <p:spPr>
          <a:xfrm>
            <a:off x="4788000" y="4941720"/>
            <a:ext cx="4465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на Осипов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партамент обследований домохозяйст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сударственная служба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атистики Украины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95280" y="970200"/>
            <a:ext cx="8640720" cy="49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Депривационная бедность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характеризует ограничение возможностей части населения в доступе к определенным жизненным благам, при этом не только обеспечивающим минимально необходимые физиологические потребности, а и потребности, связанные с развитием личности и обеспечением достаточного уровня комфортности существовани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Черта депривационной бедности определена на уровне наличия в домохозяйстве 4 и более из 18 признаков деприваци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Все признаки прошли контрол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частотный (отбирали признаки, которые имелись в большинстве домохозяйств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консенсусный (большинство респондентов считали их необходимыми для нормальной жизни)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верку на наличие взаимосвязи с уровнем благосостояния населения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ru-RU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Коэффициенты корреляции Пирсона почти по всем видам деприваций указывали на тесную зависимость распространенности каждой депривации от уровня доходов домохозяйства. Коэффициенты были рассчитаны по распределениям эквивалентных среднедушевых доходов  и распространенности деприваций среди децильных групп населения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4"/>
          <p:cNvGrpSpPr/>
          <p:nvPr/>
        </p:nvGrpSpPr>
        <p:grpSpPr>
          <a:xfrm>
            <a:off x="324000" y="662040"/>
            <a:ext cx="8743320" cy="4841640"/>
            <a:chOff x="324000" y="662040"/>
            <a:chExt cx="8743320" cy="4841640"/>
          </a:xfrm>
        </p:grpSpPr>
        <p:sp>
          <p:nvSpPr>
            <p:cNvPr id="69" name="AutoShape 5"/>
            <p:cNvSpPr/>
            <p:nvPr/>
          </p:nvSpPr>
          <p:spPr>
            <a:xfrm>
              <a:off x="324000" y="691920"/>
              <a:ext cx="7416720" cy="481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0" name="Text Box 16"/>
            <p:cNvSpPr/>
            <p:nvPr/>
          </p:nvSpPr>
          <p:spPr>
            <a:xfrm>
              <a:off x="353520" y="662040"/>
              <a:ext cx="8713800" cy="77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Уровни бедности, рассчитанные с использованием различных критериев, 2013 год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71" name="AutoShape 4"/>
          <p:cNvSpPr/>
          <p:nvPr/>
        </p:nvSpPr>
        <p:spPr>
          <a:xfrm>
            <a:off x="203040" y="1844640"/>
            <a:ext cx="2316240" cy="2290680"/>
          </a:xfrm>
          <a:prstGeom prst="flowChartConnector">
            <a:avLst/>
          </a:prstGeom>
          <a:solidFill>
            <a:srgbClr val="97e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AutoShape 8"/>
          <p:cNvSpPr/>
          <p:nvPr/>
        </p:nvSpPr>
        <p:spPr>
          <a:xfrm>
            <a:off x="2538360" y="1663560"/>
            <a:ext cx="1095480" cy="1062000"/>
          </a:xfrm>
          <a:prstGeom prst="flowChartConnector">
            <a:avLst/>
          </a:prstGeom>
          <a:solidFill>
            <a:srgbClr val="ff99cc">
              <a:alpha val="2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AutoShape 5"/>
          <p:cNvSpPr/>
          <p:nvPr/>
        </p:nvSpPr>
        <p:spPr>
          <a:xfrm>
            <a:off x="1781280" y="3719520"/>
            <a:ext cx="2624040" cy="2478240"/>
          </a:xfrm>
          <a:prstGeom prst="flowChartConnector">
            <a:avLst/>
          </a:prstGeom>
          <a:solidFill>
            <a:srgbClr val="ffe269">
              <a:alpha val="6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дн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ые по относительному критерию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,5%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0,7 млн.чел.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Text Box 15"/>
          <p:cNvSpPr/>
          <p:nvPr/>
        </p:nvSpPr>
        <p:spPr>
          <a:xfrm>
            <a:off x="576360" y="2557440"/>
            <a:ext cx="125712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дные по депривациям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,7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(9,5 млн.чел.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Text Box 13"/>
          <p:cNvSpPr/>
          <p:nvPr/>
        </p:nvSpPr>
        <p:spPr>
          <a:xfrm>
            <a:off x="2505240" y="1733400"/>
            <a:ext cx="1161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дные по абсолютному критерию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,4%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,7 млн.чел.)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AutoShape 4"/>
          <p:cNvSpPr/>
          <p:nvPr/>
        </p:nvSpPr>
        <p:spPr>
          <a:xfrm>
            <a:off x="5126040" y="1766880"/>
            <a:ext cx="2279520" cy="2201760"/>
          </a:xfrm>
          <a:prstGeom prst="flowChartConnector">
            <a:avLst/>
          </a:prstGeom>
          <a:solidFill>
            <a:srgbClr val="97e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AutoShape 8"/>
          <p:cNvSpPr/>
          <p:nvPr/>
        </p:nvSpPr>
        <p:spPr>
          <a:xfrm>
            <a:off x="6970680" y="2660760"/>
            <a:ext cx="1087560" cy="1073160"/>
          </a:xfrm>
          <a:prstGeom prst="flowChartConnector">
            <a:avLst/>
          </a:prstGeom>
          <a:solidFill>
            <a:srgbClr val="ff99cc">
              <a:alpha val="2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AutoShape 5"/>
          <p:cNvSpPr/>
          <p:nvPr/>
        </p:nvSpPr>
        <p:spPr>
          <a:xfrm>
            <a:off x="6249960" y="2833560"/>
            <a:ext cx="2586240" cy="2463840"/>
          </a:xfrm>
          <a:prstGeom prst="flowChartConnector">
            <a:avLst/>
          </a:prstGeom>
          <a:solidFill>
            <a:srgbClr val="ffe269">
              <a:alpha val="6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,0%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Text Box 15"/>
          <p:cNvSpPr/>
          <p:nvPr/>
        </p:nvSpPr>
        <p:spPr>
          <a:xfrm>
            <a:off x="7300800" y="2637000"/>
            <a:ext cx="65592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1%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Text Box 15"/>
          <p:cNvSpPr/>
          <p:nvPr/>
        </p:nvSpPr>
        <p:spPr>
          <a:xfrm>
            <a:off x="6959520" y="2681280"/>
            <a:ext cx="58896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5%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Text Box 15"/>
          <p:cNvSpPr/>
          <p:nvPr/>
        </p:nvSpPr>
        <p:spPr>
          <a:xfrm>
            <a:off x="6899400" y="3032280"/>
            <a:ext cx="53640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,8%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Text Box 15"/>
          <p:cNvSpPr/>
          <p:nvPr/>
        </p:nvSpPr>
        <p:spPr>
          <a:xfrm>
            <a:off x="6432480" y="3449520"/>
            <a:ext cx="58752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,0%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Text Box 15"/>
          <p:cNvSpPr/>
          <p:nvPr/>
        </p:nvSpPr>
        <p:spPr>
          <a:xfrm>
            <a:off x="5643720" y="2489040"/>
            <a:ext cx="58572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,4%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Text Box 15"/>
          <p:cNvSpPr/>
          <p:nvPr/>
        </p:nvSpPr>
        <p:spPr>
          <a:xfrm>
            <a:off x="8055000" y="4168800"/>
            <a:ext cx="5857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,7%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Text Box 13"/>
          <p:cNvSpPr/>
          <p:nvPr/>
        </p:nvSpPr>
        <p:spPr>
          <a:xfrm>
            <a:off x="7331040" y="2232000"/>
            <a:ext cx="17049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дные по абсолютному критерию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Text Box 15"/>
          <p:cNvSpPr/>
          <p:nvPr/>
        </p:nvSpPr>
        <p:spPr>
          <a:xfrm>
            <a:off x="5375160" y="2935440"/>
            <a:ext cx="125748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дные по депривациям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6743880" y="4718160"/>
            <a:ext cx="189684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дные по относительному критерию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Стрелка вправо 33"/>
          <p:cNvSpPr/>
          <p:nvPr/>
        </p:nvSpPr>
        <p:spPr>
          <a:xfrm>
            <a:off x="4145040" y="2373480"/>
            <a:ext cx="487440" cy="403200"/>
          </a:xfrm>
          <a:prstGeom prst="rightArrow">
            <a:avLst>
              <a:gd name="adj1" fmla="val 50000"/>
              <a:gd name="adj2" fmla="val 50142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Стрелка вправо 34"/>
          <p:cNvSpPr/>
          <p:nvPr/>
        </p:nvSpPr>
        <p:spPr>
          <a:xfrm>
            <a:off x="4154400" y="3030480"/>
            <a:ext cx="490680" cy="384120"/>
          </a:xfrm>
          <a:prstGeom prst="rightArrow">
            <a:avLst>
              <a:gd name="adj1" fmla="val 50000"/>
              <a:gd name="adj2" fmla="val 50138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Стрелка вправо 35"/>
          <p:cNvSpPr/>
          <p:nvPr/>
        </p:nvSpPr>
        <p:spPr>
          <a:xfrm>
            <a:off x="4179960" y="3666960"/>
            <a:ext cx="531720" cy="452520"/>
          </a:xfrm>
          <a:prstGeom prst="rightArrow">
            <a:avLst>
              <a:gd name="adj1" fmla="val 50000"/>
              <a:gd name="adj2" fmla="val 49900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Rectangle 3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Rectangle 54"/>
          <p:cNvSpPr/>
          <p:nvPr/>
        </p:nvSpPr>
        <p:spPr>
          <a:xfrm>
            <a:off x="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95280" y="824760"/>
            <a:ext cx="8640720" cy="59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 2013 году среди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населе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 находящегося в риске относительной бедности,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3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% имели 4 и более деприваций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430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реди населения, находящегося в зоне абсолютной бедности по доходам, имели такое количество деприваций 40% населения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430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реди 22% населения, имеющего 4 и более признака деприваций, были абсолютно бедными по доходам 15%, а в риске относительной бедности –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36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% населения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430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ебывали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дновременн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в риске абсолютной, относительной и депривационной бедности 3% населения. В основном это неполные семьи с детьми, проживающие в сельской местности. Как правило, в таких домохозяйствах работает только один человек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430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Имели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хотя бы одну из этих форм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бедности 39% населения (17 млн.человек)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430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 использовании монетарных подходов наивысшие риски бедности у многодетных семей и семей, в составе которых одновременно есть дети и безработные. Повышенные риски также имеют домохозяйства с 2-мя и больше детьми, а также с детьми до 3-х лет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 использовании немонетарных критериев наивысшие риски бедности у домохозяйств, состоящих исключительно из лиц старших возрастов (75 лет и старше)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95280" y="925560"/>
            <a:ext cx="8640720" cy="57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блема измерения бедности на основе выборочных обследований домохозяйств -недостаточная надежность прямых оценок для уровня отдельных территорий или групп населения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Для повышения надежности этих показателей в Украине целесообразным является совместное использовани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430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специальных методологических подходов, которые основываются на оптимизации дизайна выборки обследования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430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методов непрямого оценивания для малых территорий на основе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дополнительной (внешней) информаци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Основные показатели бедности, надежность оценивания которых на региональном уровне должна быть обеспечена на достаточном уровне: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3430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уровень относительной бедност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3430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уровень абсолютной бедности (по доходам)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Оптимизация дизайна выборки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водится при условии сохранения объема выборки по стране в целом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осуществляется путем минимизации суммы взвешенных относительных среднеквадратических ошибок региональных оценок указанных показателей бедности и относительных ошибок их национальных оценок. При этом веса определяются с учетом приоритетности отдельных показателей и уровней, для которого они оцениваются – национального и регионального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водится один раз в 5 лет во время формирования территориальной выборки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Модель непрямой оценки показателей бедности </a:t>
            </a:r>
            <a:br>
              <a:rPr sz="2000"/>
            </a:b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для регионов Украины</a:t>
            </a:r>
            <a:endParaRPr b="0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6" name="Rectangle 2"/>
          <p:cNvSpPr/>
          <p:nvPr/>
        </p:nvSpPr>
        <p:spPr>
          <a:xfrm>
            <a:off x="34920" y="1428840"/>
            <a:ext cx="820260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Объект 4"/>
              <p:cNvSpPr txBox="1"/>
              <p:nvPr/>
            </p:nvSpPr>
            <p:spPr>
              <a:xfrm>
                <a:off x="257040" y="1587600"/>
                <a:ext cx="865512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omp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Sup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γ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  <m:r>
                          <m:t xml:space="preserve">k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⋅</m:t>
                    </m:r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−</m:t>
                    </m:r>
                    <m:sSubSup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γ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  <m:r>
                          <m:t xml:space="preserve">k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⋅</m:t>
                    </m:r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k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−</m:t>
                    </m:r>
                    <m:sSubSup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γ</m:t>
                            </m:r>
                          </m:e>
                        </m:acc>
                      </m:e>
                      <m:sub>
                        <m:r>
                          <m:t xml:space="preserve">3</m:t>
                        </m:r>
                        <m:r>
                          <m:t xml:space="preserve">k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⋅</m:t>
                    </m:r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k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γ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  <m:r>
                          <m:t xml:space="preserve">k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⋅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Объект 21"/>
              <p:cNvSpPr txBox="1"/>
              <p:nvPr/>
            </p:nvSpPr>
            <p:spPr>
              <a:xfrm>
                <a:off x="466560" y="2403360"/>
                <a:ext cx="70200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omp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99" name="TextBox 22"/>
          <p:cNvSpPr/>
          <p:nvPr/>
        </p:nvSpPr>
        <p:spPr>
          <a:xfrm>
            <a:off x="1403280" y="2373480"/>
            <a:ext cx="61930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ценка 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го показателя бедности для 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го региона по композиционной оценочной функции в году, который рассматривается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Объект 23"/>
              <p:cNvSpPr txBox="1"/>
              <p:nvPr/>
            </p:nvSpPr>
            <p:spPr>
              <a:xfrm>
                <a:off x="457200" y="2911320"/>
                <a:ext cx="5000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01" name="TextBox 27"/>
          <p:cNvSpPr/>
          <p:nvPr/>
        </p:nvSpPr>
        <p:spPr>
          <a:xfrm>
            <a:off x="1403280" y="2828880"/>
            <a:ext cx="61930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ямая оценка 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го показателя бедности для 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го региона в году, который рассматривается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Объект 24"/>
              <p:cNvSpPr txBox="1"/>
              <p:nvPr/>
            </p:nvSpPr>
            <p:spPr>
              <a:xfrm>
                <a:off x="457200" y="3438360"/>
                <a:ext cx="50004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03" name="TextBox 29"/>
          <p:cNvSpPr/>
          <p:nvPr/>
        </p:nvSpPr>
        <p:spPr>
          <a:xfrm>
            <a:off x="1400040" y="3486240"/>
            <a:ext cx="6193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ямая оценка 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го показателя бедности для национального уровня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Объект 25"/>
              <p:cNvSpPr txBox="1"/>
              <p:nvPr/>
            </p:nvSpPr>
            <p:spPr>
              <a:xfrm>
                <a:off x="447840" y="3894120"/>
                <a:ext cx="48708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k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05" name="TextBox 31"/>
          <p:cNvSpPr/>
          <p:nvPr/>
        </p:nvSpPr>
        <p:spPr>
          <a:xfrm>
            <a:off x="1400040" y="3970440"/>
            <a:ext cx="61930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ямая оценка 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го показателя бедности для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го региона в предыдущем году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Объект 26"/>
              <p:cNvSpPr txBox="1"/>
              <p:nvPr/>
            </p:nvSpPr>
            <p:spPr>
              <a:xfrm>
                <a:off x="447840" y="4444920"/>
                <a:ext cx="44424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k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07" name="TextBox 33"/>
          <p:cNvSpPr/>
          <p:nvPr/>
        </p:nvSpPr>
        <p:spPr>
          <a:xfrm>
            <a:off x="1395360" y="4481640"/>
            <a:ext cx="61927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еличина конечных потребительских расходов домохозяйств в расчете на душу населения по данным национальных счетов в предыдущем году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Объект 28"/>
              <p:cNvSpPr txBox="1"/>
              <p:nvPr/>
            </p:nvSpPr>
            <p:spPr>
              <a:xfrm>
                <a:off x="246240" y="5205240"/>
                <a:ext cx="1157040" cy="34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γ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  <m:r>
                          <m:t xml:space="preserve">k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,</m:t>
                    </m:r>
                    <m:sSubSup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γ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  <m:r>
                          <m:t xml:space="preserve">k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,</m:t>
                    </m:r>
                    <m:sSubSup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γ</m:t>
                            </m:r>
                          </m:e>
                        </m:acc>
                      </m:e>
                      <m:sub>
                        <m:r>
                          <m:t xml:space="preserve">3</m:t>
                        </m:r>
                        <m:r>
                          <m:t xml:space="preserve">k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09" name="TextBox 35"/>
          <p:cNvSpPr/>
          <p:nvPr/>
        </p:nvSpPr>
        <p:spPr>
          <a:xfrm>
            <a:off x="1430280" y="5148360"/>
            <a:ext cx="725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есовые коэффициенты композиционной оценочной функции для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го региона при оценивании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го показателя бедности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TextBox 36"/>
          <p:cNvSpPr/>
          <p:nvPr/>
        </p:nvSpPr>
        <p:spPr>
          <a:xfrm>
            <a:off x="108000" y="5670720"/>
            <a:ext cx="892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екс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тносит показатели уровня бедности к соответствующим показателям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j = 1 - «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вень относительной бедности»;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 = 2 - «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вень абсолютной бедности»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TextBox 46"/>
          <p:cNvSpPr/>
          <p:nvPr/>
        </p:nvSpPr>
        <p:spPr>
          <a:xfrm>
            <a:off x="246240" y="6119640"/>
            <a:ext cx="79801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=1, 2, …, K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K 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количество регионов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Результаты моделирования показателей относительной бедности по регионам Украины, 2012г.</a:t>
            </a:r>
            <a:endParaRPr b="0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0" y="1852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4" name="Диаграмма 4" descr=""/>
          <p:cNvPicPr/>
          <p:nvPr/>
        </p:nvPicPr>
        <p:blipFill>
          <a:blip r:embed="rId1"/>
          <a:stretch/>
        </p:blipFill>
        <p:spPr>
          <a:xfrm>
            <a:off x="109440" y="1335240"/>
            <a:ext cx="8925120" cy="55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Относительные ошибки региональных оценок относительной бедности, 2012 г.</a:t>
            </a:r>
            <a:endParaRPr b="0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" name="Диаграмма 4" descr=""/>
          <p:cNvPicPr/>
          <p:nvPr/>
        </p:nvPicPr>
        <p:blipFill>
          <a:blip r:embed="rId1"/>
          <a:stretch/>
        </p:blipFill>
        <p:spPr>
          <a:xfrm>
            <a:off x="0" y="901800"/>
            <a:ext cx="9144000" cy="59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95280" y="1218240"/>
            <a:ext cx="8640720" cy="51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Недостаточный охват наиболее обеспеченных слоев населения в обследованиях доходов и расходов домохозяйств - угроза смещения оценок в сторону более бедных. Эта проблем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существует во всех странах, в которых проводятся такие обследо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особенно актуальна в странах, где отсутствуют качественные регистры населения и доходов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возникает за счет отказов обеспеченных домохозяйств от участия в обследовании либо от предоставления информации об их реальном уровне жизни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Отказы не всегда связаны с уровнем доходов респондента. Причинами могут быть занятость на работе и домашними делами, отсутствие свободного времени у молодежи, религиозные соображения, запрет родственников, нежелание принимать участие в любых опросах и т.д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3430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Госстат проводит системную работ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по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повышению уровня участия респондентов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430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все интервьюеры проходят специальный курс обучения, направленный на установление контакта с домохозяйствами и их мотивацию к участию в опрос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;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430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периодически проводятся встречи интервьюеров для обмена опытом, тренинги и деловые игры с участием супервайзеров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430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осуществляется постоянный контроль эффективности и качества работы интервьюеров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3430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 построении системы статистических весов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меняются процедуры корректировки весов для компенсации неответов и процедуры калибрации весов, позволяющие, согласовывать половозрастную структуру неинституционального населения, полученную по результатам обследования,  с имеющимися внешними данными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3430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Возможный недоохват группы зажиточных домохозяйств констатируется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в отчетах о качестве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, которые ежегодно готовятся для пользователей данными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Формула корректировки показателей уровня жизни домохозяйств с целью учета доходов и расходов наиболее обеспеченного населения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0" name="Rectangle 72"/>
          <p:cNvSpPr/>
          <p:nvPr/>
        </p:nvSpPr>
        <p:spPr>
          <a:xfrm>
            <a:off x="176364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1" name="Объект 75"/>
          <p:cNvGraphicFramePr/>
          <p:nvPr/>
        </p:nvGraphicFramePr>
        <p:xfrm>
          <a:off x="2700360" y="1916280"/>
          <a:ext cx="3348000" cy="97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Объект 7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360" y="1916280"/>
                    <a:ext cx="3348000" cy="97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Rectangle 74"/>
          <p:cNvSpPr/>
          <p:nvPr/>
        </p:nvSpPr>
        <p:spPr>
          <a:xfrm>
            <a:off x="1295280" y="26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4" name="Объект 77"/>
          <p:cNvGraphicFramePr/>
          <p:nvPr/>
        </p:nvGraphicFramePr>
        <p:xfrm>
          <a:off x="2700360" y="2890800"/>
          <a:ext cx="3348000" cy="96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5" name="Объект 7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00360" y="2890800"/>
                    <a:ext cx="33480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6" name="Rectangle 108" descr=""/>
          <p:cNvPicPr/>
          <p:nvPr/>
        </p:nvPicPr>
        <p:blipFill>
          <a:blip r:embed="rId5"/>
          <a:stretch/>
        </p:blipFill>
        <p:spPr>
          <a:xfrm>
            <a:off x="549360" y="3681360"/>
            <a:ext cx="8508960" cy="29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оугольник 1"/>
          <p:cNvSpPr/>
          <p:nvPr/>
        </p:nvSpPr>
        <p:spPr>
          <a:xfrm>
            <a:off x="108000" y="549360"/>
            <a:ext cx="9036000" cy="10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Распределение эквивалентных общих доходов по децильным группам домохозяйств до и после корректирования, 2012г.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4747"/>
                </a:solidFill>
                <a:latin typeface="Arial"/>
              </a:rPr>
              <a:t>(</a:t>
            </a:r>
            <a:r>
              <a:rPr b="1" lang="ru-RU" sz="1600" spc="-1" strike="noStrike">
                <a:solidFill>
                  <a:srgbClr val="ff4747"/>
                </a:solidFill>
                <a:latin typeface="Arial"/>
                <a:ea typeface="Times New Roman"/>
              </a:rPr>
              <a:t>внешняя информация - данные национальных счетов о структуре конечных потребительских расходов домохозяйств </a:t>
            </a:r>
            <a:r>
              <a:rPr b="1" lang="en-US" sz="1600" spc="-1" strike="noStrike">
                <a:solidFill>
                  <a:srgbClr val="ff4747"/>
                </a:solidFill>
                <a:latin typeface="Arial"/>
                <a:ea typeface="Times New Roman"/>
              </a:rPr>
              <a:t>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Диаграмма 3" descr=""/>
          <p:cNvPicPr/>
          <p:nvPr/>
        </p:nvPicPr>
        <p:blipFill>
          <a:blip r:embed="rId1"/>
          <a:stretch/>
        </p:blipFill>
        <p:spPr>
          <a:xfrm>
            <a:off x="109440" y="1566720"/>
            <a:ext cx="8925120" cy="52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7"/>
          <p:cNvSpPr/>
          <p:nvPr/>
        </p:nvSpPr>
        <p:spPr>
          <a:xfrm>
            <a:off x="324000" y="1066680"/>
            <a:ext cx="8351640" cy="52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едность 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 невозможность в связи с недостатком средств поддерживать образ жизни, присущий конкретному обществу в конкретный период времен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ровень бедности 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дельный вес населения, у которого уровень потребления (доходов) на одного человека ниже определенной черты бедност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ерта бедности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это уровень доходов (расходов) человека, ниже которого невозможно удовлетворить основные потребност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житочный минимум 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оимостная величина достаточного для обеспечения нормального функционирования организма человека, сохранения его здоровья набора продуктов питания, а также минимального набора непродовольственных товаров и минимального набора услуг, необходимых для удовлетворения основных социальных и культурных потребностей личности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рожиточный минимум определяется для различных социально-демографических групп населения и служит основой для определения государственных социальных гаранти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"/>
          <p:cNvGraphicFramePr/>
          <p:nvPr/>
        </p:nvGraphicFramePr>
        <p:xfrm>
          <a:off x="1116000" y="2205000"/>
          <a:ext cx="7343640" cy="4176720"/>
        </p:xfrm>
        <a:graphic>
          <a:graphicData uri="http://schemas.openxmlformats.org/drawingml/2006/table">
            <a:tbl>
              <a:tblPr/>
              <a:tblGrid>
                <a:gridCol w="3139920"/>
                <a:gridCol w="1059120"/>
                <a:gridCol w="1057320"/>
                <a:gridCol w="973080"/>
                <a:gridCol w="1114200"/>
              </a:tblGrid>
              <a:tr h="1373400"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душевые эквивалентные потребительские расходы в меся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душевые эквивалентные общ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ходы в меся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9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коректи-ров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ле коректи-ровани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коректи-ровани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ле коррек-тировани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80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екс Джин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цильный коэффициент концентр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80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цильный коэффициент фонд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7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винтильный коэффициент фонд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Rectangle 2"/>
          <p:cNvSpPr/>
          <p:nvPr/>
        </p:nvSpPr>
        <p:spPr>
          <a:xfrm>
            <a:off x="1476360" y="1383120"/>
            <a:ext cx="662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4747"/>
                </a:solidFill>
                <a:latin typeface="Arial"/>
                <a:ea typeface="Times New Roman"/>
              </a:rPr>
              <a:t>Показатели неравенства, 2012 год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95280" y="1520640"/>
            <a:ext cx="8640720" cy="45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430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Перспективы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430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430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В рамках действующей системы статистических наблюдений невозможно выявить все аспекты такого нового явления, как внезапная бедность домохозяйств, наступившая в результате боевых действий. Необходимо исследовать дополнительные, по отношению к традиционным, источники информации с целью углубленного изучения ситуаци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430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430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Внедрение в практику работы статистической системы Украины концепции дохода домохозяйств, гармонизированной с требованиями Евростата. Это направление предусмотрено Планом мероприятий по имплементации Соглашения про ассоциацию между Украиной и Европейским Союзом на 2014 - 2017 годы (п.213), утвержденным правительством в сентябре 2014 год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430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430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Будут дополнены программы опроса домохозяйств по депривациям за счет некоторых показателей социального участия и материальной депривации детей. Будет обеспечен расчет показателя уровня бедности, в т.ч. связанной с материальными депривациями, с использованием европейской методологи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324000" y="482040"/>
            <a:ext cx="8351640" cy="64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Пороги и критерии для измерения бедност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Официальный мониторинг бедност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7575d1"/>
              </a:buClr>
              <a:buFont typeface="Arial"/>
              <a:buChar char="•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575d1"/>
                </a:solidFill>
                <a:latin typeface="Arial"/>
                <a:ea typeface="Times New Roman"/>
              </a:rPr>
              <a:t>75% медианного значения среднедушевых расходов в месяц – черта относительной и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60% медианного значения – черта крайней бедности </a:t>
            </a:r>
            <a:r>
              <a:rPr b="0" lang="ru-RU" sz="1800" spc="-1" strike="noStrike">
                <a:solidFill>
                  <a:srgbClr val="7575d1"/>
                </a:solidFill>
                <a:latin typeface="Arial"/>
                <a:ea typeface="Times New Roman"/>
              </a:rPr>
              <a:t>(удельный вес бедных определяется на основании критерия расходов)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устанавливаемый законодательно размер прожиточного минимума – черта абсолютной бедности (критерий - доходы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990000"/>
              </a:buClr>
              <a:buFont typeface="Arial"/>
              <a:buChar char="•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  <a:ea typeface="Times New Roman"/>
              </a:rPr>
              <a:t>5 долларов США на человека в сутки по паритету покупательной способности – черта абсолютной бедности для международных сравнений (критерий – расходы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Мониторинг Цели 1 «Преодоление бедности» Целей развития тысячелети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7575d1"/>
              </a:buClr>
              <a:buFont typeface="Wingdings" charset="2"/>
              <a:buChar char="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575d1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7575d1"/>
                </a:solidFill>
                <a:latin typeface="Arial"/>
                <a:ea typeface="Times New Roman"/>
              </a:rPr>
              <a:t>75% медианного значения среднедушевых расходов в месяц (критерий– расходы)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фактический прожиточный минимум (определяется на основе законодательно установленного прожиточного минимума и фактических цен), (критерий – расходы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990000"/>
              </a:buClr>
              <a:buFont typeface="Wingdings" charset="2"/>
              <a:buChar char="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990000"/>
                </a:solidFill>
                <a:latin typeface="Arial"/>
                <a:ea typeface="Times New Roman"/>
              </a:rPr>
              <a:t>5 долларов США на человека в сутки по паритету покупательной способности (критерий – расходы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Мониторинг всех показателей монетарной бедности предусматривает использование шкалы эквивалентности, согласно которой первое лицо домохозяйства имеет коэффициент 1, а все другие - 0,7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537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595959"/>
                </a:solidFill>
                <a:latin typeface="Arial"/>
              </a:rPr>
              <a:t>Динамика уровня бедности по основным критериям определения, 2000-2013 годы</a:t>
            </a: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0" y="1681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4" name="Диаграмма 4" descr=""/>
          <p:cNvPicPr/>
          <p:nvPr/>
        </p:nvPicPr>
        <p:blipFill>
          <a:blip r:embed="rId1"/>
          <a:stretch/>
        </p:blipFill>
        <p:spPr>
          <a:xfrm>
            <a:off x="103320" y="1395360"/>
            <a:ext cx="871668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cc0000"/>
                </a:solidFill>
                <a:latin typeface="Arial"/>
              </a:rPr>
              <a:t>Динамика темпов роста реальных располагаемых доходов населения, ВВП и удельного веса в ВВП расходов на социальную защиту и социальное обеспечение в 2002-2013г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г</a:t>
            </a:r>
            <a:r>
              <a:rPr b="1" lang="uk-UA" sz="2000" spc="-1" strike="noStrike">
                <a:solidFill>
                  <a:srgbClr val="cc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7" name="Диаграмма 4" descr=""/>
          <p:cNvPicPr/>
          <p:nvPr/>
        </p:nvPicPr>
        <p:blipFill>
          <a:blip r:embed="rId1"/>
          <a:stretch/>
        </p:blipFill>
        <p:spPr>
          <a:xfrm>
            <a:off x="317520" y="1689120"/>
            <a:ext cx="8723160" cy="49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91440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cc0000"/>
                </a:solidFill>
                <a:latin typeface="Arial"/>
              </a:rPr>
              <a:t>Сближение размеров минимальных социальных гарантий с размерами соответствующих прожиточных минимумов, 2000-2013г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г</a:t>
            </a:r>
            <a:r>
              <a:rPr b="1" lang="uk-UA" sz="2000" spc="-1" strike="noStrike">
                <a:solidFill>
                  <a:srgbClr val="cc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59" name="Диаграмма 3" descr=""/>
          <p:cNvPicPr/>
          <p:nvPr/>
        </p:nvPicPr>
        <p:blipFill>
          <a:blip r:embed="rId1"/>
          <a:stretch/>
        </p:blipFill>
        <p:spPr>
          <a:xfrm>
            <a:off x="30240" y="1268280"/>
            <a:ext cx="903456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cc0000"/>
                </a:solidFill>
                <a:latin typeface="Arial"/>
              </a:rPr>
              <a:t>Государственные расходы на социальную защиту и социальное обеспечение населения, в % к ВВП, 2000-2013г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г</a:t>
            </a:r>
            <a:r>
              <a:rPr b="1" lang="uk-UA" sz="2000" spc="-1" strike="noStrike">
                <a:solidFill>
                  <a:srgbClr val="cc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61" name="Диаграмма 3" descr=""/>
          <p:cNvPicPr/>
          <p:nvPr/>
        </p:nvPicPr>
        <p:blipFill>
          <a:blip r:embed="rId1"/>
          <a:stretch/>
        </p:blipFill>
        <p:spPr>
          <a:xfrm>
            <a:off x="103320" y="1414440"/>
            <a:ext cx="893124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cc0000"/>
                </a:solidFill>
                <a:latin typeface="Arial"/>
              </a:rPr>
              <a:t>Темпы роста потребительских цен, доходов населения, прожиточного минимума и уровней бедности, 2001-2013г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г</a:t>
            </a:r>
            <a:r>
              <a:rPr b="1" lang="uk-UA" sz="2000" spc="-1" strike="noStrike">
                <a:solidFill>
                  <a:srgbClr val="cc0000"/>
                </a:solidFill>
                <a:latin typeface="Arial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63" name="Диаграмма 3" descr="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c0000"/>
                </a:solidFill>
                <a:latin typeface="Arial"/>
              </a:rPr>
              <a:t>Показатели бедности по разн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ым критериям, </a:t>
            </a:r>
            <a:br>
              <a:rPr sz="2400"/>
            </a:b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2000-2013гг.</a:t>
            </a: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0" y="1852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6" name="Диаграмма 5" descr=""/>
          <p:cNvPicPr/>
          <p:nvPr/>
        </p:nvPicPr>
        <p:blipFill>
          <a:blip r:embed="rId1"/>
          <a:stretch/>
        </p:blipFill>
        <p:spPr>
          <a:xfrm>
            <a:off x="171360" y="1133640"/>
            <a:ext cx="8979120" cy="573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6T14:38:54Z</dcterms:created>
  <dc:creator>user</dc:creator>
  <dc:description/>
  <dc:language>en-US</dc:language>
  <cp:lastModifiedBy>Vania Etropolska</cp:lastModifiedBy>
  <dcterms:modified xsi:type="dcterms:W3CDTF">2015-04-28T11:50:32Z</dcterms:modified>
  <cp:revision>299</cp:revision>
  <dc:subject/>
  <dc:title>ОПЫТ ВНЕДРЕНИЯ НАЦИОНАЛЬНЫХ ПРИНЦИПОВ ДЕЯТЕЛЬНОСТИ В ОРГАНАХ ГОСУДАРСТВЕННОЙ СТАТИСТИКИ УКРАИНЫ</dc:title>
</cp:coreProperties>
</file>