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DA8E-E401-4BDA-B697-A2BCBB1043C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0B27-953C-4028-AC8A-5C2AE5F98D8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FE59-9D4C-4136-85F4-4067CF13BE7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AD69-B9B0-4245-8D43-D0AD27E1DBF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DDDE-AE07-4393-AFF8-59790689622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E98F-6FC9-4DFA-A43C-F6B52F6767B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5CBB-D038-4328-B16E-BC31AA62789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A1E2-4F4F-499C-8987-CEAC6F5B269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C594-DD50-41FD-AFB2-ECC85722C8E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FE47-AA45-416A-8C29-B8D51770748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C7B2-414D-4FDB-AE13-1A7503904AD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318D-F6E9-40CB-8E31-3883CC21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B834-61C9-4F2A-9835-398794BD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EAD7-FB16-4F47-90FB-4E309F20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557A-9EFE-4F6E-A22E-73E9121A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1E0-592E-4540-AFF9-6A6464F5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7E9-15D5-486F-A6C5-FC995D95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F1F3-1DE4-494B-AF63-A2FFC31B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4889-7F9D-487F-8D71-5285B2C9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741-F3CA-4AEB-A0A3-908FE0D9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ACF6-98D0-4BE9-A4B1-09660E27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6841-F266-4E6F-A8FE-EE5BB92F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82C7-57BC-4556-8AD6-CBFBC7E8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59C6-F08A-471A-A8B3-116B8A12CC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некоторых вопросах методологии и практики оценивания бедности в Украине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4788000" y="4941720"/>
            <a:ext cx="44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на Осип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партамент обследований домохозяйст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ая служб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истики Украин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5280" y="970200"/>
            <a:ext cx="8640720" cy="49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епривационная беднос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изует ограничение возможностей части населения в доступе к определенным жизненным благам, при этом не только обеспечивающим минимально необходимые физиологические потребности, а и потребности, связанные с развитием личности и обеспечением достаточного уровня комфортности существов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ерта депривационной бедности определена на уровне наличия в домохозяйстве 4 и более из 18 признаков деприв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признаки прошли контро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отный (отбирали признаки, которые имелись в большинстве домохозяйств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сенсусный (большинство респондентов считали их необходимыми для нормальной жизни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рку на наличие взаимосвязи с уровнем благосостояния насел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Коэффициенты корреляции Пирсона почти по всем видам деприваций указывали на тесную зависимость распространенности каждой депривации от уровня доходов домохозяйства. Коэффициенты были рассчитаны по распределениям эквивалентных среднедушевых доходов  и распространенности деприваций среди децильных групп населения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4"/>
          <p:cNvGrpSpPr/>
          <p:nvPr/>
        </p:nvGrpSpPr>
        <p:grpSpPr>
          <a:xfrm>
            <a:off x="324000" y="662040"/>
            <a:ext cx="8743320" cy="4841640"/>
            <a:chOff x="324000" y="662040"/>
            <a:chExt cx="8743320" cy="4841640"/>
          </a:xfrm>
        </p:grpSpPr>
        <p:sp>
          <p:nvSpPr>
            <p:cNvPr id="69" name="AutoShape 5"/>
            <p:cNvSpPr/>
            <p:nvPr/>
          </p:nvSpPr>
          <p:spPr>
            <a:xfrm>
              <a:off x="324000" y="691920"/>
              <a:ext cx="7416720" cy="48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Text Box 16"/>
            <p:cNvSpPr/>
            <p:nvPr/>
          </p:nvSpPr>
          <p:spPr>
            <a:xfrm>
              <a:off x="353520" y="662040"/>
              <a:ext cx="8713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ровни бедности, рассчитанные с использованием различных критериев, 2013 год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" name="AutoShape 4"/>
          <p:cNvSpPr/>
          <p:nvPr/>
        </p:nvSpPr>
        <p:spPr>
          <a:xfrm>
            <a:off x="203040" y="1844640"/>
            <a:ext cx="2316240" cy="2290680"/>
          </a:xfrm>
          <a:prstGeom prst="flowChartConnector">
            <a:avLst/>
          </a:prstGeom>
          <a:solidFill>
            <a:srgbClr val="97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2538360" y="1663560"/>
            <a:ext cx="1095480" cy="1062000"/>
          </a:xfrm>
          <a:prstGeom prst="flowChartConnector">
            <a:avLst/>
          </a:prstGeom>
          <a:solidFill>
            <a:srgbClr val="ff99cc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1781280" y="3719520"/>
            <a:ext cx="2624040" cy="2478240"/>
          </a:xfrm>
          <a:prstGeom prst="flowChartConnector">
            <a:avLst/>
          </a:prstGeom>
          <a:solidFill>
            <a:srgbClr val="ffe269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по относительному критерию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,5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,7 млн.чел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576360" y="2557440"/>
            <a:ext cx="1257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е по депривация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,7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(9,5 млн.чел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2505240" y="1733400"/>
            <a:ext cx="116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е по абсолютному критерию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4%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,7 млн.чел.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5126040" y="1766880"/>
            <a:ext cx="2279520" cy="2201760"/>
          </a:xfrm>
          <a:prstGeom prst="flowChartConnector">
            <a:avLst/>
          </a:prstGeom>
          <a:solidFill>
            <a:srgbClr val="97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6970680" y="2660760"/>
            <a:ext cx="1087560" cy="1073160"/>
          </a:xfrm>
          <a:prstGeom prst="flowChartConnector">
            <a:avLst/>
          </a:prstGeom>
          <a:solidFill>
            <a:srgbClr val="ff99cc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6249960" y="2833560"/>
            <a:ext cx="2586240" cy="2463840"/>
          </a:xfrm>
          <a:prstGeom prst="flowChartConnector">
            <a:avLst/>
          </a:prstGeom>
          <a:solidFill>
            <a:srgbClr val="ffe269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0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7300800" y="2637000"/>
            <a:ext cx="655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1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6959520" y="2681280"/>
            <a:ext cx="588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6899400" y="3032280"/>
            <a:ext cx="5364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8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6432480" y="3449520"/>
            <a:ext cx="5875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0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5643720" y="2489040"/>
            <a:ext cx="5857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4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8055000" y="4168800"/>
            <a:ext cx="585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7%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7331040" y="2232000"/>
            <a:ext cx="1704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е по абсолютному критерию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5375160" y="2935440"/>
            <a:ext cx="12574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е по депривациям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6743880" y="4718160"/>
            <a:ext cx="18968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е по относительному критерию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Стрелка вправо 33"/>
          <p:cNvSpPr/>
          <p:nvPr/>
        </p:nvSpPr>
        <p:spPr>
          <a:xfrm>
            <a:off x="4145040" y="2373480"/>
            <a:ext cx="487440" cy="403200"/>
          </a:xfrm>
          <a:prstGeom prst="rightArrow">
            <a:avLst>
              <a:gd name="adj1" fmla="val 50000"/>
              <a:gd name="adj2" fmla="val 5014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Стрелка вправо 34"/>
          <p:cNvSpPr/>
          <p:nvPr/>
        </p:nvSpPr>
        <p:spPr>
          <a:xfrm>
            <a:off x="4154400" y="3030480"/>
            <a:ext cx="490680" cy="384120"/>
          </a:xfrm>
          <a:prstGeom prst="rightArrow">
            <a:avLst>
              <a:gd name="adj1" fmla="val 50000"/>
              <a:gd name="adj2" fmla="val 5013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Стрелка вправо 35"/>
          <p:cNvSpPr/>
          <p:nvPr/>
        </p:nvSpPr>
        <p:spPr>
          <a:xfrm>
            <a:off x="4179960" y="3666960"/>
            <a:ext cx="531720" cy="45252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54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95280" y="824760"/>
            <a:ext cx="8640720" cy="59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2013 году сред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се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находящегося в риске относительной бедности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% имели 4 и более депривац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и населения, находящегося в зоне абсолютной бедности по доходам, имели такое количество деприваций 40% насел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и 22% населения, имеющего 4 и более признака деприваций, были абсолютно бедными по доходам 15%, а в риске относительной бедности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% насел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быва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овремен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в риске абсолютной, относительной и депривационной бедности 3% населения. В основном это неполные семьи с детьми, проживающие в сельской местности. Как правило, в таких домохозяйствах работает только один челове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л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хотя бы одну из этих фор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едности 39% населения (17 млн.человек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использовании монетарных подходов наивысшие риски бедности у многодетных семей и семей, в составе которых одновременно есть дети и безработные. Повышенные риски также имеют домохозяйства с 2-мя и больше детьми, а также с детьми до 3-х лет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использовании немонетарных критериев наивысшие риски бедности у домохозяйств, состоящих исключительно из лиц старших возрастов (75 лет и старше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95280" y="925560"/>
            <a:ext cx="8640720" cy="57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блема измерения бедности на основе выборочных обследований домохозяйств -недостаточная надежность прямых оценок для уровня отдельных территорий или групп населе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овышения надежности этих показателей в Украине целесообразным является совместное использова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циальных методологических подходов, которые основываются на оптимизации дизайна выборки обследова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ов непрямого оценивания для малых территорий на основ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олнительной (внешней) информа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е показатели бедности, надежность оценивания которых на региональном уровне должна быть обеспечена на достаточном уровне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ровень относительной бед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ровень абсолютной бедности (по доходам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птимизация дизайна выборки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одится при условии сохранения объема выборки по стране в целом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существляется путем минимизации суммы взвешенных относительных среднеквадратических ошибок региональных оценок указанных показателей бедности и относительных ошибок их национальных оценок. При этом веса определяются с учетом приоритетности отдельных показателей и уровней, для которого они оцениваются – национального и регионального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одится один раз в 5 лет во время формирования территориальной выборк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одель непрямой оценки показателей бедности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для регионов Украины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34920" y="1428840"/>
            <a:ext cx="8202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Объект 4"/>
              <p:cNvSpPr txBox="1"/>
              <p:nvPr/>
            </p:nvSpPr>
            <p:spPr>
              <a:xfrm>
                <a:off x="257040" y="1587600"/>
                <a:ext cx="86551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⋅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⋅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⋅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Объект 21"/>
              <p:cNvSpPr txBox="1"/>
              <p:nvPr/>
            </p:nvSpPr>
            <p:spPr>
              <a:xfrm>
                <a:off x="466560" y="2403360"/>
                <a:ext cx="7020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9" name="TextBox 22"/>
          <p:cNvSpPr/>
          <p:nvPr/>
        </p:nvSpPr>
        <p:spPr>
          <a:xfrm>
            <a:off x="1403280" y="2373480"/>
            <a:ext cx="6193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а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 показателя бедности для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 региона по композиционной оценочной функции в году, который рассматривается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Объект 23"/>
              <p:cNvSpPr txBox="1"/>
              <p:nvPr/>
            </p:nvSpPr>
            <p:spPr>
              <a:xfrm>
                <a:off x="457200" y="2911320"/>
                <a:ext cx="500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1" name="TextBox 27"/>
          <p:cNvSpPr/>
          <p:nvPr/>
        </p:nvSpPr>
        <p:spPr>
          <a:xfrm>
            <a:off x="1403280" y="2828880"/>
            <a:ext cx="6193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ямая оценка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 показателя бедности для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 региона в году, который рассматривается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Объект 24"/>
              <p:cNvSpPr txBox="1"/>
              <p:nvPr/>
            </p:nvSpPr>
            <p:spPr>
              <a:xfrm>
                <a:off x="457200" y="3438360"/>
                <a:ext cx="5000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3" name="TextBox 29"/>
          <p:cNvSpPr/>
          <p:nvPr/>
        </p:nvSpPr>
        <p:spPr>
          <a:xfrm>
            <a:off x="1400040" y="3486240"/>
            <a:ext cx="619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ямая оценка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 показателя бедности для национального уровня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Объект 25"/>
              <p:cNvSpPr txBox="1"/>
              <p:nvPr/>
            </p:nvSpPr>
            <p:spPr>
              <a:xfrm>
                <a:off x="447840" y="3894120"/>
                <a:ext cx="4870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5" name="TextBox 31"/>
          <p:cNvSpPr/>
          <p:nvPr/>
        </p:nvSpPr>
        <p:spPr>
          <a:xfrm>
            <a:off x="1400040" y="3970440"/>
            <a:ext cx="6193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ямая оценка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 показателя бедности для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 региона в предыдущем году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Объект 26"/>
              <p:cNvSpPr txBox="1"/>
              <p:nvPr/>
            </p:nvSpPr>
            <p:spPr>
              <a:xfrm>
                <a:off x="447840" y="4444920"/>
                <a:ext cx="4442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7" name="TextBox 33"/>
          <p:cNvSpPr/>
          <p:nvPr/>
        </p:nvSpPr>
        <p:spPr>
          <a:xfrm>
            <a:off x="1395360" y="4481640"/>
            <a:ext cx="6192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личина конечных потребительских расходов домохозяйств в расчете на душу населения по данным национальных счетов в предыдущем году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Объект 28"/>
              <p:cNvSpPr txBox="1"/>
              <p:nvPr/>
            </p:nvSpPr>
            <p:spPr>
              <a:xfrm>
                <a:off x="246240" y="5205240"/>
                <a:ext cx="115704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9" name="TextBox 35"/>
          <p:cNvSpPr/>
          <p:nvPr/>
        </p:nvSpPr>
        <p:spPr>
          <a:xfrm>
            <a:off x="1430280" y="5148360"/>
            <a:ext cx="725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совые коэффициенты композиционной оценочной функции для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 региона при оценивании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 показателя бедност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Box 36"/>
          <p:cNvSpPr/>
          <p:nvPr/>
        </p:nvSpPr>
        <p:spPr>
          <a:xfrm>
            <a:off x="108000" y="5670720"/>
            <a:ext cx="892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екс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носит показатели уровня бедности к соответствующим показателям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j = 1 - «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относительной бедности»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= 2 - «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абсолютной бедности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Box 46"/>
          <p:cNvSpPr/>
          <p:nvPr/>
        </p:nvSpPr>
        <p:spPr>
          <a:xfrm>
            <a:off x="246240" y="6119640"/>
            <a:ext cx="7980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=1, 2, …, 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личество регионов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езультаты моделирования показателей относительной бедности по регионам Украины, 2012г.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Диаграмма 4" descr=""/>
          <p:cNvPicPr/>
          <p:nvPr/>
        </p:nvPicPr>
        <p:blipFill>
          <a:blip r:embed="rId1"/>
          <a:stretch/>
        </p:blipFill>
        <p:spPr>
          <a:xfrm>
            <a:off x="109440" y="1335240"/>
            <a:ext cx="892512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тносительные ошибки региональных оценок относительной бедности, 2012 г.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Диаграмма 4" descr=""/>
          <p:cNvPicPr/>
          <p:nvPr/>
        </p:nvPicPr>
        <p:blipFill>
          <a:blip r:embed="rId1"/>
          <a:stretch/>
        </p:blipFill>
        <p:spPr>
          <a:xfrm>
            <a:off x="0" y="901800"/>
            <a:ext cx="9144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5280" y="1218240"/>
            <a:ext cx="8640720" cy="51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достаточный охват наиболее обеспеченных слоев населения в обследованиях доходов и расходов домохозяйств - угроза смещения оценок в сторону более бедных. Эта проблем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уществует во всех странах, в которых проводятся такие обследо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нно актуальна в странах, где отсутствуют качественные регистры населения и доход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никает за счет отказов обеспеченных домохозяйств от участия в обследовании либо от предоставления информации об их реальном уровне жизн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азы не всегда связаны с уровнем доходов респондента. Причинами могут быть занятость на работе и домашними делами, отсутствие свободного времени у молодежи, религиозные соображения, запрет родственников, нежелание принимать участие в любых опросах и т.д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осстат проводит системную работ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ышению уровня участия респондент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интервьюеры проходят специальный курс обучения, направленный на установление контакта с домохозяйствами и их мотивацию к участию в опрос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иодически проводятся встречи интервьюеров для обмена опытом, тренинги и деловые игры с участием супервайзер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существляется постоянный контроль эффективности и качества работы интервьюер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остроении системы статистических вес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яются процедуры корректировки весов для компенсации неответов и процедуры калибрации весов, позволяющие, согласовывать половозрастную структуру неинституционального населения, полученную по результатам обследования,  с имеющимися внешними данным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можный недоохват группы зажиточных домохозяйств констатируется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в отчетах о качестве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торые ежегодно готовятся для пользователей данным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Формула корректировки показателей уровня жизни домохозяйств с целью учета доходов и расходов наиболее обеспеченного населения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0" name="Rectangle 72"/>
          <p:cNvSpPr/>
          <p:nvPr/>
        </p:nvSpPr>
        <p:spPr>
          <a:xfrm>
            <a:off x="176364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Объект 75"/>
          <p:cNvGraphicFramePr/>
          <p:nvPr/>
        </p:nvGraphicFramePr>
        <p:xfrm>
          <a:off x="2700360" y="1916280"/>
          <a:ext cx="3348000" cy="97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Объект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916280"/>
                    <a:ext cx="334800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74"/>
          <p:cNvSpPr/>
          <p:nvPr/>
        </p:nvSpPr>
        <p:spPr>
          <a:xfrm>
            <a:off x="129528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4" name="Объект 77"/>
          <p:cNvGraphicFramePr/>
          <p:nvPr/>
        </p:nvGraphicFramePr>
        <p:xfrm>
          <a:off x="2700360" y="2890800"/>
          <a:ext cx="3348000" cy="96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Объект 7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2890800"/>
                    <a:ext cx="33480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Rectangle 108" descr=""/>
          <p:cNvPicPr/>
          <p:nvPr/>
        </p:nvPicPr>
        <p:blipFill>
          <a:blip r:embed="rId5"/>
          <a:stretch/>
        </p:blipFill>
        <p:spPr>
          <a:xfrm>
            <a:off x="549360" y="3681360"/>
            <a:ext cx="850896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08000" y="549360"/>
            <a:ext cx="90360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спределение эквивалентных общих доходов по децильным группам домохозяйств до и после корректирования, 2012г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4747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ff4747"/>
                </a:solidFill>
                <a:latin typeface="Arial"/>
                <a:ea typeface="Times New Roman"/>
              </a:rPr>
              <a:t>внешняя информация - данные национальных счетов о структуре конечных потребительских расходов домохозяйств </a:t>
            </a:r>
            <a:r>
              <a:rPr b="1" lang="en-US" sz="1600" spc="-1" strike="noStrike">
                <a:solidFill>
                  <a:srgbClr val="ff4747"/>
                </a:solidFill>
                <a:latin typeface="Arial"/>
                <a:ea typeface="Times New Roman"/>
              </a:rPr>
              <a:t>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Диаграмма 3" descr=""/>
          <p:cNvPicPr/>
          <p:nvPr/>
        </p:nvPicPr>
        <p:blipFill>
          <a:blip r:embed="rId1"/>
          <a:stretch/>
        </p:blipFill>
        <p:spPr>
          <a:xfrm>
            <a:off x="109440" y="1566720"/>
            <a:ext cx="89251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324000" y="1066680"/>
            <a:ext cx="835164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дность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невозможность в связи с недостатком средств поддерживать образ жизни, присущий конкретному обществу в конкретный период времен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бедности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ельный вес населения, у которого уровень потребления (доходов) на одного человека ниже определенной черты бед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та бедност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уровень доходов (расходов) человека, ниже которого невозможно удовлетворить основные потреб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житочный минимум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имостная величина достаточного для обеспечения нормального функционирования организма человека, сохранения его здоровья набора продуктов питания, а также минимального набора непродовольственных товаров и минимального набора услуг, необходимых для удовлетворения основных социальных и культурных потребностей личност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житочный минимум определяется для различных социально-демографических групп населения и служит основой для определения государственных социальных гарант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116000" y="2205000"/>
          <a:ext cx="7343640" cy="4176720"/>
        </p:xfrm>
        <a:graphic>
          <a:graphicData uri="http://schemas.openxmlformats.org/drawingml/2006/table">
            <a:tbl>
              <a:tblPr/>
              <a:tblGrid>
                <a:gridCol w="3139920"/>
                <a:gridCol w="1059120"/>
                <a:gridCol w="1057320"/>
                <a:gridCol w="973080"/>
                <a:gridCol w="1114200"/>
              </a:tblGrid>
              <a:tr h="137340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душевые эквивалентные потребительские расходы в меся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душевые эквивалентные общ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в меся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коректи-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коректи-ро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коректи-ро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коррек-тиро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Джи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цильный коэффициент концент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цильный коэффициент фон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интильный коэффициент фон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2"/>
          <p:cNvSpPr/>
          <p:nvPr/>
        </p:nvSpPr>
        <p:spPr>
          <a:xfrm>
            <a:off x="1476360" y="13831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4747"/>
                </a:solidFill>
                <a:latin typeface="Arial"/>
                <a:ea typeface="Times New Roman"/>
              </a:rPr>
              <a:t>Показатели неравенства, 2012 го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5280" y="1520640"/>
            <a:ext cx="8640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спектив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ах действующей системы статистических наблюдений невозможно выявить все аспекты такого нового явления, как внезапная бедность домохозяйств, наступившая в результате боевых действий. Необходимо исследовать дополнительные, по отношению к традиционным, источники информации с целью углубленного изучения ситуац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дрение в практику работы статистической системы Украины концепции дохода домохозяйств, гармонизированной с требованиями Евростата. Это направление предусмотрено Планом мероприятий по имплементации Соглашения про ассоциацию между Украиной и Европейским Союзом на 2014 - 2017 годы (п.213), утвержденным правительством в сентябре 2014 год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удут дополнены программы опроса домохозяйств по депривациям за счет некоторых показателей социального участия и материальной депривации детей. Будет обеспечен расчет показателя уровня бедности, в т.ч. связанной с материальными депривациями, с использованием европейской методолог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24000" y="482040"/>
            <a:ext cx="8351640" cy="64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ороги и критерии для измерения бед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фициальный мониторинг бедн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7575d1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75d1"/>
                </a:solidFill>
                <a:latin typeface="Arial"/>
                <a:ea typeface="Times New Roman"/>
              </a:rPr>
              <a:t>75% медианного значения среднедушевых расходов в месяц – черта относительной 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0% медианного значения – черта крайней бедности </a:t>
            </a:r>
            <a:r>
              <a:rPr b="0" lang="ru-RU" sz="1800" spc="-1" strike="noStrike">
                <a:solidFill>
                  <a:srgbClr val="7575d1"/>
                </a:solidFill>
                <a:latin typeface="Arial"/>
                <a:ea typeface="Times New Roman"/>
              </a:rPr>
              <a:t>(удельный вес бедных определяется на основании критерия расходов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анавливаемый законодательно размер прожиточного минимума – черта абсолютной бедности (критерий - доходы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5 долларов США на человека в сутки по паритету покупательной способности – черта абсолютной бедности для международных сравнений (критерий – расходы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ониторинг Цели 1 «Преодоление бедности» Целей развития тысячелет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7575d1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75d1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7575d1"/>
                </a:solidFill>
                <a:latin typeface="Arial"/>
                <a:ea typeface="Times New Roman"/>
              </a:rPr>
              <a:t>75% медианного значения среднедушевых расходов в месяц (критерий– расходы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актический прожиточный минимум (определяется на основе законодательно установленного прожиточного минимума и фактических цен), (критерий – расходы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5 долларов США на человека в сутки по паритету покупательной способности (критерий – расходы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всех показателей монетарной бедности предусматривает использование шкалы эквивалентности, согласно которой первое лицо домохозяйства имеет коэффициент 1, а все другие - 0,7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95959"/>
                </a:solidFill>
                <a:latin typeface="Arial"/>
              </a:rPr>
              <a:t>Динамика уровня бедности по основным критериям определения, 2000-2013 годы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Диаграмма 4" descr=""/>
          <p:cNvPicPr/>
          <p:nvPr/>
        </p:nvPicPr>
        <p:blipFill>
          <a:blip r:embed="rId1"/>
          <a:stretch/>
        </p:blipFill>
        <p:spPr>
          <a:xfrm>
            <a:off x="103320" y="1395360"/>
            <a:ext cx="87166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Динамика темпов роста реальных располагаемых доходов населения, ВВП и удельного веса в ВВП расходов на социальную защиту и социальное обеспечение в 2002-2013г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г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Диаграмма 4" descr=""/>
          <p:cNvPicPr/>
          <p:nvPr/>
        </p:nvPicPr>
        <p:blipFill>
          <a:blip r:embed="rId1"/>
          <a:stretch/>
        </p:blipFill>
        <p:spPr>
          <a:xfrm>
            <a:off x="317520" y="1689120"/>
            <a:ext cx="872316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Сближение размеров минимальных социальных гарантий с размерами соответствующих прожиточных минимумов, 2000-2013г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г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59" name="Диаграмма 3" descr=""/>
          <p:cNvPicPr/>
          <p:nvPr/>
        </p:nvPicPr>
        <p:blipFill>
          <a:blip r:embed="rId1"/>
          <a:stretch/>
        </p:blipFill>
        <p:spPr>
          <a:xfrm>
            <a:off x="30240" y="1268280"/>
            <a:ext cx="903456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Государственные расходы на социальную защиту и социальное обеспечение населения, в % к ВВП, 2000-2013г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г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61" name="Диаграмма 3" descr=""/>
          <p:cNvPicPr/>
          <p:nvPr/>
        </p:nvPicPr>
        <p:blipFill>
          <a:blip r:embed="rId1"/>
          <a:stretch/>
        </p:blipFill>
        <p:spPr>
          <a:xfrm>
            <a:off x="103320" y="1414440"/>
            <a:ext cx="89312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Темпы роста потребительских цен, доходов населения, прожиточного минимума и уровней бедности, 2001-2013г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г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63" name="Диаграмма 3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Показатели бедности по разн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ым критериям,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000-2013гг.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Диаграмма 5" descr=""/>
          <p:cNvPicPr/>
          <p:nvPr/>
        </p:nvPicPr>
        <p:blipFill>
          <a:blip r:embed="rId1"/>
          <a:stretch/>
        </p:blipFill>
        <p:spPr>
          <a:xfrm>
            <a:off x="171360" y="1133640"/>
            <a:ext cx="897912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4:38:54Z</dcterms:created>
  <dc:creator>user</dc:creator>
  <dc:description/>
  <dc:language>en-US</dc:language>
  <cp:lastModifiedBy>Vania Etropolska</cp:lastModifiedBy>
  <dcterms:modified xsi:type="dcterms:W3CDTF">2015-04-28T11:50:32Z</dcterms:modified>
  <cp:revision>299</cp:revision>
  <dc:subject/>
  <dc:title>ОПЫТ ВНЕДРЕНИЯ НАЦИОНАЛЬНЫХ ПРИНЦИПОВ ДЕЯТЕЛЬНОСТИ В ОРГАНАХ ГОСУДАРСТВЕННОЙ СТАТИСТИКИ УКРАИНЫ</dc:title>
</cp:coreProperties>
</file>