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dt" idx="3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ftr" idx="3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 type="sldNum" idx="3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6CA8-7539-40BE-9772-44D2305795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6B5E-5E2B-4E81-8FC6-2E12C7DC39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E31-C048-489D-A461-13659D9B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B47-F951-4F0C-8710-14914CF4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583ED3-B81E-4EAB-86B6-4E7A55F3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D6DF5-3075-4499-8BA9-D7BC03BB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BB0EB-2F0B-4E00-8FD9-CA3986DC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807AF-C7BE-4AC6-AA72-8BDC79FF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9A8C0-F970-4F70-9F4A-F6FF2A7C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EC936D-EC6F-41F8-9EE4-6E397ACF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F49A5-22F8-4320-B46B-71142D14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6DE94-7DDD-448D-995A-222FF6D3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061DD-5CED-4860-9071-BFD764BA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4778D-1009-440A-AADA-FE52D95F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FB7-3A95-4D58-9771-E3BE136C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43F45-A258-4C21-BDB0-92C3E3D3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88A2B-4D40-4366-A350-A57DA873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2F512-F7B7-4A75-A7BB-BED23969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FCF9A-8330-4CC3-941A-B7BE9EC2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5FE8C-1519-43F3-8B72-36B7A96F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46071-7CBA-4F58-A82C-819BC256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DFDAE-9BC9-476E-9A5A-E841E470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61664-AD11-4964-8175-3CC7C26A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DA10D-35A5-4233-BACC-50BB0F06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BDA899-C82B-40CF-BAE3-B7FEBD73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F1A-B3CA-4205-89E1-CA16C95E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283BA-12F0-4F2C-98E0-95B335AE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24740-07F7-45E2-9AF7-EFCF077D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82A6A-D6A9-4086-B180-6EF56017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27E78-12AF-412E-9327-DA0A2FCB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1D14B-117C-4C42-9D1B-07EE812B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B2E08-D891-43B6-AF49-F3E5FFCB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6C339-FA7F-4628-A3DE-5713D9F5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653FC-79CE-4AA2-99F6-48F386E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307F2-AA35-4D13-94EB-952BD828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2AD4C-5C3C-4B91-A4D8-9F5EFF5A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A6FE-9401-4F83-86F8-D2BE8125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2F974-DEAF-41B8-8D2B-75E7D0C7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404B0-0A2C-4A62-ADF7-169815CD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C75DF-D641-4CD8-8620-0380348A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E4233-B83E-4694-B4D9-1A03509F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08284-A0E9-46CD-AE60-A5C79D31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B9052-E4C7-40CA-AC3D-A9C0FAC6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4F876-46DC-4B98-B308-D9AF028A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6AF6C-1988-4AB6-BF32-8EE43216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E5E7D0-3522-4811-ADD8-85679987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41660-3B45-46B5-B8D9-578BF984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D30E-F3C7-4B56-A218-03DAEA24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FECA5-87C7-491E-852D-C43FAF95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A5697-BF15-422C-BC32-69B2AE30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7A0A7-9D8C-4C6C-97C0-B6E46D09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0776D-55B1-4C41-A318-FC952CEF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8301D-071C-42B3-94D6-D3FA6A9F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EC2C-A9A0-4782-B964-380730D0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C5CE-3882-44DA-BB45-A3BE8727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B69E-D3D6-48E0-B595-68180086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E8D8-DDE3-4D7A-ACC7-A378DAE0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9711-ED77-4276-89CD-3742C86A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5FE-E1BC-460F-8F68-E34ED36A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057C-6497-4399-8C62-AE8A811D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6C5C-CF0B-49B2-93E7-622B7565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7F26-B567-4FC5-9674-D5228FFD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2A01-B30E-43F2-A43D-2C856248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964A-B2C5-4410-AF2C-D2CEE311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D053-A66E-4F0B-ADE1-94B37C72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921A-CFBA-4D4A-9D74-894635DE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E6FDA-BE6E-4CDC-9720-5F53D5C1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303F-D8FD-482D-98B2-1D2A314D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9FD2-480D-44D7-81E3-9513ED09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FB2-5FB3-4681-ACD2-A6334ECC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18FC-FFB4-4ABC-8164-CF616CC7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64D0C-C179-4C45-B228-D396AD5F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6A8C-05C9-4037-9386-DC5D411B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23189-5413-45EB-9346-E71DF164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31FAA-6348-4833-BDE3-5BF565BE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1BEB-C91D-4EB7-9BA4-609A00A0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F2030-2596-4B4C-A267-11AA3021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D305A-4726-4D8B-9F6D-6483A684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DDFCB-567B-4F50-BD9E-DB0AC042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D3642-152C-4BBF-A16F-F1F6CF40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B22-2E54-43AF-B419-7A0AE464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2B3CD-B215-45F3-9B99-63F301FB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00B21-F80E-43A4-B446-43AB7160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8324C-6110-45BD-A7B6-85DA1964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82DFE-3FA7-40AA-9098-B2C2639A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8C4C4-4A8D-4ABE-9862-4FA71BB0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15DBD-EA3F-4BA5-AF06-5D045916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A645A-4999-4129-AA7B-E3B81009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D8A9D-96D2-4B19-9A46-78BD34E0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614F6-D9D1-4EA0-A800-750FF836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C4A87-A523-4057-AF41-6CA3E1A7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D56-2F4F-4A42-800F-46992AC9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89F7E-B0F5-4BE5-A5F2-A6DB3512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9B57D-EE89-41D7-98FB-D03E00E9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995CE-564C-40F6-81FC-7EE39FBA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BAAC-4B1D-49C9-9F6D-6237699F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F2951-3281-43F6-B67A-59F836D8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DF7C2-A3D1-474A-A42E-21015800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B3137-4B69-4BEE-BB2C-1F41EAF0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8C829-9C03-41EB-9B10-83283BA2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E4C17-601F-470D-84BB-AB907C85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BC1A4-9141-4F11-BCF3-9B8AC966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268-4F2F-48A7-8B99-F6D35304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566FA-9575-4F4C-BC82-8A36628D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F3A5A-A715-47D6-85D9-DB57CC30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0FFCB-C68A-4BFC-8F41-D8FEBFDF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5DEB2-7891-4C96-9EE5-4FE8430D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EFFA3-6FCA-40E4-A9AE-D5B5C4C6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D1603-E295-475C-9C88-EF1DAFA9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194D0-4BA4-4947-80E3-D029F27C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E3E9D-000B-4C9B-9027-2C1E7305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22380-F107-4157-9A9E-03A47061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39B54-462C-4B04-9A5C-76301CC0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0FE-2442-42C7-A385-6DAE8155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038AC-7707-43BF-8A52-7D9B27EA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3415F-69C5-4DF0-9E5E-44ECFEA0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C62E5-26DE-4533-9C8F-089EEA99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9FC70-54A1-4B00-B188-638EA085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3FFF4-15FE-4CA6-A7EE-AD66F5BA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34557-55E0-495B-94D3-4DF63F69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5A2A6-608C-4513-8AEC-5E8F0EF1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66011-0EF8-4B60-8135-52214630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51784-2A30-4C6D-9EF6-C9881461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4DAAE-95F5-4C79-B48F-0416C6F3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8A8-2F4B-40A3-AD41-AB4E2AAB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57BF1-84CF-497B-A56B-CEC236BC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E6CD5-9F1D-40F7-8A8F-BF7F5525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06D39-9954-47B5-A641-82A98D26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76E31-3378-4935-AAE0-21844994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FFFD0-FABB-41D9-AE5B-9379ED27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4CC06-25D4-4B92-B68C-B07441EF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A6A59-9228-4777-A62A-423854A9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92ACB-1546-427B-A28E-537D70DB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2AF2C-B498-4BB1-9BFD-B58858E2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756DE-57DD-433C-8A34-948B2622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2BE-6D87-4856-BA25-0568E8FE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DFD20-1E32-4B91-A00A-ED04614A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BF455-38CA-41B2-A9B9-79E7F278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558CE-00E5-4130-BA1A-1DB8DB7B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63B10-16F1-4CFD-BF3E-0BA9EBD3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C7041-8A85-4F65-B5EA-93983447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2642D-6E3B-4404-B463-E2B0D97F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C913E-72AD-4B40-BE59-9C23E420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C6F00-439A-4969-A691-CB510B46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B3E68-7FA5-4117-A877-78A2AAA9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3860B-D732-472F-A76F-37992A94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0C32-C2D4-48B3-B665-800F56B2A7B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A592-F9EC-4291-9EA0-D504908C58D4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A414-987F-4CD9-943E-4754356C590A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89DB-6106-4F5C-8250-C7DC367FFAD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549F-B03E-4259-AD22-B27689D0E2C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0C01-1735-4E66-8110-C31F537F281F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64C4-BBD4-4ED3-8790-28E4FD17A444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651C-2168-401B-AD10-3A0DA5340DD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FB52-5CDD-49F2-8691-862437CFBAE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B9FC-A546-472F-BAFE-AEA7CEE2A45E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B554-333F-40D9-8F2E-E66E56EF010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B039-11B3-4560-9CCA-6DBBD3774FB6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1F58-D016-489F-A989-F2919A99477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C929-2246-4E2E-9D72-263342A2E68D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A75E-9165-4098-990D-D1077AEE6AB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F0B4-23BC-4A1E-A818-F6E2F2E47934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57F1-ED45-4FC0-AF41-783440A0DEF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3EE1-093C-4B0A-A424-32D738BAE284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4F3F-230F-4AB4-B0CC-7399E3344E0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EDBA-F9C1-4A07-ACE6-BF28303EA238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2A2A-ABAC-4DDF-811A-A816877E236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382F-0CF2-480F-83B3-C177605184FD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767A-4B53-4E2A-93E9-379E402968BF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0E63-5E40-4797-81F2-661FC8B789C9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3"/>
          <p:cNvSpPr/>
          <p:nvPr/>
        </p:nvSpPr>
        <p:spPr>
          <a:xfrm>
            <a:off x="2133720" y="609480"/>
            <a:ext cx="6019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" descr="logotip"/>
          <p:cNvPicPr/>
          <p:nvPr/>
        </p:nvPicPr>
        <p:blipFill>
          <a:blip r:embed="rId1"/>
          <a:stretch/>
        </p:blipFill>
        <p:spPr>
          <a:xfrm>
            <a:off x="7858080" y="222120"/>
            <a:ext cx="1087560" cy="797040"/>
          </a:xfrm>
          <a:prstGeom prst="rect">
            <a:avLst/>
          </a:prstGeom>
          <a:ln w="0">
            <a:noFill/>
          </a:ln>
        </p:spPr>
      </p:pic>
      <p:sp>
        <p:nvSpPr>
          <p:cNvPr id="678" name="Прямоугольник 6"/>
          <p:cNvSpPr/>
          <p:nvPr/>
        </p:nvSpPr>
        <p:spPr>
          <a:xfrm>
            <a:off x="857160" y="107172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тет по статистике Министерства национальной экономики Республики Казах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" descr=""/>
          <p:cNvPicPr/>
          <p:nvPr/>
        </p:nvPicPr>
        <p:blipFill>
          <a:blip r:embed="rId2"/>
          <a:stretch/>
        </p:blipFill>
        <p:spPr>
          <a:xfrm>
            <a:off x="192240" y="219240"/>
            <a:ext cx="1528560" cy="865080"/>
          </a:xfrm>
          <a:prstGeom prst="rect">
            <a:avLst/>
          </a:prstGeom>
          <a:ln w="0">
            <a:noFill/>
          </a:ln>
        </p:spPr>
      </p:pic>
      <p:sp>
        <p:nvSpPr>
          <p:cNvPr id="680" name="Прямоугольник 11"/>
          <p:cNvSpPr/>
          <p:nvPr/>
        </p:nvSpPr>
        <p:spPr>
          <a:xfrm>
            <a:off x="214200" y="321480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ЗАХСТАНСКАЯ  ПРАКТИКА ФОРМИРОВАНИЯ  ПОКАЗАТЕЛЕЙ, ХАРАКТЕРИЗУЮЩИХ  УРОВЕНЬ  Б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оугольник 12"/>
          <p:cNvSpPr/>
          <p:nvPr/>
        </p:nvSpPr>
        <p:spPr>
          <a:xfrm>
            <a:off x="714240" y="635796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Швейцария, г. Женева, 4-6 мая 201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2920" y="1714320"/>
            <a:ext cx="87868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М и ДИП как критерии для оценки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вня бедности в Казахстане</a:t>
            </a:r>
            <a:endParaRPr b="0" lang="en-US" sz="24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84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685" name="Прямоугольник 6"/>
          <p:cNvSpPr/>
          <p:nvPr/>
        </p:nvSpPr>
        <p:spPr>
          <a:xfrm>
            <a:off x="1000080" y="214200"/>
            <a:ext cx="728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итет по статистике Министер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циональной экономики Республики Казах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Номер слайда 8"/>
          <p:cNvSpPr/>
          <p:nvPr/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Рисунок 6" descr="Крупы.jpg"/>
          <p:cNvPicPr/>
          <p:nvPr/>
        </p:nvPicPr>
        <p:blipFill>
          <a:blip r:embed="rId3"/>
          <a:stretch/>
        </p:blipFill>
        <p:spPr>
          <a:xfrm>
            <a:off x="214200" y="2500200"/>
            <a:ext cx="785880" cy="642960"/>
          </a:xfrm>
          <a:prstGeom prst="rect">
            <a:avLst/>
          </a:prstGeom>
          <a:ln w="0">
            <a:noFill/>
          </a:ln>
        </p:spPr>
      </p:pic>
      <p:pic>
        <p:nvPicPr>
          <p:cNvPr id="688" name="Рисунок 9" descr="Овощи 3.jpg"/>
          <p:cNvPicPr/>
          <p:nvPr/>
        </p:nvPicPr>
        <p:blipFill>
          <a:blip r:embed="rId4"/>
          <a:stretch/>
        </p:blipFill>
        <p:spPr>
          <a:xfrm>
            <a:off x="1143000" y="2500200"/>
            <a:ext cx="771480" cy="642960"/>
          </a:xfrm>
          <a:prstGeom prst="rect">
            <a:avLst/>
          </a:prstGeom>
          <a:ln w="0">
            <a:noFill/>
          </a:ln>
        </p:spPr>
      </p:pic>
      <p:pic>
        <p:nvPicPr>
          <p:cNvPr id="689" name="Рисунок 10" descr="Пироженое.jpg"/>
          <p:cNvPicPr/>
          <p:nvPr/>
        </p:nvPicPr>
        <p:blipFill>
          <a:blip r:embed="rId5"/>
          <a:stretch/>
        </p:blipFill>
        <p:spPr>
          <a:xfrm>
            <a:off x="214200" y="3143160"/>
            <a:ext cx="781200" cy="642960"/>
          </a:xfrm>
          <a:prstGeom prst="rect">
            <a:avLst/>
          </a:prstGeom>
          <a:ln w="0">
            <a:noFill/>
          </a:ln>
        </p:spPr>
      </p:pic>
      <p:pic>
        <p:nvPicPr>
          <p:cNvPr id="690" name="Рисунок 11" descr="Рыба жаренная.jpg"/>
          <p:cNvPicPr/>
          <p:nvPr/>
        </p:nvPicPr>
        <p:blipFill>
          <a:blip r:embed="rId6"/>
          <a:stretch/>
        </p:blipFill>
        <p:spPr>
          <a:xfrm>
            <a:off x="1143000" y="3214800"/>
            <a:ext cx="701640" cy="571320"/>
          </a:xfrm>
          <a:prstGeom prst="rect">
            <a:avLst/>
          </a:prstGeom>
          <a:ln w="0">
            <a:noFill/>
          </a:ln>
        </p:spPr>
      </p:pic>
      <p:sp>
        <p:nvSpPr>
          <p:cNvPr id="691" name="TextBox 17"/>
          <p:cNvSpPr/>
          <p:nvPr/>
        </p:nvSpPr>
        <p:spPr>
          <a:xfrm>
            <a:off x="291600" y="3929040"/>
            <a:ext cx="198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вольствен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 (43 продук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ая соединительная линия 20"/>
          <p:cNvSpPr/>
          <p:nvPr/>
        </p:nvSpPr>
        <p:spPr>
          <a:xfrm flipH="1">
            <a:off x="2356920" y="2928960"/>
            <a:ext cx="1800" cy="42876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ая соединительная линия 22"/>
          <p:cNvSpPr/>
          <p:nvPr/>
        </p:nvSpPr>
        <p:spPr>
          <a:xfrm flipH="1">
            <a:off x="2143080" y="3143160"/>
            <a:ext cx="4190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Рисунок 24" descr="Мебель.jpg"/>
          <p:cNvPicPr/>
          <p:nvPr/>
        </p:nvPicPr>
        <p:blipFill>
          <a:blip r:embed="rId7"/>
          <a:stretch/>
        </p:blipFill>
        <p:spPr>
          <a:xfrm>
            <a:off x="2786040" y="321480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695" name="Рисунок 25" descr="Обувь.jpg"/>
          <p:cNvPicPr/>
          <p:nvPr/>
        </p:nvPicPr>
        <p:blipFill>
          <a:blip r:embed="rId8"/>
          <a:stretch/>
        </p:blipFill>
        <p:spPr>
          <a:xfrm>
            <a:off x="3643200" y="2500200"/>
            <a:ext cx="857520" cy="642960"/>
          </a:xfrm>
          <a:prstGeom prst="rect">
            <a:avLst/>
          </a:prstGeom>
          <a:ln w="0">
            <a:noFill/>
          </a:ln>
        </p:spPr>
      </p:pic>
      <p:pic>
        <p:nvPicPr>
          <p:cNvPr id="696" name="Рисунок 26" descr="Одежда.jpg"/>
          <p:cNvPicPr/>
          <p:nvPr/>
        </p:nvPicPr>
        <p:blipFill>
          <a:blip r:embed="rId9"/>
          <a:stretch/>
        </p:blipFill>
        <p:spPr>
          <a:xfrm>
            <a:off x="2786040" y="250020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697" name="Рисунок 27" descr="Техника.jpg"/>
          <p:cNvPicPr/>
          <p:nvPr/>
        </p:nvPicPr>
        <p:blipFill>
          <a:blip r:embed="rId10"/>
          <a:stretch/>
        </p:blipFill>
        <p:spPr>
          <a:xfrm>
            <a:off x="3714840" y="3214800"/>
            <a:ext cx="833400" cy="676080"/>
          </a:xfrm>
          <a:prstGeom prst="rect">
            <a:avLst/>
          </a:prstGeom>
          <a:ln w="0">
            <a:noFill/>
          </a:ln>
        </p:spPr>
      </p:pic>
      <p:sp>
        <p:nvSpPr>
          <p:cNvPr id="698" name="TextBox 28"/>
          <p:cNvSpPr/>
          <p:nvPr/>
        </p:nvSpPr>
        <p:spPr>
          <a:xfrm>
            <a:off x="2364120" y="3929040"/>
            <a:ext cx="214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довольствен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(расчет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авая фигурная скобка 29"/>
          <p:cNvSpPr/>
          <p:nvPr/>
        </p:nvSpPr>
        <p:spPr>
          <a:xfrm rot="5400000">
            <a:off x="2214720" y="2428560"/>
            <a:ext cx="357120" cy="42148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4214880"/>
              <a:gd name="textAreaBottom" fmla="*/ 4205880 h 421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"/>
                  <a:pt x="10800" y="153"/>
                </a:cubicBezTo>
                <a:lnTo>
                  <a:pt x="10800" y="10647"/>
                </a:lnTo>
                <a:cubicBezTo>
                  <a:pt x="10800" y="10724"/>
                  <a:pt x="16200" y="10800"/>
                  <a:pt x="21600" y="10800"/>
                </a:cubicBezTo>
                <a:cubicBezTo>
                  <a:pt x="16200" y="10800"/>
                  <a:pt x="10800" y="10877"/>
                  <a:pt x="10800" y="10953"/>
                </a:cubicBezTo>
                <a:lnTo>
                  <a:pt x="10800" y="21447"/>
                </a:lnTo>
                <a:cubicBezTo>
                  <a:pt x="10800" y="2152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30"/>
          <p:cNvSpPr/>
          <p:nvPr/>
        </p:nvSpPr>
        <p:spPr>
          <a:xfrm>
            <a:off x="500040" y="4786200"/>
            <a:ext cx="392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ская корз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житочный миниму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1"/>
          <p:cNvSpPr/>
          <p:nvPr/>
        </p:nvSpPr>
        <p:spPr>
          <a:xfrm>
            <a:off x="4714920" y="4214880"/>
            <a:ext cx="407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ход, использованный на потребле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на душу насе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4 год = 39 256 тенге или 219,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28"/>
          <p:cNvSpPr/>
          <p:nvPr/>
        </p:nvSpPr>
        <p:spPr>
          <a:xfrm>
            <a:off x="4572000" y="2786040"/>
            <a:ext cx="44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личина прожиточного минимум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на душу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4 год = 19 068 тенге или 106,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04" name="Прямоугольник 6"/>
          <p:cNvSpPr/>
          <p:nvPr/>
        </p:nvSpPr>
        <p:spPr>
          <a:xfrm>
            <a:off x="1000080" y="214200"/>
            <a:ext cx="728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итет по статистике Министер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циональной экономики Республики Казах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06" name="Прямоугольник 6"/>
          <p:cNvSpPr/>
          <p:nvPr/>
        </p:nvSpPr>
        <p:spPr>
          <a:xfrm>
            <a:off x="285840" y="78588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инамика основных показателей статистики уровня жизни за 2004-2014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Номер слайда 11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Диаграмма 7" descr=""/>
          <p:cNvPicPr/>
          <p:nvPr/>
        </p:nvPicPr>
        <p:blipFill>
          <a:blip r:embed="rId3"/>
          <a:stretch/>
        </p:blipFill>
        <p:spPr>
          <a:xfrm>
            <a:off x="139680" y="1566720"/>
            <a:ext cx="87915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10" name="Прямоугольник 6"/>
          <p:cNvSpPr/>
          <p:nvPr/>
        </p:nvSpPr>
        <p:spPr>
          <a:xfrm>
            <a:off x="1000080" y="214200"/>
            <a:ext cx="728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итет по статистике Министер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циональной экономики Республики Казах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12" name="Прямоугольник 6"/>
          <p:cNvSpPr/>
          <p:nvPr/>
        </p:nvSpPr>
        <p:spPr>
          <a:xfrm>
            <a:off x="285840" y="78588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инамика основных показателей статистики уровня жизни за 2004-2014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Номер слайда 11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Диаграмма 7" descr=""/>
          <p:cNvPicPr/>
          <p:nvPr/>
        </p:nvPicPr>
        <p:blipFill>
          <a:blip r:embed="rId3"/>
          <a:stretch/>
        </p:blipFill>
        <p:spPr>
          <a:xfrm>
            <a:off x="212760" y="1427040"/>
            <a:ext cx="879156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16" name="Прямоугольник 6"/>
          <p:cNvSpPr/>
          <p:nvPr/>
        </p:nvSpPr>
        <p:spPr>
          <a:xfrm>
            <a:off x="1000080" y="142920"/>
            <a:ext cx="728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итет по статистике Министер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циональной экономики Республики Казах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18" name="Номер слайда 10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6"/>
          <p:cNvSpPr/>
          <p:nvPr/>
        </p:nvSpPr>
        <p:spPr>
          <a:xfrm>
            <a:off x="285840" y="80496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сновные показатели мониторинга достижения ЦРТ1 в Казахстане (2003-2013 год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7929720" y="1071720"/>
            <a:ext cx="914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нт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Диаграмма 9" descr=""/>
          <p:cNvPicPr/>
          <p:nvPr/>
        </p:nvPicPr>
        <p:blipFill>
          <a:blip r:embed="rId3"/>
          <a:stretch/>
        </p:blipFill>
        <p:spPr>
          <a:xfrm>
            <a:off x="212760" y="1279440"/>
            <a:ext cx="871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23" name="Прямоугольник 6"/>
          <p:cNvSpPr/>
          <p:nvPr/>
        </p:nvSpPr>
        <p:spPr>
          <a:xfrm>
            <a:off x="1000080" y="142920"/>
            <a:ext cx="728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итет по статистике Министер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циональной экономики Республики Казах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25" name="Номер слайда 10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6"/>
          <p:cNvSpPr/>
          <p:nvPr/>
        </p:nvSpPr>
        <p:spPr>
          <a:xfrm>
            <a:off x="285840" y="80496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сновные показатели мониторинга достижения ЦРТ1 в Казахстане (2003-2013 год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"/>
          <p:cNvSpPr/>
          <p:nvPr/>
        </p:nvSpPr>
        <p:spPr>
          <a:xfrm>
            <a:off x="7929720" y="1285920"/>
            <a:ext cx="914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нт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Диаграмма 8" descr=""/>
          <p:cNvPicPr/>
          <p:nvPr/>
        </p:nvPicPr>
        <p:blipFill>
          <a:blip r:embed="rId3"/>
          <a:stretch/>
        </p:blipFill>
        <p:spPr>
          <a:xfrm>
            <a:off x="212760" y="1566720"/>
            <a:ext cx="87184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30" name="Прямоугольник 6"/>
          <p:cNvSpPr/>
          <p:nvPr/>
        </p:nvSpPr>
        <p:spPr>
          <a:xfrm>
            <a:off x="1285920" y="214200"/>
            <a:ext cx="671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итет по статистике Министер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циональной экономики Республики Казах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оугольник 6"/>
          <p:cNvSpPr/>
          <p:nvPr/>
        </p:nvSpPr>
        <p:spPr>
          <a:xfrm>
            <a:off x="214200" y="136368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оциальные группы в рамках обследования субъективной оценки благосостояния домохозяйств в 2014 год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Номер слайда 11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4" descr=""/>
          <p:cNvPicPr/>
          <p:nvPr/>
        </p:nvPicPr>
        <p:blipFill>
          <a:blip r:embed="rId3"/>
          <a:stretch/>
        </p:blipFill>
        <p:spPr>
          <a:xfrm>
            <a:off x="142920" y="1928880"/>
            <a:ext cx="88678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Подзаголовок 2"/>
          <p:cNvSpPr/>
          <p:nvPr/>
        </p:nvSpPr>
        <p:spPr>
          <a:xfrm>
            <a:off x="428760" y="1500120"/>
            <a:ext cx="81439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ww.stat.gov.k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37" name="Прямоугольник 6"/>
          <p:cNvSpPr/>
          <p:nvPr/>
        </p:nvSpPr>
        <p:spPr>
          <a:xfrm>
            <a:off x="1000080" y="214200"/>
            <a:ext cx="72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итет по статистике Министер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циональной экономики Республики Казах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39" name="Номер слайда 9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Подзаголовок 2"/>
          <p:cNvSpPr/>
          <p:nvPr/>
        </p:nvSpPr>
        <p:spPr>
          <a:xfrm>
            <a:off x="928800" y="2286000"/>
            <a:ext cx="77151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42" name="Прямоугольник 6"/>
          <p:cNvSpPr/>
          <p:nvPr/>
        </p:nvSpPr>
        <p:spPr>
          <a:xfrm>
            <a:off x="1000080" y="214200"/>
            <a:ext cx="728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итет по статистике Министер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циональной экономики Республики Казах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44" name="Номер слайда 9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03:47:01Z</dcterms:created>
  <dc:creator>Гульмира Каримова лотус</dc:creator>
  <dc:description/>
  <dc:language>en-US</dc:language>
  <cp:lastModifiedBy>Vania Etropolska</cp:lastModifiedBy>
  <dcterms:modified xsi:type="dcterms:W3CDTF">2015-04-28T13:02:54Z</dcterms:modified>
  <cp:revision>111</cp:revision>
  <dc:subject/>
  <dc:title>Слайд 1</dc:title>
</cp:coreProperties>
</file>