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dt" idx="3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ftr" idx="3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 type="sldNum" idx="3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8BB0-06CA-44B4-B186-C9BB903C8D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819D-1C6F-462D-B872-7AD4DABB3C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FE7-E3E8-4C59-9AB5-29517B53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ADD-FBF8-4679-95A3-A23D8626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A0089-1D43-4C5E-A256-1652B89A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50C26-02FE-43A2-91F3-0142B4DA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C0C26-17E7-42C1-B194-BDB9EB33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E7E63-4821-4C95-B98B-CF408C87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2EE30-385D-4C5D-A094-E032106F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D9ACE-52BF-40C2-95E4-FF3253E3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26E73-EBEC-44BE-842A-A976ED07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11098-586F-461A-9F73-BA0EEDB5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9FCB3-8F9E-482F-9541-8C857987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E6AEC-9BE8-430B-96FD-4583210C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867-AC6B-442F-9F91-637CC362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0BE58F-4131-4F5E-96BC-65CE6E86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55CAC-8036-4D99-86B7-54D34614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681CB-55BB-4588-ABF1-878806D3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37FFD-9A09-425C-B487-F13F0934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7013D-8B87-4E62-83E4-587CFBD0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4A644-F2AB-427C-AAA1-B3AED406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740DC3-E602-49F2-8A24-1DF84CBD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51190-7081-42F7-BDAA-677D8164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9B844-0845-4F46-A71F-7FFDA762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6BE78-9351-4C92-ACC4-04230794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935-2DA5-4892-838A-4C7C9CA0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D9DE4-F67D-4D65-93B6-B10F5DEB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0B9F6-3121-4C07-BD96-1333EA71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6D54F-595E-4723-A909-FA8DE3E9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750B8-3E5C-4D2D-AD31-FCC0C0AE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2B81B-E4FA-4A30-836B-B4885D1B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7A920-D659-45F9-BD15-7719C2F9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ADA17-A6BC-47D6-929B-862BF03D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8C457-11AB-4510-8E04-87EEB9AF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99154-0520-44D1-B96C-118DA485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57F04-3FD9-4A60-A495-F9FD91EF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0C9B-0856-4F74-9FCB-A591E628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21000-2B6C-41CA-B48E-40B896CA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4C201-0EF1-43C8-A984-E0564C43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CD7E5-4F73-48D6-BAEA-A31080E9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A78DE-A133-4B9B-8F44-C7F1C7FA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0706B-213F-4268-9599-1A1FFA74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40EB2-D74B-4344-AE4C-84B20936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25403-7750-4F27-AB2C-9E71EE8F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A4BBC9-6D03-430B-AC93-921A34D6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96B3B-CAEB-4A3C-B041-CD49A47B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28231-39B4-4759-831D-D41896D7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ED9E-1762-470B-BFEE-35E93039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86008-7995-471A-AEE5-F48C1876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2D819E-6E27-4036-ACC0-F89BBDF0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2471A-C1B0-4905-9A28-8D51B1DD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478B2A-B873-4E20-9990-D17517D3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023E5-E0E7-4E75-9878-951D04E9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A5FC-6DF6-4B64-AE9E-03949B97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3130-1146-42CA-8AAA-901ACC96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8387-72D7-45CE-A142-84F3B5B0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9365-03F4-4EB2-9D92-A2B7F327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45A4-02E9-4888-97C7-CEB60E26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62A-6E99-48E5-AE7C-08B1483F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FE87-60AF-455C-ABCB-C25C99BB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4036-5A19-4424-90A9-52A8B9E4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C1CB-AFF0-4F4A-96A7-B14BCF95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E3C9-1DDE-43C5-AC50-57B26785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D9CC-C2F1-4528-A195-B0BECB81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66D4-B769-4F0E-95BB-3B5DB8DB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7252E-0B21-4CE8-A928-36B17A1B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50F11-D3E4-4AB6-A2D8-0BF52C64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39E1A-707F-4B72-A71C-651A62FB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CA8B-44CC-4E0D-AC48-422572A5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764-6F65-4DD8-9106-D9A3A488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873F9-B249-4AB4-945C-0B634E54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6A389-5A1A-4CAC-BCCC-FBC4CB4D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AC0C7-31A5-4B44-A02E-CCBD9C94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9BBD5-91BB-4EE7-8B23-3366FDE8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2B01E-02D2-4563-BCF4-6CB72E9D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BB2E4-B095-456C-BF93-EAD7B6EC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FF4B3-0FB0-466F-B73C-9AEEE931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22265-959E-4DC6-AC77-4E47F33A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686E9-A775-4196-94A0-466555FE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D78C3-736E-444E-B315-C689F8F1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39E-4405-46DA-8105-88D9729A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F05EF-8BB2-4B0A-90BE-6FF20266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2A9A2-C070-488F-B57E-E19508D8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429E1-B683-437F-824F-4647AA31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26F93-5D79-4798-9A26-1409422D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26F49-0B2E-4BF1-A5CB-3339D047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4D686-7E20-43D7-9FBB-81322245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963CC-7051-41F3-A44A-74607C4B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5D23E-3C14-47E5-8DAE-33AB5357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18B9B-3DB3-4AC4-B5B8-988309CF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93638-66B8-453F-B171-73DC62C6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CAE-605E-495F-9CC1-C6D1E787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7CA20-6746-4167-86D7-ACCB70C5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7C70E-5972-493D-8EAC-CE21B04D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3D299-E0F7-4CC5-90AC-2C6C30DD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0B0AA-4D50-4003-B54F-1AE775C7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3EEF8-5872-4DFF-9D89-A2188265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E1B74-2901-440E-B2D0-064B5046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3CB91-1B44-44B6-9610-D273E27D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59B11-443F-47D5-B10D-CDA78937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2021D-0529-4FAE-9C88-1BBD3711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5814B-EE0D-4A69-BA51-5163E8D0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462A-1BE1-43A4-BEED-43B03E9F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A1775-9547-4BD6-96A5-D4B942E6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009E6-B874-4D19-9E81-C38AF6C6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27681-035C-4BE7-BA73-7F6C5F5F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0F3E6-EA3B-4AFD-97F6-6FC338E5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5684A-D8F4-4E8B-9714-0ADE0487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1CC22-90E2-422B-9B43-C6EDD4B7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27D8D-173E-48C8-98DC-2351F1FA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DB1E7-884F-45F3-8563-2DA7CB4B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74EF0-FE81-467D-97BC-A21873E6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52AFB-C6D1-4427-94C1-459659D5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90E-8F7A-4050-9A7F-CB01E777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A39BA-DD3E-4E92-9EE1-5A182452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18639-BF0A-4050-B96C-BB2D8998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C1449-F98C-4BE4-BACF-72255E04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53590-15A5-4791-92A9-8C5D5675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60090-EFB5-4022-AC3B-8B5AE714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2EDF4-331F-46CB-B5C9-F9C1536F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21660-C3E9-46D2-AF83-A3327198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C7472-C69B-40FD-8B00-FC568F06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624BD-41A7-4B4F-8780-97186AA3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A3F78-B7BD-4860-9091-19135170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6FD-8F5F-4C9C-AABC-A1C587A6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E9A3C-CC3A-4126-AD4C-B20CC870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66CD6-363C-4C27-A687-19E603A6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BEBCF-BE52-4FDF-AF54-F23C01BA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9F739-8914-46A8-96FA-9120C492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60B75-3597-4F2F-9836-E910829C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C053A-C1FB-4D02-9CEB-F1368FAF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CE470-D8F5-40B1-BAE4-23181FB3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34528-264B-4493-BE5F-6C2FB997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8647C-F523-437C-8917-4B2111F3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CDA59-E1AB-4D93-9929-37B5B6F0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EDE-26D7-4609-A834-C60D91F8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D7FD8-9B9C-4EA1-973A-D5426AC1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93A1C-A01C-4328-8BAC-73349685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999EA-1B69-4F2E-8C9E-8F64C187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EFEA8-7DC4-42E9-AF65-CA947C4A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9BC34-A81C-4479-9E4A-9B049689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5729E-944E-48DE-88AC-7F1D06AA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3C0C2-BAB3-4BD5-8D66-4287E450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7E667-B5A8-47E4-BBAC-BC255293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64AFF-EFD1-43E3-9C3A-335E4F70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68921-11C0-43A3-8282-5833B6E6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FF08-6275-435C-B9D1-2BC9FAFD09B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53F4-3126-4E4D-808E-DA05C0E47978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E75D-80AB-4759-9142-B2DFA7941978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B7DC-3CF9-44B9-8037-870687665B0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3C87-916B-422D-B4F8-A573DEAB5C3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280A-8B9C-47C8-A2A0-1EB44B9507FD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A7D3-87FA-4F2A-A1A0-3B42197FD248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84A3-5642-4AA0-9D89-915AF4AF1A2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2811-F9FC-4B39-9AB0-837D97B62B1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4234-8156-4864-854B-66C757B6E312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DC14-6131-4E11-90A1-8B63573D0D8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3D4B-A073-4B31-A8BC-08BCA59E30FB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4F31-20CF-42D0-8B8D-0C8005726C6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3363-F35D-4263-9E66-8943AFF7F994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7667-3E6C-4196-AA4D-F7E55F04974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8F7E-828E-4164-AF63-722BDC4ED0CC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E68B-5559-46CE-B5C3-3A2D4307464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D33D-2286-4BCA-B38C-8C4CA3308DF0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A4C7-53A3-4A5F-AA57-C0602EE789B9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EE78-490C-4D60-94FF-6B2DCB0BD318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BA31-CE46-4EBF-AA4C-4590E576367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D369-C83C-455E-82A3-E3823948E023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B470-4F6E-43C5-996C-F85D5636F3DE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DB32-5D54-4D56-8494-331B2F17E80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3"/>
          <p:cNvSpPr/>
          <p:nvPr/>
        </p:nvSpPr>
        <p:spPr>
          <a:xfrm>
            <a:off x="2133720" y="609480"/>
            <a:ext cx="6019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" descr="logotip"/>
          <p:cNvPicPr/>
          <p:nvPr/>
        </p:nvPicPr>
        <p:blipFill>
          <a:blip r:embed="rId1"/>
          <a:stretch/>
        </p:blipFill>
        <p:spPr>
          <a:xfrm>
            <a:off x="7858080" y="222120"/>
            <a:ext cx="1087560" cy="797040"/>
          </a:xfrm>
          <a:prstGeom prst="rect">
            <a:avLst/>
          </a:prstGeom>
          <a:ln w="0">
            <a:noFill/>
          </a:ln>
        </p:spPr>
      </p:pic>
      <p:sp>
        <p:nvSpPr>
          <p:cNvPr id="678" name="Прямоугольник 6"/>
          <p:cNvSpPr/>
          <p:nvPr/>
        </p:nvSpPr>
        <p:spPr>
          <a:xfrm>
            <a:off x="857160" y="107172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тет по статистике Министерства национальной экономики Республики Казах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" descr=""/>
          <p:cNvPicPr/>
          <p:nvPr/>
        </p:nvPicPr>
        <p:blipFill>
          <a:blip r:embed="rId2"/>
          <a:stretch/>
        </p:blipFill>
        <p:spPr>
          <a:xfrm>
            <a:off x="192240" y="219240"/>
            <a:ext cx="1528560" cy="865080"/>
          </a:xfrm>
          <a:prstGeom prst="rect">
            <a:avLst/>
          </a:prstGeom>
          <a:ln w="0">
            <a:noFill/>
          </a:ln>
        </p:spPr>
      </p:pic>
      <p:sp>
        <p:nvSpPr>
          <p:cNvPr id="680" name="Прямоугольник 11"/>
          <p:cNvSpPr/>
          <p:nvPr/>
        </p:nvSpPr>
        <p:spPr>
          <a:xfrm>
            <a:off x="214200" y="321480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ЗАХСТАНСКАЯ  ПРАКТИКА ФОРМИРОВАНИЯ  ПОКАЗАТЕЛЕЙ, ХАРАКТЕРИЗУЮЩИХ  УРОВЕНЬ  Б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оугольник 12"/>
          <p:cNvSpPr/>
          <p:nvPr/>
        </p:nvSpPr>
        <p:spPr>
          <a:xfrm>
            <a:off x="714240" y="635796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Швейцария, г. Женева, 4-6 мая 201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2920" y="1714320"/>
            <a:ext cx="87868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М и ДИП как критерии для оценки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вня бедности в Казахстане</a:t>
            </a:r>
            <a:endParaRPr b="0" lang="en-US" sz="24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84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685" name="Прямоугольник 6"/>
          <p:cNvSpPr/>
          <p:nvPr/>
        </p:nvSpPr>
        <p:spPr>
          <a:xfrm>
            <a:off x="1000080" y="214200"/>
            <a:ext cx="728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итет по статистике Министер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циональной экономики Республики Казах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Номер слайда 8"/>
          <p:cNvSpPr/>
          <p:nvPr/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Рисунок 6" descr="Крупы.jpg"/>
          <p:cNvPicPr/>
          <p:nvPr/>
        </p:nvPicPr>
        <p:blipFill>
          <a:blip r:embed="rId3"/>
          <a:stretch/>
        </p:blipFill>
        <p:spPr>
          <a:xfrm>
            <a:off x="214200" y="2500200"/>
            <a:ext cx="785880" cy="642960"/>
          </a:xfrm>
          <a:prstGeom prst="rect">
            <a:avLst/>
          </a:prstGeom>
          <a:ln w="0">
            <a:noFill/>
          </a:ln>
        </p:spPr>
      </p:pic>
      <p:pic>
        <p:nvPicPr>
          <p:cNvPr id="688" name="Рисунок 9" descr="Овощи 3.jpg"/>
          <p:cNvPicPr/>
          <p:nvPr/>
        </p:nvPicPr>
        <p:blipFill>
          <a:blip r:embed="rId4"/>
          <a:stretch/>
        </p:blipFill>
        <p:spPr>
          <a:xfrm>
            <a:off x="1143000" y="2500200"/>
            <a:ext cx="771480" cy="642960"/>
          </a:xfrm>
          <a:prstGeom prst="rect">
            <a:avLst/>
          </a:prstGeom>
          <a:ln w="0">
            <a:noFill/>
          </a:ln>
        </p:spPr>
      </p:pic>
      <p:pic>
        <p:nvPicPr>
          <p:cNvPr id="689" name="Рисунок 10" descr="Пироженое.jpg"/>
          <p:cNvPicPr/>
          <p:nvPr/>
        </p:nvPicPr>
        <p:blipFill>
          <a:blip r:embed="rId5"/>
          <a:stretch/>
        </p:blipFill>
        <p:spPr>
          <a:xfrm>
            <a:off x="214200" y="3143160"/>
            <a:ext cx="781200" cy="642960"/>
          </a:xfrm>
          <a:prstGeom prst="rect">
            <a:avLst/>
          </a:prstGeom>
          <a:ln w="0">
            <a:noFill/>
          </a:ln>
        </p:spPr>
      </p:pic>
      <p:pic>
        <p:nvPicPr>
          <p:cNvPr id="690" name="Рисунок 11" descr="Рыба жаренная.jpg"/>
          <p:cNvPicPr/>
          <p:nvPr/>
        </p:nvPicPr>
        <p:blipFill>
          <a:blip r:embed="rId6"/>
          <a:stretch/>
        </p:blipFill>
        <p:spPr>
          <a:xfrm>
            <a:off x="1143000" y="3214800"/>
            <a:ext cx="701640" cy="571320"/>
          </a:xfrm>
          <a:prstGeom prst="rect">
            <a:avLst/>
          </a:prstGeom>
          <a:ln w="0">
            <a:noFill/>
          </a:ln>
        </p:spPr>
      </p:pic>
      <p:sp>
        <p:nvSpPr>
          <p:cNvPr id="691" name="TextBox 17"/>
          <p:cNvSpPr/>
          <p:nvPr/>
        </p:nvSpPr>
        <p:spPr>
          <a:xfrm>
            <a:off x="291600" y="3929040"/>
            <a:ext cx="198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вольствен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 (43 продук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ая соединительная линия 20"/>
          <p:cNvSpPr/>
          <p:nvPr/>
        </p:nvSpPr>
        <p:spPr>
          <a:xfrm flipH="1">
            <a:off x="2356920" y="2928960"/>
            <a:ext cx="1800" cy="42876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ая соединительная линия 22"/>
          <p:cNvSpPr/>
          <p:nvPr/>
        </p:nvSpPr>
        <p:spPr>
          <a:xfrm flipH="1">
            <a:off x="2143080" y="3143160"/>
            <a:ext cx="4190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Рисунок 24" descr="Мебель.jpg"/>
          <p:cNvPicPr/>
          <p:nvPr/>
        </p:nvPicPr>
        <p:blipFill>
          <a:blip r:embed="rId7"/>
          <a:stretch/>
        </p:blipFill>
        <p:spPr>
          <a:xfrm>
            <a:off x="2786040" y="321480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695" name="Рисунок 25" descr="Обувь.jpg"/>
          <p:cNvPicPr/>
          <p:nvPr/>
        </p:nvPicPr>
        <p:blipFill>
          <a:blip r:embed="rId8"/>
          <a:stretch/>
        </p:blipFill>
        <p:spPr>
          <a:xfrm>
            <a:off x="3643200" y="2500200"/>
            <a:ext cx="857520" cy="642960"/>
          </a:xfrm>
          <a:prstGeom prst="rect">
            <a:avLst/>
          </a:prstGeom>
          <a:ln w="0">
            <a:noFill/>
          </a:ln>
        </p:spPr>
      </p:pic>
      <p:pic>
        <p:nvPicPr>
          <p:cNvPr id="696" name="Рисунок 26" descr="Одежда.jpg"/>
          <p:cNvPicPr/>
          <p:nvPr/>
        </p:nvPicPr>
        <p:blipFill>
          <a:blip r:embed="rId9"/>
          <a:stretch/>
        </p:blipFill>
        <p:spPr>
          <a:xfrm>
            <a:off x="2786040" y="250020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697" name="Рисунок 27" descr="Техника.jpg"/>
          <p:cNvPicPr/>
          <p:nvPr/>
        </p:nvPicPr>
        <p:blipFill>
          <a:blip r:embed="rId10"/>
          <a:stretch/>
        </p:blipFill>
        <p:spPr>
          <a:xfrm>
            <a:off x="3714840" y="3214800"/>
            <a:ext cx="833400" cy="676080"/>
          </a:xfrm>
          <a:prstGeom prst="rect">
            <a:avLst/>
          </a:prstGeom>
          <a:ln w="0">
            <a:noFill/>
          </a:ln>
        </p:spPr>
      </p:pic>
      <p:sp>
        <p:nvSpPr>
          <p:cNvPr id="698" name="TextBox 28"/>
          <p:cNvSpPr/>
          <p:nvPr/>
        </p:nvSpPr>
        <p:spPr>
          <a:xfrm>
            <a:off x="2364120" y="3929040"/>
            <a:ext cx="214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довольствен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(расчет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авая фигурная скобка 29"/>
          <p:cNvSpPr/>
          <p:nvPr/>
        </p:nvSpPr>
        <p:spPr>
          <a:xfrm rot="5400000">
            <a:off x="2214720" y="2428560"/>
            <a:ext cx="357120" cy="42148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4214880"/>
              <a:gd name="textAreaBottom" fmla="*/ 4205880 h 421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"/>
                  <a:pt x="10800" y="153"/>
                </a:cubicBezTo>
                <a:lnTo>
                  <a:pt x="10800" y="10647"/>
                </a:lnTo>
                <a:cubicBezTo>
                  <a:pt x="10800" y="10724"/>
                  <a:pt x="16200" y="10800"/>
                  <a:pt x="21600" y="10800"/>
                </a:cubicBezTo>
                <a:cubicBezTo>
                  <a:pt x="16200" y="10800"/>
                  <a:pt x="10800" y="10877"/>
                  <a:pt x="10800" y="10953"/>
                </a:cubicBezTo>
                <a:lnTo>
                  <a:pt x="10800" y="21447"/>
                </a:lnTo>
                <a:cubicBezTo>
                  <a:pt x="10800" y="2152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30"/>
          <p:cNvSpPr/>
          <p:nvPr/>
        </p:nvSpPr>
        <p:spPr>
          <a:xfrm>
            <a:off x="500040" y="4786200"/>
            <a:ext cx="392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ская корз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житочный миниму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1"/>
          <p:cNvSpPr/>
          <p:nvPr/>
        </p:nvSpPr>
        <p:spPr>
          <a:xfrm>
            <a:off x="4714920" y="4214880"/>
            <a:ext cx="407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ход, использованный на потребле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на душу насе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4 год = 39 256 тенге или 219,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28"/>
          <p:cNvSpPr/>
          <p:nvPr/>
        </p:nvSpPr>
        <p:spPr>
          <a:xfrm>
            <a:off x="4572000" y="2786040"/>
            <a:ext cx="44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личина прожиточного минимум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на душу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4 год = 19 068 тенге или 106,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04" name="Прямоугольник 6"/>
          <p:cNvSpPr/>
          <p:nvPr/>
        </p:nvSpPr>
        <p:spPr>
          <a:xfrm>
            <a:off x="1000080" y="214200"/>
            <a:ext cx="728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итет по статистике Министер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циональной экономики Республики Казах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06" name="Прямоугольник 6"/>
          <p:cNvSpPr/>
          <p:nvPr/>
        </p:nvSpPr>
        <p:spPr>
          <a:xfrm>
            <a:off x="285840" y="78588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инамика основных показателей статистики уровня жизни за 2004-2014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Номер слайда 11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Диаграмма 7" descr=""/>
          <p:cNvPicPr/>
          <p:nvPr/>
        </p:nvPicPr>
        <p:blipFill>
          <a:blip r:embed="rId3"/>
          <a:stretch/>
        </p:blipFill>
        <p:spPr>
          <a:xfrm>
            <a:off x="139680" y="1566720"/>
            <a:ext cx="87915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10" name="Прямоугольник 6"/>
          <p:cNvSpPr/>
          <p:nvPr/>
        </p:nvSpPr>
        <p:spPr>
          <a:xfrm>
            <a:off x="1000080" y="214200"/>
            <a:ext cx="728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итет по статистике Министер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циональной экономики Республики Казах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12" name="Прямоугольник 6"/>
          <p:cNvSpPr/>
          <p:nvPr/>
        </p:nvSpPr>
        <p:spPr>
          <a:xfrm>
            <a:off x="285840" y="78588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инамика основных показателей статистики уровня жизни за 2004-2014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Номер слайда 11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Диаграмма 7" descr=""/>
          <p:cNvPicPr/>
          <p:nvPr/>
        </p:nvPicPr>
        <p:blipFill>
          <a:blip r:embed="rId3"/>
          <a:stretch/>
        </p:blipFill>
        <p:spPr>
          <a:xfrm>
            <a:off x="212760" y="1427040"/>
            <a:ext cx="879156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16" name="Прямоугольник 6"/>
          <p:cNvSpPr/>
          <p:nvPr/>
        </p:nvSpPr>
        <p:spPr>
          <a:xfrm>
            <a:off x="1000080" y="142920"/>
            <a:ext cx="728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итет по статистике Министер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циональной экономики Республики Казах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18" name="Номер слайда 10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6"/>
          <p:cNvSpPr/>
          <p:nvPr/>
        </p:nvSpPr>
        <p:spPr>
          <a:xfrm>
            <a:off x="285840" y="80496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сновные показатели мониторинга достижения ЦРТ1 в Казахстане (2003-2013 год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7929720" y="1071720"/>
            <a:ext cx="914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нт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Диаграмма 9" descr=""/>
          <p:cNvPicPr/>
          <p:nvPr/>
        </p:nvPicPr>
        <p:blipFill>
          <a:blip r:embed="rId3"/>
          <a:stretch/>
        </p:blipFill>
        <p:spPr>
          <a:xfrm>
            <a:off x="212760" y="1279440"/>
            <a:ext cx="871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23" name="Прямоугольник 6"/>
          <p:cNvSpPr/>
          <p:nvPr/>
        </p:nvSpPr>
        <p:spPr>
          <a:xfrm>
            <a:off x="1000080" y="142920"/>
            <a:ext cx="728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итет по статистике Министер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циональной экономики Республики Казах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25" name="Номер слайда 10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6"/>
          <p:cNvSpPr/>
          <p:nvPr/>
        </p:nvSpPr>
        <p:spPr>
          <a:xfrm>
            <a:off x="285840" y="80496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сновные показатели мониторинга достижения ЦРТ1 в Казахстане (2003-2013 год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"/>
          <p:cNvSpPr/>
          <p:nvPr/>
        </p:nvSpPr>
        <p:spPr>
          <a:xfrm>
            <a:off x="7929720" y="1285920"/>
            <a:ext cx="914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нт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Диаграмма 8" descr=""/>
          <p:cNvPicPr/>
          <p:nvPr/>
        </p:nvPicPr>
        <p:blipFill>
          <a:blip r:embed="rId3"/>
          <a:stretch/>
        </p:blipFill>
        <p:spPr>
          <a:xfrm>
            <a:off x="212760" y="1566720"/>
            <a:ext cx="87184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30" name="Прямоугольник 6"/>
          <p:cNvSpPr/>
          <p:nvPr/>
        </p:nvSpPr>
        <p:spPr>
          <a:xfrm>
            <a:off x="1285920" y="214200"/>
            <a:ext cx="671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итет по статистике Министер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циональной экономики Республики Казах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оугольник 6"/>
          <p:cNvSpPr/>
          <p:nvPr/>
        </p:nvSpPr>
        <p:spPr>
          <a:xfrm>
            <a:off x="214200" y="136368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оциальные группы в рамках обследования субъективной оценки благосостояния домохозяйств в 2014 год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Номер слайда 11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4" descr=""/>
          <p:cNvPicPr/>
          <p:nvPr/>
        </p:nvPicPr>
        <p:blipFill>
          <a:blip r:embed="rId3"/>
          <a:stretch/>
        </p:blipFill>
        <p:spPr>
          <a:xfrm>
            <a:off x="142920" y="1928880"/>
            <a:ext cx="88678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Подзаголовок 2"/>
          <p:cNvSpPr/>
          <p:nvPr/>
        </p:nvSpPr>
        <p:spPr>
          <a:xfrm>
            <a:off x="428760" y="1500120"/>
            <a:ext cx="81439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ww.stat.gov.k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37" name="Прямоугольник 6"/>
          <p:cNvSpPr/>
          <p:nvPr/>
        </p:nvSpPr>
        <p:spPr>
          <a:xfrm>
            <a:off x="1000080" y="214200"/>
            <a:ext cx="72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итет по статистике Министер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циональной экономики Республики Казах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39" name="Номер слайда 9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Подзаголовок 2"/>
          <p:cNvSpPr/>
          <p:nvPr/>
        </p:nvSpPr>
        <p:spPr>
          <a:xfrm>
            <a:off x="928800" y="2286000"/>
            <a:ext cx="77151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1422360" cy="814320"/>
          </a:xfrm>
          <a:prstGeom prst="rect">
            <a:avLst/>
          </a:prstGeom>
          <a:ln w="0">
            <a:noFill/>
          </a:ln>
        </p:spPr>
      </p:pic>
      <p:sp>
        <p:nvSpPr>
          <p:cNvPr id="742" name="Прямоугольник 6"/>
          <p:cNvSpPr/>
          <p:nvPr/>
        </p:nvSpPr>
        <p:spPr>
          <a:xfrm>
            <a:off x="1000080" y="214200"/>
            <a:ext cx="728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итет по статистике Министер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циональной экономики Республики Казах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10" descr="logotip"/>
          <p:cNvPicPr/>
          <p:nvPr/>
        </p:nvPicPr>
        <p:blipFill>
          <a:blip r:embed="rId2"/>
          <a:stretch/>
        </p:blipFill>
        <p:spPr>
          <a:xfrm>
            <a:off x="8078760" y="222120"/>
            <a:ext cx="866880" cy="635040"/>
          </a:xfrm>
          <a:prstGeom prst="rect">
            <a:avLst/>
          </a:prstGeom>
          <a:ln w="0">
            <a:noFill/>
          </a:ln>
        </p:spPr>
      </p:pic>
      <p:sp>
        <p:nvSpPr>
          <p:cNvPr id="744" name="Номер слайда 9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a44d"/>
                </a:solidFill>
                <a:latin typeface="Georgia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03:47:01Z</dcterms:created>
  <dc:creator>Гульмира Каримова лотус</dc:creator>
  <dc:description/>
  <dc:language>en-US</dc:language>
  <cp:lastModifiedBy>Vania Etropolska</cp:lastModifiedBy>
  <dcterms:modified xsi:type="dcterms:W3CDTF">2015-04-28T13:02:54Z</dcterms:modified>
  <cp:revision>111</cp:revision>
  <dc:subject/>
  <dc:title>Слайд 1</dc:title>
</cp:coreProperties>
</file>