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3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ftr" idx="3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 type="sldNum" idx="3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7D27-5953-4C4F-BC06-EFFF352ADD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4230-12B1-417A-8899-882378B15C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1E4-B112-450B-9485-A0C92CB7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822-C3A4-4243-8F24-6975058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EC628-CCA0-479B-B600-610AEA7B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37D09-422A-4CFA-B2C1-18DFDEDA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3CD2C-52D4-43DF-917C-C40B5649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64DB8-4AD6-45E0-8624-62D786E8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A23F4-6A8E-4AED-A73B-781014E4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E83BA-28D9-4843-95B6-C7A62190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0CFF6-3689-4883-AA98-B1320CD3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130C2-7848-4516-A29E-43341610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74E87-BD76-42ED-8099-D957BAE2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3FF2D-9DA3-42EE-BA93-C0725EF7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370-6035-44A0-84CE-B7010851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E8D9D-FFF7-4396-85D0-E1C774D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121E6-FE61-4092-AC78-391F07AF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E610E-B009-4357-A7D7-7FBA1709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AB7AB-C739-41DB-990B-664622A8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54528-17EA-446C-9F55-92D08E25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3E01E-9609-456C-8D05-E888C18D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8C184-83FB-4449-A033-3F80C301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41601-D39F-4A60-8A2F-737E189B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7430B-B6F0-4F8C-B7C5-5073B854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4BCAB-E960-4EE2-BA82-26BA88B8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65A-0382-4D13-80D1-2CE382C9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81E80-3B89-4702-87A1-9DD90A54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80476-CC3F-44D5-83F0-87CC29A9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98A5B-0B47-43A1-8A82-976E450A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0B711-6EB7-4F2A-A5D4-0D7DFE7E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D236A-9323-4B3D-9B4E-EBCF88AE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C2126-76CA-4031-B66A-3092FA87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88A2F-1DB8-4402-96E2-2F57F404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B0DD4-347A-4EF4-A71A-E4A6664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85936-6DB1-4437-B588-A5E2C7B4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E7B9C-5F6B-4A2D-8B2C-445ACD5D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1BDE-3ECC-48FA-B5A8-024317A8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A998B-2EAC-4F5A-852C-5E8B1A3C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2E188-5493-4875-BA61-2A27D83C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D1435-A0C6-4C43-B7B2-095FF75D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AEA70-1FBA-46EF-9917-94B3C7F6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CCBA6-A3F8-4C9F-88AC-E8157202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57F13-9B1B-44AD-9C77-D06FD0D7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1A867-F277-4F0E-9D10-94396902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4EBA1-1085-4D28-9AB4-F1B74C72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82A57-4378-498C-AE1D-63D0F271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0F23F-50DB-4102-AE46-2514D22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C390-CDCD-451E-B73A-F2451091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1E2E7-DEAF-4E17-8666-D7A5F32F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C62D7-2382-477C-B71C-66A80422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75505-2863-4023-BE69-104E7578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2BCE1-F630-488F-A524-A649DF58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32841-19C4-4EA3-919E-A67FCB3B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801D-3393-4F50-8EDF-697B4D0F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14DE-3EC5-402D-8824-181874EF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3A15-9585-49F2-B374-4EED0C29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8E17-0685-483D-829A-5A9057C7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BD4C-AFEA-40F4-B8D7-598F846F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83F-E731-4853-9330-08439A50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75BD-344F-43A8-8DB5-D645BC35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EBC5-5509-4F3B-9ECA-1EDB47F8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8254-89CF-4F44-8283-3BFCB24B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975A-6F62-44E4-A499-DCA9338D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7DCD-92A2-4EAD-A183-70EDFD56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17E5-0C31-40C7-9552-2A0FB4DE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066D-6BDD-4EB0-AC80-C0F0AF8E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8782-47C8-4E2E-B1AD-F389C3EE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7B63-0B0D-4781-B515-9928859E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8888-DB1E-44BE-BB35-88F3887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1DB-6D12-4770-8430-AF802EBD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F107-0157-4DC4-9431-028E9D87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4E30-73F5-457C-ADE5-D9037B95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831B-9D5F-4002-945A-1BFFE154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1E8B-94A2-4B3D-9128-6EC84CFC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8C77-B5F6-4E1F-816D-3B5DBBCE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F961-3E74-40EF-B295-B5FD2C3B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5011-CBF8-4B64-B75C-C18B72C2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412A-9180-48F2-8C1D-9B10B8E3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34E7-4046-40C5-BFB9-E101F6D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3D83-1A13-42CC-BA98-ECCF9EDE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83A-CBC5-480A-9B45-FE88B824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A045-FAB2-4921-87AA-6E0D5AE0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7FC53-83EB-4C8C-93E9-451F4DD6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F19A-CC41-4867-A830-2FFF9E88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5A04-E1F8-46CF-B40F-EA3E870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7575-DC4F-4807-9F1C-A61C3D53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441D-A3F5-4396-AED6-3ED6CFA2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5B3B-CA7D-47D9-826B-ACA3D25A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AE878-8128-4B40-96F9-3B726112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8237A-2965-4AAF-9DFB-B5913C10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29CEC-CFED-40F2-A753-2AC3EDC0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366-D406-4CA9-98F5-990ABC0A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3B92-9529-4313-ACE7-8AA01FE2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B65E5-4374-4E75-B6B4-FDC9B117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AC769-FBF2-447E-8A6B-B4D3C40F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8B87A-526C-404A-9E85-1B55D255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CC1C-EC18-4B52-B150-0905078A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175B8-5A80-484C-91FA-6816152D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E161-62FA-4131-B605-12C685B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93E03-D325-4770-BEE7-A396E8C8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74C00-7CCF-4FA1-B4A8-B4069F5F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8DC4-1376-4E10-B0FC-58418DC0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0C5-2884-4044-A99D-1BB3F529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61092-23F7-4B83-8D50-12C9C626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C98AB-B688-4D95-A5B0-2BE9C9AC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52A9-4126-486E-BEF5-76DFC0A4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44F84-6785-4285-A6DA-0B441E5E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87E12-3994-4292-BA2F-50E6861D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EDF6-90FA-43F4-B0B5-367F19A5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00F09-B815-423A-AE38-D9F74A29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BCCA-CB14-45A8-9B54-323A52B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78812-3131-4CA6-A4B8-7A71AAE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9F3CB-FBE0-47A2-A499-C54C547F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CFF-0A94-4358-9B4E-4D4C1E6F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ECC24-D9C6-49F4-9045-F9612B35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6E3C7-C660-4E4D-8699-C4B1E5CD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B2E47-19FF-4F94-A844-176A2517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CFDF-83E1-442E-BB8B-04B14401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70261-0998-4B6C-832A-DD94253F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D7CFE-86BD-4D16-BEB4-5B556CFD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086C9-9412-40E1-92DB-0D80BAF4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0A274-3A5F-41F6-BD1D-20184758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C340B-66B8-4F73-83BE-4866F0B6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23703-A3C5-4711-AD5E-2AE80E8E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876-34E6-4F7C-844C-F90280B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5E7FE-F308-4E4B-B7A9-A47B8A1D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0755-67DA-40A9-8839-8746CA8D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B2E4-D81A-46D3-8BBD-AFF43CC9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261C3-A087-419B-B136-8D5D395D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C009C-627B-4AB7-B33B-D32661C0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C2A9D-6F94-4321-8C52-B7224537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85A01-C6DB-42B8-9A69-A6CEB9D3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6FF2C-4112-4A54-A2D8-B6237F1C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ACBAC-B311-4C62-B12D-CF74357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5DF16-EE42-439B-8EBE-6B35D27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E18-A810-4FBE-A4B9-A00E264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E8D7-342F-479F-A913-02C964E7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EF356-E5B1-48DD-AB76-C961DC7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91CF-DF46-4E49-B8AA-CBDC60F5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B6038-3129-433D-BF62-8E51E6C6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2C803-226B-4C01-B8B0-8304C0B3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95232-159B-442E-8D3F-F86D5A46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EFF46-2701-43A3-AC8D-A5334D12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6D931-C738-4820-8CC8-0621F579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42FA5-2F20-4624-A4E5-B4B12B94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FBA85-933A-47D9-9618-486A90EE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C32B-E09F-460F-BB28-D46AA5AD1B6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8005-3A2D-409F-A9E0-FD3B23811092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DAAB-4F4C-42DD-9992-5680CAFB6B62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12CA-D6F8-43DB-BB2B-3E700FAE1C9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E5A6-9B64-4D9F-9D00-71C055D6A9E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D437-4B84-41A9-A899-24A41AF79359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E6C6-C6C8-466C-B647-36ED94AA8552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337E-EDC3-4753-89B2-0CE308FE324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825F-CFAC-412D-802A-168907E8FF9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A310-AD76-499A-B641-74940314E42E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FC8-C01D-47F7-8D6E-9B1E431AAB5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DEA5-8A63-4B69-8761-ABAEBD0A70FF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976-3C9C-4BA3-9268-9B249D51F16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237C-6CE0-4272-8585-7C35555DAAC8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0CC2-586F-4341-ABA0-1BA74935310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F168-1B14-4A73-A8FE-9EE9F1AB51C4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6790-B33E-4C87-A08F-D8402833452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6D13-F6E5-47C3-AE66-97A92C56617D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BB0C-096E-478F-BB40-FE93F6986EE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883B-0A32-48DD-BB82-7A9B68CDF91B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B50-2B76-410D-9B03-8AD61269D85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55DD-A656-44EC-A9A0-4DA95B80395E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96CB-1E77-4A60-9CBD-9F1E05689A95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4571-16CA-4FAC-950D-E4968F753C9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2133720" y="6094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" descr="logotip"/>
          <p:cNvPicPr/>
          <p:nvPr/>
        </p:nvPicPr>
        <p:blipFill>
          <a:blip r:embed="rId1"/>
          <a:stretch/>
        </p:blipFill>
        <p:spPr>
          <a:xfrm>
            <a:off x="7858080" y="222120"/>
            <a:ext cx="1087560" cy="797040"/>
          </a:xfrm>
          <a:prstGeom prst="rect">
            <a:avLst/>
          </a:prstGeom>
          <a:ln w="0">
            <a:noFill/>
          </a:ln>
        </p:spPr>
      </p:pic>
      <p:sp>
        <p:nvSpPr>
          <p:cNvPr id="678" name="Прямоугольник 6"/>
          <p:cNvSpPr/>
          <p:nvPr/>
        </p:nvSpPr>
        <p:spPr>
          <a:xfrm>
            <a:off x="857160" y="1108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stics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Ministry of National Econo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" descr=""/>
          <p:cNvPicPr/>
          <p:nvPr/>
        </p:nvPicPr>
        <p:blipFill>
          <a:blip r:embed="rId2"/>
          <a:stretch/>
        </p:blipFill>
        <p:spPr>
          <a:xfrm>
            <a:off x="192240" y="219240"/>
            <a:ext cx="1528560" cy="865080"/>
          </a:xfrm>
          <a:prstGeom prst="rect">
            <a:avLst/>
          </a:prstGeom>
          <a:ln w="0">
            <a:noFill/>
          </a:ln>
        </p:spPr>
      </p:pic>
      <p:sp>
        <p:nvSpPr>
          <p:cNvPr id="680" name="Прямоугольник 11"/>
          <p:cNvSpPr/>
          <p:nvPr/>
        </p:nvSpPr>
        <p:spPr>
          <a:xfrm>
            <a:off x="214200" y="321480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ACTICE OF KAZAKHSTAN IN GENERATING POVER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12"/>
          <p:cNvSpPr/>
          <p:nvPr/>
        </p:nvSpPr>
        <p:spPr>
          <a:xfrm>
            <a:off x="714240" y="63579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Switzerland, Geneva</a:t>
            </a:r>
            <a:r>
              <a:rPr b="1" lang="ru-RU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, 4-6 </a:t>
            </a:r>
            <a:r>
              <a:rPr b="1" lang="en-GB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May </a:t>
            </a:r>
            <a:r>
              <a:rPr b="1" lang="ru-RU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2920" y="1714320"/>
            <a:ext cx="87868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V and IUC as criteria for poverty measurements i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zakhstan</a:t>
            </a:r>
            <a:endParaRPr b="0" lang="en-US" sz="24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4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685" name="Прямоугольник 6"/>
          <p:cNvSpPr/>
          <p:nvPr/>
        </p:nvSpPr>
        <p:spPr>
          <a:xfrm>
            <a:off x="1000080" y="214200"/>
            <a:ext cx="728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8"/>
          <p:cNvSpPr/>
          <p:nvPr/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Рисунок 6" descr="Крупы.jpg"/>
          <p:cNvPicPr/>
          <p:nvPr/>
        </p:nvPicPr>
        <p:blipFill>
          <a:blip r:embed="rId3"/>
          <a:stretch/>
        </p:blipFill>
        <p:spPr>
          <a:xfrm>
            <a:off x="214200" y="2500200"/>
            <a:ext cx="785880" cy="642960"/>
          </a:xfrm>
          <a:prstGeom prst="rect">
            <a:avLst/>
          </a:prstGeom>
          <a:ln w="0">
            <a:noFill/>
          </a:ln>
        </p:spPr>
      </p:pic>
      <p:pic>
        <p:nvPicPr>
          <p:cNvPr id="688" name="Рисунок 9" descr="Овощи 3.jpg"/>
          <p:cNvPicPr/>
          <p:nvPr/>
        </p:nvPicPr>
        <p:blipFill>
          <a:blip r:embed="rId4"/>
          <a:stretch/>
        </p:blipFill>
        <p:spPr>
          <a:xfrm>
            <a:off x="1143000" y="250020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689" name="Рисунок 10" descr="Пироженое.jpg"/>
          <p:cNvPicPr/>
          <p:nvPr/>
        </p:nvPicPr>
        <p:blipFill>
          <a:blip r:embed="rId5"/>
          <a:stretch/>
        </p:blipFill>
        <p:spPr>
          <a:xfrm>
            <a:off x="214200" y="3143160"/>
            <a:ext cx="781200" cy="642960"/>
          </a:xfrm>
          <a:prstGeom prst="rect">
            <a:avLst/>
          </a:prstGeom>
          <a:ln w="0">
            <a:noFill/>
          </a:ln>
        </p:spPr>
      </p:pic>
      <p:pic>
        <p:nvPicPr>
          <p:cNvPr id="690" name="Рисунок 11" descr="Рыба жаренная.jpg"/>
          <p:cNvPicPr/>
          <p:nvPr/>
        </p:nvPicPr>
        <p:blipFill>
          <a:blip r:embed="rId6"/>
          <a:stretch/>
        </p:blipFill>
        <p:spPr>
          <a:xfrm>
            <a:off x="1143000" y="3214800"/>
            <a:ext cx="701640" cy="571320"/>
          </a:xfrm>
          <a:prstGeom prst="rect">
            <a:avLst/>
          </a:prstGeom>
          <a:ln w="0">
            <a:noFill/>
          </a:ln>
        </p:spPr>
      </p:pic>
      <p:sp>
        <p:nvSpPr>
          <p:cNvPr id="691" name="TextBox 17"/>
          <p:cNvSpPr/>
          <p:nvPr/>
        </p:nvSpPr>
        <p:spPr>
          <a:xfrm>
            <a:off x="705600" y="3929040"/>
            <a:ext cx="11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(43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s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20"/>
          <p:cNvSpPr/>
          <p:nvPr/>
        </p:nvSpPr>
        <p:spPr>
          <a:xfrm flipH="1">
            <a:off x="2356920" y="2928960"/>
            <a:ext cx="1800" cy="42876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22"/>
          <p:cNvSpPr/>
          <p:nvPr/>
        </p:nvSpPr>
        <p:spPr>
          <a:xfrm flipH="1">
            <a:off x="2143080" y="3143160"/>
            <a:ext cx="4190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Рисунок 24" descr="Мебель.jpg"/>
          <p:cNvPicPr/>
          <p:nvPr/>
        </p:nvPicPr>
        <p:blipFill>
          <a:blip r:embed="rId7"/>
          <a:stretch/>
        </p:blipFill>
        <p:spPr>
          <a:xfrm>
            <a:off x="2786040" y="321480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695" name="Рисунок 25" descr="Обувь.jpg"/>
          <p:cNvPicPr/>
          <p:nvPr/>
        </p:nvPicPr>
        <p:blipFill>
          <a:blip r:embed="rId8"/>
          <a:stretch/>
        </p:blipFill>
        <p:spPr>
          <a:xfrm>
            <a:off x="3643200" y="2500200"/>
            <a:ext cx="857520" cy="642960"/>
          </a:xfrm>
          <a:prstGeom prst="rect">
            <a:avLst/>
          </a:prstGeom>
          <a:ln w="0">
            <a:noFill/>
          </a:ln>
        </p:spPr>
      </p:pic>
      <p:pic>
        <p:nvPicPr>
          <p:cNvPr id="696" name="Рисунок 26" descr="Одежда.jpg"/>
          <p:cNvPicPr/>
          <p:nvPr/>
        </p:nvPicPr>
        <p:blipFill>
          <a:blip r:embed="rId9"/>
          <a:stretch/>
        </p:blipFill>
        <p:spPr>
          <a:xfrm>
            <a:off x="2786040" y="250020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697" name="Рисунок 27" descr="Техника.jpg"/>
          <p:cNvPicPr/>
          <p:nvPr/>
        </p:nvPicPr>
        <p:blipFill>
          <a:blip r:embed="rId10"/>
          <a:stretch/>
        </p:blipFill>
        <p:spPr>
          <a:xfrm>
            <a:off x="3714840" y="3214800"/>
            <a:ext cx="833400" cy="676080"/>
          </a:xfrm>
          <a:prstGeom prst="rect">
            <a:avLst/>
          </a:prstGeom>
          <a:ln w="0">
            <a:noFill/>
          </a:ln>
        </p:spPr>
      </p:pic>
      <p:sp>
        <p:nvSpPr>
          <p:cNvPr id="698" name="TextBox 28"/>
          <p:cNvSpPr/>
          <p:nvPr/>
        </p:nvSpPr>
        <p:spPr>
          <a:xfrm>
            <a:off x="2785680" y="3929040"/>
            <a:ext cx="13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(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авая фигурная скобка 29"/>
          <p:cNvSpPr/>
          <p:nvPr/>
        </p:nvSpPr>
        <p:spPr>
          <a:xfrm rot="5400000">
            <a:off x="2214720" y="2428560"/>
            <a:ext cx="357120" cy="4214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4214880"/>
              <a:gd name="textAreaBottom" fmla="*/ 4205880 h 421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30"/>
          <p:cNvSpPr/>
          <p:nvPr/>
        </p:nvSpPr>
        <p:spPr>
          <a:xfrm>
            <a:off x="500040" y="4786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bas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istence minimu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1"/>
          <p:cNvSpPr/>
          <p:nvPr/>
        </p:nvSpPr>
        <p:spPr>
          <a:xfrm>
            <a:off x="4714920" y="4214880"/>
            <a:ext cx="407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come Used for Consumptio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cap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=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Z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$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9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8"/>
          <p:cNvSpPr/>
          <p:nvPr/>
        </p:nvSpPr>
        <p:spPr>
          <a:xfrm>
            <a:off x="4572000" y="27860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sistence Minimum Valu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ca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=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ZT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8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$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04" name="Прямоугольник 6"/>
          <p:cNvSpPr/>
          <p:nvPr/>
        </p:nvSpPr>
        <p:spPr>
          <a:xfrm>
            <a:off x="1000080" y="152280"/>
            <a:ext cx="728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06" name="Прямоугольник 6"/>
          <p:cNvSpPr/>
          <p:nvPr/>
        </p:nvSpPr>
        <p:spPr>
          <a:xfrm>
            <a:off x="285840" y="7858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 livings standards statistics over time,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004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Диаграмма 7" descr=""/>
          <p:cNvPicPr/>
          <p:nvPr/>
        </p:nvPicPr>
        <p:blipFill>
          <a:blip r:embed="rId3"/>
          <a:stretch/>
        </p:blipFill>
        <p:spPr>
          <a:xfrm>
            <a:off x="139680" y="1566720"/>
            <a:ext cx="8791560" cy="4718160"/>
          </a:xfrm>
          <a:prstGeom prst="rect">
            <a:avLst/>
          </a:prstGeom>
          <a:ln w="0">
            <a:noFill/>
          </a:ln>
        </p:spPr>
      </p:pic>
      <p:sp>
        <p:nvSpPr>
          <p:cNvPr id="709" name="TextBox 2"/>
          <p:cNvSpPr/>
          <p:nvPr/>
        </p:nvSpPr>
        <p:spPr>
          <a:xfrm>
            <a:off x="2381400" y="5408640"/>
            <a:ext cx="255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V per capita, KZ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9"/>
          <p:cNvSpPr/>
          <p:nvPr/>
        </p:nvSpPr>
        <p:spPr>
          <a:xfrm>
            <a:off x="2381400" y="5589720"/>
            <a:ext cx="255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C per capita, KZ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0"/>
          <p:cNvSpPr/>
          <p:nvPr/>
        </p:nvSpPr>
        <p:spPr>
          <a:xfrm>
            <a:off x="2381400" y="5996160"/>
            <a:ext cx="4638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% of people whose income is below subsistence minimum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13" name="Прямоугольник 6"/>
          <p:cNvSpPr/>
          <p:nvPr/>
        </p:nvSpPr>
        <p:spPr>
          <a:xfrm>
            <a:off x="1008000" y="123840"/>
            <a:ext cx="728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6"/>
          <p:cNvSpPr/>
          <p:nvPr/>
        </p:nvSpPr>
        <p:spPr>
          <a:xfrm>
            <a:off x="285840" y="7858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vings standards statistics over time,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004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Диаграмма 7" descr=""/>
          <p:cNvPicPr/>
          <p:nvPr/>
        </p:nvPicPr>
        <p:blipFill>
          <a:blip r:embed="rId3"/>
          <a:stretch/>
        </p:blipFill>
        <p:spPr>
          <a:xfrm>
            <a:off x="212760" y="1427040"/>
            <a:ext cx="87915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19" name="Прямоугольник 6"/>
          <p:cNvSpPr/>
          <p:nvPr/>
        </p:nvSpPr>
        <p:spPr>
          <a:xfrm>
            <a:off x="1000080" y="123840"/>
            <a:ext cx="728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21" name="Номер слайда 10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6"/>
          <p:cNvSpPr/>
          <p:nvPr/>
        </p:nvSpPr>
        <p:spPr>
          <a:xfrm>
            <a:off x="285840" y="80496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alues of MDG 1 indicators in Kazakhstan 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2003-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"/>
          <p:cNvSpPr/>
          <p:nvPr/>
        </p:nvSpPr>
        <p:spPr>
          <a:xfrm>
            <a:off x="7929720" y="1071720"/>
            <a:ext cx="914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Диаграмма 9" descr=""/>
          <p:cNvPicPr/>
          <p:nvPr/>
        </p:nvPicPr>
        <p:blipFill>
          <a:blip r:embed="rId3"/>
          <a:stretch/>
        </p:blipFill>
        <p:spPr>
          <a:xfrm>
            <a:off x="212760" y="1279440"/>
            <a:ext cx="8718480" cy="5011920"/>
          </a:xfrm>
          <a:prstGeom prst="rect">
            <a:avLst/>
          </a:prstGeom>
          <a:ln w="0">
            <a:noFill/>
          </a:ln>
        </p:spPr>
      </p:pic>
      <p:sp>
        <p:nvSpPr>
          <p:cNvPr id="725" name="TextBox 1"/>
          <p:cNvSpPr/>
          <p:nvPr/>
        </p:nvSpPr>
        <p:spPr>
          <a:xfrm>
            <a:off x="1405080" y="5479920"/>
            <a:ext cx="6673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eorgia"/>
              </a:rPr>
              <a:t>Proportion of population below $2.5 purchasing power parity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1"/>
          <p:cNvSpPr/>
          <p:nvPr/>
        </p:nvSpPr>
        <p:spPr>
          <a:xfrm>
            <a:off x="1427040" y="5653080"/>
            <a:ext cx="6674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eorgia"/>
              </a:rPr>
              <a:t>Proportion of population below $5 purchasing power parity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28" name="Прямоугольник 6"/>
          <p:cNvSpPr/>
          <p:nvPr/>
        </p:nvSpPr>
        <p:spPr>
          <a:xfrm>
            <a:off x="1000080" y="142920"/>
            <a:ext cx="728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30" name="Номер слайда 10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6"/>
          <p:cNvSpPr/>
          <p:nvPr/>
        </p:nvSpPr>
        <p:spPr>
          <a:xfrm>
            <a:off x="285840" y="80496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alues of MDG 1 indicators in Kazakhstan 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2003-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"/>
          <p:cNvSpPr/>
          <p:nvPr/>
        </p:nvSpPr>
        <p:spPr>
          <a:xfrm>
            <a:off x="7962840" y="1285920"/>
            <a:ext cx="914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Диаграмма 8" descr=""/>
          <p:cNvPicPr/>
          <p:nvPr/>
        </p:nvPicPr>
        <p:blipFill>
          <a:blip r:embed="rId3"/>
          <a:stretch/>
        </p:blipFill>
        <p:spPr>
          <a:xfrm>
            <a:off x="212760" y="1566720"/>
            <a:ext cx="8718480" cy="4718160"/>
          </a:xfrm>
          <a:prstGeom prst="rect">
            <a:avLst/>
          </a:prstGeom>
          <a:ln w="0">
            <a:noFill/>
          </a:ln>
        </p:spPr>
      </p:pic>
      <p:sp>
        <p:nvSpPr>
          <p:cNvPr id="734" name="TextBox 1"/>
          <p:cNvSpPr/>
          <p:nvPr/>
        </p:nvSpPr>
        <p:spPr>
          <a:xfrm>
            <a:off x="2195640" y="5640480"/>
            <a:ext cx="475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portion of employed population living below subsistence minimum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9"/>
          <p:cNvSpPr/>
          <p:nvPr/>
        </p:nvSpPr>
        <p:spPr>
          <a:xfrm>
            <a:off x="2195640" y="5859360"/>
            <a:ext cx="4824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portion of employed population living below $2.5 (PPP)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11"/>
          <p:cNvSpPr/>
          <p:nvPr/>
        </p:nvSpPr>
        <p:spPr>
          <a:xfrm>
            <a:off x="2195640" y="6089760"/>
            <a:ext cx="4680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portion of employed population living below $5 (PPP)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38" name="Прямоугольник 6"/>
          <p:cNvSpPr/>
          <p:nvPr/>
        </p:nvSpPr>
        <p:spPr>
          <a:xfrm>
            <a:off x="1285920" y="15552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оугольник 6"/>
          <p:cNvSpPr/>
          <p:nvPr/>
        </p:nvSpPr>
        <p:spPr>
          <a:xfrm>
            <a:off x="214200" y="1363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opulation subgroups based on 2014 subjective household welfare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468360" y="1989000"/>
          <a:ext cx="8280360" cy="3749760"/>
        </p:xfrm>
        <a:graphic>
          <a:graphicData uri="http://schemas.openxmlformats.org/drawingml/2006/table">
            <a:tbl>
              <a:tblPr/>
              <a:tblGrid>
                <a:gridCol w="7321680"/>
                <a:gridCol w="9586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Poor: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lacking money for food, clothes and footw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Neither poor nor middle class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: enough money to buy food, clothes and footwear and to pay for utilities, however difficult to buy du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Middle class</a:t>
                      </a: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: face no difficulties in buying food, major noon-food goods and services but money is not enough to buy additional housing (apartment, house, summer cottage), expensive car, et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Upper middle class</a:t>
                      </a: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: consume quality food, live in comfort, have income generating job/own business and/or property but have enough free time for rest and lei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Rich:</a:t>
                      </a: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sufficient resources (knowledge, health, finance, property, time) for comfortable lif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Подзаголовок 2"/>
          <p:cNvSpPr/>
          <p:nvPr/>
        </p:nvSpPr>
        <p:spPr>
          <a:xfrm>
            <a:off x="428760" y="1500120"/>
            <a:ext cx="8143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stat.gov.k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45" name="Прямоугольник 6"/>
          <p:cNvSpPr/>
          <p:nvPr/>
        </p:nvSpPr>
        <p:spPr>
          <a:xfrm>
            <a:off x="1000080" y="21420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47" name="Номер слайда 9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Подзаголовок 2"/>
          <p:cNvSpPr/>
          <p:nvPr/>
        </p:nvSpPr>
        <p:spPr>
          <a:xfrm>
            <a:off x="928800" y="2286000"/>
            <a:ext cx="77151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Thank you for attention</a:t>
            </a:r>
            <a:r>
              <a:rPr b="1" lang="ru-RU" sz="4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50" name="Прямоугольник 6"/>
          <p:cNvSpPr/>
          <p:nvPr/>
        </p:nvSpPr>
        <p:spPr>
          <a:xfrm>
            <a:off x="1000080" y="162000"/>
            <a:ext cx="728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52" name="Номер слайда 9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03:47:01Z</dcterms:created>
  <dc:creator>Гульмира Каримова лотус</dc:creator>
  <dc:description/>
  <dc:language>en-US</dc:language>
  <cp:lastModifiedBy>Vania Etropolska</cp:lastModifiedBy>
  <dcterms:modified xsi:type="dcterms:W3CDTF">2015-05-01T08:28:27Z</dcterms:modified>
  <cp:revision>126</cp:revision>
  <dc:subject/>
  <dc:title>Слайд 1</dc:title>
</cp:coreProperties>
</file>