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676-4836-4E4B-811C-58C0A719FE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E16-0E47-4472-8D6C-542B20B9B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28D-26E0-49EC-907B-2457297A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0FE-FC27-4A03-B0EE-6D20F92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119C5-FAB4-45BD-96A4-9E2F8E48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33F04-DA06-4F6F-A28E-CDA2664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ED896-2E9C-4BE4-B5F5-C71F6F00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98BD2-D544-4590-96EE-F11B19C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FDA0F-6DA5-4E38-9ED0-D1BB825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94C54-5459-45AB-AEC2-6CAD587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C3A30-CF40-4C93-B1EC-6DBF443F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CC78E-D264-4290-83B2-FFC6F604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A3220-03DF-49AC-94A9-89C3373B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12BC0-C7FF-4FA5-8AD8-CB2C4EEC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AA3-39D2-4DB3-BB07-3FF169D4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F42A5-38C5-46F3-AB89-16AD88FB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08A3E-DEDA-4702-B136-02376F8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A6ADE-0815-4672-822E-383D26F8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C0F6C-1B9C-422D-870A-4D868B6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75F86-E5DC-499C-8538-39D7179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9D15F-CC88-45A9-B86B-EECFF1F2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C1A88-BF8F-47A0-A544-7A70045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C88F9-64B5-4955-8E02-24BB2AD9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C6552-1B7D-4B1C-8C26-7692BA5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9ACD3-3F27-4A2F-8209-9DE20C51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3E3-C249-476C-8F46-600142C1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A81DE-6437-46F2-AEC0-9692C416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9A914-436F-4B71-9836-916D7DAE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296F-0D4B-4ABD-827B-5B6A4D5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89FE5-AEDB-4AD7-A9CB-99CA541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01AD-9629-4CB9-B9FD-FEBE8E3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F836-F824-4CB7-88BE-D7A24F48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F0B9-543C-4F92-914F-D7586B0A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7E63C-E65C-46C4-9935-3C19679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FED7-6754-4BD1-8F2D-BADB3AF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0E9C-768D-4696-94A2-4747AA08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AA26-B776-4561-A400-668388C7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4D30D-9C11-4E41-A9F7-8F22709B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8BBA-F06E-4B8D-905A-3375CEB7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AD9D3-C566-4BE2-ADA8-46CC2D06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1BA09-1006-4A41-B192-90F25A83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68A41-ED3E-46CF-9A57-9B41ABC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60842-4B88-4CE8-B93F-4A80D1B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63205-C587-4815-A108-49A4C69D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9A7AD-5116-4C0D-9051-2832B12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55189-FF17-4C08-8035-7FA4A18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AE35A-ECC6-44E3-9873-D5A394B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A7F-D01B-45F1-B020-E87E1CF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FC5F0-8666-4D3A-A052-7051EEC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5EC05-B975-498C-8089-E9E0C31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66846-B5D6-4875-A0BE-D18E863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8F70E-6337-41E6-9E3E-3A56FEE8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A7298-8731-40DF-BAC9-3E0D41A8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CD25-3DB1-443A-93FE-405A165B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E0EA-B610-4E27-B475-2034B43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AC9C-B881-443C-8F58-177FEDE4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C45-791C-48D7-A2E9-74BFE9A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3185-5B38-4128-B461-C42B6FA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CA4-38A2-4690-97AC-6571885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BB57-64E3-44EC-968A-E2461DFB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E14-15FD-4EB4-B728-8648280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E38-8F15-4819-AEFF-D921438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604D-4099-43A6-85AD-DF6E68B3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67F-DA50-4EFC-AE93-98FD4AF5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189D-2C6C-4527-A40C-AF47543B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0481-5E54-4A4D-9223-BA17389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8585-394F-4F48-B63A-2BF78A0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CCA4-409A-46BE-8F2D-1FF578CA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4C8D-A908-4EF4-84C2-9ECB828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3D2-E441-4560-B34C-167BCDB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DA9F-663B-4648-8D62-B9C6B79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E521-1506-4F0A-A7A3-49BD854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921D-1C56-42E8-9A2A-78861A4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7715-E5E5-4C45-BB36-CE84F24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38A6-B659-4945-AF23-89F6137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96DA-B901-4587-83FD-357C01B1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8F6F-6C29-493B-BD70-F73638CA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CE8C-8778-4044-84B4-561AA253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30AE-AFC0-4B61-A809-E64208B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96AC-1B4F-4938-852F-3DBBD86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809-D6CA-4CF1-9520-655D007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2262-0AD4-4182-A424-DFACBBB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AFDA-0C24-47AA-8B12-7513DAC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6C5E-7403-41FB-8222-889535E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D57A-4379-4989-91D3-B647F96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6388-B29F-43A0-AE6D-45A5B00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818E-E311-4F3A-BDC2-6E7CA048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3E50-30DF-4B15-ABE1-C9115A9E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226E-85A2-449B-9A4F-7095BDF7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3C16-27C3-4D5A-97A2-89EE9918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5AC2-8528-494F-97FD-5BB92A59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855-4F76-4FE6-B5BF-1A42297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E58D-81F1-4900-AE6B-693BF77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94C7-99B6-448C-BB0A-C448BED2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E7C1-15A6-4C09-8E71-026B45D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483F-13BA-47F3-B614-9F227AF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8AC7-C4B7-4555-85E3-1FC7CB1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9C86-F661-4C2C-8C19-F49C75A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1C21-8366-4B49-A559-00099E7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A892-7254-4A54-BF45-4DDE5D7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DF3C9-E98E-4472-ADB3-889E728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742B-EF66-4DD2-81B7-C2097426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689-6C25-4B33-AFE7-6624485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E17C-7965-498B-9813-E282836C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9566-8F1A-4017-A26F-8898EFDE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E69B-225F-4BBF-B9D8-1AB4E6C2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263E-496B-40FA-A87F-E6045000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79CF-9229-4713-AD0C-C089E2F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90FB-0D5A-4495-8745-91CB7C1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BF98-E7E8-450E-9B5A-8022BB9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DFC6-0745-45B8-A3DA-5791D75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1D54-037A-4B15-B55B-780A16B6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01C3-C090-4287-890A-F5BE966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F9C-9EB3-4E9A-A661-0338CAC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B0D7-D5A6-4F6B-A780-B5A91E86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EF6F-067E-4C9E-8978-632B855A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6E7D-D0DE-47DF-B790-801EEF2A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6384-48C6-43E5-BA51-197051DD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85B9-4C27-4177-9FAD-86982871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2C84-11E2-458F-81B5-5C23C721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28C2-0BE9-4B7E-BD18-16E18C9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CEE1E-9F22-4CE9-873E-F8830DA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A125F-E8B6-4F36-83B0-41F715C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2E0A-4959-47FE-95D8-DA1C98B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A4F-0EBF-45DC-A6D0-1C7B6DF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B6F5-A2A5-4CAC-B284-DA71CD8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CB873-296C-42DA-B712-21B71B4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AB154-216C-40BF-90D4-25169BE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60E3-1AC1-4972-881C-A014C7EE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BC1B4-5D5F-4B15-A0A5-5AF414CF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703A-6D04-44B7-9C29-3A35B21F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2B429-B412-43C2-B9FC-D8761E2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A8F67-3214-4ABB-AEF6-7635241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BC26-2F69-4659-A150-EB2413F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64FD-D2AE-4417-946B-33EE57D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F3A-60DC-4273-8C98-DB563B4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E990-02D0-4497-94DE-A133A2A2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9DC38-76E5-4C67-825B-3FCCC19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7254-EEF7-4D7A-837B-42D247A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E501-0BA1-4DE5-97EA-5EE96CC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8B14E-EEB5-42D8-A209-C1794175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DBFC-05ED-483B-8111-5DA4189B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320B-E8A3-4538-BA29-46C294DB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B9B49-0DFE-4B42-A6EE-EFFDD3E3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0E840-E9E5-4001-AF50-94D96EA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59A04-0C05-4C9C-AF38-364E003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277-77A6-469A-B1BA-6DD8F29D67E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480D-1E67-4BE5-9F9A-DB04C587EFE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0700-9685-46CE-9141-9AA07304ED9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30EE-6C7B-4805-B6F4-8280CAF8F02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BADC-C7EF-4FE4-B6CE-8201C892CE8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EAC-ECE0-457F-A69D-D64A31E03AC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179-CB61-4CFC-8BB7-DF6DEC7E153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090-35D4-43B5-A938-9F484520CE5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6DF-22D0-4AED-B378-753DC659817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CE33-35F8-490F-BACF-8BCAE9592875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A46-1D4B-44F4-92C1-5BC1E2DDCFB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D07-D7B9-44A9-A507-A95AA2650DD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EE83-739E-4CBD-AFE5-7B23D746321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C56F-51C3-4938-92D4-D0C7C7B845D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5CD-C1AC-485E-8B26-61CABD3705C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1C9C-160F-4353-99B1-455EBF5AA7CE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61B-F857-4951-8618-E19364F159E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B2BC-35D7-4679-BA8E-FEF595EC64AD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E83E-9B89-494F-A088-4448325E0E6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2EF-88B9-458E-9362-47727603070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4A6-142B-4353-AF5F-5E3C7537151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C3E-9D70-417D-AC63-AE9F934496B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AFF7-AD41-44D4-B128-6E70E36DCC73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672-F757-4DDD-A99E-C10779BA7D6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2133720" y="6094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logotip"/>
          <p:cNvPicPr/>
          <p:nvPr/>
        </p:nvPicPr>
        <p:blipFill>
          <a:blip r:embed="rId1"/>
          <a:stretch/>
        </p:blipFill>
        <p:spPr>
          <a:xfrm>
            <a:off x="7858080" y="222120"/>
            <a:ext cx="1087560" cy="79704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857160" y="1108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tics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Ministry of National Ec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2"/>
          <a:stretch/>
        </p:blipFill>
        <p:spPr>
          <a:xfrm>
            <a:off x="192240" y="219240"/>
            <a:ext cx="1528560" cy="865080"/>
          </a:xfrm>
          <a:prstGeom prst="rect">
            <a:avLst/>
          </a:prstGeom>
          <a:ln w="0">
            <a:noFill/>
          </a:ln>
        </p:spPr>
      </p:pic>
      <p:sp>
        <p:nvSpPr>
          <p:cNvPr id="680" name="Прямоугольник 11"/>
          <p:cNvSpPr/>
          <p:nvPr/>
        </p:nvSpPr>
        <p:spPr>
          <a:xfrm>
            <a:off x="214200" y="32148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ACTICE OF KAZAKHSTAN IN GENERATING POVER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2"/>
          <p:cNvSpPr/>
          <p:nvPr/>
        </p:nvSpPr>
        <p:spPr>
          <a:xfrm>
            <a:off x="714240" y="63579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Switzerland, Geneva</a:t>
            </a: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, 4-6 </a:t>
            </a:r>
            <a:r>
              <a:rPr b="1" lang="en-GB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May </a:t>
            </a: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2920" y="171432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V and IUC as criteria for poverty measurements i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zakhstan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6"/>
          <p:cNvSpPr/>
          <p:nvPr/>
        </p:nvSpPr>
        <p:spPr>
          <a:xfrm>
            <a:off x="1000080" y="21420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8"/>
          <p:cNvSpPr/>
          <p:nvPr/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6" descr="Крупы.jpg"/>
          <p:cNvPicPr/>
          <p:nvPr/>
        </p:nvPicPr>
        <p:blipFill>
          <a:blip r:embed="rId3"/>
          <a:stretch/>
        </p:blipFill>
        <p:spPr>
          <a:xfrm>
            <a:off x="214200" y="250020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688" name="Рисунок 9" descr="Овощи 3.jpg"/>
          <p:cNvPicPr/>
          <p:nvPr/>
        </p:nvPicPr>
        <p:blipFill>
          <a:blip r:embed="rId4"/>
          <a:stretch/>
        </p:blipFill>
        <p:spPr>
          <a:xfrm>
            <a:off x="1143000" y="250020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10" descr="Пироженое.jpg"/>
          <p:cNvPicPr/>
          <p:nvPr/>
        </p:nvPicPr>
        <p:blipFill>
          <a:blip r:embed="rId5"/>
          <a:stretch/>
        </p:blipFill>
        <p:spPr>
          <a:xfrm>
            <a:off x="214200" y="3143160"/>
            <a:ext cx="781200" cy="64296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11" descr="Рыба жаренная.jpg"/>
          <p:cNvPicPr/>
          <p:nvPr/>
        </p:nvPicPr>
        <p:blipFill>
          <a:blip r:embed="rId6"/>
          <a:stretch/>
        </p:blipFill>
        <p:spPr>
          <a:xfrm>
            <a:off x="1143000" y="3214800"/>
            <a:ext cx="701640" cy="5713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17"/>
          <p:cNvSpPr/>
          <p:nvPr/>
        </p:nvSpPr>
        <p:spPr>
          <a:xfrm>
            <a:off x="705600" y="3929040"/>
            <a:ext cx="11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(43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0"/>
          <p:cNvSpPr/>
          <p:nvPr/>
        </p:nvSpPr>
        <p:spPr>
          <a:xfrm flipH="1">
            <a:off x="2356920" y="2928960"/>
            <a:ext cx="1800" cy="42876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2"/>
          <p:cNvSpPr/>
          <p:nvPr/>
        </p:nvSpPr>
        <p:spPr>
          <a:xfrm flipH="1">
            <a:off x="2143080" y="3143160"/>
            <a:ext cx="4190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24" descr="Мебель.jpg"/>
          <p:cNvPicPr/>
          <p:nvPr/>
        </p:nvPicPr>
        <p:blipFill>
          <a:blip r:embed="rId7"/>
          <a:stretch/>
        </p:blipFill>
        <p:spPr>
          <a:xfrm>
            <a:off x="2786040" y="32148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25" descr="Обувь.jpg"/>
          <p:cNvPicPr/>
          <p:nvPr/>
        </p:nvPicPr>
        <p:blipFill>
          <a:blip r:embed="rId8"/>
          <a:stretch/>
        </p:blipFill>
        <p:spPr>
          <a:xfrm>
            <a:off x="3643200" y="250020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26" descr="Одежда.jpg"/>
          <p:cNvPicPr/>
          <p:nvPr/>
        </p:nvPicPr>
        <p:blipFill>
          <a:blip r:embed="rId9"/>
          <a:stretch/>
        </p:blipFill>
        <p:spPr>
          <a:xfrm>
            <a:off x="2786040" y="25002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27" descr="Техника.jpg"/>
          <p:cNvPicPr/>
          <p:nvPr/>
        </p:nvPicPr>
        <p:blipFill>
          <a:blip r:embed="rId10"/>
          <a:stretch/>
        </p:blipFill>
        <p:spPr>
          <a:xfrm>
            <a:off x="3714840" y="3214800"/>
            <a:ext cx="833400" cy="676080"/>
          </a:xfrm>
          <a:prstGeom prst="rect">
            <a:avLst/>
          </a:prstGeom>
          <a:ln w="0">
            <a:noFill/>
          </a:ln>
        </p:spPr>
      </p:pic>
      <p:sp>
        <p:nvSpPr>
          <p:cNvPr id="698" name="TextBox 28"/>
          <p:cNvSpPr/>
          <p:nvPr/>
        </p:nvSpPr>
        <p:spPr>
          <a:xfrm>
            <a:off x="2785680" y="3929040"/>
            <a:ext cx="13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(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авая фигурная скобка 29"/>
          <p:cNvSpPr/>
          <p:nvPr/>
        </p:nvSpPr>
        <p:spPr>
          <a:xfrm rot="5400000">
            <a:off x="2214720" y="2428560"/>
            <a:ext cx="357120" cy="4214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214880"/>
              <a:gd name="textAreaBottom" fmla="*/ 4205880 h 421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0"/>
          <p:cNvSpPr/>
          <p:nvPr/>
        </p:nvSpPr>
        <p:spPr>
          <a:xfrm>
            <a:off x="500040" y="4786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bas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stence minimu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1"/>
          <p:cNvSpPr/>
          <p:nvPr/>
        </p:nvSpPr>
        <p:spPr>
          <a:xfrm>
            <a:off x="4714920" y="4214880"/>
            <a:ext cx="407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come Used for Consump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ap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=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Z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$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8"/>
          <p:cNvSpPr/>
          <p:nvPr/>
        </p:nvSpPr>
        <p:spPr>
          <a:xfrm>
            <a:off x="4572000" y="27860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sistence Minimum Valu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=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ZT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8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$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04" name="Прямоугольник 6"/>
          <p:cNvSpPr/>
          <p:nvPr/>
        </p:nvSpPr>
        <p:spPr>
          <a:xfrm>
            <a:off x="1000080" y="15228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 livings standards statistics over time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004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Диаграмма 7" descr=""/>
          <p:cNvPicPr/>
          <p:nvPr/>
        </p:nvPicPr>
        <p:blipFill>
          <a:blip r:embed="rId3"/>
          <a:stretch/>
        </p:blipFill>
        <p:spPr>
          <a:xfrm>
            <a:off x="139680" y="1566720"/>
            <a:ext cx="8791560" cy="471816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"/>
          <p:cNvSpPr/>
          <p:nvPr/>
        </p:nvSpPr>
        <p:spPr>
          <a:xfrm>
            <a:off x="2381400" y="5408640"/>
            <a:ext cx="255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V per capita, 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9"/>
          <p:cNvSpPr/>
          <p:nvPr/>
        </p:nvSpPr>
        <p:spPr>
          <a:xfrm>
            <a:off x="2381400" y="5589720"/>
            <a:ext cx="255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C per capita, 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0"/>
          <p:cNvSpPr/>
          <p:nvPr/>
        </p:nvSpPr>
        <p:spPr>
          <a:xfrm>
            <a:off x="2381400" y="5996160"/>
            <a:ext cx="4638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% of people whose income is below subsistence minimum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3" name="Прямоугольник 6"/>
          <p:cNvSpPr/>
          <p:nvPr/>
        </p:nvSpPr>
        <p:spPr>
          <a:xfrm>
            <a:off x="1008000" y="123840"/>
            <a:ext cx="72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vings standards statistics over time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004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Диаграмма 7" descr=""/>
          <p:cNvPicPr/>
          <p:nvPr/>
        </p:nvPicPr>
        <p:blipFill>
          <a:blip r:embed="rId3"/>
          <a:stretch/>
        </p:blipFill>
        <p:spPr>
          <a:xfrm>
            <a:off x="212760" y="1427040"/>
            <a:ext cx="8791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9" name="Прямоугольник 6"/>
          <p:cNvSpPr/>
          <p:nvPr/>
        </p:nvSpPr>
        <p:spPr>
          <a:xfrm>
            <a:off x="1000080" y="123840"/>
            <a:ext cx="72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21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ues of MDG 1 indicators in Kazakhstan 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2003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"/>
          <p:cNvSpPr/>
          <p:nvPr/>
        </p:nvSpPr>
        <p:spPr>
          <a:xfrm>
            <a:off x="7929720" y="1071720"/>
            <a:ext cx="9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Диаграмма 9" descr=""/>
          <p:cNvPicPr/>
          <p:nvPr/>
        </p:nvPicPr>
        <p:blipFill>
          <a:blip r:embed="rId3"/>
          <a:stretch/>
        </p:blipFill>
        <p:spPr>
          <a:xfrm>
            <a:off x="212760" y="1279440"/>
            <a:ext cx="8718480" cy="501192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"/>
          <p:cNvSpPr/>
          <p:nvPr/>
        </p:nvSpPr>
        <p:spPr>
          <a:xfrm>
            <a:off x="1405080" y="5479920"/>
            <a:ext cx="6673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eorgia"/>
              </a:rPr>
              <a:t>Proportion of population below $2.5 purchasing power parity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1"/>
          <p:cNvSpPr/>
          <p:nvPr/>
        </p:nvSpPr>
        <p:spPr>
          <a:xfrm>
            <a:off x="1427040" y="5653080"/>
            <a:ext cx="6674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eorgia"/>
              </a:rPr>
              <a:t>Proportion of population below $5 purchasing power parity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28" name="Прямоугольник 6"/>
          <p:cNvSpPr/>
          <p:nvPr/>
        </p:nvSpPr>
        <p:spPr>
          <a:xfrm>
            <a:off x="1000080" y="14292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0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alues of MDG 1 indicators in Kazakhstan 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2003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"/>
          <p:cNvSpPr/>
          <p:nvPr/>
        </p:nvSpPr>
        <p:spPr>
          <a:xfrm>
            <a:off x="7962840" y="1285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Диаграмма 8" descr=""/>
          <p:cNvPicPr/>
          <p:nvPr/>
        </p:nvPicPr>
        <p:blipFill>
          <a:blip r:embed="rId3"/>
          <a:stretch/>
        </p:blipFill>
        <p:spPr>
          <a:xfrm>
            <a:off x="212760" y="1566720"/>
            <a:ext cx="8718480" cy="4718160"/>
          </a:xfrm>
          <a:prstGeom prst="rect">
            <a:avLst/>
          </a:prstGeom>
          <a:ln w="0">
            <a:noFill/>
          </a:ln>
        </p:spPr>
      </p:pic>
      <p:sp>
        <p:nvSpPr>
          <p:cNvPr id="734" name="TextBox 1"/>
          <p:cNvSpPr/>
          <p:nvPr/>
        </p:nvSpPr>
        <p:spPr>
          <a:xfrm>
            <a:off x="2195640" y="5640480"/>
            <a:ext cx="475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subsistence minimum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9"/>
          <p:cNvSpPr/>
          <p:nvPr/>
        </p:nvSpPr>
        <p:spPr>
          <a:xfrm>
            <a:off x="2195640" y="5859360"/>
            <a:ext cx="4824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$2.5 (PPP)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1"/>
          <p:cNvSpPr/>
          <p:nvPr/>
        </p:nvSpPr>
        <p:spPr>
          <a:xfrm>
            <a:off x="2195640" y="6089760"/>
            <a:ext cx="4680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portion of employed population living below $5 (PPP) per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8" name="Прямоугольник 6"/>
          <p:cNvSpPr/>
          <p:nvPr/>
        </p:nvSpPr>
        <p:spPr>
          <a:xfrm>
            <a:off x="1285920" y="15552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6"/>
          <p:cNvSpPr/>
          <p:nvPr/>
        </p:nvSpPr>
        <p:spPr>
          <a:xfrm>
            <a:off x="214200" y="1363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pulation subgroups based on 2014 subjective household welfar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468360" y="1989000"/>
          <a:ext cx="8280360" cy="3749760"/>
        </p:xfrm>
        <a:graphic>
          <a:graphicData uri="http://schemas.openxmlformats.org/drawingml/2006/table">
            <a:tbl>
              <a:tblPr/>
              <a:tblGrid>
                <a:gridCol w="7321680"/>
                <a:gridCol w="958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Poor: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lacking money for food, clothes and footw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Neither poor nor middle clas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enough money to buy food, clothes and footwear and to pay for utilities, however difficult to buy du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Middle class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face no difficulties in buying food, major noon-food goods and services but money is not enough to buy additional housing (apartment, house, summer cottage), expensive car, 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Upper middle class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: consume quality food, live in comfort, have income generating job/own business and/or property but have enough free time for rest and lei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Rich:</a:t>
                      </a: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sufficient resources (knowledge, health, finance, property, time) for comfortable lif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одзаголовок 2"/>
          <p:cNvSpPr/>
          <p:nvPr/>
        </p:nvSpPr>
        <p:spPr>
          <a:xfrm>
            <a:off x="428760" y="150012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stat.gov.k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45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7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Подзаголовок 2"/>
          <p:cNvSpPr/>
          <p:nvPr/>
        </p:nvSpPr>
        <p:spPr>
          <a:xfrm>
            <a:off x="928800" y="2286000"/>
            <a:ext cx="77151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Thank you for attention</a:t>
            </a:r>
            <a:r>
              <a:rPr b="1" lang="ru-RU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50" name="Прямоугольник 6"/>
          <p:cNvSpPr/>
          <p:nvPr/>
        </p:nvSpPr>
        <p:spPr>
          <a:xfrm>
            <a:off x="1000080" y="16200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tistics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the Ministry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f National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public of 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52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7:01Z</dcterms:created>
  <dc:creator>Гульмира Каримова лотус</dc:creator>
  <dc:description/>
  <dc:language>en-US</dc:language>
  <cp:lastModifiedBy>Vania Etropolska</cp:lastModifiedBy>
  <dcterms:modified xsi:type="dcterms:W3CDTF">2015-05-01T08:28:27Z</dcterms:modified>
  <cp:revision>126</cp:revision>
  <dc:subject/>
  <dc:title>Слайд 1</dc:title>
</cp:coreProperties>
</file>