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F7C9-7592-4BD5-B1C5-E0A6276DB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447-52AD-4605-9E77-D775ED605568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5A61-2711-482A-B03A-36F3DE43380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BD1-1B3D-4264-BC01-3600EEAF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340-0008-4B93-A4C5-163AB78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1D5-854A-4178-BF60-E812530B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25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23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25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DC7-264A-4E09-A6B0-0B31BA6E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AF3F-878C-4BBF-A99C-EA0B93FB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7F56-0B61-43C3-AE8E-0EEC366B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C75A-DCB3-4D5A-974A-A919D21A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930D-CB0E-4C4C-B780-536A5C8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0B87-24E3-495A-B1AC-5CD209BA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1582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DD4D-BE6A-4D7C-84F3-54AD08FD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BF97-CAC3-4731-992C-3470DFA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6B3-55DD-4A4A-AE89-69E3BA4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F46C-6FD3-4FD4-8612-88679CE0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FA9C-6DC3-415F-8422-284CDACF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348C-A55F-4E30-8A5D-82651E45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3970-A650-4F57-95D4-94660D8A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25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6176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23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25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BEF7-FCFA-4533-B061-8F83B60A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5A4-4C50-4CF0-A209-EEA95FE5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FB8-C164-447D-95C4-E7E90004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706-6B10-403A-9AFF-10BE40A7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1582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660-F588-40CC-B2BE-46D4CC51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22C-A82E-4C0B-9DD1-9C42D384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CC8-225D-4D61-AF0A-025BE39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C40-D53A-4DF7-94E8-2F8E897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1066680"/>
            <a:ext cx="8686800" cy="108000"/>
            <a:chOff x="0" y="1066680"/>
            <a:chExt cx="8686800" cy="108000"/>
          </a:xfrm>
        </p:grpSpPr>
        <p:sp>
          <p:nvSpPr>
            <p:cNvPr id="1" name="Rectangle 2"/>
            <p:cNvSpPr/>
            <p:nvPr/>
          </p:nvSpPr>
          <p:spPr>
            <a:xfrm>
              <a:off x="0" y="1073160"/>
              <a:ext cx="2133720" cy="101520"/>
            </a:xfrm>
            <a:prstGeom prst="rect">
              <a:avLst/>
            </a:prstGeom>
            <a:gradFill rotWithShape="0">
              <a:gsLst>
                <a:gs pos="0">
                  <a:srgbClr val="297c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Armeni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1447920" y="1066680"/>
              <a:ext cx="7238880" cy="101520"/>
            </a:xfrm>
            <a:prstGeom prst="rect">
              <a:avLst/>
            </a:prstGeom>
            <a:gradFill rotWithShape="0">
              <a:gsLst>
                <a:gs pos="0">
                  <a:srgbClr val="297c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Armeni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3520" indent="-35352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22040" indent="-31824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328040" indent="-30456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635120" indent="-30600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 Poverty in Armenia using Multidimensional Poverty Indicators</a:t>
            </a:r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357-4F99-4B72-BC3A-94F3A5DFBF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8" name="Freeform 9"/>
          <p:cNvSpPr/>
          <p:nvPr/>
        </p:nvSpPr>
        <p:spPr>
          <a:xfrm>
            <a:off x="685800" y="152280"/>
            <a:ext cx="152280" cy="10670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" name="Freeform 10"/>
          <p:cNvSpPr/>
          <p:nvPr/>
        </p:nvSpPr>
        <p:spPr>
          <a:xfrm>
            <a:off x="8263080" y="7632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1676520"/>
            <a:ext cx="4876920" cy="1600200"/>
          </a:xfrm>
          <a:prstGeom prst="rect">
            <a:avLst/>
          </a:prstGeom>
          <a:gradFill rotWithShape="0">
            <a:gsLst>
              <a:gs pos="0">
                <a:srgbClr val="297cd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962520" y="1676520"/>
            <a:ext cx="4724280" cy="1371600"/>
          </a:xfrm>
          <a:prstGeom prst="rect">
            <a:avLst/>
          </a:prstGeom>
          <a:gradFill rotWithShape="0">
            <a:gsLst>
              <a:gs pos="0">
                <a:srgbClr val="297cd7"/>
              </a:gs>
              <a:gs pos="50000">
                <a:srgbClr val="ffffff"/>
              </a:gs>
              <a:gs pos="100000">
                <a:srgbClr val="297cd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609480" y="1523880"/>
            <a:ext cx="304920" cy="19051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7772400" y="1219320"/>
            <a:ext cx="380880" cy="2143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pic>
        <p:nvPicPr>
          <p:cNvPr id="50" name="Picture 18" descr="gerb"/>
          <p:cNvPicPr/>
          <p:nvPr/>
        </p:nvPicPr>
        <p:blipFill>
          <a:blip r:embed="rId2"/>
          <a:stretch/>
        </p:blipFill>
        <p:spPr>
          <a:xfrm>
            <a:off x="380880" y="228600"/>
            <a:ext cx="98136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12571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MCA-Armenia-SIGN-LIGHT"/>
          <p:cNvPicPr/>
          <p:nvPr/>
        </p:nvPicPr>
        <p:blipFill>
          <a:blip r:embed="rId4"/>
          <a:stretch/>
        </p:blipFill>
        <p:spPr>
          <a:xfrm>
            <a:off x="3200400" y="228600"/>
            <a:ext cx="2523960" cy="800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3520" indent="-35352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22040" indent="-31824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328040" indent="-30456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635120" indent="-30600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Monitoring Poverty in Armenia using Multidimensional Poverty Indicators</a:t>
            </a:r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CB65-314C-481F-A523-6B94D31E6404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066680" y="123840"/>
            <a:ext cx="903240" cy="86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1263600" cy="717480"/>
          </a:xfrm>
          <a:prstGeom prst="rect">
            <a:avLst/>
          </a:prstGeom>
          <a:ln w="0">
            <a:noFill/>
          </a:ln>
        </p:spPr>
      </p:pic>
      <p:sp>
        <p:nvSpPr>
          <p:cNvPr id="103" name="Content Placeholder 2"/>
          <p:cNvSpPr/>
          <p:nvPr/>
        </p:nvSpPr>
        <p:spPr>
          <a:xfrm>
            <a:off x="1066680" y="2076480"/>
            <a:ext cx="68580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onitoring Poverty in Armenia using Multidimensional Poverty Indicators</a:t>
            </a:r>
            <a:endParaRPr b="0" lang="en-US" sz="3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066680" y="4543560"/>
            <a:ext cx="6858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Diana Martirosov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National Statistical Service of the Republic of Armen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Moritz Meyer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Economist, Poverty GP, Europe and Central As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Nistha Sinha 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Senior Economist, Poverty GP, Europe and Central As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14680" y="36720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30f8"/>
                </a:solidFill>
                <a:latin typeface="Arial"/>
              </a:rPr>
              <a:t>UNECE conference in Geneva, 4-6 May 2015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153120" y="123840"/>
            <a:ext cx="1771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60240" y="522360"/>
            <a:ext cx="77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Roadmap: Multidimensional poverty in Armenia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92000" y="1447920"/>
            <a:ext cx="766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Our vision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Describe complexity, depth and persistence of povert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Concept: How do households experience poverty?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Poverty is characterized by whether an individuals experiences deprivations on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aspects of welfare that are a development priority (such as being healthy or having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a job)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Benefit: Complement consumption poverty by multidimensional povert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easure reflects aspects of quality of life which are not captured by consumption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poverty (such as having access to good quality education and health services and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having adequate heating)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Policy: Monitor progress on development goal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ultidimensional poverty can be based on government’s development priorities.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onitor progress on development goal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This presentation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Focus on methodology, findings and polic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1ECB-E056-40C1-BC1D-CEAFC366D623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60240" y="304920"/>
            <a:ext cx="779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A pilot multidimensional poverty index for Armenia: 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Choice of unit of analysis, dimensions and indicators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60240" y="1600200"/>
          <a:ext cx="7793280" cy="4572000"/>
        </p:xfrm>
        <a:graphic>
          <a:graphicData uri="http://schemas.openxmlformats.org/drawingml/2006/table">
            <a:tbl>
              <a:tblPr/>
              <a:tblGrid>
                <a:gridCol w="1778040"/>
                <a:gridCol w="6015240"/>
              </a:tblGrid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Dimension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Indicator: a household is defined as deprived if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Educa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household member above the age of 15 years ha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ess than 5 years of educa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child of compulsory schooling age between 6 and 14 years i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ot attending schoo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ealt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household member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reports poor or very poor health statu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abo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unemployed household member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the household hea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is out of the labor forc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: most informed household member evaluate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 conditions as bad or very b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Water: household doe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ot have centralized water system and/ or hot wate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Garbage: househol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acks a garbage disposal system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eating: househol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uses wood, carbon or other heating mean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Extreme pover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consumption expenditures are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below the national food poverty li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A6D0-0A19-4235-8EFB-A65D5EA0F48E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77932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Findings from pilot multidimensional poverty measure: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Identify time trends, count and index (by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0240" y="1599840"/>
            <a:ext cx="3911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which is deprived in th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indicator on heating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(household dimension) – breakdown by location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88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which experiences deprivations related to th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dimension on labor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– breakdown by location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Content Placeholder 5" descr=""/>
          <p:cNvPicPr/>
          <p:nvPr/>
        </p:nvPicPr>
        <p:blipFill>
          <a:blip r:embed="rId1"/>
          <a:stretch/>
        </p:blipFill>
        <p:spPr>
          <a:xfrm>
            <a:off x="450720" y="2511360"/>
            <a:ext cx="4054680" cy="366408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4" descr=""/>
          <p:cNvPicPr/>
          <p:nvPr/>
        </p:nvPicPr>
        <p:blipFill>
          <a:blip r:embed="rId2"/>
          <a:stretch/>
        </p:blipFill>
        <p:spPr>
          <a:xfrm>
            <a:off x="4638600" y="2511360"/>
            <a:ext cx="4048200" cy="361476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701B-4F26-4875-A9D5-4980786250BB}" type="slidenum">
              <a:rPr b="0" lang="ru-RU" sz="11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7696080" y="5791320"/>
            <a:ext cx="914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3124080" y="57913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Yerevan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7658280" y="5791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Yerevan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How do households experience poverty: 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Count number of deprivations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ontent Placeholder 4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65112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822-114F-4EC7-A99A-959603BE0327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9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experiences “0” to “4 or more” depriv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0240" y="228240"/>
            <a:ext cx="779328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Time trend for the multidimensional poverty index: 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Describe incidence and intensity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able Placeholder 4" descr=""/>
          <p:cNvPicPr/>
          <p:nvPr/>
        </p:nvPicPr>
        <p:blipFill>
          <a:blip r:embed="rId1"/>
          <a:stretch/>
        </p:blipFill>
        <p:spPr>
          <a:xfrm>
            <a:off x="914400" y="251136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66B5-314D-4A1A-BF83-EB954B630DA5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30f8"/>
                </a:solidFill>
                <a:latin typeface="Arial"/>
              </a:rPr>
              <a:t>Incidence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: Share of population which is classified as multidimensional poor. 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30f8"/>
                </a:solidFill>
                <a:latin typeface="Arial"/>
              </a:rPr>
              <a:t>Intensity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: Share of deprivations wher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deprived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 households experience depriv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1680" y="228600"/>
            <a:ext cx="7761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Regional variation of multidimensional poverty: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Level and nature of deprivations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514600"/>
          <a:ext cx="7315200" cy="3600360"/>
        </p:xfrm>
        <a:graphic>
          <a:graphicData uri="http://schemas.openxmlformats.org/drawingml/2006/table">
            <a:tbl>
              <a:tblPr/>
              <a:tblGrid>
                <a:gridCol w="958680"/>
                <a:gridCol w="1533600"/>
                <a:gridCol w="1619280"/>
                <a:gridCol w="1785960"/>
                <a:gridCol w="1417680"/>
              </a:tblGrid>
              <a:tr h="73656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ational leve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Rural area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Other urban area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Yereva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.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7.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1.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5.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5.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6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6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CC10-D871-4216-B126-393D97C48BC7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9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is multidimensionally poor– breakdown by loc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228240"/>
            <a:ext cx="772164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  <a:ea typeface="Calibri"/>
              </a:rPr>
              <a:t>Policy: Drawing a full picture of poverty - multidimensional poverty complements consumption poverty, Armenia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65112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9800-C990-49F9-92AE-4D793234832A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4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is multidimensionally and consumption poor 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(using the upper national poverty line)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53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Customize agenda of multidimensional poverty to the Armenian context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Which dimensions and indicators should be included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Use Integrated Living Conditions Survey to complement existing tools to monitor povert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Consultations with different stakeholders in Armenia: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ow are the NSS RA, different line ministries and civil society going to use this measure for the policy design and coordination?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Ensure that dimensions and indicators of multidimensional poverty reflect development progress in the countr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660240" y="228600"/>
            <a:ext cx="7797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  <a:ea typeface="Times New Roman"/>
              </a:rPr>
              <a:t>Looking ahead – tailor a national measure of multidimensional poverty to the country context of Armenia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6705720" y="624852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C8C0-9050-412A-B7B5-CD7E42553F92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660240" y="6248520"/>
            <a:ext cx="779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21:20:27Z</dcterms:created>
  <dc:creator>Hasmik</dc:creator>
  <dc:description/>
  <dc:language>en-US</dc:language>
  <cp:lastModifiedBy>Vania Etropolska</cp:lastModifiedBy>
  <dcterms:modified xsi:type="dcterms:W3CDTF">2015-05-04T07:08:13Z</dcterms:modified>
  <cp:revision>768</cp:revision>
  <dc:subject/>
  <dc:title>Slide 1</dc:title>
</cp:coreProperties>
</file>