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2B92-4695-4C67-B82A-22A80F6E0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Armeni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E4E2-ADF7-4BC3-B3EB-6E5B7018E086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F088-679F-42D8-A276-4CAE36091EF9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09F7-6E87-4EED-94C6-0E5EB870B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66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61760" y="3540240"/>
            <a:ext cx="766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D470-ABE3-46E9-8247-1FDDD1D5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7560" y="182880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61760" y="354024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7560" y="354024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1E79-27D9-4E04-A2ED-AFC8CF3AD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246672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2320" y="1828800"/>
            <a:ext cx="246672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2520" y="1828800"/>
            <a:ext cx="246672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61760" y="3540240"/>
            <a:ext cx="246672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2320" y="3540240"/>
            <a:ext cx="246672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2520" y="3540240"/>
            <a:ext cx="246672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DE73-892F-4434-80DC-251C0B71E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67DB-77DA-413B-921A-36E3BB9BE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61760" y="1828800"/>
            <a:ext cx="766116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9864-0418-4561-8B4A-A717AF8C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6611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095E-AD7E-4F21-9018-9DC92DDF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3738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7560" y="1828800"/>
            <a:ext cx="3738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2A7A-9076-4304-8FD3-7AEDD6CB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48F5-1855-4CC0-92AE-5066319E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66680" y="228240"/>
            <a:ext cx="715824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2F89-DC83-4211-8F1C-8D595AD5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7560" y="1828800"/>
            <a:ext cx="3738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354024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4D99-291B-4B7C-8FEE-84811535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61760" y="1828800"/>
            <a:ext cx="766116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37D0-C2AC-49D1-9217-E9168638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3738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7560" y="182880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7560" y="354024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EFF1-2A06-4AAA-A7F9-005108F1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7560" y="182880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1760" y="3540240"/>
            <a:ext cx="766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DE51-4DF1-482A-9B9E-0B257E36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66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61760" y="3540240"/>
            <a:ext cx="766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3682-0BDD-4009-B25D-89716FAA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7560" y="182880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61760" y="354024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87560" y="354024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EB29-BBFA-46FD-A97C-AC543D79E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246672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52320" y="1828800"/>
            <a:ext cx="246672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2520" y="1828800"/>
            <a:ext cx="246672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761760" y="3540240"/>
            <a:ext cx="246672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52320" y="3540240"/>
            <a:ext cx="246672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2520" y="3540240"/>
            <a:ext cx="246672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92B2-941C-4466-B52D-87D130C8B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6611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474C-2927-4149-A28D-D089D765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3738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28800"/>
            <a:ext cx="3738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92D2-1E27-426F-8D4B-F06AEDAF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D514-3BE9-4F79-86B1-CC2898C7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66680" y="228240"/>
            <a:ext cx="715824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07BB-092D-456A-BC75-3825DF74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7560" y="1828800"/>
            <a:ext cx="3738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1760" y="354024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A2DC-2C75-4F28-9E1A-E846165D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3738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7560" y="182880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7560" y="354024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6336-AE98-4690-A4A4-C2915560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7560" y="182880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1760" y="3540240"/>
            <a:ext cx="766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9825-D203-48ED-BC9B-57E84A44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0" y="1066680"/>
            <a:ext cx="8686800" cy="108000"/>
            <a:chOff x="0" y="1066680"/>
            <a:chExt cx="8686800" cy="108000"/>
          </a:xfrm>
        </p:grpSpPr>
        <p:sp>
          <p:nvSpPr>
            <p:cNvPr id="1" name="Rectangle 2"/>
            <p:cNvSpPr/>
            <p:nvPr/>
          </p:nvSpPr>
          <p:spPr>
            <a:xfrm>
              <a:off x="0" y="1073160"/>
              <a:ext cx="2133720" cy="101520"/>
            </a:xfrm>
            <a:prstGeom prst="rect">
              <a:avLst/>
            </a:prstGeom>
            <a:gradFill rotWithShape="0">
              <a:gsLst>
                <a:gs pos="0">
                  <a:srgbClr val="297cd7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imes Armenian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1447920" y="1066680"/>
              <a:ext cx="7238880" cy="101520"/>
            </a:xfrm>
            <a:prstGeom prst="rect">
              <a:avLst/>
            </a:prstGeom>
            <a:gradFill rotWithShape="0">
              <a:gsLst>
                <a:gs pos="0">
                  <a:srgbClr val="297cd7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imes Armeni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61760" y="1828800"/>
            <a:ext cx="76611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53520" indent="-353520">
              <a:spcBef>
                <a:spcPts val="799"/>
              </a:spcBef>
              <a:buClr>
                <a:srgbClr val="ff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702000" indent="-347040">
              <a:spcBef>
                <a:spcPts val="799"/>
              </a:spcBef>
              <a:buClr>
                <a:srgbClr val="ff33c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022040" indent="-318240">
              <a:spcBef>
                <a:spcPts val="799"/>
              </a:spcBef>
              <a:buClr>
                <a:srgbClr val="ff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328040" indent="-304560">
              <a:spcBef>
                <a:spcPts val="799"/>
              </a:spcBef>
              <a:buClr>
                <a:srgbClr val="ff33c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1635120" indent="-306000">
              <a:spcBef>
                <a:spcPts val="799"/>
              </a:spcBef>
              <a:buClr>
                <a:srgbClr val="ff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1635120" indent="-306000">
              <a:spcBef>
                <a:spcPts val="799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1635120" indent="-306000">
              <a:spcBef>
                <a:spcPts val="799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itoring Poverty in Armenia using Multidimensional Poverty Indicators</a:t>
            </a:r>
            <a:endParaRPr b="0" lang="en-US" sz="1000" spc="-1" strike="noStrike">
              <a:solidFill>
                <a:srgbClr val="000000"/>
              </a:solidFill>
              <a:latin typeface="Times Armeni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6CEF-EAAB-464B-AF2A-820A9F7F655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Armenian"/>
            </a:endParaRPr>
          </a:p>
        </p:txBody>
      </p:sp>
      <p:sp>
        <p:nvSpPr>
          <p:cNvPr id="8" name="Freeform 9"/>
          <p:cNvSpPr/>
          <p:nvPr/>
        </p:nvSpPr>
        <p:spPr>
          <a:xfrm>
            <a:off x="685800" y="152280"/>
            <a:ext cx="152280" cy="10670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9" name="Freeform 10"/>
          <p:cNvSpPr/>
          <p:nvPr/>
        </p:nvSpPr>
        <p:spPr>
          <a:xfrm>
            <a:off x="8263080" y="7632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0" y="1676520"/>
            <a:ext cx="4876920" cy="1600200"/>
          </a:xfrm>
          <a:prstGeom prst="rect">
            <a:avLst/>
          </a:prstGeom>
          <a:gradFill rotWithShape="0">
            <a:gsLst>
              <a:gs pos="0">
                <a:srgbClr val="297cd7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3962520" y="1676520"/>
            <a:ext cx="4724280" cy="1371600"/>
          </a:xfrm>
          <a:prstGeom prst="rect">
            <a:avLst/>
          </a:prstGeom>
          <a:gradFill rotWithShape="0">
            <a:gsLst>
              <a:gs pos="0">
                <a:srgbClr val="297cd7"/>
              </a:gs>
              <a:gs pos="50000">
                <a:srgbClr val="ffffff"/>
              </a:gs>
              <a:gs pos="100000">
                <a:srgbClr val="297cd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48" name="Freeform 10"/>
          <p:cNvSpPr/>
          <p:nvPr/>
        </p:nvSpPr>
        <p:spPr>
          <a:xfrm>
            <a:off x="609480" y="1523880"/>
            <a:ext cx="304920" cy="190512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49" name="Freeform 11"/>
          <p:cNvSpPr/>
          <p:nvPr/>
        </p:nvSpPr>
        <p:spPr>
          <a:xfrm>
            <a:off x="7772400" y="1219320"/>
            <a:ext cx="380880" cy="21430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  <p:pic>
        <p:nvPicPr>
          <p:cNvPr id="50" name="Picture 18" descr="gerb"/>
          <p:cNvPicPr/>
          <p:nvPr/>
        </p:nvPicPr>
        <p:blipFill>
          <a:blip r:embed="rId2"/>
          <a:stretch/>
        </p:blipFill>
        <p:spPr>
          <a:xfrm>
            <a:off x="380880" y="228600"/>
            <a:ext cx="981360" cy="952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" descr=""/>
          <p:cNvPicPr/>
          <p:nvPr/>
        </p:nvPicPr>
        <p:blipFill>
          <a:blip r:embed="rId3"/>
          <a:stretch/>
        </p:blipFill>
        <p:spPr>
          <a:xfrm>
            <a:off x="1676520" y="304920"/>
            <a:ext cx="1257120" cy="765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1" descr="MCA-Armenia-SIGN-LIGHT"/>
          <p:cNvPicPr/>
          <p:nvPr/>
        </p:nvPicPr>
        <p:blipFill>
          <a:blip r:embed="rId4"/>
          <a:stretch/>
        </p:blipFill>
        <p:spPr>
          <a:xfrm>
            <a:off x="3200400" y="228600"/>
            <a:ext cx="2523960" cy="8002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761760" y="1828800"/>
            <a:ext cx="76611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53520" indent="-353520">
              <a:spcBef>
                <a:spcPts val="799"/>
              </a:spcBef>
              <a:buClr>
                <a:srgbClr val="ff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702000" indent="-347040">
              <a:spcBef>
                <a:spcPts val="799"/>
              </a:spcBef>
              <a:buClr>
                <a:srgbClr val="ff33c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022040" indent="-318240">
              <a:spcBef>
                <a:spcPts val="799"/>
              </a:spcBef>
              <a:buClr>
                <a:srgbClr val="ff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328040" indent="-304560">
              <a:spcBef>
                <a:spcPts val="799"/>
              </a:spcBef>
              <a:buClr>
                <a:srgbClr val="ff33c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1635120" indent="-306000">
              <a:spcBef>
                <a:spcPts val="799"/>
              </a:spcBef>
              <a:buClr>
                <a:srgbClr val="ff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1635120" indent="-306000">
              <a:spcBef>
                <a:spcPts val="799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1635120" indent="-306000">
              <a:spcBef>
                <a:spcPts val="799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Monitoring Poverty in Armenia using Multidimensional Poverty Indicators</a:t>
            </a:r>
            <a:endParaRPr b="0" lang="en-US" sz="1000" spc="-1" strike="noStrike">
              <a:solidFill>
                <a:srgbClr val="000000"/>
              </a:solidFill>
              <a:latin typeface="Times Armeni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19FE-2342-4AB2-A016-5598D966C2B0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Armeni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066680" y="123840"/>
            <a:ext cx="903240" cy="866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2362320" y="228600"/>
            <a:ext cx="1263600" cy="717480"/>
          </a:xfrm>
          <a:prstGeom prst="rect">
            <a:avLst/>
          </a:prstGeom>
          <a:ln w="0">
            <a:noFill/>
          </a:ln>
        </p:spPr>
      </p:pic>
      <p:sp>
        <p:nvSpPr>
          <p:cNvPr id="103" name="Content Placeholder 2"/>
          <p:cNvSpPr/>
          <p:nvPr/>
        </p:nvSpPr>
        <p:spPr>
          <a:xfrm>
            <a:off x="1066680" y="2076480"/>
            <a:ext cx="685800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Monitoring Poverty in Armenia using Multidimensional Poverty Indicators</a:t>
            </a:r>
            <a:endParaRPr b="0" lang="en-US" sz="32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1066680" y="4543560"/>
            <a:ext cx="68580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30f8"/>
                </a:solidFill>
                <a:latin typeface="Arial"/>
              </a:rPr>
              <a:t>Diana Martirosova</a:t>
            </a: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0f8"/>
                </a:solidFill>
                <a:latin typeface="Arial"/>
              </a:rPr>
              <a:t>National Statistical Service of the Republic of Armenia</a:t>
            </a: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30f8"/>
                </a:solidFill>
                <a:latin typeface="Arial"/>
              </a:rPr>
              <a:t>Moritz Meyer</a:t>
            </a: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0f8"/>
                </a:solidFill>
                <a:latin typeface="Arial"/>
              </a:rPr>
              <a:t>Economist, Poverty GP, Europe and Central Asia</a:t>
            </a: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30f8"/>
                </a:solidFill>
                <a:latin typeface="Arial"/>
              </a:rPr>
              <a:t>Nistha Sinha </a:t>
            </a: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0f8"/>
                </a:solidFill>
                <a:latin typeface="Arial"/>
              </a:rPr>
              <a:t>Senior Economist, Poverty GP, Europe and Central Asia</a:t>
            </a: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1714680" y="367200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30f8"/>
                </a:solidFill>
                <a:latin typeface="Arial"/>
              </a:rPr>
              <a:t>UNECE conference in Geneva, 4-6 May 2015</a:t>
            </a: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3"/>
          <a:stretch/>
        </p:blipFill>
        <p:spPr>
          <a:xfrm>
            <a:off x="6153120" y="123840"/>
            <a:ext cx="1771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660240" y="522360"/>
            <a:ext cx="779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1d6"/>
                </a:solidFill>
                <a:latin typeface="Arial"/>
              </a:rPr>
              <a:t>Roadmap: Multidimensional poverty in Armenia</a:t>
            </a:r>
            <a:endParaRPr b="0" lang="en-US" sz="20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92000" y="1447920"/>
            <a:ext cx="7661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51"/>
              </a:spcBef>
              <a:buClr>
                <a:srgbClr val="ff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30f8"/>
                </a:solidFill>
                <a:latin typeface="Arial"/>
              </a:rPr>
              <a:t>Our vision: </a:t>
            </a:r>
            <a:r>
              <a:rPr b="0" lang="en-US" sz="1800" spc="-1" strike="noStrike">
                <a:solidFill>
                  <a:srgbClr val="0830f8"/>
                </a:solidFill>
                <a:latin typeface="Arial"/>
              </a:rPr>
              <a:t>Describe complexity, depth and persistence of poverty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349"/>
              </a:spcBef>
              <a:buClr>
                <a:srgbClr val="ff33c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349"/>
              </a:spcBef>
              <a:buClr>
                <a:srgbClr val="ff33c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30f8"/>
                </a:solidFill>
                <a:latin typeface="Arial"/>
              </a:rPr>
              <a:t>Concept: How do households experience poverty?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30f8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Poverty is characterized by whether an individuals experiences deprivations on 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aspects of welfare that are a development priority (such as being healthy or having 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a job)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349"/>
              </a:spcBef>
              <a:buClr>
                <a:srgbClr val="ff33c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349"/>
              </a:spcBef>
              <a:buClr>
                <a:srgbClr val="ff33c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30f8"/>
                </a:solidFill>
                <a:latin typeface="Arial"/>
              </a:rPr>
              <a:t>Benefit: Complement consumption poverty by multidimensional poverty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30f8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Measure reflects aspects of quality of life which are not captured by consumption 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poverty (such as having access to good quality education and health services and 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having adequate heating)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349"/>
              </a:spcBef>
              <a:buClr>
                <a:srgbClr val="ff33c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349"/>
              </a:spcBef>
              <a:buClr>
                <a:srgbClr val="ff33c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30f8"/>
                </a:solidFill>
                <a:latin typeface="Arial"/>
              </a:rPr>
              <a:t>Policy: Monitor progress on development goals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Multidimensional poverty can be based on government’s development priorities. 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Monitor progress on development goals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ff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30f8"/>
                </a:solidFill>
                <a:latin typeface="Arial"/>
              </a:rPr>
              <a:t>This presentation: </a:t>
            </a:r>
            <a:r>
              <a:rPr b="0" lang="en-US" sz="1800" spc="-1" strike="noStrike">
                <a:solidFill>
                  <a:srgbClr val="0830f8"/>
                </a:solidFill>
                <a:latin typeface="Arial"/>
              </a:rPr>
              <a:t>Focus on methodology, findings and policy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Slide Number Placeholder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F265-4841-440C-9C5E-2473E44BE61E}" type="slidenum">
              <a:rPr b="0" lang="ru-RU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10" name="Footer Placeholder 2"/>
          <p:cNvSpPr/>
          <p:nvPr/>
        </p:nvSpPr>
        <p:spPr>
          <a:xfrm>
            <a:off x="660240" y="6248520"/>
            <a:ext cx="779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artirosova, Meyer and Sinha (2015): Monitoring Poverty in Armenia using Multidimensional Poverty Indicators</a:t>
            </a:r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660240" y="304920"/>
            <a:ext cx="779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1d6"/>
                </a:solidFill>
                <a:latin typeface="Arial"/>
              </a:rPr>
              <a:t>A pilot multidimensional poverty index for Armenia: </a:t>
            </a:r>
            <a:endParaRPr b="0" lang="en-US" sz="2000" spc="-1" strike="noStrike">
              <a:solidFill>
                <a:srgbClr val="292929"/>
              </a:solidFill>
              <a:latin typeface="Times Armeni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1d6"/>
                </a:solidFill>
                <a:latin typeface="Arial"/>
              </a:rPr>
              <a:t>Choice of unit of analysis, dimensions and indicators</a:t>
            </a:r>
            <a:endParaRPr b="0" lang="en-US" sz="2000" spc="-1" strike="noStrike">
              <a:solidFill>
                <a:srgbClr val="292929"/>
              </a:solidFill>
              <a:latin typeface="Times Armeni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60240" y="1600200"/>
          <a:ext cx="7793280" cy="4572000"/>
        </p:xfrm>
        <a:graphic>
          <a:graphicData uri="http://schemas.openxmlformats.org/drawingml/2006/table">
            <a:tbl>
              <a:tblPr/>
              <a:tblGrid>
                <a:gridCol w="1778040"/>
                <a:gridCol w="6015240"/>
              </a:tblGrid>
              <a:tr h="31896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Dimension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Indicator: a household is defined as deprived if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 rowSpan="2"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Education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at least one household member above the age of 15 years has </a:t>
                      </a:r>
                      <a:r>
                        <a:rPr b="0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less than 5 years of education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at least one child of compulsory schooling age between 6 and 14 years is </a:t>
                      </a:r>
                      <a:r>
                        <a:rPr b="0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not attending school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Health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at least one household member </a:t>
                      </a:r>
                      <a:r>
                        <a:rPr b="0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reports poor or very poor health status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Labor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at least one </a:t>
                      </a:r>
                      <a:r>
                        <a:rPr b="0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unemployed household member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the household head </a:t>
                      </a:r>
                      <a:r>
                        <a:rPr b="0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is out of the labor forc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Housing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Housing: most informed household member evaluates </a:t>
                      </a:r>
                      <a:r>
                        <a:rPr b="0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housing conditions as bad or very bad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Water: household does </a:t>
                      </a:r>
                      <a:r>
                        <a:rPr b="0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not have centralized water system and/ or hot water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Garbage: household </a:t>
                      </a:r>
                      <a:r>
                        <a:rPr b="0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lacks a garbage disposal system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Heating: household </a:t>
                      </a:r>
                      <a:r>
                        <a:rPr b="0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uses wood, carbon or other heating means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Extreme poverty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consumption expenditures are </a:t>
                      </a:r>
                      <a:r>
                        <a:rPr b="0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below the national food poverty lin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Slide Number Placeholder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E887-2B57-4807-9DB9-9C601D589C3E}" type="slidenum">
              <a:rPr b="0" lang="ru-RU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14" name="Footer Placeholder 2"/>
          <p:cNvSpPr/>
          <p:nvPr/>
        </p:nvSpPr>
        <p:spPr>
          <a:xfrm>
            <a:off x="660240" y="6248520"/>
            <a:ext cx="779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artirosova, Meyer and Sinha (2015): Monitoring Poverty in Armenia using Multidimensional Poverty Indicators</a:t>
            </a:r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60240" y="456840"/>
            <a:ext cx="779328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1d6"/>
                </a:solidFill>
                <a:latin typeface="Arial"/>
              </a:rPr>
              <a:t>Findings from pilot multidimensional poverty measure:</a:t>
            </a:r>
            <a:br>
              <a:rPr sz="2000"/>
            </a:br>
            <a:r>
              <a:rPr b="1" lang="en-US" sz="2000" spc="-1" strike="noStrike">
                <a:solidFill>
                  <a:srgbClr val="ff61d6"/>
                </a:solidFill>
                <a:latin typeface="Arial"/>
              </a:rPr>
              <a:t>Identify time trends, count and index (by reg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60240" y="1599840"/>
            <a:ext cx="39117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Share of population which is deprived in the </a:t>
            </a:r>
            <a:r>
              <a:rPr b="1" lang="en-US" sz="1400" spc="-1" strike="noStrike">
                <a:solidFill>
                  <a:srgbClr val="0830f8"/>
                </a:solidFill>
                <a:latin typeface="Arial"/>
              </a:rPr>
              <a:t>indicator on heating 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(household dimension) – breakdown by locations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0" y="1447920"/>
            <a:ext cx="3881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Share of population which experiences deprivations related to the </a:t>
            </a:r>
            <a:r>
              <a:rPr b="1" lang="en-US" sz="1400" spc="-1" strike="noStrike">
                <a:solidFill>
                  <a:srgbClr val="0830f8"/>
                </a:solidFill>
                <a:latin typeface="Arial"/>
              </a:rPr>
              <a:t>dimension on labor 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– breakdown by locations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8" name="Content Placeholder 5" descr=""/>
          <p:cNvPicPr/>
          <p:nvPr/>
        </p:nvPicPr>
        <p:blipFill>
          <a:blip r:embed="rId1"/>
          <a:stretch/>
        </p:blipFill>
        <p:spPr>
          <a:xfrm>
            <a:off x="450720" y="2511360"/>
            <a:ext cx="4054680" cy="3664080"/>
          </a:xfrm>
          <a:prstGeom prst="rect">
            <a:avLst/>
          </a:prstGeom>
          <a:ln w="0">
            <a:noFill/>
          </a:ln>
        </p:spPr>
      </p:pic>
      <p:pic>
        <p:nvPicPr>
          <p:cNvPr id="119" name="Content Placeholder 4" descr=""/>
          <p:cNvPicPr/>
          <p:nvPr/>
        </p:nvPicPr>
        <p:blipFill>
          <a:blip r:embed="rId2"/>
          <a:stretch/>
        </p:blipFill>
        <p:spPr>
          <a:xfrm>
            <a:off x="4638600" y="2511360"/>
            <a:ext cx="4048200" cy="3614760"/>
          </a:xfrm>
          <a:prstGeom prst="rect">
            <a:avLst/>
          </a:prstGeom>
          <a:ln w="0">
            <a:noFill/>
          </a:ln>
        </p:spPr>
      </p:pic>
      <p:sp>
        <p:nvSpPr>
          <p:cNvPr id="120" name="Slide Number Placeholder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1D4F-5A28-415E-A9FC-55B80AC7BBAC}" type="slidenum">
              <a:rPr b="0" lang="ru-RU" sz="11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21" name="Footer Placeholder 2"/>
          <p:cNvSpPr/>
          <p:nvPr/>
        </p:nvSpPr>
        <p:spPr>
          <a:xfrm>
            <a:off x="660240" y="6248520"/>
            <a:ext cx="779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artirosova, Meyer and Sinha (2015): Monitoring Poverty in Armenia using Multidimensional Poverty Indicators</a:t>
            </a:r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7696080" y="5791320"/>
            <a:ext cx="9144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3124080" y="579132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Yerevan</a:t>
            </a:r>
            <a:endParaRPr b="0" lang="en-US" sz="14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24" name="TextBox 10"/>
          <p:cNvSpPr/>
          <p:nvPr/>
        </p:nvSpPr>
        <p:spPr>
          <a:xfrm>
            <a:off x="7658280" y="57913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Yerevan</a:t>
            </a:r>
            <a:endParaRPr b="0" lang="en-US" sz="1400" spc="-1" strike="noStrike">
              <a:solidFill>
                <a:srgbClr val="292929"/>
              </a:solidFill>
              <a:latin typeface="Times Armeni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1d6"/>
                </a:solidFill>
                <a:latin typeface="Arial"/>
              </a:rPr>
              <a:t>How do households experience poverty: </a:t>
            </a:r>
            <a:br>
              <a:rPr sz="2000"/>
            </a:br>
            <a:r>
              <a:rPr b="1" lang="en-US" sz="2000" spc="-1" strike="noStrike">
                <a:solidFill>
                  <a:srgbClr val="ff61d6"/>
                </a:solidFill>
                <a:latin typeface="Arial"/>
              </a:rPr>
              <a:t>Count number of deprivations, Armenia 2008 to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Content Placeholder 4" descr=""/>
          <p:cNvPicPr/>
          <p:nvPr/>
        </p:nvPicPr>
        <p:blipFill>
          <a:blip r:embed="rId1"/>
          <a:stretch/>
        </p:blipFill>
        <p:spPr>
          <a:xfrm>
            <a:off x="914400" y="2517840"/>
            <a:ext cx="7315200" cy="3651120"/>
          </a:xfrm>
          <a:prstGeom prst="rect">
            <a:avLst/>
          </a:prstGeom>
          <a:ln w="0">
            <a:noFill/>
          </a:ln>
        </p:spPr>
      </p:pic>
      <p:sp>
        <p:nvSpPr>
          <p:cNvPr id="127" name="Slide Number Placeholder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8932-BB84-413B-A5DE-DA1F4E2852CA}" type="slidenum">
              <a:rPr b="0" lang="ru-RU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28" name="Footer Placeholder 2"/>
          <p:cNvSpPr/>
          <p:nvPr/>
        </p:nvSpPr>
        <p:spPr>
          <a:xfrm>
            <a:off x="660240" y="6248520"/>
            <a:ext cx="779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artirosova, Meyer and Sinha (2015): Monitoring Poverty in Armenia using Multidimensional Poverty Indicators</a:t>
            </a:r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29" name="Text Placeholder 2"/>
          <p:cNvSpPr/>
          <p:nvPr/>
        </p:nvSpPr>
        <p:spPr>
          <a:xfrm>
            <a:off x="914400" y="163368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Share of population (in percent) which experiences “0” to “4 or more” deprivations.</a:t>
            </a:r>
            <a:endParaRPr b="0" lang="en-US" sz="1400" spc="-1" strike="noStrike">
              <a:solidFill>
                <a:srgbClr val="292929"/>
              </a:solidFill>
              <a:latin typeface="Times Armeni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60240" y="228240"/>
            <a:ext cx="7793280" cy="80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1d6"/>
                </a:solidFill>
                <a:latin typeface="Arial"/>
              </a:rPr>
              <a:t>Time trend for the multidimensional poverty index: </a:t>
            </a:r>
            <a:br>
              <a:rPr sz="2000"/>
            </a:br>
            <a:r>
              <a:rPr b="1" lang="en-US" sz="2000" spc="-1" strike="noStrike">
                <a:solidFill>
                  <a:srgbClr val="ff61d6"/>
                </a:solidFill>
                <a:latin typeface="Arial"/>
              </a:rPr>
              <a:t>Describe incidence and intensity, Armenia 2008 to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Table Placeholder 4" descr=""/>
          <p:cNvPicPr/>
          <p:nvPr/>
        </p:nvPicPr>
        <p:blipFill>
          <a:blip r:embed="rId1"/>
          <a:stretch/>
        </p:blipFill>
        <p:spPr>
          <a:xfrm>
            <a:off x="914400" y="2511360"/>
            <a:ext cx="7315200" cy="3657600"/>
          </a:xfrm>
          <a:prstGeom prst="rect">
            <a:avLst/>
          </a:prstGeom>
          <a:ln w="0">
            <a:noFill/>
          </a:ln>
        </p:spPr>
      </p:pic>
      <p:sp>
        <p:nvSpPr>
          <p:cNvPr id="132" name="Slide Number Placeholder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59DD-F1D2-433C-95C6-4C6D5BF82135}" type="slidenum">
              <a:rPr b="0" lang="ru-RU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33" name="Footer Placeholder 2"/>
          <p:cNvSpPr/>
          <p:nvPr/>
        </p:nvSpPr>
        <p:spPr>
          <a:xfrm>
            <a:off x="660240" y="6248520"/>
            <a:ext cx="779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artirosova, Meyer and Sinha (2015): Monitoring Poverty in Armenia using Multidimensional Poverty Indicators</a:t>
            </a:r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34" name="Text Placeholder 2"/>
          <p:cNvSpPr/>
          <p:nvPr/>
        </p:nvSpPr>
        <p:spPr>
          <a:xfrm>
            <a:off x="914400" y="163368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830f8"/>
                </a:solidFill>
                <a:latin typeface="Arial"/>
              </a:rPr>
              <a:t>Incidence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: Share of population which is classified as multidimensional poor. </a:t>
            </a:r>
            <a:endParaRPr b="0" lang="en-US" sz="1400" spc="-1" strike="noStrike">
              <a:solidFill>
                <a:srgbClr val="292929"/>
              </a:solidFill>
              <a:latin typeface="Times Armeni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830f8"/>
                </a:solidFill>
                <a:latin typeface="Arial"/>
              </a:rPr>
              <a:t>Intensity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: Share of deprivations where </a:t>
            </a:r>
            <a:r>
              <a:rPr b="1" lang="en-US" sz="1400" spc="-1" strike="noStrike">
                <a:solidFill>
                  <a:srgbClr val="0830f8"/>
                </a:solidFill>
                <a:latin typeface="Arial"/>
              </a:rPr>
              <a:t>deprived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 households experience deprivations.</a:t>
            </a:r>
            <a:endParaRPr b="0" lang="en-US" sz="1400" spc="-1" strike="noStrike">
              <a:solidFill>
                <a:srgbClr val="292929"/>
              </a:solidFill>
              <a:latin typeface="Times Armeni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61680" y="228600"/>
            <a:ext cx="776124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1d6"/>
                </a:solidFill>
                <a:latin typeface="Arial"/>
              </a:rPr>
              <a:t>Regional variation of multidimensional poverty:</a:t>
            </a:r>
            <a:br>
              <a:rPr sz="2000"/>
            </a:br>
            <a:r>
              <a:rPr b="1" lang="en-US" sz="2000" spc="-1" strike="noStrike">
                <a:solidFill>
                  <a:srgbClr val="ff61d6"/>
                </a:solidFill>
                <a:latin typeface="Arial"/>
              </a:rPr>
              <a:t>Level and nature of deprivations, Armenia 2008 to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14400" y="2514600"/>
          <a:ext cx="7315200" cy="3600360"/>
        </p:xfrm>
        <a:graphic>
          <a:graphicData uri="http://schemas.openxmlformats.org/drawingml/2006/table">
            <a:tbl>
              <a:tblPr/>
              <a:tblGrid>
                <a:gridCol w="958680"/>
                <a:gridCol w="1533600"/>
                <a:gridCol w="1619280"/>
                <a:gridCol w="1785960"/>
                <a:gridCol w="1417680"/>
              </a:tblGrid>
              <a:tr h="73656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National level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Rural areas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Other urban areas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Yerevan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20.4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27.2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21.9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11.4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22.3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25.6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19.7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21.1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68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2012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19.0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20.0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15.6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21.2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16.3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19.9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12.0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16.3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C603-D24B-4DB6-B813-3672C758DE5F}" type="slidenum">
              <a:rPr b="0" lang="ru-RU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38" name="Footer Placeholder 2"/>
          <p:cNvSpPr/>
          <p:nvPr/>
        </p:nvSpPr>
        <p:spPr>
          <a:xfrm>
            <a:off x="660240" y="6248520"/>
            <a:ext cx="779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artirosova, Meyer and Sinha (2015): Monitoring Poverty in Armenia using Multidimensional Poverty Indicators</a:t>
            </a:r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39" name="Text Placeholder 2"/>
          <p:cNvSpPr/>
          <p:nvPr/>
        </p:nvSpPr>
        <p:spPr>
          <a:xfrm>
            <a:off x="914400" y="163368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Share of population (in percent) which is multidimensionally poor– breakdown by locations.</a:t>
            </a:r>
            <a:endParaRPr b="0" lang="en-US" sz="1400" spc="-1" strike="noStrike">
              <a:solidFill>
                <a:srgbClr val="292929"/>
              </a:solidFill>
              <a:latin typeface="Times Armeni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9880" y="228240"/>
            <a:ext cx="7721640" cy="80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1d6"/>
                </a:solidFill>
                <a:latin typeface="Arial"/>
                <a:ea typeface="Calibri"/>
              </a:rPr>
              <a:t>Policy: Drawing a full picture of poverty - multidimensional poverty complements consumption poverty, Armenia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Content Placeholder 3" descr=""/>
          <p:cNvPicPr/>
          <p:nvPr/>
        </p:nvPicPr>
        <p:blipFill>
          <a:blip r:embed="rId1"/>
          <a:stretch/>
        </p:blipFill>
        <p:spPr>
          <a:xfrm>
            <a:off x="914400" y="2517840"/>
            <a:ext cx="7315200" cy="3651120"/>
          </a:xfrm>
          <a:prstGeom prst="rect">
            <a:avLst/>
          </a:prstGeom>
          <a:ln w="0">
            <a:noFill/>
          </a:ln>
        </p:spPr>
      </p:pic>
      <p:sp>
        <p:nvSpPr>
          <p:cNvPr id="142" name="Slide Number Placeholder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5568-CD51-436B-8145-D32F1C5B63BC}" type="slidenum">
              <a:rPr b="0" lang="ru-RU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43" name="Footer Placeholder 2"/>
          <p:cNvSpPr/>
          <p:nvPr/>
        </p:nvSpPr>
        <p:spPr>
          <a:xfrm>
            <a:off x="660240" y="6248520"/>
            <a:ext cx="779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artirosova, Meyer and Sinha (2015): Monitoring Poverty in Armenia using Multidimensional Poverty Indicators</a:t>
            </a:r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44" name="Text Placeholder 2"/>
          <p:cNvSpPr/>
          <p:nvPr/>
        </p:nvSpPr>
        <p:spPr>
          <a:xfrm>
            <a:off x="914400" y="163368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Share of population (in percent) which is multidimensionally and consumption poor </a:t>
            </a:r>
            <a:endParaRPr b="0" lang="en-US" sz="1400" spc="-1" strike="noStrike">
              <a:solidFill>
                <a:srgbClr val="292929"/>
              </a:solidFill>
              <a:latin typeface="Times Armeni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(using the upper national poverty line).</a:t>
            </a:r>
            <a:endParaRPr b="0" lang="en-US" sz="1400" spc="-1" strike="noStrike">
              <a:solidFill>
                <a:srgbClr val="292929"/>
              </a:solidFill>
              <a:latin typeface="Times Armeni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761760" y="1523520"/>
            <a:ext cx="7853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90000"/>
              </a:lnSpc>
              <a:spcBef>
                <a:spcPts val="451"/>
              </a:spcBef>
              <a:buClr>
                <a:srgbClr val="ff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30f8"/>
                </a:solidFill>
                <a:latin typeface="Arial"/>
              </a:rPr>
              <a:t>Customize agenda of multidimensional poverty to the Armenian context: </a:t>
            </a:r>
            <a:r>
              <a:rPr b="0" lang="en-US" sz="1800" spc="-1" strike="noStrike">
                <a:solidFill>
                  <a:srgbClr val="0830f8"/>
                </a:solidFill>
                <a:latin typeface="Arial"/>
              </a:rPr>
              <a:t>Which dimensions and indicators should be included?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 algn="just">
              <a:lnSpc>
                <a:spcPct val="90000"/>
              </a:lnSpc>
              <a:spcBef>
                <a:spcPts val="349"/>
              </a:spcBef>
              <a:buClr>
                <a:srgbClr val="ff33c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Use Integrated Living Conditions Survey to complement existing tools to monitor poverty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90000"/>
              </a:lnSpc>
              <a:spcBef>
                <a:spcPts val="451"/>
              </a:spcBef>
              <a:buClr>
                <a:srgbClr val="ff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30f8"/>
                </a:solidFill>
                <a:latin typeface="Arial"/>
              </a:rPr>
              <a:t>Consultations with different stakeholders in Armenia: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How are the NSS RA, different line ministries and civil society going to use this measure for the policy design and coordination?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 algn="just">
              <a:lnSpc>
                <a:spcPct val="90000"/>
              </a:lnSpc>
              <a:spcBef>
                <a:spcPts val="349"/>
              </a:spcBef>
              <a:buClr>
                <a:srgbClr val="ff33c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Ensure that dimensions and indicators of multidimensional poverty reflect development progress in the country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Rectangle 1"/>
          <p:cNvSpPr/>
          <p:nvPr/>
        </p:nvSpPr>
        <p:spPr>
          <a:xfrm>
            <a:off x="660240" y="228600"/>
            <a:ext cx="779796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1d6"/>
                </a:solidFill>
                <a:latin typeface="Arial"/>
                <a:ea typeface="Times New Roman"/>
              </a:rPr>
              <a:t>Looking ahead – tailor a national measure of multidimensional poverty to the country context of Armenia</a:t>
            </a:r>
            <a:endParaRPr b="0" lang="en-US" sz="20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47" name="Slide Number Placeholder 2"/>
          <p:cNvSpPr/>
          <p:nvPr/>
        </p:nvSpPr>
        <p:spPr>
          <a:xfrm>
            <a:off x="6705720" y="6248520"/>
            <a:ext cx="19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7DFC-40F4-4458-AE86-2A814CA17D80}" type="slidenum">
              <a:rPr b="0" lang="ru-RU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48" name="Footer Placeholder 2"/>
          <p:cNvSpPr/>
          <p:nvPr/>
        </p:nvSpPr>
        <p:spPr>
          <a:xfrm>
            <a:off x="660240" y="6248520"/>
            <a:ext cx="779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artirosova, Meyer and Sinha (2015): Monitoring Poverty in Armenia using Multidimensional Poverty Indicators</a:t>
            </a:r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21:20:27Z</dcterms:created>
  <dc:creator>Hasmik</dc:creator>
  <dc:description/>
  <dc:language>en-US</dc:language>
  <cp:lastModifiedBy>Vania Etropolska</cp:lastModifiedBy>
  <dcterms:modified xsi:type="dcterms:W3CDTF">2015-05-04T07:08:13Z</dcterms:modified>
  <cp:revision>768</cp:revision>
  <dc:subject/>
  <dc:title>Slide 1</dc:title>
</cp:coreProperties>
</file>