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4A0-473B-48D0-97C4-C38B69FC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8B8-9EA8-4877-BC1E-0681F7B0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1D7-146D-4F91-981E-3BB778BD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2B2-26C5-411D-A97F-776D5208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450-15FA-48DB-8FFB-88C0D4E3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833-8514-424B-B465-64D4DC01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D89-25CA-48F5-BB4F-595FA81C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71B-1A4B-453D-B9EF-2BBDE223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E7A-E7C0-40FF-989E-9670828B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90A-9A2A-4FA2-A267-5FDFA247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B8A-F10C-4F25-B0DC-018B49E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734-8279-439B-AB5C-82E40C1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43D6-BD94-4CB3-B64A-071FCD2F9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мерение бедности в Таджикиста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028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Агентство по статистике при Президенте Республике Таджики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093080" y="0"/>
            <a:ext cx="17571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ет по вопросам бедности</a:t>
            </a:r>
            <a:r>
              <a:rPr b="1" lang="tg-Cyrl-TJ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13372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технических совещ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давать доверие как активный член Совета по вопросам 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иться опытом по подобной финансовой и технической помощи, полученные раньше в стране и за рубеж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е старого и нового мет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ДХ является государственной собственност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р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/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ает больше возможностей  для измерения изменений в уровне бед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УЖ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9 г. использовалос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150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охозяйст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Д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непрерывный опрос (</a:t>
            </a:r>
            <a:r>
              <a:rPr b="0" lang="ru-RU" sz="2000" spc="-1" strike="noStrike">
                <a:solidFill>
                  <a:srgbClr val="000000"/>
                </a:solidFill>
                <a:latin typeface="Times New Roman Tj"/>
              </a:rPr>
              <a:t>д/х посещаются 4 раза в год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меньшими погрешностями и возможностью учета сезо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е старого и нового мет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грани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лностью совпадает/может сравниваться  с методологией  ОУЖ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релая система введения данных в ОБД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ка ОБДХ из переписи населени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осник не отражает все необходимые аспекты и нужды новой поли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но улучшить процесс сбора информации и наблюдения за 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но улучшить практику доступа к данным и их распростран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5" descr=""/>
          <p:cNvPicPr/>
          <p:nvPr/>
        </p:nvPicPr>
        <p:blipFill>
          <a:blip r:embed="rId1"/>
          <a:srcRect l="0" t="0" r="0" b="11998"/>
          <a:stretch/>
        </p:blipFill>
        <p:spPr>
          <a:xfrm>
            <a:off x="685800" y="12952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агрегата благосостоя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грегат благосостоян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62120" y="129528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ель денежного благосостояния можно определить следующим образом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914400" y="3505320"/>
            <a:ext cx="70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ы корректировки чтобы учест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 в потребностях ввиду различий в размере домохозяй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 в стоимости проживания  в различных географических район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Content Placeholder 2"/>
          <p:cNvGrpSpPr/>
          <p:nvPr/>
        </p:nvGrpSpPr>
        <p:grpSpPr>
          <a:xfrm>
            <a:off x="457200" y="1298520"/>
            <a:ext cx="8229600" cy="4827600"/>
            <a:chOff x="457200" y="1298520"/>
            <a:chExt cx="8229600" cy="4827600"/>
          </a:xfrm>
        </p:grpSpPr>
        <p:pic>
          <p:nvPicPr>
            <p:cNvPr id="8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57200" y="1301400"/>
              <a:ext cx="822960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57200" y="1298520"/>
              <a:ext cx="822960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Рисунок 5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грегат благосостоян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регат  благосостояния может быть выражен суммой двух суб-агрегатов благосостоя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C = FHC + NFH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C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ее потребление домохозя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HC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ребление продовольствия домохозяйств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FHC 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епродовольственное потребление домохозяйств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та бедно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бходимые килокал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,250 K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ал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ен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установленное необходимое среднее потребление килокалорий на душу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Таджикиста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аджикистане были выбраны домохозяйства по совокупности благосостояния в децилях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-3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расчетам, среднее медианное значение одной калории для домохозяйств из выбранной группы  должно быть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0017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о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K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енная чер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4.28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о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ся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непродовольственна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продовольственный компонент вычисляется следующим образо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-первых, определите те домохозяйства,  у которых общие затрат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лизки к продовольственной чер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-вторых,  вычислите часть продовольствия по отношению к  общему потреблени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эффициент Энгел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-третьих, продовольственная черта делится на коэффициент Энге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редний коэффициент Энгеля для выбранных домохозяйств составлял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77.86%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умма продовольственного и непродовольственного компоненто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оставляет черту бедности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146.77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 сом. в меся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4937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7696080" y="252576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1400" spc="-1" strike="noStrike">
                <a:solidFill>
                  <a:srgbClr val="000000"/>
                </a:solidFill>
                <a:latin typeface="Arial"/>
              </a:rPr>
              <a:t>непр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грегат благосостоян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447920"/>
          <a:ext cx="8153640" cy="4962240"/>
        </p:xfrm>
        <a:graphic>
          <a:graphicData uri="http://schemas.openxmlformats.org/drawingml/2006/table">
            <a:tbl>
              <a:tblPr/>
              <a:tblGrid>
                <a:gridCol w="1673280"/>
                <a:gridCol w="1673280"/>
                <a:gridCol w="1682640"/>
                <a:gridCol w="1538280"/>
                <a:gridCol w="1586160"/>
              </a:tblGrid>
              <a:tr h="490320"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мон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продоль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доль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ги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ушан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3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г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3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атл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1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Р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6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БА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3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циф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3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7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винт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1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мые бед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0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4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4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4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5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мые богат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5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Рисунок 4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ыстория измерения бедности в Республики Таджикис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9731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овала некоторая документация по методологии, которая была разработана совместно со Всемирным банком в ходе Обследования Уровня Жизни  в 1999, 2003,2007 и 2009  годах и опубликована в доклад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 продовольственной бедности определялась как стоимость покупки продуктов питания состоящего из 2250 калорий в день на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е в численности бедных (по паритету покупательской способности 2,15 долларов США в день - черта абсолютной бедности) за 1999, 2003, 2007 и 2009 годах (в процента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показател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дность по регио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показатели бедно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о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5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083360" cy="4187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показател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689040" y="1371600"/>
            <a:ext cx="7388280" cy="4419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 действий для долгосрочного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 1, 2015 г. - Публикация и распространение национальной метод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 1, 2015 г. - Правки к методологии по измерению 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 3, 2015 г. - Ввод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 3, 2015 г. - Выбо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 3, 2015 г. - Опрос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ологический обз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413000"/>
            <a:ext cx="57913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рганизация полевых рабо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дан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бликация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6012000" y="1577880"/>
            <a:ext cx="30146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аспек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6012000" y="1990800"/>
            <a:ext cx="3024000" cy="1067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кратить период ведения днев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едрить метод вспоми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астое посе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6012000" y="3130560"/>
            <a:ext cx="295272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ана на переписи населен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1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940360" y="4076640"/>
            <a:ext cx="295272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спектиров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казатели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6012000" y="4724280"/>
            <a:ext cx="295272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ая система ввода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940360" y="5300640"/>
            <a:ext cx="295272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ые автоматизированные выходные табл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9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 Tj"/>
              </a:rPr>
              <a:t>Ба диќќататон рањмат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черты абсолютной бедно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ОУЖТ в 1999, 2003, 2007 и 2009 года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Диаграмма 5" descr=""/>
          <p:cNvPicPr/>
          <p:nvPr/>
        </p:nvPicPr>
        <p:blipFill>
          <a:blip r:embed="rId1"/>
          <a:stretch/>
        </p:blipFill>
        <p:spPr>
          <a:xfrm>
            <a:off x="1116000" y="1487520"/>
            <a:ext cx="6480360" cy="4462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ЫСТО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25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бюджетов домашних хозяйств (ОБДХ) проводится в Таджикистане с с 1952 г. Размер выборки был 1250 домохозяйств (д/х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из за сложной политический, экономической и финансовой ситуации страны  размер выборки ОБДХ был сокращен на 50 % и достиг 600 д/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00 года, в связи с улучшениями политической и экономической ситуации страны, а также увеличения спроса потребителей на данные ОБДХ, количество обследуемых д/х было увеличено до 925 д/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м Правительства РТ №497 от 1 октября 2008 года количество обследуемых д/х увеличилось до 3000 д/х (из них 1150 д/х в городской местности и 1850 д/х в сельской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Х начиная с 2009 года проводится во всех 5 регионах страны. Согласно распределению выборки по региона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шанбе – 400 д/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д – 860 д/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лон – 900 д/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АО – 240 д/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РП-600 д/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АЯ ЦЕЛЬ ОБД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1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 бюджетов домашних хозяйств (семей) является одной из отраслей социально-экономической статистики, изучающей уровень жизни насел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обследования содержат сведения о роли отдельных источников в формировании доходов, зависимости потребления от уровня доходов, позволяют изучать динамику потребительского спро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БДХ,  помимо непосредственной характеристики жизненного уровня отдельных социальных групп населения, широко используются в различных экономико-статистических расчетах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числении валового внутреннего продукта и его распредел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ах реальных доходов насел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ставления баланса производства и использования сельскохозяйственной продукци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ах индексов стоимости жизни (индексов потребительских цен на товары и услуги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стеме национальных счетов, где показатели по сектору домашних хозяйств занимают одно из ведущих мест и т. 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еланные работы Агентством по статистике совместно с Всемирным Банком за период 2012-2014 г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060640"/>
            <a:ext cx="78296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и и ознакомительные поездки для специалистов Агентства по статистике и МЭРТ по сбору и обработки данных обследования домохозяйств и (Индия, Швейцария, Казахстан и Кыргызстан, организованные Всемирным Банком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программа на </a:t>
            </a:r>
            <a:r>
              <a:rPr b="0" lang="tg-Cyrl-TJ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o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вводу данных и проведены тренинги для специалистов ОБДХ по вводу и обработки данных по всем 5 регионам стран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тренинга по измерению бедности на программ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SS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пециалистов Агентства по статистике и МЭРТ (апрель и июнь 2014 год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ет по определению уровня бедности и среднего класс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ИЧЕСКОЕ РУКОВОДСТВО ПО ОЦЕНКЕ БЕДНОСТИ В ТАДЖИКИСТАН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и для интервьюеров ОБДХ во всех регионах страны и ознакомление специалистов с новыми вопросниками для интегрированного ОБДХ и рабочей силы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циональная метод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национальной методологии измерения бедности была определена как приоритет в Национальной стратегии Развития до 2015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99-200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г. Таджикистан использова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ледование  уровня жизн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УЖ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для расчета уровня бедности страна использовала эластичность экономического роста и бедности для прогнозирования бедности.  Ограничения в данном подходе означают, что со временем оценки бедности, основанные на этом подходе были бы не достовер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о второй половины 2012 года, ОБДХ используется для измерения бедности в стране, и получаемые результаты не сопоставимы с предыдущими данными до 2009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вая метод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70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измерения бедности по новой методике будет использоваться Обследование бюджета домохозяйств (ОБД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 руководством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тства по статисти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ри сотрудничестве с Министерством экономического развития и торговли РТ и Всемирным Бан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народно признанная методоло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и и дей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ое решен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г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подход – немедленное ре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ое решен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Улучшение качества ОБДХ» в поддержку развития интегрированного ОБДХ и рабочей сил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к опросни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введения в методологию проведения выбор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организации работы проведения опроса на мест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-20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уд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ходным периодо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раткосрочного к долгосрочному решени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которого будут  постепенно введены некоторые из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9:10:40Z</dcterms:created>
  <dc:creator>JM</dc:creator>
  <dc:description/>
  <dc:language>en-US</dc:language>
  <cp:lastModifiedBy>Vania Etropolska</cp:lastModifiedBy>
  <cp:lastPrinted>2014-12-11T14:48:39Z</cp:lastPrinted>
  <dcterms:modified xsi:type="dcterms:W3CDTF">2015-04-07T13:36:22Z</dcterms:modified>
  <cp:revision>123</cp:revision>
  <dc:subject/>
  <dc:title>PowerPoint Presentation</dc:title>
</cp:coreProperties>
</file>