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7B14-2AA1-47FA-BA24-02761B9B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FD5C-EBE8-4EF7-B7B4-BBD7E9F2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70FA-E9ED-42B1-B5A5-677AE089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508C-8F09-4EE7-9BCB-3975B1F0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089-C172-4787-8219-B888EF29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089-8587-4619-A0BE-18D54CC9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4E8-527C-4C02-895A-F6B72718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69E8-82FF-4E42-AB87-2B2E680E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D62-94B7-448E-9EBB-25EC2AA2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5523-8C04-48AD-AD1E-46232062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63B-1EC7-4BA7-8455-2ABD809A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BCF1-A75F-43A3-8B1A-69EC70DD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1990-4403-4470-B762-E4C0B0955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overty Measurement in  Tajikist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028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98989"/>
                </a:solidFill>
                <a:latin typeface="Calibri"/>
              </a:rPr>
              <a:t>Statistics Agency under the President of Tajikis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093080" y="0"/>
            <a:ext cx="175716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overty Council: expec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13372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ttendance of technical mee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uring confidence as an active member of the Poverty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haring practice on similar financial and technical assistance received earlier, both domestically and abr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ld vs. new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s a national proper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 sample size of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,00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useholds provides more opportunities for measuring povert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2009 LSS had a sample size of 1,500 househol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tinuous survey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useholds are visited 4 times a yea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less subject to bias and enables taking into account season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ld vs. new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Limi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es not fully match LSS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utdated data entry system in HB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ample from the 2000 cens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stionnaire does not reflect all necessary aspects and needs of the new polic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ata collection and analysis processes can be impro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ata access and dissemination can be impro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ontent Placeholder 5" descr=""/>
          <p:cNvPicPr/>
          <p:nvPr/>
        </p:nvPicPr>
        <p:blipFill>
          <a:blip r:embed="rId1"/>
          <a:srcRect l="0" t="0" r="0" b="11998"/>
          <a:stretch/>
        </p:blipFill>
        <p:spPr>
          <a:xfrm>
            <a:off x="685800" y="12952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935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elfare aggreg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1312920" y="2050920"/>
            <a:ext cx="86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otal household expenditures per cap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1322280" y="2978280"/>
            <a:ext cx="86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patial defl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1249200" y="3976560"/>
            <a:ext cx="9176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eflated expenditure percentile (all household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2843280" y="3500280"/>
            <a:ext cx="865080" cy="7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election (a priori) of a reference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3938760" y="2041560"/>
            <a:ext cx="792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od bas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4419720" y="2978280"/>
            <a:ext cx="86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alorie conversion fa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4591080" y="3995640"/>
            <a:ext cx="863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alorie intake stand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5454720" y="2050920"/>
            <a:ext cx="8650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djusted food basket quant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6380280" y="3956040"/>
            <a:ext cx="792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od bas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6291360" y="2932200"/>
            <a:ext cx="844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od bas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unit pr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072200" y="2043000"/>
            <a:ext cx="792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od bas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pr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6396120" y="5157720"/>
            <a:ext cx="792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ngel’s coeffici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4662360" y="5089680"/>
            <a:ext cx="1008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otal poverty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7067520" y="2036880"/>
            <a:ext cx="792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od bas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2771640" y="5213520"/>
            <a:ext cx="93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Poverty sc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elfare Aggregate: Com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Content Placeholder 2" descr=""/>
          <p:cNvPicPr/>
          <p:nvPr/>
        </p:nvPicPr>
        <p:blipFill>
          <a:blip r:embed="rId1"/>
          <a:stretch/>
        </p:blipFill>
        <p:spPr>
          <a:xfrm>
            <a:off x="324000" y="1542960"/>
            <a:ext cx="8362800" cy="45831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TajStat-Logo_RGB_whiteBackground.tif"/>
          <p:cNvPicPr/>
          <p:nvPr/>
        </p:nvPicPr>
        <p:blipFill>
          <a:blip r:embed="rId2"/>
          <a:stretch/>
        </p:blipFill>
        <p:spPr>
          <a:xfrm>
            <a:off x="7740720" y="44280"/>
            <a:ext cx="12556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elfare Aggregate: 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lfare aggregate can be expressed as a sum of two welfare sub-aggreg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C = FHC + NFH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C = total household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HC = food household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FHC =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n-food household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5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overty line – required cal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,250 kCal/day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s set to be the required average calorie intake per capita in Tajikis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ajikistan households were selected in 3-36 welfare dec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dian value of 1 calorie for the selected group of households is estimated to b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.0017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omon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k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od poverty lin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4.28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omon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overty line (non-fo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on-food component is calculated as follow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irst, identify those households whose total expenditures are close to the food poverty l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cond, calculate the ratio of food to total consumptio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Engel’s coefficient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ird, divide the food poverty line by Engel’s coeffici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Mean Engel’s coefficient for the selected households wa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77.86%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sum of food and non-food component give a poverty line of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146.77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Calibri"/>
              </a:rPr>
              <a:t>somoni/mon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4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overty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Content Placeholder 3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77320" cy="49370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elfare Aggregate: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80880" y="1447920"/>
          <a:ext cx="8153640" cy="4962240"/>
        </p:xfrm>
        <a:graphic>
          <a:graphicData uri="http://schemas.openxmlformats.org/drawingml/2006/table">
            <a:tbl>
              <a:tblPr/>
              <a:tblGrid>
                <a:gridCol w="1673280"/>
                <a:gridCol w="1673280"/>
                <a:gridCol w="1682640"/>
                <a:gridCol w="1538280"/>
                <a:gridCol w="1586160"/>
              </a:tblGrid>
              <a:tr h="490320"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mon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n-f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ushan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3.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gh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3.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hatl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1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6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3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B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3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3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rb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3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3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u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7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Quint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1 (the poore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0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4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6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4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4.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9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5 (the riche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5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.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Рисунок 4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overty Measurement in Tajikistan: 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9731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here was some documentation on the methodology which was prepared together with the World Bank during the Living Standards Survey i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999, 2003,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007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n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2009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was published in report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Food poverty line was defined as a cost to purchase food for intake of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50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alories per day per capi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hanges in the poverty headcount at $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urchasing Power Parity (PPP) – absolute poverty line i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999, 2003, 2007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2009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overty indicators, by reg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4" descr=""/>
          <p:cNvPicPr/>
          <p:nvPr/>
        </p:nvPicPr>
        <p:blipFill>
          <a:blip r:embed="rId1"/>
          <a:stretch/>
        </p:blipFill>
        <p:spPr>
          <a:xfrm>
            <a:off x="463680" y="1195560"/>
            <a:ext cx="8235720" cy="49370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overty indicators: urban vs. r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Content Placeholder 5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083360" cy="41878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3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overty indicators, by reg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Content Placeholder 3" descr=""/>
          <p:cNvPicPr/>
          <p:nvPr/>
        </p:nvPicPr>
        <p:blipFill>
          <a:blip r:embed="rId1"/>
          <a:stretch/>
        </p:blipFill>
        <p:spPr>
          <a:xfrm>
            <a:off x="689040" y="1371600"/>
            <a:ext cx="7388280" cy="44197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Long-Term Solution Action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15 –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ublication and dissemination of the national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15 –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mendments to the poverty measurement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3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15 –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ata e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3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15 –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amp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3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15 –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stionna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413000"/>
            <a:ext cx="57913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Questionn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ield activ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ata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ublications of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6012000" y="1577880"/>
            <a:ext cx="294768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ultidimen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6012000" y="1990800"/>
            <a:ext cx="2952720" cy="1067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reduce the period for keeping a di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introduce recall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requent vis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6012000" y="3130560"/>
            <a:ext cx="295272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Based on the 2009 population cens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5987880" y="4076640"/>
            <a:ext cx="295308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specti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6002280" y="4724280"/>
            <a:ext cx="295272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ew data entr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6006960" y="5300640"/>
            <a:ext cx="295272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ew automated output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9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Times New Roman Tj"/>
              </a:rPr>
              <a:t>Thank you</a:t>
            </a:r>
            <a:r>
              <a:rPr b="1" lang="ru-RU" sz="8000" spc="-1" strike="noStrike">
                <a:solidFill>
                  <a:srgbClr val="000000"/>
                </a:solidFill>
                <a:latin typeface="Times New Roman Tj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in the absolute poverty line based on LSS in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, 2003, 2007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Диаграмма 5" descr=""/>
          <p:cNvPicPr/>
          <p:nvPr/>
        </p:nvPicPr>
        <p:blipFill>
          <a:blip r:embed="rId1"/>
          <a:stretch/>
        </p:blipFill>
        <p:spPr>
          <a:xfrm>
            <a:off x="1116000" y="1487520"/>
            <a:ext cx="6480360" cy="44625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TajStat-Logo_RGB_whiteBackground.tif"/>
          <p:cNvPicPr/>
          <p:nvPr/>
        </p:nvPicPr>
        <p:blipFill>
          <a:blip r:embed="rId2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2532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ousehold Budget Surveys (HBSs) are conducted in Tajikistan from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952.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ample size was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250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ouseholds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tarting from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992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, due to complicated political, economic and financial situation in the country, the HBS sample size was halved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600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ouseholds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tarting from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2000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, as the political and economic situation in the country improved and there was a stronger demand for HBS data, the sample size was increased up to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925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ouseholds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Government Resolution No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497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dd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October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2008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increased the number of surveyed households up to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000 (1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50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ouseholds in urban areas and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850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ouseholds in rural areas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tarting from 2009, HBSs are conducted in all 5 regions of the country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urveyed households by regions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Dushanbe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400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/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ughd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860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/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Khatlon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900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/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Gorno-Badakhshan region (GBR)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240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/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Regions of republican subordination (RRS) -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600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/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urpose of H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41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ousehold budget statistics is one of areas of economic statistics addressing living standards of the population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Budget surveys contain data on the role of specific sources in income, dependence of consumption on income and help to review changes in the consumption demand over time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n addition to characterizing specific population subgroups, HBS data are widely used in various social and economic estimations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for estimating gross domestic product and its distribution;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for calculating real population income;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for preparing a balance between agricultural production and consumption;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for calculating cost-of-living index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ndex of consumption prices for goods and services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n the national accounts system where households indicators play an important role, etc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 of the Statistics Agency together with the World Bank in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012-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060640"/>
            <a:ext cx="78296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inings and study tours for Statistics Agency’s and MoED’s specialists on the collection and processing of household survey data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ndia, Switzerland, Kazakhstan and Kyrgyzstan arranged by the World Bank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)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New data entry program based on </a:t>
            </a:r>
            <a:r>
              <a:rPr b="0" lang="tg-Cyrl-TJ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Pro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rainings delivered for HBS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pecialists on the data entry and processing for all 5 regions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wo trainings on poverty measurement based on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PSS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amme for the Statistics Agency and MoED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pril and Jun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014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dvice on estimating poverty levels and middle cla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Methodological Guidelines on Poverty Measurement in Tajikis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inings for HBS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rviewers in all regions of the country and familiarization with a new questionnaire for an integrated household budget and labour force surv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National method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development of the national methodology for poverty measurement was set to be a priority in the National Development Strategy up to 201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99-2009, Tajikistan used Living Standards Survey (LSS)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arting fro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9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r poverty estimates Tajikistan has been using economic growth and poverty elasticity for poverty forecast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limitations of this approach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ly that over time poverty estimates generated by using this method would not be reliab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arting from the second half of 2012, HBS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re used for measuring poverty in the country and the resultant figures are not comparable with the figures generated prior to 2009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New method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700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usehold Budget Survey (HBS) will be used for poverty measurements under the new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epared under the leadership of the Statistics Agency and in cooperation with the Ministry of Economic Development and the World Ban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ernationally recognized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rpose and 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hort-term soluti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201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ew approach – immediate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ong-term soluti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post 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BS Enhancement Project to support the development of integrated HB and LS surv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lement to a questionnai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Changes in the sampling design method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Changes in the field survey proced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015-2016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ill be a period of transition from the short-term to the long-term solution during which some changes will be introduced stepw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TajStat-Logo_RGB_whiteBackground.tif"/>
          <p:cNvPicPr/>
          <p:nvPr/>
        </p:nvPicPr>
        <p:blipFill>
          <a:blip r:embed="rId1"/>
          <a:stretch/>
        </p:blipFill>
        <p:spPr>
          <a:xfrm>
            <a:off x="7667640" y="189000"/>
            <a:ext cx="12556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9:10:40Z</dcterms:created>
  <dc:creator>JM</dc:creator>
  <dc:description/>
  <dc:language>en-US</dc:language>
  <cp:lastModifiedBy>Vania Etropolska</cp:lastModifiedBy>
  <cp:lastPrinted>2014-12-11T14:48:39Z</cp:lastPrinted>
  <dcterms:modified xsi:type="dcterms:W3CDTF">2015-04-30T10:42:42Z</dcterms:modified>
  <cp:revision>150</cp:revision>
  <dc:subject/>
  <dc:title>PowerPoint Presentation</dc:title>
</cp:coreProperties>
</file>