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91A-C733-4012-A189-0383EABB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CEA-AA0D-4B14-8085-40FA3EF3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D2C-5DF3-42FF-B6E9-CEA22203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681-5B64-40E1-BA4A-760B8670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3F4-D81C-4AA6-B9FA-F3461FD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97A-B0E5-46D6-9A82-4DAC0A31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1E0-483C-444F-B82C-178F6C1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888-8C4A-4850-AA15-F68D086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274-844B-4039-9C61-55C838C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63C-C1AD-4220-9939-CCA47AE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9B9-5CCC-49A0-A4DF-609A0D0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E53-9BD1-446F-BAF1-B68E2ED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4BE-5C2C-4E1E-AC5C-8CC0182B2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verty Measurement in  Tajik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Statistics Agency under the President of Tajik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093080" y="0"/>
            <a:ext cx="17571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Council: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133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tendance of technical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uring confidence as an active member of the Poverty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aring practice on similar financial and technical assistance received earlier, both domesticall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ld vs. new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a nation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ample size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,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s provides more opportunities for measuring pover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9 LSS had a sample size of 1,500 househol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inuous surve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s are visited 4 times a yea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less subject to bias and enables taking into account seas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ld vs. new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not fully match LSS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tdated data entry system in H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mple from the 2000 c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naire does not reflect all necessary aspects and needs of the new poli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collection and analysis processes can be im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access and dissemination can be im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5" descr=""/>
          <p:cNvPicPr/>
          <p:nvPr/>
        </p:nvPicPr>
        <p:blipFill>
          <a:blip r:embed="rId1"/>
          <a:srcRect l="0" t="0" r="0" b="11998"/>
          <a:stretch/>
        </p:blipFill>
        <p:spPr>
          <a:xfrm>
            <a:off x="685800" y="12952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312920" y="205092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otal household expenditures per cap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322280" y="297828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patial defl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249200" y="3976560"/>
            <a:ext cx="91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eflated expenditure percentile (all household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843280" y="3500280"/>
            <a:ext cx="86508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election (a priori) of a reference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938760" y="2041560"/>
            <a:ext cx="79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419720" y="297828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alorie conversion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591080" y="3995640"/>
            <a:ext cx="86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alorie intake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454720" y="2050920"/>
            <a:ext cx="865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djusted food basket 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80280" y="3956040"/>
            <a:ext cx="79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6291360" y="2932200"/>
            <a:ext cx="844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nit pr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072200" y="204300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396120" y="5157720"/>
            <a:ext cx="792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ngel’s coeffic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662360" y="5089680"/>
            <a:ext cx="1008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otal poverty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7067520" y="203688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2771640" y="521352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overty sc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elfare Aggregate: 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TajStat-Logo_RGB_whiteBackground.tif"/>
          <p:cNvPicPr/>
          <p:nvPr/>
        </p:nvPicPr>
        <p:blipFill>
          <a:blip r:embed="rId2"/>
          <a:stretch/>
        </p:blipFill>
        <p:spPr>
          <a:xfrm>
            <a:off x="7740720" y="44280"/>
            <a:ext cx="12556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: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lfare aggregate can be expressed as a sum of two welfare sub-aggreg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FHC + NFH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total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HC = food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HC 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food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 – required cal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,250 kCal/da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set to be the required average calorie intake per capita in Taji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ajikistan households were selected in 3-36 welfare dec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an value of 1 calorie for the selected group of households is estimated to 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017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on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k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d poverty l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4.2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on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 (non-f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n-food component is calculated as follow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rst, identify those households whose total expenditures are close to the food poverty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cond, calculate the ratio of food to total consump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Engel’s coefficient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rd, divide the food poverty line by Engel’s coeffic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ean Engel’s coefficient for the selected households wa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7.86%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m of food and non-food component give a poverty line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46.77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Calibri"/>
              </a:rPr>
              <a:t>somoni/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4937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: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47920"/>
          <a:ext cx="8153640" cy="496224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82640"/>
                <a:gridCol w="1538280"/>
                <a:gridCol w="1586160"/>
              </a:tblGrid>
              <a:tr h="490320"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on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-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ushan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3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g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3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hat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6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3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in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1 (the poor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4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5 (the rich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Measurement in Tajikistan: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973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was some documentation on the methodology which was prepared together with the World Bank during the Living Standards Survey i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999, 2003,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0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2009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was published in report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od poverty line was defined as a cost to purchase food for intake of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0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lories per day per cap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nges in the poverty headcount at $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urchasing Power Parity (PPP) – absolute poverty line i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99, 2003, 200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2009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, by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463680" y="1195560"/>
            <a:ext cx="8235720" cy="4937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: urban vs. r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5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83360" cy="41878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, by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9040" y="1371600"/>
            <a:ext cx="73882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ong-Term Solution Actio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ublication and dissemination of the national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endments to the poverty measure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3000"/>
            <a:ext cx="57913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ield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ublications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12000" y="1577880"/>
            <a:ext cx="294768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dim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012000" y="1990800"/>
            <a:ext cx="295272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reduce the period for keeping a d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introduce recall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equent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012000" y="313056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ased on the 2009 population cen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987880" y="4076640"/>
            <a:ext cx="2953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spec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002280" y="472428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data entr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006960" y="530064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automated output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9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imes New Roman Tj"/>
              </a:rPr>
              <a:t>Thank you</a:t>
            </a:r>
            <a:r>
              <a:rPr b="1" lang="ru-RU" sz="8000" spc="-1" strike="noStrike">
                <a:solidFill>
                  <a:srgbClr val="000000"/>
                </a:solidFill>
                <a:latin typeface="Times New Roman Tj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absolute poverty line based on LSS i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2003, 2007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Диаграмма 5" descr=""/>
          <p:cNvPicPr/>
          <p:nvPr/>
        </p:nvPicPr>
        <p:blipFill>
          <a:blip r:embed="rId1"/>
          <a:stretch/>
        </p:blipFill>
        <p:spPr>
          <a:xfrm>
            <a:off x="1116000" y="1487520"/>
            <a:ext cx="6480360" cy="4462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5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 Budget Surveys (HBSs) are conducted in Tajikistan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952.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size was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99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due to complicated political, economic and financial situation in the country, the HBS sample size was halved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00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as the political and economic situation in the country improved and there was a stronger demand for HBS data, the sample size was increased up to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25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overnment Resolution No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97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d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ctober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08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reased the number of surveyed households up to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000 (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 in urban areas and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 in rural area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2009, HBSs are conducted in all 5 regions of the country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rveyed households by region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ushanb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4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ghd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86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hatlo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9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orno-Badakhshan region (GBR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24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s of republican subordination (RRS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rpose of H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 budget statistics is one of areas of economic statistics addressing living standards of the population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udget surveys contain data on the role of specific sources in income, dependence of consumption on income and help to review changes in the consumption demand over tim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addition to characterizing specific population subgroups, HBS data are widely used in various social and economic estimation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stimating gross domestic product and its distribution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calculating real population income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preparing a balance between agricultural production and consumption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calculating cost-of-living index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ex of consumption prices for goods and service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 national accounts system where households indicators play an important role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of the Statistics Agency together with the World Bank in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2-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060640"/>
            <a:ext cx="7829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inings and study tours for Statistics Agency’s and MoED’s specialists on the collection and processing of household survey data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a, Switzerland, Kazakhstan and Kyrgyzstan arranged by the World Ban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data entry program based on </a:t>
            </a:r>
            <a:r>
              <a:rPr b="0" lang="tg-Cyrl-TJ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rainings delivered for HB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alists on the data entry and processing for all 5 region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rainings on poverty measurement based 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S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 for the Statistics Agency and MoED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pril and Jun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4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ce on estimating poverty levels and middle cl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ethodological Guidelines on Poverty Measurement in Tajik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inings for HB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viewers in all regions of the country and familiarization with a new questionnaire for an integrated household budget and labour force surv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ational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evelopment of the national methodology for poverty measurement was set to be a priority in the National Development Strategy up to 201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99-2009, Tajikistan used Living Standards Survey (LSS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rting fr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poverty estimates Tajikistan has been using economic growth and poverty elasticity for poverty forecast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limitations of this approach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y that over time poverty estimates generated by using this method would not be reli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rting from the second half of 2012, HBS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used for measuring poverty in the country and the resultant figures are not comparable with the figures generated prior to 2009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 Budget Survey (HBS) will be used for poverty measurements under the new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epared under the leadership of the Statistics Agency and in cooperation with the Ministry of Economic Development and the World B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nationally recognize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 and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-term solu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20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approach – immediate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ng-term solu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post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BS Enhancement Project to support the development of integrated HB and LS surv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 to a questionna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s in the sampling design method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s in the field survey proced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5-201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ill be a period of transition from the short-term to the long-term solution during which some changes will be introduced stepw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10:40Z</dcterms:created>
  <dc:creator>JM</dc:creator>
  <dc:description/>
  <dc:language>en-US</dc:language>
  <cp:lastModifiedBy>Vania Etropolska</cp:lastModifiedBy>
  <cp:lastPrinted>2014-12-11T14:48:39Z</cp:lastPrinted>
  <dcterms:modified xsi:type="dcterms:W3CDTF">2015-04-30T10:42:42Z</dcterms:modified>
  <cp:revision>150</cp:revision>
  <dc:subject/>
  <dc:title>PowerPoint Presentation</dc:title>
</cp:coreProperties>
</file>