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E6FA-03B5-49A7-9315-F15D41862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AC85-49ED-4FBB-A2E5-92E826331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A745-FEFC-47EA-A8FC-7AE0E89B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155-EBC5-47FC-BC7B-FF6EB3FE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D459D-8228-42D0-A5A8-8CD12721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F3124-6FB5-4FD3-AF2D-CEFD95D9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6D073-59A7-4E21-8F08-5FCE302F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2B649-707D-4D77-A6AE-8E319851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CAF85-BD71-46E6-9B46-833B7C6C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5BB94-52EF-45A4-A976-DAD6EFFB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B8FF8-0675-4C53-A45E-B2519F5A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327D9-ABE9-47B8-950D-95A66F0D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A9B1F-5C68-4A2B-AE29-F713443E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1CEAA-5F10-4154-A385-6495604A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433F-9364-46ED-86D8-4D3752B0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326DF-1E4D-4529-B2B7-D1FEB64D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7C28B-7B12-4949-ADFE-05A8D0C0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F7BB5-C70C-4AA4-8D8A-716A9468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76FA3-559D-4561-BB71-520B21E8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7BF75-A621-41CC-B6D6-25AB173D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FAEAA-9D74-47BF-8008-8611B764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D4ADD-3938-41B1-B811-5C64C7D4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F516A-CE39-4AB4-9C63-CA6EC23F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65F4E-FBB1-4040-97F2-25EE3BBE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C1281-C91B-49FF-A45B-50016C30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6146-C854-4F3F-B2D5-6CF3C6C0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FBC5D-4D1C-4DFD-877D-DD6DD41C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ADCEF-4E7A-426C-9169-DB435DEB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9F703-EC58-44D4-ABC7-6314154B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AD7F7-15E3-4B70-8148-3DB09A8A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13F5C-F567-4020-AFB2-0A95653A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1B5F7-DFDB-4BC5-B2AC-BFEF091A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631FD-6E76-43BE-9E91-F6A0E8CB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03A73-CA0A-405F-A3A3-7714CC9F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476DE-449D-4B29-8A7C-F20CE28A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15206-FF70-453C-BDBF-FF22570B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7C33-1F6C-4678-831B-147CEDD0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6489D-9E83-4F64-8602-D83D57AD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3EB7D-6802-47DC-AD7B-694600EC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CF796-FC3E-4D3E-A8BD-3AAD80CA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DD93B-8D62-4E0C-AE4E-33B121BA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F51F7-48DC-4B17-94EC-D6CC7127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B4195-8862-4C5F-BFC6-A509D1DF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0EC16-4FC5-4023-AB24-DA2B89B1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A6E97-903F-4AE4-932E-FF81EDD7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6F2615-6A2D-49F1-A275-ACFB0FF1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CC211-B0E5-4C1B-9774-B4BC911E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665F-E611-4700-A921-3EF70931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12D63-E7B6-4C3E-82E0-885544BF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BC58B-102A-4CC7-B187-E5F9D93F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A4FC8-8B71-4276-BFC4-21F67867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00BC8-8DD6-4EAD-839D-EA8B7A5F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234D7-D97A-4A55-AB5E-044289C4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E54F-E284-4CEA-BEFB-74534694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CBC8-2F19-494B-ACAC-1716E1F1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0B6B-794F-4CB5-903E-ABFF6591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6BC2-2A5F-40EE-883B-B6420605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A96A-4E81-4657-900D-B35E0B6F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6BB-BAF7-4D77-8F84-090E0CBA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631B-3A33-47AE-91C3-C9389488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9128-4D10-4B20-9CC1-141982BF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F455-02A7-448B-BBA0-218B5E4C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2327-2B62-4634-B0E7-8C558816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F652-8A82-4961-B7DA-26EB7923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FD0D5-886C-402B-983E-500D05F0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DCF30-4D06-44B1-AE21-69B3E486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D6BBC-89CF-4556-83A4-BCA2DCB0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E3371-FB1B-4B76-87B0-E798EFCC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2B2EB-0E6E-4AE7-9B1C-07129F01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A7A6-B189-4459-A491-557F7DB6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B157C-794E-4073-9E41-072806B0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87C31-50A3-491D-8466-19D6C2F4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9FB4C-AE2F-42B5-8165-4600B4BD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926AA-BED8-4005-A235-8A31CA57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DDC7E-5E55-4DA6-ADBE-1B4A6A35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008E6-254C-4112-85C9-25CB24E4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C25B7-EA08-4237-982B-340D0A1F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4B45D-C348-4DA5-826E-442A2798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A996B-54EE-4713-BA45-337BDD3A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F5E17-6E3B-46AB-B5F0-7C092740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6E29-85C9-48BB-A16B-E8AFC928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A9547-5534-4B3C-8CF7-93E28B78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BCF9F-0D85-4964-B8B7-D290988D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D4546-122C-4652-AB7B-A3BD8A8C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380AF-AD0B-48BE-8BC2-0448654A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BC621-22A9-4996-AAD6-D729290E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89D35-E8CE-4680-B205-85C01011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E3E99-05B7-4E32-916B-639E8D55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354E6-2A1E-4B99-9F42-A1B68C8F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E4E86-C15F-46E2-98BB-9045D609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DA0DC-B116-4A54-9970-79412664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D186-E0E1-4018-908A-2639FF41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67B24-379B-4680-AC41-C259EC74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1D51C-E3A4-4D39-A8BC-D3DF05D8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54711-6020-4E4E-A716-3F0CB347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37A2C-3C9B-4D0E-A4C7-9DD85B8C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A0558-80B2-43E3-B3E6-3D0563B8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EC97C-09AF-4E03-9B35-E92202B0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9BF22-7AAA-4D76-AABC-0721A78E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EF4CC-BBAB-4CC7-9938-7587435B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3E5BE-C3C6-48DB-8680-1D93445F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43D02-12C1-4396-AB08-D42A5806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FFA9-3056-4070-81C7-0E35D02B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BD745-D134-42EC-A019-581F2F81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C0FEF-3A68-44AB-A8FF-735DB9FC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F580A-8B48-4228-95CA-3595D0DA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8A05A-FDCF-4C20-B956-4385E7F2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57B64-E555-4517-B511-C8881E7D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6DE1C-530D-460C-A2E2-8F125F69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57D6B-3E92-41DA-8F6F-B03AACC3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BA5D4-3BE8-4591-AFC8-10EA6A87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3A8BB-F81C-4C07-A22E-8F2DD638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03C6A-AAD8-4DF3-9D5D-648BC905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0E71-A723-4948-9F3F-C58136FC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95C0F-3E92-4FA6-AAC8-07531AEC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65B29-F82D-40CD-9DF6-3DD884AB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C9F9D-17CB-4FD8-9C84-AB9DFDF3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95026-88BE-40A9-A7FB-FF4D62F2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A194B-98B2-4694-A4B3-9348BBE6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6F1E6-97F4-43D9-A57E-E97C76E8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8A526-AA2B-4FDD-8AB5-E6B517D6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D7305-3413-4F42-BC04-361D80DE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D3B71-2DB0-41BB-9DA7-5502AD23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64DBD-B996-43D6-93B0-6A88289E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D46-60A9-4ACD-BF23-4EE8EACF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82FCC-AA16-4B8F-8C89-3B0E9223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1F0E0-CC9D-4FF9-8322-CC837083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57F8B-8715-45CE-81B1-3D96202A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4C085-F83C-4312-9D65-FE8EF05A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217F6-E3DB-4945-AFC9-E4EC4EDA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019A9-1B5A-4D45-A313-25AEAE86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7FC98-CB92-4D98-824B-874E963D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7DB14-EC70-45BD-9468-D8631184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70C1A-8352-48FC-B432-81AFF5B4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AAD63-0DC4-43E9-88B8-7C84C2D1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F9B-DBC5-4458-8E1A-DFC8FCBB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B5F88-8A32-45D8-BBB0-84B3F7E6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039CB-882A-459F-8178-0B461E0C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65E0E-CC1D-4152-A9AB-31A75332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EB896-DE24-40F0-B361-C7E247AB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95862-4B92-481A-B31A-45CB0C09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FF377-AA3F-43C1-AF5E-7128793F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E2A1F-553E-417D-918E-584E18C0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699EF-1FD8-4AD4-858D-74D3080C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691B1-348D-42F0-AB84-0343656C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EABFF-75FF-4D28-A49A-87B99C2F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56000" y="6237000"/>
            <a:ext cx="115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60B4-364B-4613-B83E-6866D4D84540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OECD_285_50K_100p"/>
          <p:cNvPicPr/>
          <p:nvPr/>
        </p:nvPicPr>
        <p:blipFill>
          <a:blip r:embed="rId2"/>
          <a:stretch/>
        </p:blipFill>
        <p:spPr>
          <a:xfrm>
            <a:off x="114480" y="115920"/>
            <a:ext cx="56988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7" descr="OCDE_285_50K"/>
          <p:cNvPicPr/>
          <p:nvPr/>
        </p:nvPicPr>
        <p:blipFill>
          <a:blip r:embed="rId2"/>
          <a:stretch/>
        </p:blipFill>
        <p:spPr>
          <a:xfrm>
            <a:off x="114480" y="11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" descr="name_FR_250"/>
          <p:cNvPicPr/>
          <p:nvPr/>
        </p:nvPicPr>
        <p:blipFill>
          <a:blip r:embed="rId3"/>
          <a:stretch/>
        </p:blipFill>
        <p:spPr>
          <a:xfrm>
            <a:off x="1042920" y="714240"/>
            <a:ext cx="2381400" cy="2667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1" descr="logo"/>
          <p:cNvPicPr/>
          <p:nvPr/>
        </p:nvPicPr>
        <p:blipFill>
          <a:blip r:embed="rId4"/>
          <a:stretch/>
        </p:blipFill>
        <p:spPr>
          <a:xfrm>
            <a:off x="1687680" y="1341360"/>
            <a:ext cx="1731960" cy="34988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8E9C-F9E3-478E-8F35-CBC26297D1D1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7" descr="OCDE_285_50K"/>
          <p:cNvPicPr/>
          <p:nvPr/>
        </p:nvPicPr>
        <p:blipFill>
          <a:blip r:embed="rId2"/>
          <a:stretch/>
        </p:blipFill>
        <p:spPr>
          <a:xfrm>
            <a:off x="114480" y="11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0" descr="name_FR_250"/>
          <p:cNvPicPr/>
          <p:nvPr/>
        </p:nvPicPr>
        <p:blipFill>
          <a:blip r:embed="rId3"/>
          <a:stretch/>
        </p:blipFill>
        <p:spPr>
          <a:xfrm>
            <a:off x="1042920" y="714240"/>
            <a:ext cx="2381400" cy="266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1" descr="logo"/>
          <p:cNvPicPr/>
          <p:nvPr/>
        </p:nvPicPr>
        <p:blipFill>
          <a:blip r:embed="rId4"/>
          <a:stretch/>
        </p:blipFill>
        <p:spPr>
          <a:xfrm>
            <a:off x="1687680" y="1341360"/>
            <a:ext cx="1731960" cy="349884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D4B3-304E-438F-A8AF-9CF747F80B32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7" descr="OCDE_285_50K"/>
          <p:cNvPicPr/>
          <p:nvPr/>
        </p:nvPicPr>
        <p:blipFill>
          <a:blip r:embed="rId2"/>
          <a:stretch/>
        </p:blipFill>
        <p:spPr>
          <a:xfrm>
            <a:off x="114480" y="11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0" descr="name_FR_250"/>
          <p:cNvPicPr/>
          <p:nvPr/>
        </p:nvPicPr>
        <p:blipFill>
          <a:blip r:embed="rId3"/>
          <a:stretch/>
        </p:blipFill>
        <p:spPr>
          <a:xfrm>
            <a:off x="1042920" y="714240"/>
            <a:ext cx="2381400" cy="2667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1" descr="logo"/>
          <p:cNvPicPr/>
          <p:nvPr/>
        </p:nvPicPr>
        <p:blipFill>
          <a:blip r:embed="rId4"/>
          <a:stretch/>
        </p:blipFill>
        <p:spPr>
          <a:xfrm>
            <a:off x="1687680" y="1341360"/>
            <a:ext cx="1731960" cy="349884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D907-C38E-4BC6-9E06-CC88E6DBDB56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11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6DA5-277B-4B78-A645-377471C01E3A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OCDE_285_50K"/>
          <p:cNvPicPr/>
          <p:nvPr/>
        </p:nvPicPr>
        <p:blipFill>
          <a:blip r:embed="rId2"/>
          <a:stretch/>
        </p:blipFill>
        <p:spPr>
          <a:xfrm>
            <a:off x="115920" y="117360"/>
            <a:ext cx="568440" cy="57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11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3AE2-0CD4-443B-915D-C1CA8D2B523C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7" descr="OCDE_285_50K"/>
          <p:cNvPicPr/>
          <p:nvPr/>
        </p:nvPicPr>
        <p:blipFill>
          <a:blip r:embed="rId2"/>
          <a:stretch/>
        </p:blipFill>
        <p:spPr>
          <a:xfrm>
            <a:off x="115920" y="117360"/>
            <a:ext cx="568440" cy="57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11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7635-A361-4ABE-928B-91CB21FAEFAE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7" descr="OCDE_285_50K"/>
          <p:cNvPicPr/>
          <p:nvPr/>
        </p:nvPicPr>
        <p:blipFill>
          <a:blip r:embed="rId2"/>
          <a:stretch/>
        </p:blipFill>
        <p:spPr>
          <a:xfrm>
            <a:off x="115920" y="117360"/>
            <a:ext cx="568440" cy="57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11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DABC-0741-41E6-ADA3-61D9575050D6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OCDE_285_50K"/>
          <p:cNvPicPr/>
          <p:nvPr/>
        </p:nvPicPr>
        <p:blipFill>
          <a:blip r:embed="rId2"/>
          <a:stretch/>
        </p:blipFill>
        <p:spPr>
          <a:xfrm>
            <a:off x="115920" y="117360"/>
            <a:ext cx="568440" cy="57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11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7587-C823-4FA2-B00D-B10114B608D5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7" descr="OCDE_285_50K"/>
          <p:cNvPicPr/>
          <p:nvPr/>
        </p:nvPicPr>
        <p:blipFill>
          <a:blip r:embed="rId2"/>
          <a:stretch/>
        </p:blipFill>
        <p:spPr>
          <a:xfrm>
            <a:off x="115920" y="117360"/>
            <a:ext cx="568440" cy="57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logo"/>
          <p:cNvPicPr/>
          <p:nvPr/>
        </p:nvPicPr>
        <p:blipFill>
          <a:blip r:embed="rId2"/>
          <a:stretch/>
        </p:blipFill>
        <p:spPr>
          <a:xfrm>
            <a:off x="1544760" y="1298520"/>
            <a:ext cx="1731960" cy="3498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OECD_285_50K_100p"/>
          <p:cNvPicPr/>
          <p:nvPr/>
        </p:nvPicPr>
        <p:blipFill>
          <a:blip r:embed="rId3"/>
          <a:stretch/>
        </p:blipFill>
        <p:spPr>
          <a:xfrm>
            <a:off x="117360" y="117360"/>
            <a:ext cx="854280" cy="863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name_EN_250"/>
          <p:cNvPicPr/>
          <p:nvPr/>
        </p:nvPicPr>
        <p:blipFill>
          <a:blip r:embed="rId4"/>
          <a:stretch/>
        </p:blipFill>
        <p:spPr>
          <a:xfrm>
            <a:off x="1042920" y="692280"/>
            <a:ext cx="2236680" cy="2682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82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442E-7217-4C2C-923C-384E4951226E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7" descr="OCDE_285_50K"/>
          <p:cNvPicPr/>
          <p:nvPr/>
        </p:nvPicPr>
        <p:blipFill>
          <a:blip r:embed="rId2"/>
          <a:stretch/>
        </p:blipFill>
        <p:spPr>
          <a:xfrm>
            <a:off x="114480" y="11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name_FR_250"/>
          <p:cNvPicPr/>
          <p:nvPr/>
        </p:nvPicPr>
        <p:blipFill>
          <a:blip r:embed="rId3"/>
          <a:stretch/>
        </p:blipFill>
        <p:spPr>
          <a:xfrm>
            <a:off x="1042920" y="714240"/>
            <a:ext cx="2381400" cy="2667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logo"/>
          <p:cNvPicPr/>
          <p:nvPr/>
        </p:nvPicPr>
        <p:blipFill>
          <a:blip r:embed="rId4"/>
          <a:stretch/>
        </p:blipFill>
        <p:spPr>
          <a:xfrm>
            <a:off x="1687680" y="1341360"/>
            <a:ext cx="1731960" cy="349884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3579-4BF9-465D-9A46-4F6B219CE48C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7" descr="OCDE_285_50K"/>
          <p:cNvPicPr/>
          <p:nvPr/>
        </p:nvPicPr>
        <p:blipFill>
          <a:blip r:embed="rId2"/>
          <a:stretch/>
        </p:blipFill>
        <p:spPr>
          <a:xfrm>
            <a:off x="114480" y="11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name_FR_250"/>
          <p:cNvPicPr/>
          <p:nvPr/>
        </p:nvPicPr>
        <p:blipFill>
          <a:blip r:embed="rId3"/>
          <a:stretch/>
        </p:blipFill>
        <p:spPr>
          <a:xfrm>
            <a:off x="1042920" y="714240"/>
            <a:ext cx="2381400" cy="266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1" descr="logo"/>
          <p:cNvPicPr/>
          <p:nvPr/>
        </p:nvPicPr>
        <p:blipFill>
          <a:blip r:embed="rId4"/>
          <a:stretch/>
        </p:blipFill>
        <p:spPr>
          <a:xfrm>
            <a:off x="1687680" y="1341360"/>
            <a:ext cx="1731960" cy="349884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AA52-D3D0-486B-B42A-2FCCF2030BCA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42600" y="1341360"/>
            <a:ext cx="7961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UNECE-EUROSTAT-OECD meeting on national accounts: session for transition economies</a:t>
            </a:r>
            <a:br>
              <a:rPr sz="2400"/>
            </a:b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Geneva, 21 April 2008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928800" y="3286080"/>
            <a:ext cx="72770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Ad hoc surveys and measuring 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the non-observed economy in</a:t>
            </a: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Western Balkan countries</a:t>
            </a: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David Roberts, OECD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25" name=""/>
          <p:cNvSpPr/>
          <p:nvPr/>
        </p:nvSpPr>
        <p:spPr>
          <a:xfrm>
            <a:off x="6705720" y="190440"/>
            <a:ext cx="216036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genda item 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EUROSTAT-EFTA-OECD NOE project </a:t>
            </a:r>
            <a:br>
              <a:rPr sz="2400"/>
            </a:b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for Western Balkan countries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00040" y="1785600"/>
            <a:ext cx="8143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Two phases: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Phase I:  September 2004 to January 2006; funded by Eurostat; carried out by statistical agencies of WBC in consultation with the OECD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Phase II:  January 2007 to February 2008; funded by EFTA; carried out by statistical agencies of WBC in consultation with Statistics Norway and the OECD 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285840" y="135684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Apply the Eurostat tabular approach to exhaustiveness to: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Production account (Phase I &amp; II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Expenditure account (Phase II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Estimate output of owner-occupied dwellings by the user cost approach (Phase I &amp; II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Make estimates of output and value added from illegal activities (Phase II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Carry out ad hoc surveys (Phase I &amp; II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3c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SUMMARY RESULT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428840" y="1785960"/>
          <a:ext cx="6215040" cy="3571920"/>
        </p:xfrm>
        <a:graphic>
          <a:graphicData uri="http://schemas.openxmlformats.org/drawingml/2006/table">
            <a:tbl>
              <a:tblPr/>
              <a:tblGrid>
                <a:gridCol w="3108240"/>
                <a:gridCol w="3106800"/>
              </a:tblGrid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NOE adjustment  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(% of GDP) in 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lba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1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osnia  Herzegov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roat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FYR of Macedo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22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Monteneg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Serb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AD HOC SURVEYS:  TOPIC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85840" y="1785600"/>
            <a:ext cx="85723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Individual agricultural producers (FOSBiH, MONSTAT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Individual construction (SIRS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Construction firms (SOK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Hotels &amp; restaurants (FOSBiH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Tourism (MONSTAT)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Unincorporated enterprises in healthcare activities (SIRS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H/hold expenditure on healthcare, education &amp; tips (RSOS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Prostitution (CBS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Remittances from abroad received by resident h/holds &amp; expenditure abroad by resident h/holds  (RSOS)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AD HOC SURVEYS:  ADJUSTMENTS (% of GDP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57120" y="1714680"/>
            <a:ext cx="85010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Individual agricultural producers  - FOSBiH: 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+ 0.5%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Individual agricultural producers  - MONSTAT: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+ 1.2%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Hotels &amp; restaurants – FOSBiH: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+ 1.5%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Tourism – MONSTAT: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+ 0.3%    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H/hold expenditure on healthcare, education &amp; tips –RSOS: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+ 0.4%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Prostitution – CBS: 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+ 0.6%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Remittances from abroad received by resident h/holds – RSOS: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+ 6.5%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AD HOC SURVEYS:  SOME LESSONS LEARN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68000" y="1600200"/>
            <a:ext cx="83898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Surveys do not have to be random samples, selection can be purposive;  innovation should be encouraged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Having a household budget survey infrastructure in place is an advantage – sampling frame, interviews, modules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Need to cross-check against other sources &amp; to adjust or discard survey results for inconsistencies or ”bias”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Useful to share &amp; compare results with countries having similar economies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9:07:41Z</dcterms:created>
  <dc:creator>roberts_d</dc:creator>
  <dc:description/>
  <dc:language>en-US</dc:language>
  <cp:lastModifiedBy>Luige</cp:lastModifiedBy>
  <dcterms:modified xsi:type="dcterms:W3CDTF">2008-04-18T12:34:09Z</dcterms:modified>
  <cp:revision>140</cp:revision>
  <dc:subject/>
  <dc:title>Slide 1</dc:title>
</cp:coreProperties>
</file>