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A8F3-E0F4-464D-86F0-B112198F0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5A3F-98A3-49CF-98EB-D9F69F610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FD0-CC95-4522-9113-2BDB02E5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1D3-1913-45C5-972C-AD9A9B2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78AD2-3C6F-4066-BDC1-ABA38929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CE601-4D58-4282-92E7-DC2D66C8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DF331-B7B3-4227-B6BD-E0C5819F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69CFF-8D43-4F45-B39A-57301F2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3C9D5-75F1-4E39-8F4F-B03FAB2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9456E-1A09-471F-818C-0301EFA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DD2EF-2CC3-4A5D-99F0-D9BADCEE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84BBB-FAFD-4E3E-A3E8-2157872F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4FC0C-33BE-4A6B-A236-1F14C14A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FD2D1-A497-449B-B04D-B8F161AE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0E7-AE05-4320-B254-9C6CA85A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21A53-BC07-4B1A-BB5D-FAF6BE0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CD43A-CAD7-4C57-A085-323CA285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F823C-4E5B-40B6-92F7-7BB1E68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ED2F2-D290-4F50-A709-6E023B55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3FDEF-D0E1-433B-B639-CEBAE3C0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9E0B6-3A3B-4275-AE45-39305B3C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A8E8B-6C06-4874-85A1-FC36196C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4CF13-AA90-4899-9582-65A932F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FE5B7-08EB-4051-8A41-2DA02088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AAA86-716F-4F92-96BF-8DDDB4DD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CEC-B477-4FD4-A146-A1BDBBE3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CCF34-A96A-429A-8FE1-0AE43EB4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DECE3-779A-48A0-9E0E-28EA0454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A9033-EEFA-4E1F-AAAA-AF467FB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58435-74DF-40CC-9F39-9CC68A55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8BE86-667A-45D7-BE5F-9DE62219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7102F-A61E-49EF-95E6-F1B1C444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2AC64-BABE-4C20-B0B5-42EA4DAE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D0B67-E74D-48A3-BB1C-CFD33395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CFCC4-DD3B-4314-8636-59AB79A2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335FB-0F2A-491C-8AA7-02FCF3A6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FECF-CDB9-448C-85C3-1A8B36F7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82518-2F8B-4E10-B3E1-243968CD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7B618-B467-47E9-A3F7-A3170719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8AE14-8489-4888-A058-8BB43BF2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C3244-4744-49A8-84DD-9C0AD1DA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09D88-8A74-443D-BCF1-B0A550F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605A6-D6E8-435D-BCF9-FDD2EDA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4F228-957E-4FF8-B8C1-3142C44E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F61D9-E8D1-4AA1-B1B7-8182007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6A150-2D14-4D76-999E-1DFD7C1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55E52-1432-4DEC-967F-5C1298A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2AC-0B06-49AE-9AA5-31E9ED96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70A44-217F-4212-9561-4112E18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5BB49-FD01-4314-BA65-34DE6A7F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32C2D-8BDF-4E15-A44F-726166A1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BE78C-6D8D-44C6-AD65-F5BD44AA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79069-252E-4B4B-9F11-7F58459B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98C1-341A-437E-A12F-EA3D8459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EE11-0AC5-4545-A607-DB6FE9DD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C3F-2F8A-4A63-8301-2E14A7ED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D479-008B-4F66-A317-12DE5AB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029A-199E-4B72-AB58-867150C9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D46-FEB3-4808-9D7B-72C130AB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3530-54FF-47F1-84D9-D6DD072C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AF1D-9C90-4369-B189-47A1307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B7C9-FD74-4D6F-8E3F-984DCBEB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0896-19A8-4031-82CC-3A1C649C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21E0-EBA3-43DD-88AD-2ED3C3B1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B521-AFD2-4D49-AE83-0DD63718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5841-F043-473F-B4E5-4B8C84E5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0D1B-62C2-4BC4-93AB-4AC96D2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48175-B975-4C3E-8958-46E6841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2D43-BE59-4485-9D7C-E7D64658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514-B903-4A2E-A2C2-DC2406C8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D354-95E8-487F-8968-6ECCE69A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7BAE-7531-4896-B5E3-224BC16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E5A0-1E83-4C17-A29B-D10FF2FC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5845-B4A6-43EE-8F23-B59D1587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568C-8E61-4A63-9408-BDD2CB22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5336-1181-4430-80BA-FEAAA899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EE45-B473-473A-821F-C7433CEA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F127-C364-4328-BBF7-0865C9C8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94B5-254D-4D98-8B83-2CB6386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9E785-76BB-4DAF-A82C-B679228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D57-5EB7-4D84-B1EE-294DE96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5AE5-B3A7-4F03-8D8B-3E3875FC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8A9D-D81E-4BBB-8BF1-952A755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DD8A4-4867-4F89-A189-AA68E33B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D31D-0B02-4A90-BA7A-AD326800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9601-28A5-421E-867D-109EB7B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81D99-0D6E-43EB-AB3C-C62619D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954E-B5E7-4B27-A4A7-DCA578FF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6ABA-92B3-495D-8DEE-556C0206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BAA3-5F30-422D-8F67-C79BF281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6773-04AD-4B54-9E56-E09341FF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9EF-DB56-4999-B04F-6B2435F7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5E157-B443-4DCA-9998-E2B4605E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5948B-863D-4A1E-81D1-6667787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0D60D-598B-40D4-ABB6-643BBF6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AE4E-B00B-45C0-9B06-76CD9D7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20EAB-CBC6-4341-AABB-13F03674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74FE-5679-43F9-9B36-1DE2BD9B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FF37-B2E5-4F22-AA27-B0131A00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D02E-2929-43C4-8714-80DB0EB9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FA72F-FFB3-4587-A180-B5567206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52765-B1AF-40EE-89EA-7B37DF8B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6E6-FBA8-49A8-8995-5CB078A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4A1A-2BC0-4359-BB95-5DE1CF60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6257B-D8FE-44E6-9A69-62B36A05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6CFE6-48C6-4100-A848-0FFD8C3F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0D746-32E2-46F7-B9D9-C026A73A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10015-E7AD-4AE3-9B6A-89AD61E2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43D06-99DD-4140-9C89-6D469950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6730-4721-4322-B04C-45413241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1CB0-6945-4E9D-A541-6F885793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DDBA-70F5-4DFD-A29A-C64E5D2E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938A-36F9-4018-B220-F37C737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892-D1E4-46AB-BCEE-25A8931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66910-75C3-4CD4-98FD-29E5CF1E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96196-DCE7-4D33-A9C3-FC9946ED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751C-1D02-46C1-B562-B7CDFD3C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F3749-2A49-4984-AB62-DF2DA216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AEAF-D385-4FD6-8E56-9433D2DF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21F9C-91DA-4D5A-8D5F-5B73B13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BE9C-8272-47E3-AEF7-06A2A01D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E545-F37C-4BF8-B6A2-62A3D8C8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F19F7-2CBE-4ECA-816A-C5AD29B9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3F204-7A73-4B60-BA4D-03CEBC6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A30-677F-40CB-98A6-4776584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730C-94B4-47FE-8B1E-45A8C8B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12917-4237-4116-ADC3-F1C10967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168E-189A-41F4-BA64-72F758BB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BFC7D-5931-4913-AB81-014FB2B3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F3BF2-54D2-4A6E-9640-F2218C74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B4B36-2B20-4C4E-BF59-575EEA8B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D7C3-1AB2-40A4-8661-9F5B9AD9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76BC-91EB-42A2-A51F-2694C71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A08D5-E864-4AB4-B6D9-070EDF80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34F0C-5EC4-4F45-A560-8E01D245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3A1-8C30-4A43-A36C-AC76592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BD3F-25E0-4C2F-B336-1BB76C5B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3F1AF-8772-41B3-90AF-6D1DDE8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55EB1-43B6-456B-AC85-AC5C2D11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5DC0F-3566-4086-874C-FCAC51B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26732-5658-4F2D-B186-6B8B40E9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7E43D-CFB5-4845-AE0F-157774FB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F0389-8054-4BF8-AC39-C49A3AE8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56043-625F-4083-8B5A-B5C61434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4AE2F-312E-4799-BB29-860545CA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13CDF-1FA0-402A-A656-81173247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56000" y="6237000"/>
            <a:ext cx="115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B243-A350-4F5E-8EE9-45EF025A07BC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29AA-CC3A-462C-97D4-ECFD5269D8EC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D52-061C-4E72-A340-6D0F82282FE4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3070-590C-4B33-8E8E-6A2BAEB74BDA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D703-6757-400A-852F-3DD6D47E1CDA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79BB-E2CA-418A-BD18-94938CA9261B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E5A1-124F-497D-877A-16ECF7697CE5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09A0-4C4A-4190-AD6D-0103009AA7CA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11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0DAC-45A5-47B9-A85E-AE85C194C1E2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OCDE_285_50K"/>
          <p:cNvPicPr/>
          <p:nvPr/>
        </p:nvPicPr>
        <p:blipFill>
          <a:blip r:embed="rId2"/>
          <a:stretch/>
        </p:blipFill>
        <p:spPr>
          <a:xfrm>
            <a:off x="115920" y="117360"/>
            <a:ext cx="568440" cy="57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logo"/>
          <p:cNvPicPr/>
          <p:nvPr/>
        </p:nvPicPr>
        <p:blipFill>
          <a:blip r:embed="rId2"/>
          <a:stretch/>
        </p:blipFill>
        <p:spPr>
          <a:xfrm>
            <a:off x="1544760" y="1298520"/>
            <a:ext cx="1731960" cy="3498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OECD_285_50K_100p"/>
          <p:cNvPicPr/>
          <p:nvPr/>
        </p:nvPicPr>
        <p:blipFill>
          <a:blip r:embed="rId3"/>
          <a:stretch/>
        </p:blipFill>
        <p:spPr>
          <a:xfrm>
            <a:off x="117360" y="117360"/>
            <a:ext cx="854280" cy="86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name_EN_250"/>
          <p:cNvPicPr/>
          <p:nvPr/>
        </p:nvPicPr>
        <p:blipFill>
          <a:blip r:embed="rId4"/>
          <a:stretch/>
        </p:blipFill>
        <p:spPr>
          <a:xfrm>
            <a:off x="1042920" y="692280"/>
            <a:ext cx="2236680" cy="268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8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F3F9-B855-49F2-8855-7A4A02D536F0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16A6-8796-4A0F-94AC-D55871291124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OCDE_285_50K"/>
          <p:cNvPicPr/>
          <p:nvPr/>
        </p:nvPicPr>
        <p:blipFill>
          <a:blip r:embed="rId2"/>
          <a:stretch/>
        </p:blipFill>
        <p:spPr>
          <a:xfrm>
            <a:off x="114480" y="11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name_FR_250"/>
          <p:cNvPicPr/>
          <p:nvPr/>
        </p:nvPicPr>
        <p:blipFill>
          <a:blip r:embed="rId3"/>
          <a:stretch/>
        </p:blipFill>
        <p:spPr>
          <a:xfrm>
            <a:off x="1042920" y="714240"/>
            <a:ext cx="2381400" cy="266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logo"/>
          <p:cNvPicPr/>
          <p:nvPr/>
        </p:nvPicPr>
        <p:blipFill>
          <a:blip r:embed="rId4"/>
          <a:stretch/>
        </p:blipFill>
        <p:spPr>
          <a:xfrm>
            <a:off x="1687680" y="1341360"/>
            <a:ext cx="1731960" cy="34988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499C-906A-43CE-A801-632B10DDBB73}" type="slidenum">
              <a:rPr b="0" lang="en-US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7961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UNECE-EUROSTAT-OECD meeting on national accounts: session for transition economies</a:t>
            </a:r>
            <a:br>
              <a:rPr sz="2400"/>
            </a:b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Geneva, 21 April 2008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928800" y="3286080"/>
            <a:ext cx="7277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Ad hoc surveys and measuring 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the non-observed economy in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Western Balkan countries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David Roberts, OEC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25" name=""/>
          <p:cNvSpPr/>
          <p:nvPr/>
        </p:nvSpPr>
        <p:spPr>
          <a:xfrm>
            <a:off x="6705720" y="190440"/>
            <a:ext cx="216036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EUROSTAT-EFTA-OECD NOE project 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for Western Balkan countries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00040" y="1785600"/>
            <a:ext cx="8143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wo phases: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Phase I:  September 2004 to January 2006; funded by Eurostat; carried out by statistical agencies of WBC in consultation with the OEC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Phase II:  January 2007 to February 2008; funded by EFTA; carried out by statistical agencies of WBC in consultation with Statistics Norway and the OECD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85840" y="135684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Apply the Eurostat tabular approach to exhaustiveness to: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oduction account (Phase I &amp;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Expenditure account (Phase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Estimate output of owner-occupied dwellings by the user cost approach (Phase I &amp;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Make estimates of output and value added from illegal activities (Phase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Carry out ad hoc surveys (Phase I &amp; II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3c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SUMMARY RESUL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428840" y="1785960"/>
          <a:ext cx="6215040" cy="3571920"/>
        </p:xfrm>
        <a:graphic>
          <a:graphicData uri="http://schemas.openxmlformats.org/drawingml/2006/table">
            <a:tbl>
              <a:tblPr/>
              <a:tblGrid>
                <a:gridCol w="3108240"/>
                <a:gridCol w="310680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OE adjustment 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(% of GDP) in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lb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osnia  Herzegov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ro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FYR of Maced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ontene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rb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D HOC SURVEYS:  TOPIC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85840" y="178560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dividual agricultural producers (FOSBiH, MONSTAT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dividual construction (SIR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Construction firms (SOK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otels &amp; restaurants (FOSBiH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ourism (MONSTAT)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Unincorporated enterprises in healthcare activities (SIR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/hold expenditure on healthcare, education &amp; tips (RSO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ostitution (CBS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mittances from abroad received by resident h/holds &amp; expenditure abroad by resident h/holds  (RSOS)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D HOC SURVEYS:  ADJUSTMENTS (% of GDP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57120" y="1714680"/>
            <a:ext cx="8501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dividual agricultural producers  - FOSBiH: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0.5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Individual agricultural producers  - MONSTAT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1.2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otels &amp; restaurants – FOSBiH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1.5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Tourism – MONSTAT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0.3%    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/hold expenditure on healthcare, education &amp; tips –RSOS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0.4%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Prostitution – CBS: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0.6%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Remittances from abroad received by resident h/holds – RSOS: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6.5%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D HOC SURVEYS:  SOME LESSONS LEAR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68000" y="1600200"/>
            <a:ext cx="8389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Surveys do not have to be random samples, selection can be purposive;  innovation should be encouraged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Having a household budget survey infrastructure in place is an advantage – sampling frame, interviews, modul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Need to cross-check against other sources &amp; to adjust or discard survey results for inconsistencies or ”bias”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3cf"/>
                </a:solidFill>
                <a:latin typeface="Arial"/>
              </a:rPr>
              <a:t>Useful to share &amp; compare results with countries having similar economi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07:41Z</dcterms:created>
  <dc:creator>roberts_d</dc:creator>
  <dc:description/>
  <dc:language>en-US</dc:language>
  <cp:lastModifiedBy>Luige</cp:lastModifiedBy>
  <dcterms:modified xsi:type="dcterms:W3CDTF">2008-04-18T12:34:09Z</dcterms:modified>
  <cp:revision>140</cp:revision>
  <dc:subject/>
  <dc:title>Slide 1</dc:title>
</cp:coreProperties>
</file>