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D89E-FD5C-4611-8775-6ACC66BB7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305A-8A76-40C4-AFFF-22D10F8D0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EBC23-0B33-47F2-A20F-87929E860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13878-5FEB-468C-96A2-11B6F7EE6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45A8C-B54C-47DD-B27D-BC3F681EB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DA795-B5BF-41EB-AD67-AA0612ED8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E9650-7082-4A77-906E-E6F1A3505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A86CA-7203-43D1-A404-C81AA69F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830E2-9FC9-4E6F-AB15-5F22B0E98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67525-0E48-47A1-AA36-47F470BAD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FD6C0-AF82-42B3-8BC4-BB5FC26AB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E3D1-E285-41C6-82B1-4D2A8727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94570-606F-464A-B240-3626031A2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5699-A13E-4057-9493-E0F694BBE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DC26A-4D4D-4D19-AD24-769C04F50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36807-BE00-46B9-A90B-3B9C5A8FB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5511C-F1C5-4F0A-A704-F228725A0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5BF1-2775-4361-A3DC-A4546D3B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52A4-4F61-451C-B2C8-57E65821D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A5B0C-9D62-4855-8E4B-CFFF3408D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BED1-8F8B-419C-9091-120A7FE3A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6EA2-A3C5-4E00-B1A4-2BD0B0D1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EC44-80BD-4BE7-AF83-3E9B9088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6EF0-88EF-41FC-BF62-AC8E9DC0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6F7D-7D64-41DE-9B3D-4F5DC58A8E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9D82-FA42-4903-BEF6-B6EED52EB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rPr>
              <a:t>Measuring illegal activities</a:t>
            </a:r>
            <a:endParaRPr b="0" lang="en-US" sz="4000" spc="-1" strike="noStrike">
              <a:solidFill>
                <a:srgbClr val="b7e7ff"/>
              </a:solidFill>
              <a:latin typeface="Arial"/>
            </a:endParaRPr>
          </a:p>
        </p:txBody>
      </p:sp>
      <p:sp>
        <p:nvSpPr>
          <p:cNvPr id="83" name="PlaceHolder 2"/>
          <p:cNvSpPr>
            <a:spLocks noGrp="1"/>
          </p:cNvSpPr>
          <p:nvPr>
            <p:ph type="subTitle"/>
          </p:nvPr>
        </p:nvSpPr>
        <p:spPr>
          <a:xfrm>
            <a:off x="1371600" y="3733920"/>
            <a:ext cx="6400800" cy="228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int UNECE/Eurostat/OECD Meeting on National Accounts and Working Group on the Impact of Globalisation on National Accounts (Geneva, 21-24 April 2008)</a:t>
            </a: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ders Nordin</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6705720" y="190440"/>
            <a:ext cx="2160360" cy="398880"/>
          </a:xfrm>
          <a:prstGeom prst="rect">
            <a:avLst/>
          </a:prstGeom>
          <a:noFill/>
          <a:ln w="12600">
            <a:solidFill>
              <a:srgbClr val="0000a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Agenda item 1a</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D0DB6A44-3C28-4F21-8F39-227CBB5E7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102"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alcohol production and consumption estimated by the balance method as difference between registered resources and alcohol consumption volumes by the popula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B9CAF36-ACAC-4351-8531-F58EFAC60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104"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output of the forged alcohol is estimated as physical volume multiplied by price of the forged production (the price is estimated on the basis of expert evaluations and usually</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hould be lower than the price for the legal product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4E48E1F-8C54-4DD3-8982-07E431CD4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06"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national accounts purposes, the relevant aggregates are output (value of services provided by domestic prostitutes), imports (value of services provided by non-residents), export services and consumption.</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928ADE2-227D-4EA2-AE7A-5CA582FB3A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08"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rmally the most reliable method on the identification of the output of prostitution services is its definition from the supply side (resources), on the basis of the data on the number of employed in this kind of activity in the country and their average incom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91385E1-0D20-4AEA-BD85-EECACEDDE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0"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stimation of prostitution services should be done by the categories of the prostitutes, as the prices for services and also size and structure of the intermediate consumption for different categories are sufficiently different (street…….elite prostitu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D48C6BD-5102-400D-98D0-F2F235AF0B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2" name=""/>
          <p:cNvSpPr/>
          <p:nvPr/>
        </p:nvSpPr>
        <p:spPr>
          <a:xfrm>
            <a:off x="216000" y="1752480"/>
            <a:ext cx="871200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stimation of the value of output of prostitution is made using data from the police and other institutions active in this field with respect to the number of prostitutes, months worked per year and the average monthly incom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68B7E25-D756-4B2E-BC01-FEDC3F1558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4" name=""/>
          <p:cNvSpPr/>
          <p:nvPr/>
        </p:nvSpPr>
        <p:spPr>
          <a:xfrm>
            <a:off x="216000" y="1752480"/>
            <a:ext cx="871200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output of prostitution services can be estimated on the basis of the data on the number of the prostitutes and the average value of the service for every category.</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AA09F5F-9630-4E33-9361-4D3B3EFC9F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87280" y="2286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6" name=""/>
          <p:cNvSpPr/>
          <p:nvPr/>
        </p:nvSpPr>
        <p:spPr>
          <a:xfrm>
            <a:off x="216000" y="990720"/>
            <a:ext cx="8712000" cy="5607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of the prostitution should be related to:</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Rent paid by prostitute for the flat to receive clients, intimate salons, massage salons, etc.;</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en-US" sz="3200" spc="-1" strike="noStrike">
                <a:solidFill>
                  <a:srgbClr val="ffff00"/>
                </a:solidFill>
                <a:latin typeface="Arial"/>
              </a:rPr>
              <a:t>Expenditures for clothes, cosmetics, protection measures, transportation, equipment and advertising (ads in the newspap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5 -20% from the value of output.</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E7A316F-7E5A-4C1D-86DC-48DF0DA0E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87280" y="7621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8" name=""/>
          <p:cNvSpPr/>
          <p:nvPr/>
        </p:nvSpPr>
        <p:spPr>
          <a:xfrm>
            <a:off x="216000" y="1676520"/>
            <a:ext cx="8712000" cy="49212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estimation of the export of the prostitution services it is necessary to define the number of the persons providing services abroa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E7AEC8C-6018-4904-AB9A-7AE77E0403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0"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y infringements of the customs regulations are considered to be smuggling. These include transportation of the prohibited goods, transportation of goods under wrong labels, lowering the value of the goods, etc.</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E2E10D0-C73F-4CAC-A5C3-A698477552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86" name=""/>
          <p:cNvSpPr/>
          <p:nvPr/>
        </p:nvSpPr>
        <p:spPr>
          <a:xfrm>
            <a:off x="287280" y="1295280"/>
            <a:ext cx="8677440" cy="53024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cohol production not covered by the regular statistical observat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not registered production at the legal enterpris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llegal production in underground enterpris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household production for own consump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household production for sal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248802D-21EA-4AA3-B78B-3087F52B45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2"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uggled import and export of goods can be defined by the balance method as difference between registered resources and consumption of good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94091B3-3F63-4E76-BEAA-2864291671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4" name=""/>
          <p:cNvSpPr/>
          <p:nvPr/>
        </p:nvSpPr>
        <p:spPr>
          <a:xfrm>
            <a:off x="287280" y="1371600"/>
            <a:ext cx="8677440" cy="38862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n the basis of customs statistics and expert evaluations we can define the relation of the margin to the value of the good in the prices of import. Therefore, it is better to have division of the smuggled goods into several categories depending on the level of margin. For example, differentiate categories as household equipment and electronics, motor vehicles, alcohol beverages, tobacco, and other good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DC73851-1797-4A6A-BAFF-C634100C2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6"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trade output of the smuggled goods is defined as the sum of the imported smuggled goods multiplied by the relevant trade margin.</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9D2D48C-CCE1-456F-8121-F211DF2F2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8"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of the trade of smuggled goods is estimated as a percentage from outpu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1C17197-3087-4BCE-806D-BB40CCFC145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7280" y="958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88" name=""/>
          <p:cNvSpPr/>
          <p:nvPr/>
        </p:nvSpPr>
        <p:spPr>
          <a:xfrm>
            <a:off x="287280" y="1981080"/>
            <a:ext cx="8677440" cy="46166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production activities related to drugs include drugs production inside the country and activities of their delivery and sales to user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85D2D93-D949-4D19-B27A-41E8F0DCCC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0" name=""/>
          <p:cNvSpPr/>
          <p:nvPr/>
        </p:nvSpPr>
        <p:spPr>
          <a:xfrm>
            <a:off x="287280" y="1371600"/>
            <a:ext cx="8677440" cy="52261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alue of drug operations can be estimated both by the production and expenditure method. </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are needed on the volume of the domestic production and expenditure, export, import of the drugs, and also wholesale, retail, import and export prices of the drug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Estimations to be done separately for every kind drug.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700BA50-23FF-4327-81C9-31769C0D16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87280" y="12952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2" name=""/>
          <p:cNvSpPr/>
          <p:nvPr/>
        </p:nvSpPr>
        <p:spPr>
          <a:xfrm>
            <a:off x="216000" y="2241720"/>
            <a:ext cx="871200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is estimated for each activity: production of drugs and trade. For the trade activity the value of intermediate consumption is very low.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6405D7F-F14A-4FE7-B62D-57BF304B8A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4"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olume of consumption of drugs is estimated on the basis of confiscated drugs and the average share of discovered cas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alue  of consumption by the number of drugs users, average daily drug dose by type of drugs, number of days of the year in which the drug is used and the average price per dose and kind of drug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F9F54BB-163B-4AFF-ADD7-2AA9B503B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 drugs</a:t>
            </a:r>
            <a:endParaRPr b="0" lang="en-US" sz="3600" spc="-1" strike="noStrike">
              <a:solidFill>
                <a:srgbClr val="ffffff"/>
              </a:solidFill>
              <a:latin typeface="Arial"/>
            </a:endParaRPr>
          </a:p>
        </p:txBody>
      </p:sp>
      <p:sp>
        <p:nvSpPr>
          <p:cNvPr id="96" name=""/>
          <p:cNvSpPr/>
          <p:nvPr/>
        </p:nvSpPr>
        <p:spPr>
          <a:xfrm>
            <a:off x="457200" y="1752480"/>
            <a:ext cx="815328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o identify all possible data sources to estimate the production and distribution of drugs: data and information from ministries, studies from research institutes or done by different experts, information from non-government organisations etc.</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3F6BC564-90EB-43C0-AB9F-FC7465164C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98"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 registered production at the legal enterprises is regarded as shadow but not as illegal production and not included into the evaluation of the illegal production activitie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3BC7B7E6-0A8B-4B85-B86D-380FE9E6D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87280" y="12952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ocohol</a:t>
            </a:r>
            <a:endParaRPr b="0" lang="en-US" sz="3600" spc="-1" strike="noStrike">
              <a:solidFill>
                <a:srgbClr val="ffffff"/>
              </a:solidFill>
              <a:latin typeface="Arial"/>
            </a:endParaRPr>
          </a:p>
        </p:txBody>
      </p:sp>
      <p:sp>
        <p:nvSpPr>
          <p:cNvPr id="100" name=""/>
          <p:cNvSpPr/>
          <p:nvPr/>
        </p:nvSpPr>
        <p:spPr>
          <a:xfrm>
            <a:off x="216000" y="2241720"/>
            <a:ext cx="871200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alcohol production is undertaken by underground enterprises and by households for own consumption and for sale.</a:t>
            </a:r>
            <a:r>
              <a:rPr b="1" lang="en-US" sz="3200" spc="-1" strike="noStrike">
                <a:solidFill>
                  <a:srgbClr val="ffff00"/>
                </a:solidFill>
                <a:latin typeface="Arial"/>
              </a:rPr>
              <a: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D75EC9C2-63FB-4FA9-80F8-C75F0F682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3:17:21Z</dcterms:created>
  <dc:creator>anordin</dc:creator>
  <dc:description/>
  <dc:language>en-US</dc:language>
  <cp:lastModifiedBy>Luige</cp:lastModifiedBy>
  <dcterms:modified xsi:type="dcterms:W3CDTF">2008-04-18T09:53:04Z</dcterms:modified>
  <cp:revision>31</cp:revision>
  <dc:subject/>
  <dc:title>A survey for measuring underreporting of data based on tax inspectors </dc:title>
</cp:coreProperties>
</file>