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691813" cy="7524750"/>
  <p:notesSz cx="752475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FC51-0308-4DF0-BCB1-89CF8337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90867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01360" y="4101840"/>
            <a:ext cx="90867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83D-74F6-4638-8D3C-1D1A1B25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57600" y="174420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1360" y="410184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57600" y="410184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9F88-6F7B-443B-9BFA-004D303A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2925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73600" y="1744200"/>
            <a:ext cx="2925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946200" y="1744200"/>
            <a:ext cx="2925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01360" y="4101840"/>
            <a:ext cx="2925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73600" y="4101840"/>
            <a:ext cx="2925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946200" y="4101840"/>
            <a:ext cx="2925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A0D4-B89D-485D-891C-923A1EE0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01360" y="1744200"/>
            <a:ext cx="90867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7B9B-5A9B-43CF-80BC-54DE9904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9086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F8FC-8233-4166-9954-63B373C3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443412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57600" y="1744200"/>
            <a:ext cx="443412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3953-2723-4BF7-9FC4-D75A7D65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C93F-CED7-4345-84E8-99942C2A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01360" y="161640"/>
            <a:ext cx="908676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EC75-6E88-4F64-885A-85E92A4F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57600" y="1744200"/>
            <a:ext cx="443412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01360" y="410184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3786-0AA6-419B-A679-A148BA19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443412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57600" y="174420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57600" y="410184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FD5E-731B-4534-841A-312D4810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7600" y="174420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360" y="4101840"/>
            <a:ext cx="90867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8552-3C1B-4547-A2D7-C29B6D0A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Gill Sans"/>
              </a:rPr>
              <a:t>Click to edit the title text format</a:t>
            </a: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360" y="1744200"/>
            <a:ext cx="9086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1360" y="6854760"/>
            <a:ext cx="22273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560" y="6854760"/>
            <a:ext cx="338436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0800" y="6854760"/>
            <a:ext cx="22273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1064-95E2-4F42-92C6-AED6A3FB29B8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19160" y="58428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3" y="0"/>
                </a:lnTo>
                <a:lnTo>
                  <a:pt x="3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19160" y="5857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19160" y="59040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3" y="0"/>
                </a:lnTo>
                <a:lnTo>
                  <a:pt x="3" y="11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019160" y="60804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93600" y="676440"/>
            <a:ext cx="19080" cy="36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533520" y="914400"/>
            <a:ext cx="46080" cy="1440"/>
          </a:xfrm>
          <a:custGeom>
            <a:avLst/>
            <a:gdLst/>
            <a:ahLst/>
            <a:rect l="l" t="t" r="r" b="b"/>
            <a:pathLst>
              <a:path w="29" h="1">
                <a:moveTo>
                  <a:pt x="0" y="1"/>
                </a:moveTo>
                <a:lnTo>
                  <a:pt x="29" y="1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9882360" y="17640"/>
            <a:ext cx="853920" cy="100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588520" y="5889600"/>
            <a:ext cx="29880" cy="66600"/>
          </a:xfrm>
          <a:custGeom>
            <a:avLst/>
            <a:gdLst/>
            <a:ahLst/>
            <a:rect l="l" t="t" r="r" b="b"/>
            <a:pathLst>
              <a:path w="19" h="42">
                <a:moveTo>
                  <a:pt x="16" y="6"/>
                </a:moveTo>
                <a:cubicBezTo>
                  <a:pt x="16" y="6"/>
                  <a:pt x="7" y="0"/>
                  <a:pt x="4" y="1"/>
                </a:cubicBezTo>
                <a:cubicBezTo>
                  <a:pt x="2" y="1"/>
                  <a:pt x="0" y="6"/>
                  <a:pt x="0" y="6"/>
                </a:cubicBezTo>
                <a:cubicBezTo>
                  <a:pt x="1" y="17"/>
                  <a:pt x="1" y="17"/>
                  <a:pt x="1" y="17"/>
                </a:cubicBezTo>
                <a:cubicBezTo>
                  <a:pt x="11" y="39"/>
                  <a:pt x="11" y="39"/>
                  <a:pt x="11" y="39"/>
                </a:cubicBezTo>
                <a:cubicBezTo>
                  <a:pt x="19" y="42"/>
                  <a:pt x="19" y="42"/>
                  <a:pt x="19" y="42"/>
                </a:cubicBezTo>
                <a:cubicBezTo>
                  <a:pt x="12" y="26"/>
                  <a:pt x="12" y="26"/>
                  <a:pt x="12" y="26"/>
                </a:cubicBezTo>
                <a:cubicBezTo>
                  <a:pt x="9" y="16"/>
                  <a:pt x="9" y="16"/>
                  <a:pt x="9" y="16"/>
                </a:cubicBezTo>
                <a:cubicBezTo>
                  <a:pt x="16" y="6"/>
                  <a:pt x="16" y="6"/>
                  <a:pt x="16" y="6"/>
                </a:cubicBezTo>
                <a:close/>
              </a:path>
            </a:pathLst>
          </a:custGeom>
          <a:solidFill>
            <a:srgbClr val="ffad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197920" y="9117000"/>
            <a:ext cx="19080" cy="57240"/>
          </a:xfrm>
          <a:custGeom>
            <a:avLst/>
            <a:gdLst/>
            <a:ahLst/>
            <a:rect l="l" t="t" r="r" b="b"/>
            <a:pathLst>
              <a:path w="12" h="36">
                <a:moveTo>
                  <a:pt x="2" y="36"/>
                </a:moveTo>
                <a:cubicBezTo>
                  <a:pt x="1" y="29"/>
                  <a:pt x="0" y="22"/>
                  <a:pt x="1" y="16"/>
                </a:cubicBezTo>
                <a:cubicBezTo>
                  <a:pt x="1" y="13"/>
                  <a:pt x="1" y="9"/>
                  <a:pt x="2" y="5"/>
                </a:cubicBezTo>
                <a:cubicBezTo>
                  <a:pt x="2" y="4"/>
                  <a:pt x="1" y="4"/>
                  <a:pt x="1" y="3"/>
                </a:cubicBezTo>
                <a:cubicBezTo>
                  <a:pt x="3" y="2"/>
                  <a:pt x="3" y="1"/>
                  <a:pt x="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3"/>
                  <a:pt x="9" y="3"/>
                  <a:pt x="9" y="3"/>
                </a:cubicBezTo>
                <a:cubicBezTo>
                  <a:pt x="10" y="4"/>
                  <a:pt x="10" y="4"/>
                  <a:pt x="10" y="4"/>
                </a:cubicBezTo>
                <a:cubicBezTo>
                  <a:pt x="12" y="3"/>
                  <a:pt x="12" y="3"/>
                  <a:pt x="12" y="3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1"/>
                </a:cubicBezTo>
                <a:cubicBezTo>
                  <a:pt x="9" y="3"/>
                  <a:pt x="8" y="5"/>
                  <a:pt x="6" y="6"/>
                </a:cubicBezTo>
                <a:cubicBezTo>
                  <a:pt x="5" y="13"/>
                  <a:pt x="5" y="20"/>
                  <a:pt x="5" y="27"/>
                </a:cubicBezTo>
                <a:cubicBezTo>
                  <a:pt x="6" y="30"/>
                  <a:pt x="6" y="33"/>
                  <a:pt x="7" y="36"/>
                </a:cubicBezTo>
                <a:cubicBezTo>
                  <a:pt x="2" y="36"/>
                  <a:pt x="2" y="36"/>
                  <a:pt x="2" y="36"/>
                </a:cubicBezTo>
                <a:cubicBezTo>
                  <a:pt x="2" y="36"/>
                  <a:pt x="2" y="36"/>
                  <a:pt x="2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24360" y="545472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4" y="0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24360" y="545796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2" y="2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5040" y="5484960"/>
            <a:ext cx="7920" cy="288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1"/>
                </a:moveTo>
                <a:lnTo>
                  <a:pt x="2" y="2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28960" y="5202360"/>
            <a:ext cx="9360" cy="612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0"/>
                </a:moveTo>
                <a:lnTo>
                  <a:pt x="6" y="0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32200" y="531504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2" y="0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51280" y="54658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10" y="0"/>
                </a:moveTo>
                <a:lnTo>
                  <a:pt x="10" y="1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98680" y="5729400"/>
            <a:ext cx="55440" cy="1440"/>
          </a:xfrm>
          <a:custGeom>
            <a:avLst/>
            <a:gdLst/>
            <a:ahLst/>
            <a:rect l="l" t="t" r="r" b="b"/>
            <a:pathLst>
              <a:path w="35" h="1">
                <a:moveTo>
                  <a:pt x="0" y="1"/>
                </a:moveTo>
                <a:lnTo>
                  <a:pt x="35" y="1"/>
                </a:lnTo>
                <a:lnTo>
                  <a:pt x="3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96960" y="5729400"/>
            <a:ext cx="73080" cy="1440"/>
          </a:xfrm>
          <a:custGeom>
            <a:avLst/>
            <a:gdLst/>
            <a:ahLst/>
            <a:rect l="l" t="t" r="r" b="b"/>
            <a:pathLst>
              <a:path w="46" h="1">
                <a:moveTo>
                  <a:pt x="0" y="1"/>
                </a:moveTo>
                <a:lnTo>
                  <a:pt x="46" y="1"/>
                </a:lnTo>
                <a:lnTo>
                  <a:pt x="4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7960" y="5729400"/>
            <a:ext cx="60120" cy="6120"/>
          </a:xfrm>
          <a:custGeom>
            <a:avLst/>
            <a:gdLst/>
            <a:ahLst/>
            <a:rect l="l" t="t" r="r" b="b"/>
            <a:pathLst>
              <a:path w="38" h="4">
                <a:moveTo>
                  <a:pt x="0" y="4"/>
                </a:moveTo>
                <a:lnTo>
                  <a:pt x="38" y="4"/>
                </a:lnTo>
                <a:lnTo>
                  <a:pt x="3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52760" y="5729400"/>
            <a:ext cx="58680" cy="7920"/>
          </a:xfrm>
          <a:custGeom>
            <a:avLst/>
            <a:gdLst/>
            <a:ahLst/>
            <a:rect l="l" t="t" r="r" b="b"/>
            <a:pathLst>
              <a:path w="37" h="5">
                <a:moveTo>
                  <a:pt x="0" y="4"/>
                </a:moveTo>
                <a:lnTo>
                  <a:pt x="37" y="5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9068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333399"/>
                </a:solidFill>
                <a:latin typeface="Gill Sans"/>
              </a:rPr>
              <a:t>1993 SNA UPDATE</a:t>
            </a:r>
            <a:br>
              <a:rPr sz="4000"/>
            </a:br>
            <a:br>
              <a:rPr sz="4000"/>
            </a:br>
            <a:r>
              <a:rPr b="1" lang="en-AU" sz="4000" spc="-1" strike="noStrike">
                <a:solidFill>
                  <a:srgbClr val="333399"/>
                </a:solidFill>
                <a:latin typeface="Gill Sans"/>
              </a:rPr>
              <a:t>IMPLEMENTATION STRATEGY</a:t>
            </a:r>
            <a:endParaRPr b="1" lang="en-US" sz="40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93280" y="4267080"/>
            <a:ext cx="9433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Papers by</a:t>
            </a:r>
            <a:br>
              <a:rPr sz="2800"/>
            </a:br>
            <a:br>
              <a:rPr sz="2800"/>
            </a:b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Statistics Ca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Federal Service for State Statistics (Russian Feder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820440" y="25560"/>
            <a:ext cx="853920" cy="1000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002360" y="3049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genda item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45280" y="233280"/>
            <a:ext cx="1871640" cy="503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AB8-D82A-475F-A5EF-0B87805817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333399"/>
                </a:solidFill>
                <a:latin typeface="Gill Sans"/>
              </a:rPr>
              <a:t>QUESTIONS</a:t>
            </a: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9086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hich parts of the Updated SNA are going to be most difficult to impl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ave you any special strategies to obtain (and retain) the staff requi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Do you use “off-the-shelf” software to handle time series national accounts or has a special computer system been designed and built within your agenc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an Stats Canada provide any details about the composition and functions of the proposed coordinating committe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8C67-F34D-473A-A3B0-A42E4F70EE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333399"/>
                </a:solidFill>
                <a:latin typeface="Gill Sans"/>
              </a:rPr>
              <a:t>Introduction</a:t>
            </a: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1360" y="1744560"/>
            <a:ext cx="90867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mplementing the 1993 SNA was more time consuming than most NSOs exp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howed the need for a detailed implementation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tatistics Canada and the Russian Federal Service for State Statistics (RosStat) have set out their strategies for implementing the Updated 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ot surprisingly there is a fair degree of overlap between these pa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o considering them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2253-0A45-4D2D-A6F1-EC03766450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333399"/>
                </a:solidFill>
                <a:latin typeface="Gill Sans"/>
              </a:rPr>
              <a:t>SCOPE</a:t>
            </a: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360" y="1744560"/>
            <a:ext cx="90867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s well as introducing new concepts from the Updated SNA, the opportunity is being taken to review existing concepts and method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for example, RosStat is closely examining the methods used to compile imputed rent while Canada is looking particularly at improving the services s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nsuring consistency across macro-economic st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national accounts, BoP, government fi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anada has advantage of compiling all these within one agency but RosStat has to coordinate with other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128-87E2-40C6-9DBD-95B68B9FF7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333399"/>
                </a:solidFill>
                <a:latin typeface="Gill Sans"/>
              </a:rPr>
              <a:t>SOME KEY AREAS</a:t>
            </a: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9086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Non-observed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apitalising all military capital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Mix of market/non-market production in functions like health and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Goods for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apitalising R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FI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Measuring the output of non-life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A40D-E04D-44D5-8F11-C77C057C2C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333399"/>
                </a:solidFill>
                <a:latin typeface="Gill Sans"/>
              </a:rPr>
              <a:t>RESOURCES</a:t>
            </a: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9086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Budget for collecting extra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Budget for the extra national accounts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petition for skilled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raining required to develop the necessary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trategy required for retaining skilled staff for the duration of the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D30E-7BB2-4396-B41E-C3CDE5D798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333399"/>
                </a:solidFill>
                <a:latin typeface="Gill Sans"/>
              </a:rPr>
              <a:t>DATA ISSUES</a:t>
            </a: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9086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ourc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economic surve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udgetary and response burden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dministrativ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ntroducing improved/updated class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Backcasting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length of consistent time series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users (e.g. economic modellers) will derive their own long-term series if they are not provided by the N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26E5-E601-45F5-AAAE-DE8A0C3861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333399"/>
                </a:solidFill>
                <a:latin typeface="Gill Sans"/>
              </a:rPr>
              <a:t>USER REQUIREMENTS</a:t>
            </a: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360" y="1744560"/>
            <a:ext cx="90867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Users often prefer consistency rather than improved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ontinue to give us what you have always given u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ncerted education process i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eetings with Advisory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apers setting out the proposed changes, their potential impact, and the reasons for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eminars open to al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1DD-7509-4742-BC8E-5C65A46DFB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333399"/>
                </a:solidFill>
                <a:latin typeface="Gill Sans"/>
              </a:rPr>
              <a:t>USER REQUIREMENTS </a:t>
            </a:r>
            <a:r>
              <a:rPr b="1" lang="en-AU" sz="2000" spc="-1" strike="noStrike">
                <a:solidFill>
                  <a:srgbClr val="333399"/>
                </a:solidFill>
                <a:latin typeface="Gill Sans"/>
              </a:rPr>
              <a:t>(continued)</a:t>
            </a:r>
            <a:endParaRPr b="1" lang="en-US" sz="20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9086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pecial briefings on the major impacts from introducing the Updated SNA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ritical to have major users such as Ministries of Finance and Central Banks on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How to provide intensive users with access to the new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uggestion: release data for earlier years a couple of months prior to the first “live” re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7D8B-0059-49BC-BC40-21534E4B72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333399"/>
                </a:solidFill>
                <a:latin typeface="Gill Sans"/>
              </a:rPr>
              <a:t>OTHER ISSUES</a:t>
            </a: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01360" y="1744560"/>
            <a:ext cx="90867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teering committee to coordinate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mplement individual recommendations as time permits or large sections at a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RosStat suggests large sections rather than individual recommendations to reduce the number of times the accounts are rev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8734-38D4-4392-8993-5363AB1B83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tatkov</cp:lastModifiedBy>
  <dcterms:modified xsi:type="dcterms:W3CDTF">2008-04-16T09:58:43Z</dcterms:modified>
  <cp:revision>52</cp:revision>
  <dc:subject/>
  <dc:title>PowerPoint Presentation</dc:title>
</cp:coreProperties>
</file>