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691813" cy="7524750"/>
  <p:notesSz cx="752475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3FF-4B85-4FAA-80F7-7BF1652E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01360" y="4101840"/>
            <a:ext cx="90867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F65-F3E7-49DE-B867-9EB6981A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57600" y="17442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1360" y="410184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57600" y="410184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BE4-ED8C-4C6C-BEF1-59166C4B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73600" y="174420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46200" y="174420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01360" y="410184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73600" y="410184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46200" y="410184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245-55A7-46AD-8F9E-F3EFBC74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555-17E9-479E-B4D7-30DCAA54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E10-3E60-44DE-8743-CCB289B4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7600" y="174420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6AD-503D-4C77-BAE5-393FB478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4D1-B5C9-4589-9B58-7E233B85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01360" y="161640"/>
            <a:ext cx="908676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3FE-43C8-4951-8A21-F5EFFBDF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57600" y="174420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1360" y="410184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FDF-FD8A-4A24-9E4A-85CC885F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57600" y="17442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57600" y="410184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A16-E36D-4431-9AFE-8101A350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7600" y="17442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360" y="4101840"/>
            <a:ext cx="90867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3A9-5B7A-4E91-BA01-9382DB43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Gill Sans"/>
              </a:rPr>
              <a:t>Click to edit the title text format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1360" y="6854760"/>
            <a:ext cx="22273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560" y="6854760"/>
            <a:ext cx="338436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0800" y="6854760"/>
            <a:ext cx="22273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5525-E8F4-44AD-B17A-991476BDD31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19160" y="58428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19160" y="5857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19160" y="59040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3" y="0"/>
                </a:lnTo>
                <a:lnTo>
                  <a:pt x="3" y="11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19160" y="60804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93600" y="676440"/>
            <a:ext cx="19080" cy="36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914400"/>
            <a:ext cx="46080" cy="1440"/>
          </a:xfrm>
          <a:custGeom>
            <a:avLst/>
            <a:gdLst/>
            <a:ahLst/>
            <a:rect l="l" t="t" r="r" b="b"/>
            <a:pathLst>
              <a:path w="29" h="1">
                <a:moveTo>
                  <a:pt x="0" y="1"/>
                </a:moveTo>
                <a:lnTo>
                  <a:pt x="29" y="1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9882360" y="17640"/>
            <a:ext cx="85392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588520" y="5889600"/>
            <a:ext cx="29880" cy="66600"/>
          </a:xfrm>
          <a:custGeom>
            <a:avLst/>
            <a:gdLst/>
            <a:ahLst/>
            <a:rect l="l" t="t" r="r" b="b"/>
            <a:pathLst>
              <a:path w="19" h="42">
                <a:moveTo>
                  <a:pt x="16" y="6"/>
                </a:moveTo>
                <a:cubicBezTo>
                  <a:pt x="16" y="6"/>
                  <a:pt x="7" y="0"/>
                  <a:pt x="4" y="1"/>
                </a:cubicBezTo>
                <a:cubicBezTo>
                  <a:pt x="2" y="1"/>
                  <a:pt x="0" y="6"/>
                  <a:pt x="0" y="6"/>
                </a:cubicBezTo>
                <a:cubicBezTo>
                  <a:pt x="1" y="17"/>
                  <a:pt x="1" y="17"/>
                  <a:pt x="1" y="17"/>
                </a:cubicBezTo>
                <a:cubicBezTo>
                  <a:pt x="11" y="39"/>
                  <a:pt x="11" y="39"/>
                  <a:pt x="11" y="39"/>
                </a:cubicBezTo>
                <a:cubicBezTo>
                  <a:pt x="19" y="42"/>
                  <a:pt x="19" y="42"/>
                  <a:pt x="19" y="42"/>
                </a:cubicBezTo>
                <a:cubicBezTo>
                  <a:pt x="12" y="26"/>
                  <a:pt x="12" y="26"/>
                  <a:pt x="12" y="26"/>
                </a:cubicBezTo>
                <a:cubicBezTo>
                  <a:pt x="9" y="16"/>
                  <a:pt x="9" y="16"/>
                  <a:pt x="9" y="16"/>
                </a:cubicBezTo>
                <a:cubicBezTo>
                  <a:pt x="16" y="6"/>
                  <a:pt x="16" y="6"/>
                  <a:pt x="16" y="6"/>
                </a:cubicBezTo>
                <a:close/>
              </a:path>
            </a:pathLst>
          </a:custGeom>
          <a:solidFill>
            <a:srgbClr val="ffa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97920" y="9117000"/>
            <a:ext cx="19080" cy="57240"/>
          </a:xfrm>
          <a:custGeom>
            <a:avLst/>
            <a:gdLst/>
            <a:ahLst/>
            <a:rect l="l" t="t" r="r" b="b"/>
            <a:pathLst>
              <a:path w="12" h="36">
                <a:moveTo>
                  <a:pt x="2" y="36"/>
                </a:moveTo>
                <a:cubicBezTo>
                  <a:pt x="1" y="29"/>
                  <a:pt x="0" y="22"/>
                  <a:pt x="1" y="16"/>
                </a:cubicBezTo>
                <a:cubicBezTo>
                  <a:pt x="1" y="13"/>
                  <a:pt x="1" y="9"/>
                  <a:pt x="2" y="5"/>
                </a:cubicBezTo>
                <a:cubicBezTo>
                  <a:pt x="2" y="4"/>
                  <a:pt x="1" y="4"/>
                  <a:pt x="1" y="3"/>
                </a:cubicBezTo>
                <a:cubicBezTo>
                  <a:pt x="3" y="2"/>
                  <a:pt x="3" y="1"/>
                  <a:pt x="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3"/>
                  <a:pt x="9" y="3"/>
                  <a:pt x="9" y="3"/>
                </a:cubicBezTo>
                <a:cubicBezTo>
                  <a:pt x="10" y="4"/>
                  <a:pt x="10" y="4"/>
                  <a:pt x="10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1"/>
                </a:cubicBezTo>
                <a:cubicBezTo>
                  <a:pt x="9" y="3"/>
                  <a:pt x="8" y="5"/>
                  <a:pt x="6" y="6"/>
                </a:cubicBezTo>
                <a:cubicBezTo>
                  <a:pt x="5" y="13"/>
                  <a:pt x="5" y="20"/>
                  <a:pt x="5" y="27"/>
                </a:cubicBezTo>
                <a:cubicBezTo>
                  <a:pt x="6" y="30"/>
                  <a:pt x="6" y="33"/>
                  <a:pt x="7" y="36"/>
                </a:cubicBezTo>
                <a:cubicBezTo>
                  <a:pt x="2" y="36"/>
                  <a:pt x="2" y="36"/>
                  <a:pt x="2" y="36"/>
                </a:cubicBezTo>
                <a:cubicBezTo>
                  <a:pt x="2" y="36"/>
                  <a:pt x="2" y="36"/>
                  <a:pt x="2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24360" y="545472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24360" y="545796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5040" y="5484960"/>
            <a:ext cx="7920" cy="288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1"/>
                </a:moveTo>
                <a:lnTo>
                  <a:pt x="2" y="2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28960" y="520236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0"/>
                </a:moveTo>
                <a:lnTo>
                  <a:pt x="6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32200" y="531504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51280" y="54658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10" y="0"/>
                </a:moveTo>
                <a:lnTo>
                  <a:pt x="10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98680" y="5729400"/>
            <a:ext cx="55440" cy="1440"/>
          </a:xfrm>
          <a:custGeom>
            <a:avLst/>
            <a:gdLst/>
            <a:ahLst/>
            <a:rect l="l" t="t" r="r" b="b"/>
            <a:pathLst>
              <a:path w="35" h="1">
                <a:moveTo>
                  <a:pt x="0" y="1"/>
                </a:moveTo>
                <a:lnTo>
                  <a:pt x="35" y="1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96960" y="5729400"/>
            <a:ext cx="73080" cy="144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1"/>
                </a:moveTo>
                <a:lnTo>
                  <a:pt x="46" y="1"/>
                </a:lnTo>
                <a:lnTo>
                  <a:pt x="4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7960" y="5729400"/>
            <a:ext cx="60120" cy="6120"/>
          </a:xfrm>
          <a:custGeom>
            <a:avLst/>
            <a:gdLst/>
            <a:ahLst/>
            <a:rect l="l" t="t" r="r" b="b"/>
            <a:pathLst>
              <a:path w="38" h="4">
                <a:moveTo>
                  <a:pt x="0" y="4"/>
                </a:moveTo>
                <a:lnTo>
                  <a:pt x="38" y="4"/>
                </a:lnTo>
                <a:lnTo>
                  <a:pt x="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2760" y="572940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4"/>
                </a:moveTo>
                <a:lnTo>
                  <a:pt x="37" y="5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9068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Gill Sans"/>
              </a:rPr>
              <a:t>1993 SNA UPDATE</a:t>
            </a:r>
            <a:br>
              <a:rPr sz="4000"/>
            </a:br>
            <a:br>
              <a:rPr sz="4000"/>
            </a:br>
            <a:r>
              <a:rPr b="1" lang="en-AU" sz="4000" spc="-1" strike="noStrike">
                <a:solidFill>
                  <a:srgbClr val="333399"/>
                </a:solidFill>
                <a:latin typeface="Gill Sans"/>
              </a:rPr>
              <a:t>IMPLEMENTATION STRATEGY</a:t>
            </a:r>
            <a:endParaRPr b="1" lang="en-US" sz="40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93280" y="4267080"/>
            <a:ext cx="9433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Papers by</a:t>
            </a:r>
            <a:br>
              <a:rPr sz="2800"/>
            </a:br>
            <a:br>
              <a:rPr sz="2800"/>
            </a:b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Statistics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Federal Service for State Statistics (Russian Fede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820440" y="25560"/>
            <a:ext cx="853920" cy="1000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002360" y="304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genda item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45280" y="233280"/>
            <a:ext cx="1871640" cy="503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1B6-0FAF-4DF7-A70B-33731A8D81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QUESTIONS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ich parts of the Updated SNA are going to be most difficult to impl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ave you any special strategies to obtain (and retain) the staff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o you use “off-the-shelf” software to handle time series national accounts or has a special computer system been designed and built within your agen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an Stats Canada provide any details about the composition and functions of the proposed coordinating committ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F48-B638-431F-B461-F551A7D6BA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Introduction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1360" y="1744560"/>
            <a:ext cx="90867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plementing the 1993 SNA was more time consuming than most NSOs exp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howed the need for a detailed implement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atistics Canada and the Russian Federal Service for State Statistics (RosStat) have set out their strategies for implementing the Updated 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ot surprisingly there is a fair degree of overlap between these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o considering them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4BC-F9E6-4CC5-9395-92F870CA1E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SCOPE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360" y="1744560"/>
            <a:ext cx="90867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s well as introducing new concepts from the Updated SNA, the opportunity is being taken to review existing concepts and method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or example, RosStat is closely examining the methods used to compile imputed rent while Canada is looking particularly at improving the services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nsuring consistency across macro-economic st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ational accounts, BoP, government 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anada has advantage of compiling all these within one agency but RosStat has to coordinate with other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D3A-CA83-492F-90D4-DD32E5263F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SOME KEY AREAS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on-observed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apitalising all military capital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ix of market/non-market production in functions like health and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Goods for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apitalising R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I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easuring the output of non-life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953-4937-4C16-8389-565DC93B98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RESOURCES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udget for collecting extra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udget for the extra national accounts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etition for skilled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raining required to develop the necessary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trategy required for retaining skilled staff for the duration of th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090-C7F0-4534-99CB-CAD1BFA7DB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DATA ISSUES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urc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conomic surve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udgetary and response burde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dministra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troducing improved/updated class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ackcasting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ength of consistent time series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users (e.g. economic modellers) will derive their own long-term series if they are not provided by the N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75B-A25B-467C-95F8-1C59BA7DC1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USER REQUIREMENTS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360" y="1744560"/>
            <a:ext cx="90867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Users often prefer consistency rather than improve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ntinue to give us what you have always given u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ncerted education process i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eetings with Advisor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apers setting out the proposed changes, their potential impact, and the reasons for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eminars open to al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4CF-FE38-4EF5-A00A-34CDFD4F67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USER REQUIREMENTS </a:t>
            </a:r>
            <a:r>
              <a:rPr b="1" lang="en-AU" sz="2000" spc="-1" strike="noStrike">
                <a:solidFill>
                  <a:srgbClr val="333399"/>
                </a:solidFill>
                <a:latin typeface="Gill Sans"/>
              </a:rPr>
              <a:t>(continued)</a:t>
            </a:r>
            <a:endParaRPr b="1" lang="en-US" sz="20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1360" y="174420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pecial briefings on the major impacts from introducing the Updated SNA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ritical to have major users such as Ministries of Finance and Central Banks o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ow to provide intensive users with access to the new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uggestion: release data for earlier years a couple of months prior to the first “live”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2D4-64C7-4465-94FC-4DC0D0CA27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1360" y="161640"/>
            <a:ext cx="9086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3399"/>
                </a:solidFill>
                <a:latin typeface="Gill Sans"/>
              </a:rPr>
              <a:t>OTHER ISSUES</a:t>
            </a:r>
            <a:endParaRPr b="1" lang="en-US" sz="3800" spc="-1" strike="noStrike">
              <a:solidFill>
                <a:srgbClr val="333399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1360" y="1744560"/>
            <a:ext cx="90867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eering committee to coordinate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plement individual recommendations as time permits or large sections at a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osStat suggests large sections rather than individual recommendations to reduce the number of times the accounts are rev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F0B-52AF-4A1F-80F8-0956B82445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tatkov</cp:lastModifiedBy>
  <dcterms:modified xsi:type="dcterms:W3CDTF">2008-04-16T09:58:43Z</dcterms:modified>
  <cp:revision>52</cp:revision>
  <dc:subject/>
  <dc:title>PowerPoint Presentation</dc:title>
</cp:coreProperties>
</file>