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47640" y="3886920"/>
            <a:ext cx="788688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36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388692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360" y="388692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4520" y="163800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1400" y="163800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7640" y="388692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4520" y="388692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1400" y="388692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384876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9360" y="1638000"/>
            <a:ext cx="384876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155320" y="304560"/>
            <a:ext cx="6302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9360" y="1638000"/>
            <a:ext cx="384876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7640" y="388692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384876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936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9360" y="388692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936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7640" y="3886920"/>
            <a:ext cx="788688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47640" y="3886920"/>
            <a:ext cx="788688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936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7640" y="388692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9360" y="388692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4520" y="163800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1400" y="163800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7640" y="388692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4520" y="388692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1400" y="388692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384876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360" y="1638000"/>
            <a:ext cx="384876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155320" y="304560"/>
            <a:ext cx="6302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360" y="1638000"/>
            <a:ext cx="384876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47640" y="388692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384876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36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360" y="388692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36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47640" y="3886920"/>
            <a:ext cx="788688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4600" y="1371600"/>
            <a:ext cx="83311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44600" y="6172200"/>
            <a:ext cx="83311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128680" y="985680"/>
            <a:ext cx="633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Commission Européenne - DG EUROSTAT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57200" y="219240"/>
            <a:ext cx="1549440" cy="1054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019920" y="6402240"/>
            <a:ext cx="2817720" cy="24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3b900"/>
                </a:solidFill>
                <a:latin typeface="Arial"/>
              </a:rPr>
              <a:t>DG ESTAT/ </a:t>
            </a:r>
            <a:fld id="{9F6CF605-1E55-4DC5-BF52-70271DB35833}" type="datetime">
              <a:rPr b="0" lang="fr-FR" sz="1000" spc="-1" strike="noStrike">
                <a:solidFill>
                  <a:srgbClr val="b3b900"/>
                </a:solidFill>
                <a:latin typeface="Arial"/>
              </a:rPr>
              <a:t>31/07/26</a:t>
            </a:fld>
            <a:r>
              <a:rPr b="0" lang="fr-FR" sz="1000" spc="-1" strike="noStrike">
                <a:solidFill>
                  <a:srgbClr val="b3b900"/>
                </a:solidFill>
                <a:latin typeface="Arial"/>
              </a:rPr>
              <a:t> </a:t>
            </a:r>
            <a:fld id="{7BA97706-7D3F-42AB-BCFB-B46289A56083}" type="datetime10">
              <a:rPr b="0" lang="fr-FR" sz="1000" spc="-1" strike="noStrike">
                <a:solidFill>
                  <a:srgbClr val="b3b900"/>
                </a:solidFill>
                <a:latin typeface="Arial"/>
              </a:rPr>
              <a:t>14:34</a:t>
            </a:fld>
            <a:r>
              <a:rPr b="0" lang="fr-FR" sz="1000" spc="-1" strike="noStrike">
                <a:solidFill>
                  <a:srgbClr val="b3b900"/>
                </a:solidFill>
                <a:latin typeface="Arial"/>
              </a:rPr>
              <a:t> Slide: </a:t>
            </a:r>
            <a:fld id="{265036A5-0DE2-40F8-A3C2-8944BD4F86B7}" type="slidenum">
              <a:rPr b="0" lang="fr-FR" sz="1000" spc="-1" strike="noStrike">
                <a:solidFill>
                  <a:srgbClr val="b3b9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19920" y="6402240"/>
            <a:ext cx="2817720" cy="24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3b900"/>
                </a:solidFill>
                <a:latin typeface="Arial"/>
              </a:rPr>
              <a:t>ESTAT/A/1 </a:t>
            </a:r>
            <a:fld id="{4179EF87-8E4D-44C1-AF7F-0EF7C84AC063}" type="datetime">
              <a:rPr b="0" lang="fr-FR" sz="1000" spc="-1" strike="noStrike">
                <a:solidFill>
                  <a:srgbClr val="b3b900"/>
                </a:solidFill>
                <a:latin typeface="Arial"/>
              </a:rPr>
              <a:t>31/07/26</a:t>
            </a:fld>
            <a:r>
              <a:rPr b="0" lang="fr-FR" sz="1000" spc="-1" strike="noStrike">
                <a:solidFill>
                  <a:srgbClr val="b3b900"/>
                </a:solidFill>
                <a:latin typeface="Arial"/>
              </a:rPr>
              <a:t> </a:t>
            </a:r>
            <a:fld id="{126AB747-1536-4E8E-81E4-699AD4807C71}" type="datetime10">
              <a:rPr b="0" lang="fr-FR" sz="1000" spc="-1" strike="noStrike">
                <a:solidFill>
                  <a:srgbClr val="b3b900"/>
                </a:solidFill>
                <a:latin typeface="Arial"/>
              </a:rPr>
              <a:t>14:34</a:t>
            </a:fld>
            <a:r>
              <a:rPr b="0" lang="fr-FR" sz="1000" spc="-1" strike="noStrike">
                <a:solidFill>
                  <a:srgbClr val="b3b900"/>
                </a:solidFill>
                <a:latin typeface="Arial"/>
              </a:rPr>
              <a:t> Slide: </a:t>
            </a:r>
            <a:fld id="{C70F0F20-179B-4C11-BB41-D1F4EC46EB53}" type="slidenum">
              <a:rPr b="0" lang="fr-FR" sz="1000" spc="-1" strike="noStrike">
                <a:solidFill>
                  <a:srgbClr val="b3b9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4600" y="1371600"/>
            <a:ext cx="83311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4600" y="6172200"/>
            <a:ext cx="83311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990720"/>
            <a:ext cx="4495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Commission Européenne - Eurostat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219240"/>
            <a:ext cx="1549440" cy="105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7010280" y="228600"/>
          <a:ext cx="144792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28600"/>
                    <a:ext cx="14479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Monotype Sorts" charset="2"/>
              <a:buChar char="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ffff00"/>
              </a:buClr>
              <a:buFont typeface="Monotype Sorts" charset="2"/>
              <a:buChar char="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i="1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afd00"/>
              </a:buClr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i="1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afd00"/>
              </a:buClr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i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308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EVISION OF ESA 95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Joint UNECE / OECD / Eurostat meeting on National Accounts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Geneva, April 200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24320" y="1628640"/>
            <a:ext cx="1681920" cy="3988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genda item 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Arial"/>
              </a:rPr>
              <a:t>ESA VERSUS SNA (1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00"/>
                </a:solidFill>
                <a:latin typeface="Times New Roman"/>
              </a:rPr>
              <a:t>ESA is broadly consistent with SNA as regards the definitions, accounting rules and classification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00"/>
                </a:solidFill>
                <a:latin typeface="Times New Roman"/>
              </a:rPr>
              <a:t>ESA nevertheless incorporates certain differences, particularly in its presentation, which is more in line with its use in the EU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00"/>
                </a:solidFill>
                <a:latin typeface="Times New Roman"/>
              </a:rPr>
              <a:t>ESA is a tool for European policy (own resources of the EU, structural funds, EDP and convergence)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Arial"/>
              </a:rPr>
              <a:t>ESA VERSUS SNA (2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Times New Roman"/>
              </a:rPr>
              <a:t>ESA is based on a regulation comprising binding rules to ensure comparability at EU level, and a compulsory transmission programm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Times New Roman"/>
              </a:rPr>
              <a:t>When SNA is flexible and includes several options, ESA generally chooses a particular option for more consistency at EU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00"/>
                </a:solidFill>
                <a:latin typeface="Arial"/>
              </a:rPr>
              <a:t>PRESENTATION OF ESA (as compared with SNA presentation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Times New Roman"/>
              </a:rPr>
              <a:t>In the ESA,  there are separate chapters on transactions in products, distributive transactions and financial transac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Times New Roman"/>
              </a:rPr>
              <a:t>ESA describes a concept by providing a definition and a listing of what is included and what is exclud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Times New Roman"/>
              </a:rPr>
              <a:t>ESA adds specific clarifications (ex: 50% rule, Fisim,…)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Arial"/>
              </a:rPr>
              <a:t>SCOPE OF THE PROJECT (1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00"/>
                </a:solidFill>
                <a:latin typeface="Times New Roman"/>
              </a:rPr>
              <a:t>The revision of ESA 95 will set up, for many years, the National Accounts standard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00"/>
                </a:solidFill>
                <a:latin typeface="Times New Roman"/>
              </a:rPr>
              <a:t>The project will start from the consolidated text, which is the text of (EC) Council Regulation no. 2223/96, later amended by several regulation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00"/>
                </a:solidFill>
                <a:latin typeface="Times New Roman"/>
              </a:rPr>
              <a:t>The revision will cover all the recommendations and clarifications agreed at international level, also ISWGNA decision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00"/>
                </a:solidFill>
                <a:latin typeface="Times New Roman"/>
              </a:rPr>
              <a:t>A more integrated system should be developed. Many statistical areas linked to National Accounts will  be impacted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Arial"/>
              </a:rPr>
              <a:t>SCOPE OF THE PROJECT (2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imes New Roman"/>
              </a:rPr>
              <a:t>New chapters will be included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imes New Roman"/>
              </a:rPr>
              <a:t>A specific chapter on government and public sector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imes New Roman"/>
              </a:rPr>
              <a:t>A specific chapter on links between business accounts and national accounts and measurement of corporate activity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imes New Roman"/>
              </a:rPr>
              <a:t>A specific chapter on European account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imes New Roman"/>
              </a:rPr>
              <a:t>A specific chapter presenting a common framework and general principles on satellite account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imes New Roman"/>
              </a:rPr>
              <a:t>A specific chapter on the rest of the world account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imes New Roman"/>
              </a:rPr>
              <a:t>More elaborated chapters on price and volume measures, infra-annual and regional account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00"/>
                </a:solidFill>
                <a:latin typeface="Arial"/>
              </a:rPr>
              <a:t>HOW TO ENSURE THE SUCCES OF THIS PROJ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Times New Roman"/>
              </a:rPr>
              <a:t>Monitoring of the project by the Directors of National Accounts (strategic decisions, examination of important issues)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Times New Roman"/>
              </a:rPr>
              <a:t>With the help of a steering group of Directors of National Accounts chaired by Eurost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Times New Roman"/>
              </a:rPr>
              <a:t>Regular reporting to the SPC, the EFC sub-commitee on statistics, the CMFB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Arial"/>
              </a:rPr>
              <a:t>KEY MILESTONES (1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00"/>
                </a:solidFill>
                <a:latin typeface="Times New Roman"/>
              </a:rPr>
              <a:t>Drafting and discussions of chapters: March 2008 to February 2009 (12 months). This would require the involvement of three external highly-experimented expert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00"/>
                </a:solidFill>
                <a:latin typeface="Times New Roman"/>
              </a:rPr>
              <a:t>Timing of chapters: drafting (1 or 2 months); Eurostat internal review (1 month); chapter on the site for comments (1 month); draft of version 2 (1 month); Eurostat final approval (1 month) 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Arial"/>
              </a:rPr>
              <a:t>KEY MILESTONES (2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00"/>
                </a:solidFill>
                <a:latin typeface="Times New Roman"/>
              </a:rPr>
              <a:t>Discussion on the amended transmission programme: September 2008 to February 2009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00"/>
                </a:solidFill>
                <a:latin typeface="Times New Roman"/>
              </a:rPr>
              <a:t>Finalisation of the draft, launch of the interservice consultation, adoption of the Commission proposal: February to June 2009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00"/>
                </a:solidFill>
                <a:latin typeface="Times New Roman"/>
              </a:rPr>
              <a:t>Adoption of the regulation by the European Parliament and the Council: first quarter 2011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00"/>
                </a:solidFill>
                <a:latin typeface="Times New Roman"/>
              </a:rPr>
              <a:t>Implementation of the new ESA methodology and transmission programme: 2014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9:49:17Z</dcterms:created>
  <dc:creator>capelci</dc:creator>
  <dc:description/>
  <dc:language>en-US</dc:language>
  <cp:lastModifiedBy>Dimova</cp:lastModifiedBy>
  <dcterms:modified xsi:type="dcterms:W3CDTF">2008-04-18T10:05:53Z</dcterms:modified>
  <cp:revision>12</cp:revision>
  <dc:subject/>
  <dc:title>REVISION OF ESA 95</dc:title>
</cp:coreProperties>
</file>