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AC5-4950-46AD-87B3-CD081C48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060-747F-4C4B-9C6E-63FFB4EC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5E4-BBF2-4C2C-8D02-08623722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498-9934-4FCD-8619-BFFE5F57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730-6A3F-4E01-8ECE-2C069A7C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853-67E1-4220-8B46-02BF1EBB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852-6219-43A0-821E-F81A2439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902-8B65-4048-8D38-F8F090D7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5F7-36DC-4E48-AB32-1E563EF4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9D1-6848-424A-A16A-3D278E2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BC6-5D33-49A1-B7AD-B1A9108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874-A172-47E6-B675-CFC2631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682D-7249-4A0F-A0C3-2E2803C7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657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3200"/>
            <a:ext cx="8218440" cy="2970360"/>
          </a:xfrm>
          <a:prstGeom prst="rect">
            <a:avLst/>
          </a:prstGeom>
          <a:solidFill>
            <a:srgbClr val="003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M. Frau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ie School of Public Service, USM, Portland, 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the National Bureau of Economic Research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e of European Statist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t UNECE/Eurostat/OECD Meeting on National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va, Switzerland April 23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5791320"/>
            <a:ext cx="77292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990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asurement of R&amp;D in National Ac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74600"/>
            <a:ext cx="268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83280" y="15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52280"/>
            <a:ext cx="18288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Problems to be S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 discrepancy between R&amp;D reported in foreign trade statistics &amp; national accounts figures from mid-1990’s t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R&amp;D is sold, counted as investment for final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s from R&amp;D could be received by producer 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ge increase in market R&amp;D investment from 200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operating surplus for NACE73 (which produces services of R&amp;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, including a histor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therland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tional Aspect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720" y="15228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tion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 about imports, exports (&amp; purchases and sales) need to be in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of transferred R&amp;D within MNCs without $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ked to 8 (5) Multinational Companies (MN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8 represent 46% of BER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vey Limi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ion of R&amp;D employees and expenditures suggest some concentration of R&amp;D activities in the Nether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&amp;D exports appear to be under-reported as the 8 MNCs report a small $ volume of R&amp;D 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feral of R&amp;D w/in MN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ation of R&amp;D differed considerably among the 5 MN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es using a direct invoice method would greatly benefit creation of R&amp;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vice L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the average of an unweighted patent life and a value weighted patent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ing average is 12.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eption chemicals and electro technical manufac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 (would) businesses report on invoice method if ask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market R&amp;D exclu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factors during 1953-69 when rate of growth assumed to be cons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ECD Handbook on Deriving Capital Measures of Intellectual Property Rights</a:t>
            </a:r>
            <a:br>
              <a:rPr sz="4400"/>
            </a:br>
            <a:br>
              <a:rPr sz="2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“New” Surveys Needed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ic Research Issu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 of Action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“New” Survey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vey of large MN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perform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istency in Overall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inal $ increase in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way 1% 2004, 2%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herlands 1.2% 1999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ed States 1959-2004 2.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me increase in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way 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ed States 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sue of Basic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o do with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 be la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 of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ndations exist for the “other” chapters:  Software &amp; databases, mineral exploration &amp; evaluation, &amp; entertainment, literary or artistic origin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get is October 2008 OECD Working Party on National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in methodologies could increase noncompar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chap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sions for a second ed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g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ice Lif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tion of Main Typ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ct Person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vice L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income is recei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e of return vari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sition by Mai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med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l-defined by respo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act P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ce-President of R&amp;D or Chief Technical Off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nag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ot St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Seemed to Work Well &amp; Was Valu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stantial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ment statistical offices and international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 About All R&amp;D Satellite 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rterly 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br>
              <a:rPr sz="54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put pric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tes of retur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put P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average of 13 R&amp;D intensive industry output pr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an input pric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tes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d R&amp;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to industry? Or the ratio of net operating surplus to gross output for misc. professional, scientific, &amp; technical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ularly for the international information, how will series be extended back through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are output prices done (by BL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more specific data is available on rates of retu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orway</a:t>
            </a:r>
            <a:br>
              <a:rPr sz="54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mediate Consump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Problems to be Solve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mediate Consu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lude basic research of higher education &amp; research institutes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shing attracts students, but this may result in something called goodwill or marketing assets, not R&amp;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business &amp; research institutes asked about purchases, but can’t tell how much is for R&amp;D input to R&amp;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2:43:38Z</dcterms:created>
  <dc:creator>David Puelle</dc:creator>
  <dc:description/>
  <dc:language>en-US</dc:language>
  <cp:lastModifiedBy>Boudol</cp:lastModifiedBy>
  <dcterms:modified xsi:type="dcterms:W3CDTF">2008-04-14T13:54:52Z</dcterms:modified>
  <cp:revision>232</cp:revision>
  <dc:subject/>
  <dc:title>PowerPoint Presentation</dc:title>
</cp:coreProperties>
</file>