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50A-C63F-4CDB-9A01-5DCAB2CE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450-90A8-42F0-A147-09F3ED23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FFA-C1C0-4B46-A40A-3DBF5743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8D6-C240-4E68-9EBA-59BACAB4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00F-93F0-4A87-895B-FFA846FD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2C4-3F18-4FEA-9284-DE407300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265-153A-4F8A-8B35-3AE7B0E5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ADB-D8F2-477D-86EF-666FE73F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0D3-7F42-497A-89E5-83744C18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BF9-01C6-4E4B-8209-15AECDD0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0E6-7CC7-4934-B1DF-4BAD280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8D2-D2B3-4A16-9402-D298F613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2C37-E371-4196-AF95-C6DBFF2AD5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&amp;D and national ac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487520"/>
            <a:ext cx="8642160" cy="475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32720" y="1890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 item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15240" y="163440"/>
            <a:ext cx="179856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9:27:16Z</dcterms:created>
  <dc:creator>Image_User</dc:creator>
  <dc:description/>
  <dc:language>en-US</dc:language>
  <cp:lastModifiedBy>Boudol</cp:lastModifiedBy>
  <dcterms:modified xsi:type="dcterms:W3CDTF">2008-04-14T14:03:31Z</dcterms:modified>
  <cp:revision>10</cp:revision>
  <dc:subject/>
  <dc:title>Slide 1</dc:title>
</cp:coreProperties>
</file>