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B6B-3E09-4830-B6CF-022AD7C7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E91-F472-408B-84F6-D7BAF29A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22F-5906-4A66-8720-788B0F56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CDC-0B92-4146-BB79-B5B43473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C3B-2E7E-4555-871B-A16D71BA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D3C-0CA2-4F7D-8BC3-6928196A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C60-3864-4346-AE28-EB54995E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317-5451-4D00-9196-C076CDFA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9EB-7BDA-48CF-96DB-F7C14CCA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722-8864-4C01-ABDD-444CEA87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A8C-1922-4BB8-9A98-CEC5C805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64D-BE74-4494-AF5E-50AF2969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77C4-52BF-46B7-BE00-FC07C643A5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&amp;D and national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487520"/>
            <a:ext cx="8642160" cy="475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32720" y="189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15240" y="163440"/>
            <a:ext cx="179856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9:27:16Z</dcterms:created>
  <dc:creator>Image_User</dc:creator>
  <dc:description/>
  <dc:language>en-US</dc:language>
  <cp:lastModifiedBy>Boudol</cp:lastModifiedBy>
  <dcterms:modified xsi:type="dcterms:W3CDTF">2008-04-14T14:03:31Z</dcterms:modified>
  <cp:revision>10</cp:revision>
  <dc:subject/>
  <dc:title>Slide 1</dc:title>
</cp:coreProperties>
</file>