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ABF-7C87-48F4-AA50-0233CFEA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82D-DD40-4A5B-B016-651045DF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3BD8-9FDD-494C-B789-0FB6B3B3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70F-B0C0-42CD-9931-3FFE5D5F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2F6B-F643-4D78-A783-1D9036A0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E9C9-6817-43FF-9E1D-53E18172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23A-B9CB-477F-9B33-C317CDB7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93B-EB5D-4D4A-B747-51B130E9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B004-B978-4CBF-8593-FDA5A84A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9E39-FB03-419E-9984-BD3B4ACF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C3D-CAE9-4F46-9174-AE4408B3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E790-F112-41D5-8495-39584A8E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53FD-9EE9-4D41-81C9-49F17E6A405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99"/>
                </a:solidFill>
                <a:latin typeface="Arial"/>
              </a:rPr>
              <a:t>Service lives of R&amp;D</a:t>
            </a:r>
            <a:endParaRPr b="1" lang="en-US" sz="4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15D-B162-4BC0-AF38-060B9BA15B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6699"/>
                </a:solidFill>
                <a:latin typeface="Arial"/>
              </a:rPr>
              <a:t>Inclusion of lengths of project and application lag needed</a:t>
            </a:r>
            <a:endParaRPr b="1" lang="en-US" sz="36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parts of R&amp;D is own account production, and for practical reasons expenditure on R&amp;D will be classified as capital formation from the start of R&amp;D pro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ngth of R&amp;D project and application lag also needed for enterprises that sell R&amp;D produced. Before sales R&amp;D will be work in progres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C2A-287F-4751-9401-2B7CDE0CE8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Arial"/>
              </a:rPr>
              <a:t>The feasibility of obtaining data</a:t>
            </a:r>
            <a:endParaRPr b="1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353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respondents interviewed were able to give estimates of average length of service lives of R&amp;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more than one enterprise in a certain industry responded - similar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some explained that length has changed in recent years, and become shorter. Implies that data need to be collected every few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583-FDA9-4FCA-95A7-E63FBB909C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Arial"/>
              </a:rPr>
              <a:t>Types of R&amp;D</a:t>
            </a:r>
            <a:endParaRPr b="1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 many cases: more than one kind of R&amp;D, each with special length of service lif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xamples: Semiconductor industry - applications for communication and for transportation. Pharmaceutical industry - new medicine and generic medicin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eans that important to collect data on the composition of R&amp;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t is possible to obtain composition, mostly separate uni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C6D-ED67-4D6B-BF4E-A5222EB37C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6699"/>
                </a:solidFill>
                <a:latin typeface="Arial"/>
              </a:rPr>
              <a:t>Service life and duration of R&amp;D projects</a:t>
            </a:r>
            <a:endParaRPr b="1" lang="en-US" sz="36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ngth of service lives appears to be closely connected to the cost and duration of R&amp;D projects. If R&amp;D project has a very long duration or is expensive, then service lives are usually long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 on the duration of R&amp;D projects were easy to obtain – the enterprises had structured working programmes for R&amp;D pro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CE7-CC35-4758-81DC-FEA3873889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99"/>
                </a:solidFill>
                <a:latin typeface="Arial"/>
              </a:rPr>
              <a:t>Successful and unsuccessful R&amp;D</a:t>
            </a:r>
            <a:endParaRPr b="1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he fact that part of R&amp;D is unsuccessful was taken into account in work programmes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Usually a time schedule for decisions to abandon unsuccessful projects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Respondents were aware of the rate of succes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Revenues on successful R&amp;D usually cover all R&amp;D, also unsuccessful attempt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D4D-03F9-4504-A375-EA96CD4C50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3300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99"/>
                </a:solidFill>
                <a:latin typeface="Arial"/>
              </a:rPr>
              <a:t>Length of application lags</a:t>
            </a: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77724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length of the application lags often quite short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terprises work simultaneously on R&amp;D and on designs for use of R&amp;D in production, so  implementation almost immediately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terprises have tight work programmes for a number of years ahead, and are well able to respond to questions about application perio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042-865A-4DE3-AF92-DCD2A73493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5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99"/>
                </a:solidFill>
                <a:latin typeface="Arial"/>
              </a:rPr>
              <a:t>Reason for ceasing to use R&amp;D</a:t>
            </a:r>
            <a:r>
              <a:rPr b="1" lang="en-GB" sz="4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</a:t>
            </a: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Reason given by the respondents: use of new R&amp;D, which replaced and improved upon the former R&amp;D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n most cases the old R&amp;D asset is entirely abandoned, when replacement introduced, but in some cases it may be used in production on a minor scale to reap some remaining benefits from i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D64-325D-4F58-AD01-58AE169CEE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9700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A870-ECE7-4C86-9344-11CCFBE152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possible to obtain relatively firm and consistent responses on length of service l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lengths for similar types of R&amp;D indicate that collection of expert opinions may be suffici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s could even be identical at a global level, so that international figures could be us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that additional countries collect similar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0CD1-0CF7-4A5A-83D7-67A920392C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fixed capital stocks measured directly or through PI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measurement of value of stocks of R&amp;D is much more difficult, since R&amp;D is by definition unique (no market price), much is own account production, and it may not be registered as an asset by the enterpri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 that R&amp;D stocks will have to be estimated using PIM, so that data on service lives are need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E47-8CA3-4461-AA64-372F1BB499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280" y="62064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ngth of R&amp;D service lives has been estimated in academic research in the past using various assum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re recent work, panel data detailed by industry were used, and differences in service lives over time and between industries were explor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wert (2005) found most of these econometric models unsatisfactory, but considered it possible to estimate the depreciation patterns using improved mode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EBE-E708-4864-9F99-C3E324C306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4920" y="836640"/>
            <a:ext cx="8280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ing a suggestion from Charles Aspden (OECD) the Central Bureau of Statistics in Israel has examined an alternative solution from the beginning of 2007: obtaining information on service lives directly from producers or users of R&amp;D, similarly to what is done to estimate service lives for tangible asset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DC86-F836-4B18-861C-7348281DF3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99"/>
                </a:solidFill>
                <a:latin typeface="Arial"/>
              </a:rPr>
              <a:t>The pilot survey - framework</a:t>
            </a:r>
            <a:r>
              <a:rPr b="1" lang="en-GB" sz="4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</a:t>
            </a: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Data from important R&amp;D performers in main industri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f imports of R&amp;D are very common, collection of data should also be made in framework of a regular business surve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New survey on exports and imports of services indicates that imports of R&amp;D significant in some industri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34F-E735-4C3E-9A3B-D2348C5F00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2028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99"/>
                </a:solidFill>
                <a:latin typeface="Arial"/>
              </a:rPr>
              <a:t>The pilot survey - framework</a:t>
            </a: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any important R&amp;D performers produce R&amp;D used by businesses abroad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heir data on service lives less relevant for domestic capital. But due to their experience may be used for expert opinions for international use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107-C52E-4013-BFFA-997B513D62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528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Choice of contact persons</a:t>
            </a: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C funds expert: the preferred respondents Vice President of R&amp;D, CTO (Chief Technical Officer), or if it is an R&amp;D enterprise, Product Manager. Marketing people or financial managers may not have the relevant inform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umber of representatives for each enterprise were interviewed. Financial managers sometimes were reluctant to respond. But R&amp;D managers understood the questions well, supplied all information, often added important information that could improve the survey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3CA3-5D5A-481B-BCAF-CD6264A46C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stages of the pilot survey</a:t>
            </a: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tage: survey using only personal interviews, one or two representatives from survey department and representative from NA unit. Long questionnaire to determine how to pose the shorter questions in a regular surve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tage: shorter questionnaire sent by mail. For  first batch sent, follow-up with a personal interview – to get respondents opinion. The second batch only by m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833-DE00-43A4-8787-245C13D838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Information collected</a:t>
            </a:r>
            <a:endParaRPr b="1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9912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stages covered in questionnai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ation lag : time lag between start and completion of R&amp;D projects. Longer than a year for almost all R&amp;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lag: between end of development and beginning of use. Often sh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 when R&amp;D is used in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CA1F-2344-4177-946E-A765399AEA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2:26:29Z</dcterms:created>
  <dc:creator>Image_User</dc:creator>
  <dc:description/>
  <dc:language>en-US</dc:language>
  <cp:lastModifiedBy>Istatkov</cp:lastModifiedBy>
  <dcterms:modified xsi:type="dcterms:W3CDTF">2008-04-17T09:12:02Z</dcterms:modified>
  <cp:revision>40</cp:revision>
  <dc:subject/>
  <dc:title>Slide 1</dc:title>
</cp:coreProperties>
</file>