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21F1-D62D-439E-89B1-9D8434441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28C6-EAF8-4673-B8B3-792428BF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2F3D-FB3D-4B0C-BAB8-00F885C95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1933-A13D-48C2-A35A-18A760163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C550-990D-4D06-B210-20E1265B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0BFD-9686-44C0-8A5C-460287A5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F848-B357-4B8B-8A82-CBFEC97D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6BE6-6876-4B8A-8C2C-3DE29143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5D78-0BAC-4775-87E5-768323ED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982C-B154-4BD9-84F3-85FAC61A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83D0-DDFB-4A98-972F-1EBA0A7B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F7D0-9B60-4DB8-A5F4-A8C7DFDC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3826-2853-47D7-80AE-FCC62DB5DF8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6699"/>
                </a:solidFill>
                <a:latin typeface="Arial"/>
              </a:rPr>
              <a:t>Service lives of R&amp;D</a:t>
            </a:r>
            <a:endParaRPr b="1" lang="en-US" sz="4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5CF2-F3D2-4320-8D50-8FDF8D58215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66699"/>
                </a:solidFill>
                <a:latin typeface="Arial"/>
              </a:rPr>
              <a:t>Inclusion of lengths of project and application lag needed</a:t>
            </a:r>
            <a:endParaRPr b="1" lang="en-US" sz="36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209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parts of R&amp;D is own account production, and for practical reasons expenditure on R&amp;D will be classified as capital formation from the start of R&amp;D pro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ngth of R&amp;D project and application lag also needed for enterprises that sell R&amp;D produced. Before sales R&amp;D will be work in progres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10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0652-6DB3-4286-8F69-95A976AB4A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Arial"/>
              </a:rPr>
              <a:t>The feasibility of obtaining data</a:t>
            </a:r>
            <a:endParaRPr b="1" lang="en-US" sz="40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353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respondents interviewed were able to give estimates of average length of service lives of R&amp;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more than one enterprise in a certain industry responded - similar leng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t some explained that length has changed in recent years, and become shorter. Implies that data need to be collected every few ye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4ECD-7983-4407-A5BB-6DD723CAFD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Arial"/>
              </a:rPr>
              <a:t>Types of R&amp;D</a:t>
            </a:r>
            <a:endParaRPr b="1" lang="en-US" sz="40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n many cases: more than one kind of R&amp;D, each with special length of service lif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xamples: Semiconductor industry - applications for communication and for transportation. Pharmaceutical industry - new medicine and generic medicine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eans that important to collect data on the composition of R&amp;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t is possible to obtain composition, mostly separate unit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8F62-2EBF-411D-A23A-4902BF96B8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66699"/>
                </a:solidFill>
                <a:latin typeface="Arial"/>
              </a:rPr>
              <a:t>Service life and duration of R&amp;D projects</a:t>
            </a:r>
            <a:endParaRPr b="1" lang="en-US" sz="36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ngth of service lives appears to be closely connected to the cost and duration of R&amp;D projects. If R&amp;D project has a very long duration or is expensive, then service lives are usually long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a on the duration of R&amp;D projects were easy to obtain – the enterprises had structured working programmes for R&amp;D pro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CB60-9966-457E-BB37-BC09C42D92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6699"/>
                </a:solidFill>
                <a:latin typeface="Arial"/>
              </a:rPr>
              <a:t>Successful and unsuccessful R&amp;D</a:t>
            </a:r>
            <a:endParaRPr b="1" lang="en-US" sz="40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The fact that part of R&amp;D is unsuccessful was taken into account in work programmes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Usually a time schedule for decisions to abandon unsuccessful projects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Respondents were aware of the rate of succes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Revenues on successful R&amp;D usually cover all R&amp;D, also unsuccessful attempts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1D07-B1C7-4D05-8C7F-0A9E233021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33300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6699"/>
                </a:solidFill>
                <a:latin typeface="Arial"/>
              </a:rPr>
              <a:t>Length of application lags</a:t>
            </a:r>
            <a:endParaRPr b="1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777240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length of the application lags often quite short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nterprises work simultaneously on R&amp;D and on designs for use of R&amp;D in production, so  implementation almost immediately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nterprises have tight work programmes for a number of years ahead, and are well able to respond to questions about application perio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38E2-A3FF-4B98-9FF8-A59B4D8AC2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5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6699"/>
                </a:solidFill>
                <a:latin typeface="Arial"/>
              </a:rPr>
              <a:t>Reason for ceasing to use R&amp;D</a:t>
            </a:r>
            <a:r>
              <a:rPr b="1" lang="en-GB" sz="4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</a:t>
            </a:r>
            <a:endParaRPr b="1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240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Reason given by the respondents: use of new R&amp;D, which replaced and improved upon the former R&amp;D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In most cases the old R&amp;D asset is entirely abandoned, when replacement introduced, but in some cases it may be used in production on a minor scale to reap some remaining benefits from it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5E35-AF05-4BD8-8ECC-DF76B40592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297000"/>
            <a:ext cx="9144000" cy="6946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00AB-81E3-40DB-890D-DB84A23F93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ms possible to obtain relatively firm and consistent responses on length of service li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lengths for similar types of R&amp;D indicate that collection of expert opinions may be suffici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gths could even be identical at a global level, so that international figures could be us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that additional countries collect similar in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68BD-B1AD-42FD-9EA7-189C9CA05F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fixed capital stocks measured directly or through PI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measurement of value of stocks of R&amp;D is much more difficult, since R&amp;D is by definition unique (no market price), much is own account production, and it may not be registered as an asset by the enterpri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s that R&amp;D stocks will have to be estimated using PIM, so that data on service lives are need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4BDA-5417-4304-819C-22CA4E80E1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9280" y="62064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ngth of R&amp;D service lives has been estimated in academic research in the past using various assump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ore recent work, panel data detailed by industry were used, and differences in service lives over time and between industries were explor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wert (2005) found most of these econometric models unsatisfactory, but considered it possible to estimate the depreciation patterns using improved model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8A22-54C1-4199-8F51-F674944969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4920" y="836640"/>
            <a:ext cx="82803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llowing a suggestion from Charles Aspden (OECD) the Central Bureau of Statistics in Israel has examined an alternative solution from the beginning of 2007: obtaining information on service lives directly from producers or users of R&amp;D, similarly to what is done to estimate service lives for tangible asset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5E98-D312-406E-B746-A9A7321D02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6699"/>
                </a:solidFill>
                <a:latin typeface="Arial"/>
              </a:rPr>
              <a:t>The pilot survey - framework</a:t>
            </a:r>
            <a:r>
              <a:rPr b="1" lang="en-GB" sz="4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</a:t>
            </a:r>
            <a:endParaRPr b="1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Data from important R&amp;D performers in main industrie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If imports of R&amp;D are very common, collection of data should also be made in framework of a regular business survey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New survey on exports and imports of services indicates that imports of R&amp;D significant in some industrie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4067-D7CD-48CA-86C2-D5DB21CA5D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62028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6699"/>
                </a:solidFill>
                <a:latin typeface="Arial"/>
              </a:rPr>
              <a:t>The pilot survey - framework</a:t>
            </a:r>
            <a:endParaRPr b="1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Many important R&amp;D performers produce R&amp;D used by businesses abroad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Their data on service lives less relevant for domestic capital. But due to their experience may be used for expert opinions for international use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090C-D22E-426C-968B-6806487817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528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"/>
              </a:rPr>
              <a:t>Choice of contact persons</a:t>
            </a:r>
            <a:endParaRPr b="1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C funds expert: the preferred respondents Vice President of R&amp;D, CTO (Chief Technical Officer), or if it is an R&amp;D enterprise, Product Manager. Marketing people or financial managers may not have the relevant informa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umber of representatives for each enterprise were interviewed. Financial managers sometimes were reluctant to respond. But R&amp;D managers understood the questions well, supplied all information, often added important information that could improve the survey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2A05-9C3F-428A-86F3-BBC91CB688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666699"/>
                </a:solidFill>
                <a:latin typeface="Arial"/>
              </a:rPr>
              <a:t>stages of the pilot survey</a:t>
            </a:r>
            <a:endParaRPr b="1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424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stage: survey using only personal interviews, one or two representatives from survey department and representative from NA unit. Long questionnaire to determine how to pose the shorter questions in a regular surve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tage: shorter questionnaire sent by mail. For  first batch sent, follow-up with a personal interview – to get respondents opinion. The second batch only by ma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0A60-2485-4931-BF39-4906FD7B7D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"/>
              </a:rPr>
              <a:t>Information collected</a:t>
            </a:r>
            <a:endParaRPr b="1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99128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gth of stages covered in questionnai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tation lag : time lag between start and completion of R&amp;D projects. Longer than a year for almost all R&amp;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lag: between end of development and beginning of use. Often sh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ge when R&amp;D is used in p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84D7-89D9-497F-B478-426E0F59AD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2:26:29Z</dcterms:created>
  <dc:creator>Image_User</dc:creator>
  <dc:description/>
  <dc:language>en-US</dc:language>
  <cp:lastModifiedBy>Istatkov</cp:lastModifiedBy>
  <dcterms:modified xsi:type="dcterms:W3CDTF">2008-04-17T09:12:02Z</dcterms:modified>
  <cp:revision>40</cp:revision>
  <dc:subject/>
  <dc:title>Slide 1</dc:title>
</cp:coreProperties>
</file>