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6399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6399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6399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6399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6399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6399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c8020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c8020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6399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c8020"/>
              </a:solidFill>
              <a:latin typeface="Trebuchet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6399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6399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6399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6399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6399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6399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6399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6399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c8020"/>
              </a:solidFill>
              <a:latin typeface="Trebuchet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6399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6399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6399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26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"/>
          <p:cNvSpPr/>
          <p:nvPr/>
        </p:nvSpPr>
        <p:spPr>
          <a:xfrm>
            <a:off x="6400800" y="5715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30240" y="6019920"/>
            <a:ext cx="8808840" cy="652320"/>
            <a:chOff x="30240" y="6019920"/>
            <a:chExt cx="8808840" cy="652320"/>
          </a:xfrm>
        </p:grpSpPr>
        <p:pic>
          <p:nvPicPr>
            <p:cNvPr id="5" name="" descr=""/>
            <p:cNvPicPr/>
            <p:nvPr/>
          </p:nvPicPr>
          <p:blipFill>
            <a:blip r:embed="rId2"/>
            <a:stretch/>
          </p:blipFill>
          <p:spPr>
            <a:xfrm>
              <a:off x="7543800" y="6019920"/>
              <a:ext cx="1295280" cy="48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" descr=""/>
            <p:cNvPicPr/>
            <p:nvPr/>
          </p:nvPicPr>
          <p:blipFill>
            <a:blip r:embed="rId3"/>
            <a:srcRect l="17436" t="0" r="0" b="0"/>
            <a:stretch/>
          </p:blipFill>
          <p:spPr>
            <a:xfrm>
              <a:off x="30240" y="6022800"/>
              <a:ext cx="7361280" cy="6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7391520" y="6022800"/>
              <a:ext cx="0" cy="484200"/>
            </a:xfrm>
            <a:prstGeom prst="line">
              <a:avLst/>
            </a:prstGeom>
            <a:ln w="12600">
              <a:solidFill>
                <a:srgbClr val="0025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152280" y="64771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550"/>
                </a:solidFill>
                <a:latin typeface="Trebuchet MS"/>
              </a:rPr>
              <a:t>www.bea.g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8534520" y="6521400"/>
            <a:ext cx="380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0D29B-326E-49F2-B16F-CC8BBA242DB1}" type="slidenum">
              <a:rPr b="0" lang="en-US" sz="1200" spc="-1" strike="noStrike">
                <a:solidFill>
                  <a:srgbClr val="00255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26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5334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rcRect l="16335" t="0" r="0" b="0"/>
          <a:stretch/>
        </p:blipFill>
        <p:spPr>
          <a:xfrm>
            <a:off x="4680" y="5715000"/>
            <a:ext cx="8778960" cy="9558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c8020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bc8020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bc802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bc802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bc802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13716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Discussion of Goods for Processing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" name=""/>
          <p:cNvSpPr/>
          <p:nvPr/>
        </p:nvSpPr>
        <p:spPr>
          <a:xfrm>
            <a:off x="0" y="3581280"/>
            <a:ext cx="914400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Brent R. Moul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Joint UNECE/Eurostat/OECD Meeting on National Acc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Geneva, April 23, 200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762120" y="121932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c802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c8020"/>
              </a:solidFill>
              <a:latin typeface="Trebuchet MS"/>
            </a:endParaRPr>
          </a:p>
        </p:txBody>
      </p:sp>
      <p:sp>
        <p:nvSpPr>
          <p:cNvPr id="90" name=""/>
          <p:cNvSpPr/>
          <p:nvPr/>
        </p:nvSpPr>
        <p:spPr>
          <a:xfrm>
            <a:off x="7086600" y="152280"/>
            <a:ext cx="198108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80600" y="136440"/>
            <a:ext cx="260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Agenda item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Statistics Canada paper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47280" y="9907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ontext – annual accounts, emphasis on implications for supply-use tables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Nice explanation of problems arising from SNA93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hallenge of implementing revised SNA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quires additional information – questions added to manufacturing survey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Questions regarding usefulness of revised supply-use tables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uggest preparing tables on both bases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ffffff"/>
                </a:solidFill>
                <a:latin typeface="Trebuchet MS"/>
              </a:rPr>
              <a:t>SNA 1993 treatment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rebuchet MS"/>
              </a:rPr>
              <a:t>International movement of goods for processing is increasingly important – part of globalization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spcBef>
                <a:spcPts val="700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rebuchet MS"/>
              </a:rPr>
              <a:t>Trade balance?  Ok, except for timing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spcBef>
                <a:spcPts val="700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rebuchet MS"/>
              </a:rPr>
              <a:t>GDP? Ok, except for timing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spcBef>
                <a:spcPts val="700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rebuchet MS"/>
              </a:rPr>
              <a:t>Financial account – gross flows discrepancy – timing issues for balance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spcBef>
                <a:spcPts val="700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rebuchet MS"/>
              </a:rPr>
              <a:t>Source data for supply-use tables need to be adjusted – requires additional information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ffffff"/>
                </a:solidFill>
                <a:latin typeface="Trebuchet MS"/>
              </a:rPr>
              <a:t>Revised SNA treatment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rebuchet MS"/>
              </a:rPr>
              <a:t>Requires collecting additional information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rebuchet MS"/>
              </a:rPr>
              <a:t>Same information as that needed to correctly implement SNA93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rebuchet MS"/>
              </a:rPr>
              <a:t>More closely aligned with business accounting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rebuchet MS"/>
              </a:rPr>
              <a:t>Supply-use not as well aligned with technical production relationships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rebuchet MS"/>
              </a:rPr>
              <a:t>Goods/services distinction becoming less useful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ffffff"/>
                </a:solidFill>
                <a:latin typeface="Trebuchet MS"/>
              </a:rPr>
              <a:t>Timing issues – quarterly accounts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rebuchet MS"/>
              </a:rPr>
              <a:t>Source data for exports and imports show movement of goods, not change in ownership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rebuchet MS"/>
              </a:rPr>
              <a:t>Source data for change in inventories – often show inventories wherever held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rebuchet MS"/>
              </a:rPr>
              <a:t>Hence, inconsistency in three of the most volatile series for quarterly GDP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bc8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rebuchet MS"/>
              </a:rPr>
              <a:t>New collections from annual business surveys unable to resolve quarterly inconsistencies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6T15:08:17Z</dcterms:created>
  <dc:creator>U.S. Department of Commerce</dc:creator>
  <dc:description/>
  <dc:language>en-US</dc:language>
  <cp:lastModifiedBy>Dimova</cp:lastModifiedBy>
  <dcterms:modified xsi:type="dcterms:W3CDTF">2008-05-06T15:26:58Z</dcterms:modified>
  <cp:revision>358</cp:revision>
  <dc:subject/>
  <dc:title>Update of the 1994 R&amp;D Satellite Account: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97116382</vt:r8>
  </property>
  <property fmtid="{D5CDD505-2E9C-101B-9397-08002B2CF9AE}" pid="3" name="_AuthorEmail">
    <vt:lpwstr>Carol.Moylan@bea.gov</vt:lpwstr>
  </property>
  <property fmtid="{D5CDD505-2E9C-101B-9397-08002B2CF9AE}" pid="4" name="_AuthorEmailDisplayName">
    <vt:lpwstr>Moylan, Carol</vt:lpwstr>
  </property>
  <property fmtid="{D5CDD505-2E9C-101B-9397-08002B2CF9AE}" pid="5" name="_EmailSubject">
    <vt:lpwstr>Presentation to European Commission on R&amp;D</vt:lpwstr>
  </property>
  <property fmtid="{D5CDD505-2E9C-101B-9397-08002B2CF9AE}" pid="6" name="_NewReviewCycle">
    <vt:lpwstr/>
  </property>
  <property fmtid="{D5CDD505-2E9C-101B-9397-08002B2CF9AE}" pid="7" name="_PreviousAdHocReviewCycleID">
    <vt:r8>-668706987</vt:r8>
  </property>
  <property fmtid="{D5CDD505-2E9C-101B-9397-08002B2CF9AE}" pid="8" name="_ReviewingToolsShownOnce">
    <vt:lpwstr/>
  </property>
</Properties>
</file>