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6400800" y="5715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0240" y="6019920"/>
            <a:ext cx="8808840" cy="652320"/>
            <a:chOff x="30240" y="6019920"/>
            <a:chExt cx="8808840" cy="65232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543800" y="6019920"/>
              <a:ext cx="1295280" cy="48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rcRect l="17436" t="0" r="0" b="0"/>
            <a:stretch/>
          </p:blipFill>
          <p:spPr>
            <a:xfrm>
              <a:off x="30240" y="6022800"/>
              <a:ext cx="73612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391520" y="6022800"/>
              <a:ext cx="0" cy="484200"/>
            </a:xfrm>
            <a:prstGeom prst="line">
              <a:avLst/>
            </a:prstGeom>
            <a:ln w="12600">
              <a:solidFill>
                <a:srgbClr val="0025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5228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550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34520" y="65214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7549-1403-40F3-9C43-7F6A859EA1E0}" type="slidenum">
              <a:rPr b="0" lang="en-US" sz="1200" spc="-1" strike="noStrike">
                <a:solidFill>
                  <a:srgbClr val="00255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6335" t="0" r="0" b="0"/>
          <a:stretch/>
        </p:blipFill>
        <p:spPr>
          <a:xfrm>
            <a:off x="4680" y="5715000"/>
            <a:ext cx="8778960" cy="955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02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Discussion of Goods for Processing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81280"/>
            <a:ext cx="9144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Brent R. Mou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Joint UNECE/Eurostat/OECD Meeting on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Geneva, April 23,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152280"/>
            <a:ext cx="1981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0600" y="136440"/>
            <a:ext cx="26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genda item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tatistics Canada paper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280" y="990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text – annual accounts, emphasis on implications for supply-use table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ice explanation of problems arising from SNA93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llenge of implementing revised S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quires additional information – questions added to manufacturing survey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uestions regarding usefulness of revised supply-use table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ggest preparing tables on both bas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rebuchet MS"/>
              </a:rPr>
              <a:t>SNA 1993 treatmen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International movement of goods for processing is increasingly important – part of globalizatio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Trade balance?  Ok, except for timi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GDP? Ok, except for timi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Financial account – gross flows discrepancy – timing issues for balan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Source data for supply-use tables need to be adjusted – requires additional informatio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rebuchet MS"/>
              </a:rPr>
              <a:t>Revised SNA treatmen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Requires collecting additional informatio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Same information as that needed to correctly implement SNA93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More closely aligned with business accounti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Supply-use not as well aligned with technical production relationship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Goods/services distinction becoming less usefu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rebuchet MS"/>
              </a:rPr>
              <a:t>Timing issues – quarterly account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Source data for exports and imports show movement of goods, not change in ownership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Source data for change in inventories – often show inventories wherever hel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Hence, inconsistency in three of the most volatile series for quarterly GDP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New collections from annual business surveys unable to resolve quarterly inconsistenci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5:08:17Z</dcterms:created>
  <dc:creator>U.S. Department of Commerce</dc:creator>
  <dc:description/>
  <dc:language>en-US</dc:language>
  <cp:lastModifiedBy>Dimova</cp:lastModifiedBy>
  <dcterms:modified xsi:type="dcterms:W3CDTF">2008-05-06T15:26:58Z</dcterms:modified>
  <cp:revision>358</cp:revision>
  <dc:subject/>
  <dc:title>Update of the 1994 R&amp;D Satellite Accoun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7116382</vt:r8>
  </property>
  <property fmtid="{D5CDD505-2E9C-101B-9397-08002B2CF9AE}" pid="3" name="_AuthorEmail">
    <vt:lpwstr>Carol.Moylan@bea.gov</vt:lpwstr>
  </property>
  <property fmtid="{D5CDD505-2E9C-101B-9397-08002B2CF9AE}" pid="4" name="_AuthorEmailDisplayName">
    <vt:lpwstr>Moylan, Carol</vt:lpwstr>
  </property>
  <property fmtid="{D5CDD505-2E9C-101B-9397-08002B2CF9AE}" pid="5" name="_EmailSubject">
    <vt:lpwstr>Presentation to European Commission on R&amp;D</vt:lpwstr>
  </property>
  <property fmtid="{D5CDD505-2E9C-101B-9397-08002B2CF9AE}" pid="6" name="_NewReviewCycle">
    <vt:lpwstr/>
  </property>
  <property fmtid="{D5CDD505-2E9C-101B-9397-08002B2CF9AE}" pid="7" name="_PreviousAdHocReviewCycleID">
    <vt:r8>-668706987</vt:r8>
  </property>
  <property fmtid="{D5CDD505-2E9C-101B-9397-08002B2CF9AE}" pid="8" name="_ReviewingToolsShownOnce">
    <vt:lpwstr/>
  </property>
</Properties>
</file>