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AD1-CE72-476A-9DEE-7E7DEE24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460-833B-4414-849D-AA77AB31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FE3-84D1-4874-AFB7-4E235617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904-241F-40DA-A481-6CBDAF46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A42-817F-4BF0-9DA6-45FEB6F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B9D6-B435-4444-B583-0D66EC2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7BA0-008A-4F00-93EE-03041556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083F-D33D-4D78-883A-85A64F50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9E9B-5BDA-4BC5-8F12-6A060DAB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3529-ED3E-4342-877D-043550A2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D3D-1AF2-4761-831A-8BF3F3B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667-8007-485A-B369-89069005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8E8-EAB0-4496-A03A-DF219DA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59EE-170D-4E82-B3B9-18948AC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FBF-6815-49D4-BCE3-B3643EDB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4F35-59D1-4AF1-B8CF-3852C57B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73E5-17B4-4FA5-8F22-A795C3E0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AB5-3590-4481-B6B8-B8F4128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A02-C8AE-48A4-8033-6BC36252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99C-AF48-47BD-934C-8B44DB87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498-919A-419F-857B-4898BC36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834-D543-4610-B67B-9F409666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953-E833-4500-856C-6AA01515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7E1-BBB7-4DC8-8336-D00FD60E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6992-DABF-47D0-A0A9-F55FBEAB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DE4-ACBC-435E-A1FA-12A8D692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369720"/>
          <a:ext cx="9810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9720"/>
                    <a:ext cx="981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451640" y="258840"/>
          <a:ext cx="1400400" cy="13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258840"/>
                    <a:ext cx="14004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6237360"/>
            <a:ext cx="2314440" cy="34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6237360"/>
            <a:ext cx="1179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oods for Proces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284640"/>
            <a:ext cx="640080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orking Group on the Impac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lobalization on the 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ril 23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476280"/>
            <a:ext cx="2160720" cy="7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vited paper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D8F-6F26-4632-96A1-A496A365CC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data for new pres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dditional administrative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to surveys e.g. head off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tratification of some surve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 vs. cli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dit and imputation r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80D-88E6-4E31-90A0-DA196FADE3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nership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ship change is the basis of economic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implies capit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ownership comes risks and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of economic resources is an important factor in the generation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misallocate ownership can we properly analyze income gene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DE1-95D4-4C68-BEC1-F00F5D134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f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flow but no change in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ownership without receipt of go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sition of goods for a 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both goods for processing and mer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12F-F67A-4A08-AE6F-386817D9D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tional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10280" y="1889280"/>
            <a:ext cx="7666560" cy="3605760"/>
            <a:chOff x="710280" y="1889280"/>
            <a:chExt cx="7666560" cy="3605760"/>
          </a:xfrm>
        </p:grpSpPr>
        <p:sp>
          <p:nvSpPr>
            <p:cNvPr id="103" name=""/>
            <p:cNvSpPr/>
            <p:nvPr/>
          </p:nvSpPr>
          <p:spPr>
            <a:xfrm>
              <a:off x="2777760" y="3347640"/>
              <a:ext cx="3577320" cy="21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ufacturing establish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en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ished G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77760" y="1889280"/>
              <a:ext cx="3577320" cy="14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d Off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inance, Development, Marketing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Ancillar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0280" y="3873600"/>
              <a:ext cx="1362960" cy="11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onent Suppl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3880" y="3873600"/>
              <a:ext cx="1362960" cy="11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al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73240" y="4588560"/>
              <a:ext cx="6814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2400" y="4588560"/>
              <a:ext cx="68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072880" y="4111200"/>
              <a:ext cx="681480" cy="36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6332040" y="4110840"/>
              <a:ext cx="681480" cy="36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65560" y="2688840"/>
              <a:ext cx="1192680" cy="955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628520" y="2688840"/>
              <a:ext cx="1192680" cy="955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57160" y="2688840"/>
              <a:ext cx="171360" cy="955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815-B1CD-4DE2-8609-044DF93F76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ourcing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53200" y="1589040"/>
            <a:ext cx="7606440" cy="4400280"/>
            <a:chOff x="853200" y="1589040"/>
            <a:chExt cx="7606440" cy="4400280"/>
          </a:xfrm>
        </p:grpSpPr>
        <p:sp>
          <p:nvSpPr>
            <p:cNvPr id="116" name=""/>
            <p:cNvSpPr/>
            <p:nvPr/>
          </p:nvSpPr>
          <p:spPr>
            <a:xfrm>
              <a:off x="2712600" y="1589040"/>
              <a:ext cx="3887640" cy="176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d Off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inance, Development, Marketing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en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ished G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53200" y="3701160"/>
              <a:ext cx="7606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4760" y="4757400"/>
              <a:ext cx="1352160" cy="8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200" y="4757400"/>
              <a:ext cx="1352160" cy="8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onent Suppl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8280" y="4757400"/>
              <a:ext cx="1352160" cy="8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al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0640" y="3701160"/>
              <a:ext cx="720" cy="228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200" y="3701160"/>
              <a:ext cx="720" cy="228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5360" y="5285520"/>
              <a:ext cx="1859400" cy="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7280" y="5285520"/>
              <a:ext cx="1521000" cy="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28920" y="2820960"/>
              <a:ext cx="1183320" cy="193608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572000" y="3350160"/>
              <a:ext cx="720" cy="140688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6600240" y="2644560"/>
              <a:ext cx="1013760" cy="2112120"/>
            </a:xfrm>
            <a:prstGeom prst="line">
              <a:avLst/>
            </a:prstGeom>
            <a:ln w="25560">
              <a:solidFill>
                <a:srgbClr val="008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909680" y="3173400"/>
              <a:ext cx="720" cy="1584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036520" y="3173400"/>
              <a:ext cx="1690200" cy="15840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48080" y="3173400"/>
              <a:ext cx="2028240" cy="15840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254-608A-4539-BB09-506D003D09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Example – Hong K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565360"/>
            <a:ext cx="64008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007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39C-A080-4857-ABF4-819FF8DD5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ata Source Consider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dministrativ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 of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 of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 of related services     e.g.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292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4005360"/>
            <a:ext cx="7129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liated vs. unaffiliated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liated transactions are somewhat arbit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ffiliated processors may have limited information outside their immediat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D8C-0ABC-4EFE-8C27-27A7329EB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n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economy chang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anufacturing sectors slowing or in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holesale activates expanding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ing source of R&amp;D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organizational structures may explain some of thes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content of exports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this is inflated by processing even more than we re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E60-7C00-45C6-BD2F-4433DB268F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pproach to complex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ffort for very large and/or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of data sets e.g. customs &amp;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siness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and operating structure as pe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rmation on interna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ed survey of head offices -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09B-19E3-4296-BEF8-D95DE8CAB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8:57:10Z</dcterms:created>
  <dc:creator>SCSD BUSC</dc:creator>
  <dc:description/>
  <dc:language>en-US</dc:language>
  <cp:lastModifiedBy>Istatkov</cp:lastModifiedBy>
  <dcterms:modified xsi:type="dcterms:W3CDTF">2008-04-22T17:36:47Z</dcterms:modified>
  <cp:revision>39</cp:revision>
  <dc:subject/>
  <dc:title>Goods for Processing</dc:title>
</cp:coreProperties>
</file>