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67C-3F6F-4D95-AD26-6EF66702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B86-EE56-4D58-96F6-01F13C0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2BF-49D8-462C-9612-9CEC56E2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E08-1817-40CD-AE45-6DE5A08F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5F74-59F1-4A3D-A8F0-D291ED46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946D-F989-4B44-9172-E24C755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312-8BDD-41CA-8BE7-86965FCA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13C-F676-428D-9BF6-3DB03815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B5C-1047-47F2-97C9-B5CDD7AD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2C1-CCA0-4C84-8F05-29BC44F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F912-ABFC-42DA-970E-927F471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3CF-AA6A-4165-805B-C209BE0D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AB6-8D55-4DE1-8F5C-95B1174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E57-A401-435B-B7A9-7C256B0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55CC-22B9-4EC8-A263-6B417CCD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D45F-B407-4FF0-B352-4D2111B0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BC1C-4C17-43A7-8FB3-129EE971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4A1-E54D-4707-A20F-6F9D2F2A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E9E-139C-49E8-BB17-63A63D6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429-A9DF-42A2-BEA7-D4C1CB1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D80-BBA1-4782-8888-A605536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D89-FA14-4954-A26E-BF4C321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785-B843-492A-A7B0-D53E356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7B9-29E0-40B6-A18C-7F385C9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474-DE68-4F4C-B201-0E4D6979A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F6A-8B77-4BA8-9648-2344A188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oods for Proces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284640"/>
            <a:ext cx="640080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orking Group on the Impac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lobalization on the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ril 23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476280"/>
            <a:ext cx="2160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B53-DC2F-45DA-940E-6796E5B17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data for new 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dditional administrative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to surveys e.g. head off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ratification of some surve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 vs. cli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 and imputation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022-9995-4D11-8932-DFB6B36895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ship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hip change is the basis of economic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implies capit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ownership comes risks and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of economic resources is an important factor in the genera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misallocate ownership can we properly analyze income gen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E25-1613-43B4-A6F6-7B46F1584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flow but no change in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ownership without receipt of go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of goods for a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both goods for processing and 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BAA-3917-4FC3-B936-F452E3CC46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10280" y="1889280"/>
            <a:ext cx="7666560" cy="3605760"/>
            <a:chOff x="710280" y="1889280"/>
            <a:chExt cx="7666560" cy="3605760"/>
          </a:xfrm>
        </p:grpSpPr>
        <p:sp>
          <p:nvSpPr>
            <p:cNvPr id="103" name=""/>
            <p:cNvSpPr/>
            <p:nvPr/>
          </p:nvSpPr>
          <p:spPr>
            <a:xfrm>
              <a:off x="2777760" y="3347640"/>
              <a:ext cx="3577320" cy="21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ufacturing establish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7760" y="1889280"/>
              <a:ext cx="3577320" cy="14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d Off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inance, Development, Market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Ancillar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0280" y="3873600"/>
              <a:ext cx="136296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onent Suppl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3880" y="3873600"/>
              <a:ext cx="136296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l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3240" y="4588560"/>
              <a:ext cx="6814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2400" y="4588560"/>
              <a:ext cx="68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072880" y="4111200"/>
              <a:ext cx="681480" cy="36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6332040" y="4110840"/>
              <a:ext cx="681480" cy="36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5560" y="2688840"/>
              <a:ext cx="119268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28520" y="2688840"/>
              <a:ext cx="119268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57160" y="2688840"/>
              <a:ext cx="17136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768-CBB3-4346-8A62-348BF59CE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ourcing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53200" y="1589040"/>
            <a:ext cx="7606440" cy="4400280"/>
            <a:chOff x="853200" y="1589040"/>
            <a:chExt cx="7606440" cy="4400280"/>
          </a:xfrm>
        </p:grpSpPr>
        <p:sp>
          <p:nvSpPr>
            <p:cNvPr id="116" name=""/>
            <p:cNvSpPr/>
            <p:nvPr/>
          </p:nvSpPr>
          <p:spPr>
            <a:xfrm>
              <a:off x="2712600" y="1589040"/>
              <a:ext cx="3887640" cy="176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d Off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inance, Development, Market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53200" y="3701160"/>
              <a:ext cx="7606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476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0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onent Suppl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828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l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0640" y="3701160"/>
              <a:ext cx="720" cy="228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200" y="3701160"/>
              <a:ext cx="720" cy="228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5360" y="5285520"/>
              <a:ext cx="1859400" cy="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7280" y="5285520"/>
              <a:ext cx="1521000" cy="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8920" y="2820960"/>
              <a:ext cx="1183320" cy="193608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572000" y="3350160"/>
              <a:ext cx="720" cy="140688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6600240" y="2644560"/>
              <a:ext cx="1013760" cy="211212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909680" y="3173400"/>
              <a:ext cx="72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036520" y="3173400"/>
              <a:ext cx="169020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48080" y="3173400"/>
              <a:ext cx="202824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DDB-E26A-4477-A272-F94ADDD28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Example – Hong K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565360"/>
            <a:ext cx="64008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007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BCD-8285-4ED6-82E1-3A65A3AF6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ta Source Consider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dministrativ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 of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of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of related services     e.g.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292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4005360"/>
            <a:ext cx="712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liated vs. unaffiliated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liated transactions are somewhat arbit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ffiliated processors may have limited information outside their immediat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973-6D7C-4E02-AEFC-DD0950457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economy chang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anufacturing sectors slowing or i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holesale activates expand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ing source of R&amp;D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organizational structures may explain some of thes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content of exports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this is inflated by processing even more than we 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680-0C9D-4CC9-9672-A0421B1D3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pproach to complex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ffort for very large and/or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of data sets e.g. customs &amp;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siness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operating structure as pe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 on intern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survey of head offices -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0D-99EA-4C10-9990-914F5C827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Istatkov</cp:lastModifiedBy>
  <dcterms:modified xsi:type="dcterms:W3CDTF">2008-04-22T17:36:47Z</dcterms:modified>
  <cp:revision>39</cp:revision>
  <dc:subject/>
  <dc:title>Goods for Processing</dc:title>
</cp:coreProperties>
</file>