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440" y="111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1920" y="111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144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fld id="{099236DB-744C-4C1F-B095-BA05545DF75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905040" y="4737240"/>
            <a:ext cx="4970160" cy="4410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071720" y="890640"/>
            <a:ext cx="4636800" cy="347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fld id="{F5F9ADFC-9558-442D-A853-D6FB4DF63923}" type="slidenum">
              <a:rPr b="0" i="1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905040" y="4737240"/>
            <a:ext cx="4970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ldImg"/>
          </p:nvPr>
        </p:nvSpPr>
        <p:spPr>
          <a:xfrm>
            <a:off x="1071720" y="890640"/>
            <a:ext cx="4636800" cy="3478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FE5-8A62-4B95-A3B9-E8E2F549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1F0-1D51-4D41-8B53-DC9F4D1A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A82-F4EA-430F-A028-E19E7FE4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39A-0950-405E-9708-0F1CC39A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B9E-06BF-440F-940C-FAE8CF0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741-2A6F-440A-9EAA-0543CCBA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9D6-A638-47C6-BC67-6B98D59A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019-2EE4-46EE-99FA-251E66BD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060-2EC5-4215-9FFF-920540A1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1A1-8BC0-4FDD-B5CD-A09B08C5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83A-2EAE-42C6-8A36-7052CD5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5D5-723F-447D-BDF0-DA58133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213-6870-456D-B4DB-0202D3E04F6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032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11430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lvl="3" marL="1714680" algn="ctr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2120" y="274176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619280" y="981000"/>
            <a:ext cx="720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Group on the impact of Globalisation on National Accounts (WGG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979640" y="4005360"/>
            <a:ext cx="62499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roduction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ter van de V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89000"/>
            <a:ext cx="216036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genda item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Agenda of the 1st meeting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5.5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15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09.30-10.45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 and S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1.15-12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ercha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6.0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NEs and allocation of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30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Closing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Terms of Reference (TOR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4760" y="1981080"/>
            <a:ext cx="67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Objective: To review the main distortions in the compilation of NA and related source statistics, as caused by global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Outcome: Report with recommendations and best pract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Identify areas most af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improve surveying, processing and integration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of</a:t>
            </a: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arrive at international consis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improve international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create medium for exchange of  best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730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Terms of Reference (TOR), cont.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04760" y="1981080"/>
            <a:ext cx="67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imetab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utumn 2007: 1st meeting of L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pril 2008: 1st meeting of WGG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June 2008: Progress report to 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End 2008 – Beginning 2010: Two meetings of LG and WGG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pril 2010: Presentation of the report to NA-me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June 2010: Presentation of the report to 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730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Terms of Reference (TOR), cont.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4760" y="1981080"/>
            <a:ext cx="67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Membership of the WGGNA: Open for all members of the UNECE, Eurostat and OECD + IMF and UNCT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Membership of the LG: Canada, Czech Republic, Finland, Netherlands, UK, USA, UNECE, Eurostat, OECD and IM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List of issu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1981080"/>
            <a:ext cx="69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llocation of output and value added to national econom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pecialisation of supply cha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ransactions in intellectu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oll manufactu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Merchant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Consignmen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Commissionaire Tr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List of issues, cont.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1981080"/>
            <a:ext cx="69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pecialisation of supply cha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Re-exports and centralisation of logi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Other centralised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Othe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E-commer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ransit tr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Remittan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econd ho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Labour mi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Common trading and currency bloc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Agenda of the 1st meeting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5.5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15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09.30-10.45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 and S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1.15-12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ercha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6.0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NEs and allocation of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30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Closing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1T10:18:54Z</dcterms:created>
  <dc:creator>jhyn</dc:creator>
  <dc:description/>
  <cp:keywords/>
  <dc:language>en-US</dc:language>
  <cp:lastModifiedBy>Istatkov</cp:lastModifiedBy>
  <cp:lastPrinted>1998-10-01T12:54:58Z</cp:lastPrinted>
  <dcterms:modified xsi:type="dcterms:W3CDTF">2008-04-23T10:37:51Z</dcterms:modified>
  <cp:revision>256</cp:revision>
  <dc:subject/>
  <dc:title>NATIONAL ACCOUNTS</dc:title>
</cp:coreProperties>
</file>