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1440" y="1116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1920" y="1116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1440" y="944388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841920" y="944388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fld id="{87D47E93-477A-4DF6-AFB4-B3FA8E52528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905040" y="4737240"/>
            <a:ext cx="4970160" cy="4410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1071720" y="890640"/>
            <a:ext cx="4636800" cy="347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841920" y="9443880"/>
            <a:ext cx="2939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fld id="{C79D0840-7FC7-4343-BBF6-3CEF88E879ED}" type="slidenum">
              <a:rPr b="0" i="1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905040" y="4737240"/>
            <a:ext cx="4970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ldImg"/>
          </p:nvPr>
        </p:nvSpPr>
        <p:spPr>
          <a:xfrm>
            <a:off x="1071720" y="890640"/>
            <a:ext cx="4636800" cy="3478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842-5483-428E-9207-13F5A915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326-CFA6-4D26-83E5-C6D3B5B0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9AA-1D90-440D-970B-5CC85691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32C-ED81-4006-8989-A482DB1B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19C-16DF-4B69-84B9-CB196F10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2F0-9E02-491E-BA80-0691233F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011-062F-484B-96C0-D58F6541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98A-8C66-43FB-A471-D57F8C1F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89A-5208-4CEB-B79E-700B4842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D43-0A65-4CC3-B53E-5F0C6725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F82-2704-46D6-B2F0-9FB7C798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046-08F0-4D5B-AD82-6C409C9D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AA37-05E5-4100-86CA-CAFC70F8C3D1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032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11430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lvl="3" marL="1714680" algn="ctr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62120" y="274176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1520" indent="-37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619280" y="981000"/>
            <a:ext cx="720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Group on the impact of Globalisation on National Accounts (WGGN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979640" y="4005360"/>
            <a:ext cx="62499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1520" indent="-371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roduction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ter van de V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atistics Netherl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89000"/>
            <a:ext cx="216036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genda item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Agenda of the 1st meeting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51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4.30-15.5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6.15-17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Goods for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09.30-10.45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Goods for processing and S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1.15-12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Mercha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4.30-16.0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MNEs and allocation of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6.30-17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Closing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Terms of Reference (TOR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04760" y="1981080"/>
            <a:ext cx="67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Objective: To review the main distortions in the compilation of NA and related source statistics, as caused by global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Outcome: Report with recommendations and best pract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Identify areas most aff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Proposals to improve surveying, processing and integration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of</a:t>
            </a: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Proposals to arrive at international consis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Proposals to improve international guid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Proposals to create medium for exchange of  best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730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Terms of Reference (TOR), cont.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04760" y="1981080"/>
            <a:ext cx="67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Timetab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Autumn 2007: 1st meeting of L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April 2008: 1st meeting of WGG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June 2008: Progress report to 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End 2008 – Beginning 2010: Two meetings of LG and WGGN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April 2010: Presentation of the report to NA-mee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June 2010: Presentation of the report to 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730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Terms of Reference (TOR), cont.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4760" y="1981080"/>
            <a:ext cx="67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Membership of the WGGNA: Open for all members of the UNECE, Eurostat and OECD + IMF and UNCT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Membership of the LG: Canada, Czech Republic, Finland, Netherlands, UK, USA, UNECE, Eurostat, OECD and IM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List of issu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5120" y="1981080"/>
            <a:ext cx="69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Allocation of output and value added to national econom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Specialisation of supply cha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Transactions in intellectu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S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Toll manufactu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Merchant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Consignment go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6280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Commissionaire Tr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List of issues, cont.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1981080"/>
            <a:ext cx="69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Specialisation of supply cha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Re-exports and centralisation of logi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Other centralised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Other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E-commer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Transit tr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Remittan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Second ho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Labour mi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3080" indent="-259920"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200" spc="-1" strike="noStrike">
                <a:solidFill>
                  <a:srgbClr val="ffff00"/>
                </a:solidFill>
                <a:latin typeface="Arial"/>
              </a:rPr>
              <a:t>Common trading and currency bloc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ff00"/>
                </a:solidFill>
                <a:latin typeface="Arial"/>
              </a:rPr>
              <a:t>Agenda of the 1st meeting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4.30-15.5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6.15-17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Goods for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09.30-10.45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Goods for processing and S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1.15-12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Mercha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4.30-16.0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MNEs and allocation of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16.30-17.30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b-NO" sz="2400" spc="-1" strike="noStrike">
                <a:solidFill>
                  <a:srgbClr val="ffff00"/>
                </a:solidFill>
                <a:latin typeface="Arial"/>
              </a:rPr>
              <a:t>Closing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1T10:18:54Z</dcterms:created>
  <dc:creator>jhyn</dc:creator>
  <dc:description/>
  <cp:keywords/>
  <dc:language>en-US</dc:language>
  <cp:lastModifiedBy>Istatkov</cp:lastModifiedBy>
  <cp:lastPrinted>1998-10-01T12:54:58Z</cp:lastPrinted>
  <dcterms:modified xsi:type="dcterms:W3CDTF">2008-04-23T10:37:51Z</dcterms:modified>
  <cp:revision>256</cp:revision>
  <dc:subject/>
  <dc:title>NATIONAL ACCOUNTS</dc:title>
</cp:coreProperties>
</file>