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59B-65AF-4B09-8883-76CCB832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EEF-EE77-4AE4-B3E0-069E31BF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328-DCCA-4A65-81F5-EADB5EAE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32A-4365-41FE-B444-B5EE6D7F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57B-7B68-4039-B488-B8FF283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B5C-BB99-48C1-8706-8E9EBA39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1A1-642B-4E73-A9EA-9004F21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A08-6B05-4081-97B1-BD33C65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822-CF1C-4F0C-830E-8777772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E1C-D0F5-4CAD-A8D1-F2714539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981-1046-4674-8E9B-74A8740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CDE-0AE6-438E-8088-34C0B58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2D15-D52C-441C-92C4-D4B626FE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CE/Eurostat/OECD Meeting National Accounts, 21-24 April 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mpact of MNCs on balance of payments and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efeld, Moulton and Wh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653000"/>
            <a:ext cx="64008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ant: Robin Ly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52280"/>
            <a:ext cx="1905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hort-term measures, we must estimate value add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 and sa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3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3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64508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19588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ce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asonable that allocation of licence collections should alter G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of Microsoft and Ireland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treated the payments as income transfers, then this would better reflect the reality – as the paper sugg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ce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2008 SNA (1993 Rev 1) allow us to “see through” the licence payments, to characterise them as service payments to the ultimate beneficial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treat them as income transfers to the local licence hol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reland do now? What do they wan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national Corporation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1993 says where goods are for processing, then only show the associated manufacturing service in supply-us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 code was usually unchanged by th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for processing used to refer to goods not changed substantially in character e.g. finishing of tex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remained in the ownership of the supplier, who paid for the finishing service and received back their goods “finish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2008 (1993 Rev 1) Goods not changing ownership (whether sourced from abroad or domestically) subject to a manufacturing process on a different site (in a different establishment), are not shown as a purchase of the manufacturing processor, but the service alone is recorded. Even when the processed good has changed produ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993 Goods not changing ownership (Intern’l tra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im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X – 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in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 X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observe less entries in the supply-us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 longer can uses sales as a proxy for value added (ratio 90: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4:43:41Z</dcterms:created>
  <dc:creator>lynchr</dc:creator>
  <dc:description/>
  <dc:language>en-US</dc:language>
  <cp:lastModifiedBy>Dimova</cp:lastModifiedBy>
  <dcterms:modified xsi:type="dcterms:W3CDTF">2008-05-06T15:42:37Z</dcterms:modified>
  <cp:revision>6</cp:revision>
  <dc:subject/>
  <dc:title>UNECE/Eurostat/OECD Meeting National Accounts, 21-24 April 08</dc:title>
</cp:coreProperties>
</file>