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CF6-4193-4182-A6E5-98274B9E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4D2-2374-4AFE-B790-6AAD3F64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D63-545E-4B46-928B-70AF5628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99B-0E1F-4721-B978-0EC148D9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302-D282-499C-8A53-3DEC2452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975-BF8D-45E6-928A-5538304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BED-F63A-4808-B88B-BBA10A72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E5E-51AB-44F9-8C96-0F7F8C2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F12-F500-4139-B422-A5631E91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E5E-E44C-4BA0-BBF1-8E167B9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46D-D452-4D5B-8735-E8371AF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831-02F4-472D-98D2-4053513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E2D-0040-4574-BF94-BCF4BCA9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CE/Eurostat/OECD Meeting National Accounts, 21-24 April 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mpact of MNCs on balance of payments and nation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efeld, Moulton and Wh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653000"/>
            <a:ext cx="64008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ant: Robin Ly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52280"/>
            <a:ext cx="1905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hort-term measures, we must estimate value add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 and sa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3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3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64508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19588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 (dome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1646280"/>
                <a:gridCol w="1676520"/>
                <a:gridCol w="161424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&amp; m ser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ce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asonable that allocation of licence collections should alter G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of Microsoft and Ireland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treated the payments as income transfers, then this would better reflect the reality – as the paper sugg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ce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2008 SNA (1993 Rev 1) allow us to “see through” the licence payments, to characterise them as service payments to the ultimate beneficial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treat them as income transfers to the local licence hol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reland do now? What do they wan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national Corporation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1993 says where goods are for processing, then only show the associated manufacturing service in supply-us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 code was usually unchanged by th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for processing used to refer to goods not changed substantially in character e.g. finishing of tex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remained in the ownership of the supplier, who paid for the finishing service and received back their goods “finish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2008 (1993 Rev 1) Goods not changing ownership (whether sourced from abroad or domestically) subject to a manufacturing process on a different site (in a different establishment), are not shown as a purchase of the manufacturing processor, but the service alone is recorded. Even when the processed good has changed produ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993 Goods not changing ownership (Intern’l tra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im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X – 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Goods not changing ow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in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ad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 X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s not changing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observe less entries in the supply-us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o longer can uses sales as a proxy for value added (ratio 90: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4:43:41Z</dcterms:created>
  <dc:creator>lynchr</dc:creator>
  <dc:description/>
  <dc:language>en-US</dc:language>
  <cp:lastModifiedBy>Dimova</cp:lastModifiedBy>
  <dcterms:modified xsi:type="dcterms:W3CDTF">2008-05-06T15:42:37Z</dcterms:modified>
  <cp:revision>6</cp:revision>
  <dc:subject/>
  <dc:title>UNECE/Eurostat/OECD Meeting National Accounts, 21-24 April 08</dc:title>
</cp:coreProperties>
</file>