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358-ABB6-4D8D-AE2F-A8DEDAEC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661-7D4A-4C4C-9FE1-22084DB6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168-6579-427D-B5BC-6D7263B1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F32-E366-4701-9750-229D0560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7C22-9A35-4047-802F-E5571C6E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F577-D7BB-4157-8079-FDBBC2B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63BA-F5EA-4E80-AF49-4DF1381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990-0355-4DAF-B4AF-E4565899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39CB-2B32-43F7-9621-5B65D66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BC7B-8465-4546-91B7-5EEEE2F9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8B6-57F0-4FC9-82C4-8C04211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3E4-191C-4467-91B4-116991E6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9B7-164A-496A-89F6-B4BF053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8FB3-7788-4C06-B3B5-5C72254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048C-7881-4BB2-B7FC-CC863467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8D9-1E7E-4B06-A149-1E0C3BE1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F79B-D0CB-4C74-97CA-CA46CC28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FDF-47DA-4D04-B35D-67209C67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58B-DDF7-46E4-A1FB-EE1C47F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DE3-5C85-458A-A707-1A2D006F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F55-4501-4281-9E9B-0CBD2E3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50C-F2C4-4D68-8C63-79755AB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D60-7E5F-4DA7-B5CB-C86913E7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758-7686-43A2-B9DE-C22D316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44A-91F3-46C5-AAD4-61867410B2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36F0-4F5C-4BFE-B5EC-02FCA59F2F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341360"/>
            <a:ext cx="7561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Impact of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lti-National Companies on Balance of Payments and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292640"/>
            <a:ext cx="64008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king Group on the Impac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lobalization on the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ril 24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75240" y="152280"/>
            <a:ext cx="1905120" cy="368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genda item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7DE-579A-4890-9679-4E18D73E2C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of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ing of valuation 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ccounting information a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s moving to or passing through financial centres is a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still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suggestions in paragraph 9 to improving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C53-EE94-482C-BBAC-6C41B8463E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of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origin and destination of F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addi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destination – has significant cost and response burden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horing of royalties and lic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s economic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 paper on R&amp;D suggested that the parent was the legal owner but the affiliates were the economic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3A6-4BC1-49FA-B96E-BB09FAAFF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s in Statistic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benchmarking of domestic and foreign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is data on intermedi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mparable 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s are collected from sellers rather than purchas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purchasers – pilot in Canada for wholesale aims to improve prices for wholesale services, margins, and import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911-34B3-4D6F-811F-94246C4D3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8:57:10Z</dcterms:created>
  <dc:creator>SCSD BUSC</dc:creator>
  <dc:description/>
  <dc:language>en-US</dc:language>
  <cp:lastModifiedBy>Dimova</cp:lastModifiedBy>
  <dcterms:modified xsi:type="dcterms:W3CDTF">2008-05-06T15:41:21Z</dcterms:modified>
  <cp:revision>45</cp:revision>
  <dc:subject/>
  <dc:title>Goods for Processing</dc:title>
</cp:coreProperties>
</file>