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F805-4E61-45D4-B2EF-CE48F94CC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C496-5359-45E3-B2C1-E9575BC69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DC49-3A1F-461B-A89A-0BB4E903A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F55A-3F5A-45EF-9CC6-35FE9BD4B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4A45B-2EE4-407C-9592-608A560C9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13855-D877-46CD-A517-6CF43D109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5006C-146D-4EB0-87C5-5E0932CD9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A5E48-928E-4F6A-A87F-66D5D5083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48950-0904-4AE6-B287-473CF2370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9CF07-EE11-4F38-9CB7-5E2014065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BF8DE-402C-48C6-80E0-B87046F39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EE80-11BA-4C18-B489-1634C93AE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3CA3B-8260-49D5-8387-6CC6F474B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878DE-96C1-46C3-80D3-4E924EB1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85505-8FC1-40D6-9B63-27B91DF99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9AAB1-167D-4A81-BFBE-DCAA3D00E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0E415-3AD4-4A25-81D9-C5637813F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D81B-733E-4505-BF2F-20180A932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FBFF-CB9D-410C-8BC2-7BB25F1B4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5E35-6584-42A7-AB63-97258CC39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A1DD-F2C2-48DB-89C0-F116B384D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EB6B-5821-440C-8044-F127E52BC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CC69-89CD-4B91-BBE8-05A811FE4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1426-C29F-48D8-8538-BADEE3D94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D60DE-ED5D-444B-81E9-56378272D7F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324000" y="369720"/>
          <a:ext cx="981000" cy="1057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369720"/>
                    <a:ext cx="98100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" name=""/>
          <p:cNvGraphicFramePr/>
          <p:nvPr/>
        </p:nvGraphicFramePr>
        <p:xfrm>
          <a:off x="7451640" y="258840"/>
          <a:ext cx="1400400" cy="1384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451640" y="258840"/>
                    <a:ext cx="1400400" cy="13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" name="" descr=""/>
          <p:cNvPicPr/>
          <p:nvPr/>
        </p:nvPicPr>
        <p:blipFill>
          <a:blip r:embed="rId6"/>
          <a:stretch/>
        </p:blipFill>
        <p:spPr>
          <a:xfrm>
            <a:off x="324000" y="6237360"/>
            <a:ext cx="2314440" cy="342720"/>
          </a:xfrm>
          <a:prstGeom prst="rect">
            <a:avLst/>
          </a:prstGeom>
          <a:ln w="0">
            <a:noFill/>
          </a:ln>
        </p:spPr>
      </p:pic>
      <p:pic>
        <p:nvPicPr>
          <p:cNvPr id="10" name="" descr=""/>
          <p:cNvPicPr/>
          <p:nvPr/>
        </p:nvPicPr>
        <p:blipFill>
          <a:blip r:embed="rId7"/>
          <a:stretch/>
        </p:blipFill>
        <p:spPr>
          <a:xfrm>
            <a:off x="7164360" y="6237360"/>
            <a:ext cx="1179720" cy="274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2229D-EE6D-42E1-8823-60B822822C4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24000" y="369720"/>
          <a:ext cx="981000" cy="1057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369720"/>
                    <a:ext cx="98100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7451640" y="258840"/>
          <a:ext cx="1400400" cy="1384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451640" y="258840"/>
                    <a:ext cx="1400400" cy="13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324000" y="6237360"/>
            <a:ext cx="2314440" cy="342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7"/>
          <a:stretch/>
        </p:blipFill>
        <p:spPr>
          <a:xfrm>
            <a:off x="7164360" y="6237360"/>
            <a:ext cx="1179720" cy="274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826920" y="1341360"/>
            <a:ext cx="756144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Impact of 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ulti-National Companies on Balance of Payments and National Accou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371600" y="4292640"/>
            <a:ext cx="640080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Working Group on the Impact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Globalization on the S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April 24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rd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,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549360"/>
            <a:ext cx="813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475240" y="152280"/>
            <a:ext cx="1905120" cy="3682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Agenda item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FEED-3523-487D-A12C-91667578804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ocation of Inc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xing of valuation and 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accounting information as foun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ts moving to or passing through financial centres is a re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ation still an 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suggestions in paragraph 9 to improving respo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F0A6-4D16-4931-8A44-0CEFDD72A52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ocation of Inc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ltimate origin and destination of F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ve addition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ltimate destination – has significant cost and response burden im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fshoring of royalties and lice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ent as economic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herlands paper on R&amp;D suggested that the parent was the legal owner but the affiliates were the economic ow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DCA7-195D-40D5-9352-0DACDC1D7DA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aps in Statistical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mediate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ular benchmarking of domestic and foreign supp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sue is data on intermediat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comparable im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ces are collected from sellers rather than purchaser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vey purchasers – pilot in Canada for wholesale aims to improve prices for wholesale services, margins, and import pri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63C8-2958-4ADC-83B4-32A3AC02265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6T18:57:10Z</dcterms:created>
  <dc:creator>SCSD BUSC</dc:creator>
  <dc:description/>
  <dc:language>en-US</dc:language>
  <cp:lastModifiedBy>Dimova</cp:lastModifiedBy>
  <dcterms:modified xsi:type="dcterms:W3CDTF">2008-05-06T15:41:21Z</dcterms:modified>
  <cp:revision>45</cp:revision>
  <dc:subject/>
  <dc:title>Goods for Processing</dc:title>
</cp:coreProperties>
</file>