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117-91B0-4004-962A-DB68C120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F0F-67FC-4800-8C6C-9FAA28E1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EA2-BE89-4021-9148-55676AC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7A5-5063-40ED-A1E8-3F3A74ED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04F-C364-4B93-940E-F9281C18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2C3-9118-4A1A-A221-EE7FAD4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BAC-C97D-4FF7-B9C5-19C428C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C99-5843-4196-9177-6D18DDC7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3F5-4B51-4147-B584-3BC8B661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808-2E1E-4533-B0DD-9EB1E8B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8BE-79B4-48CB-A857-D62E2F9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926-7361-4267-923F-E09C9DE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5E4-F91F-4A7A-A427-151003E70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for Merchanting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, Geneva – 24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’s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s the history of reporting for merchant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the shortcomings of the exist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s the strengths and weaknesses of the latest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the iss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rchanting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es CSO Ireland’s pragmatic approach to reporting merchanting of servic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260280"/>
            <a:ext cx="1944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for Merchanting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, Geneva – 24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per argu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problems of the existing reporting approach are resolved though some remain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 with Ireland’s conclu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rchanting of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ssue of increasing significance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ent SNA/BPM revision processes may have overlooked the merchanting o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 or, at least, not clarified the required reporting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‘net’ approach to reporting merchanting of services is an appropriate pragmatic solution –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 delegates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for Merchanting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, Geneva – 24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untries generally experiencing the iss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rchanting of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If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ow significant is the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re we all talking about the same 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ow are countries reporting pres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as reporting been  consistent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47:16Z</dcterms:created>
  <dc:creator>hobbsd</dc:creator>
  <dc:description/>
  <dc:language>en-US</dc:language>
  <cp:lastModifiedBy>Istatkov</cp:lastModifiedBy>
  <dcterms:modified xsi:type="dcterms:W3CDTF">2008-04-22T11:54:21Z</dcterms:modified>
  <cp:revision>5</cp:revision>
  <dc:subject/>
  <dc:title>Reporting for Merchanting  UNECE, Geneva – 24 April 2008</dc:title>
</cp:coreProperties>
</file>