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87C-124D-452D-AE74-B90BBF01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F36-C65D-4BE7-8ED4-2462C5B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278-A3DF-4EBC-82A6-1DE8AE49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DD0-1D1E-41E1-969E-1EDD57AC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FE5-47E9-4A62-90BF-0086B45F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017-85E5-43A1-80EE-7283EF32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498-15DB-4CBD-9C07-D74595D1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42E-812A-4A6D-B9B5-73FFEC5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BCF-DD04-47C3-B0E6-157B377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20C-FB5E-4A69-9E03-1A2541D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D10-5703-48F3-B441-0AF6DBD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04A-D078-4601-A321-7441E03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7F32-3526-4869-9F7B-661B0AAF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’s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s the history of reporting for merchant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the shortcomings of the exist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s the strengths and weaknesses of the latest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iss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es CSO Ireland’s pragmatic approach to reporting merchanting of servic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260280"/>
            <a:ext cx="1944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argu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problems of the existing reporting approach are resolved though some remain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 with Ireland’s conclu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ssue of increasing significance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ent SNA/BPM revision processes may have overlooked the merchanting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 or, at least, not clarified the required reporting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‘net’ approach to reporting merchanting of services is an appropriate pragmatic solution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untries generally experiencing the iss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If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ow significant is the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re we all talking about the same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ow are countries reporting pres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s reporting been  consistent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47:16Z</dcterms:created>
  <dc:creator>hobbsd</dc:creator>
  <dc:description/>
  <dc:language>en-US</dc:language>
  <cp:lastModifiedBy>Istatkov</cp:lastModifiedBy>
  <dcterms:modified xsi:type="dcterms:W3CDTF">2008-04-22T11:54:21Z</dcterms:modified>
  <cp:revision>5</cp:revision>
  <dc:subject/>
  <dc:title>Reporting for Merchanting  UNECE, Geneva – 24 April 2008</dc:title>
</cp:coreProperties>
</file>