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725-4B78-4816-9473-AFCD778B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276-2CBE-4A54-937E-AF8D7528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8FC-2670-4C29-BA83-FE71E931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3B0-1B22-4B6A-9AD8-E3E8CF4C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5A2-DFCE-4C80-B748-573E0A40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B048-A9CF-4D12-81B6-2EDC9E3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1108-8F1A-4E2D-9664-5D8FC05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9E8C-4A41-47E2-89C0-65F522F1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025-76E3-4FEF-9D66-2EF56D5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CFF4-9C6F-4B3B-B674-5E15BF64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7D75-D58A-4E33-95F2-816C3D7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1C1-59CE-4BA0-BFAF-7061C6D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9054-B864-45B0-9DC6-7F86E30F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5E3-2491-4E98-81C0-C7F4310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D2D-EF29-4FF8-A44B-E6C3823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CE7-B993-4981-B4C7-39B49084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6425-35AD-4A39-8743-778B5A22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587-C38C-4CA1-92A4-AB0A8365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147-21F3-4616-9487-0EC426C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54A-89CE-4879-8318-E67A843E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6EB-2696-45FD-A0AC-9E3D9BE1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FF5-19BB-4863-A5E3-8E299F2E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C83-A96A-4580-94CC-4A64BD3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5E0-28F4-4B06-9541-2FB26CB7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5C2789-8E8F-4741-AA71-F0A502CE461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182DA0-D5F7-4710-9709-2A8648820C5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1989000"/>
            <a:ext cx="7129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Issues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Dat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- different recording in basic dat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- 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industry classification/ sampl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production structure (incl.  productivity, environmental issu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Bias: Processor type proces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189000"/>
            <a:ext cx="217152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ＭＳ Ｐゴシック"/>
              </a:rPr>
              <a:t>Agenda item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782-8179-4AAF-AC77-EEB02B938B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198900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98900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04640"/>
            <a:ext cx="640872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Client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bserved  Gross 1       Gros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110      75+110      110 - 100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C (gds to be pr or pr.)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75       100+75        75 – 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cessing fee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25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ther IC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VA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Export of goods to be processed: 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mports of processed goods: 100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E7C-3571-41CE-AA33-FADB0E454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98900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198900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404640"/>
            <a:ext cx="640872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ustry X: Gross recording of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raditional     Processor         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110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100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10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C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75     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75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ther IC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2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20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VA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10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AF77-E6FD-4BF3-B440-1F102A7CC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989000"/>
            <a:ext cx="7129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Points for discuss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separate entries in industry classification?  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- traditional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- processor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     -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Compilation / tool for analysis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 - net, gross or both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how to deal with more complicated cas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&lt; processing ------------------- merchanting</a:t>
            </a:r>
            <a:r>
              <a:rPr b="0" lang="nl-NL" sz="2400" spc="-1" strike="noStrike" baseline="30000">
                <a:solidFill>
                  <a:srgbClr val="fafd00"/>
                </a:solidFill>
                <a:latin typeface="Times New Roman"/>
              </a:rPr>
              <a:t>+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77D-D75C-4066-B7A4-50E0FAFBC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1:06:45Z</dcterms:created>
  <dc:creator>Jan Kattevilder</dc:creator>
  <dc:description/>
  <cp:keywords/>
  <dc:language>en-US</dc:language>
  <cp:lastModifiedBy>Dimova</cp:lastModifiedBy>
  <cp:lastPrinted>1999-10-19T13:21:54Z</cp:lastPrinted>
  <dcterms:modified xsi:type="dcterms:W3CDTF">2008-05-06T15:34:57Z</dcterms:modified>
  <cp:revision>38</cp:revision>
  <dc:subject/>
  <dc:title>CONSTANT PR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66149559</vt:r8>
  </property>
  <property fmtid="{D5CDD505-2E9C-101B-9397-08002B2CF9AE}" pid="3" name="_AuthorEmail">
    <vt:lpwstr>PVRT@CBS.nl</vt:lpwstr>
  </property>
  <property fmtid="{D5CDD505-2E9C-101B-9397-08002B2CF9AE}" pid="4" name="_AuthorEmailDisplayName">
    <vt:lpwstr>Verbiest, drs P.</vt:lpwstr>
  </property>
  <property fmtid="{D5CDD505-2E9C-101B-9397-08002B2CF9AE}" pid="5" name="_EmailSubject">
    <vt:lpwstr>discussant geneve.ppt</vt:lpwstr>
  </property>
  <property fmtid="{D5CDD505-2E9C-101B-9397-08002B2CF9AE}" pid="6" name="_PreviousAdHocReviewCycleID">
    <vt:r8>-1335289054</vt:r8>
  </property>
  <property fmtid="{D5CDD505-2E9C-101B-9397-08002B2CF9AE}" pid="7" name="_ReviewingToolsShownOnce">
    <vt:lpwstr/>
  </property>
</Properties>
</file>