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3723-D104-45D2-A6F9-786B45A80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9886-1AE6-4889-9AAD-58460CFA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392F-8D79-40C4-904E-39C6215DA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9610-0375-46F0-9538-9EADAE546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6A53-CAD6-4514-B388-98ADFA36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4114-7985-4316-8BE5-4DBCCB21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E774-55CF-46B4-990A-CE4DB47E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8438-C86E-4CEE-9F70-CB144561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348C-6EEF-4931-9270-32EE9D65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13DD-272F-4EC3-9A9D-575B5001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493C-8AC2-4F65-A670-31267AC7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C0E2-7440-411C-87C2-FA3B60E9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60E3-797D-486E-82D6-16A5FD6E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BF2A-39EA-4420-BB2A-D761E416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AD64-A025-4CBA-976B-1234F05C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3107-78D6-4902-BAF1-1F1BE70C5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7B5A-5480-454E-8A2D-39A4C70EF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E3B0-DF8C-4052-9466-1144D7A9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97A7-DA1D-426D-A7DF-4309C5E5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C6BF-2EBE-497A-913A-7901B144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B591-3B99-4324-B650-979CBFD9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DAF1-2D22-4031-9CEB-E057725E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029E-EAE9-49BC-A1BE-ACF2D101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8D8C-63EB-4C50-8610-73E8E9E2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051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051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051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22A3D41-B708-46CE-B62A-4B3058F84387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6002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86391CA-A3AD-498A-99FB-092F2E108A2A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6002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90440" indent="0" algn="ctr"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6996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14624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62252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6225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6225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cessing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58920" y="1989000"/>
            <a:ext cx="712944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Issues: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Data</a:t>
            </a:r>
            <a:br>
              <a:rPr sz="2400"/>
            </a:b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    - different recording in basic data</a:t>
            </a:r>
            <a:br>
              <a:rPr sz="2400"/>
            </a:b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    - val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industry classification/ sampling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production structure (incl.  productivity, environmental issues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Bias: Processor type process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32720" y="189000"/>
            <a:ext cx="2171520" cy="398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rebuchet MS"/>
                <a:ea typeface="ＭＳ Ｐゴシック"/>
              </a:rPr>
              <a:t>Agenda item 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418D-D888-4A51-A7AB-9B7635C93C3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58920" y="1989000"/>
            <a:ext cx="712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79640" y="1989000"/>
            <a:ext cx="54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19280" y="404640"/>
            <a:ext cx="6408720" cy="54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Client ty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Observed  Gross 1       Gross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Output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     110      75+110      110 - 100   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IC (gds to be pr or pr.)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75       100+75        75 – 7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Processing fee 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      25     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Other IC  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        5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        5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              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VA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        5 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        5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              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Export of goods to be processed: 7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Imports of processed goods: 100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7785-F68C-4BE4-A61A-D4C74AC659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58920" y="1989000"/>
            <a:ext cx="712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79640" y="1989000"/>
            <a:ext cx="54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19280" y="404640"/>
            <a:ext cx="640872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Industry X: Gross recording of 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Traditional     Processor          Cl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Output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     110      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  100 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          10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IC 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75           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    75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Other IC  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       25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    20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            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VA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       10 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      5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            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6EEF-107B-4B2C-9DDA-3F1424BC85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cessing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58920" y="1989000"/>
            <a:ext cx="71294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Points for discuss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separate entries in industry classification?  </a:t>
            </a:r>
            <a:br>
              <a:rPr sz="2400"/>
            </a:b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- traditional</a:t>
            </a:r>
            <a:br>
              <a:rPr sz="2400"/>
            </a:b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- processor</a:t>
            </a:r>
            <a:br>
              <a:rPr sz="2400"/>
            </a:b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         -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Compilation / tool for analysis</a:t>
            </a:r>
            <a:br>
              <a:rPr sz="2400"/>
            </a:b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     - net, gross or both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how to deal with more complicated cas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&lt; processing ------------------- merchanting</a:t>
            </a:r>
            <a:r>
              <a:rPr b="0" lang="nl-NL" sz="2400" spc="-1" strike="noStrike" baseline="30000">
                <a:solidFill>
                  <a:srgbClr val="fafd00"/>
                </a:solidFill>
                <a:latin typeface="Times New Roman"/>
              </a:rPr>
              <a:t>+ </a:t>
            </a:r>
            <a:r>
              <a:rPr b="0" lang="nl-NL" sz="2400" spc="-1" strike="noStrike">
                <a:solidFill>
                  <a:srgbClr val="fafd00"/>
                </a:solidFill>
                <a:latin typeface="Times New Roman"/>
              </a:rPr>
              <a:t>&gt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D699-D7BC-45BF-8D11-552AC715CC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8T11:06:45Z</dcterms:created>
  <dc:creator>Jan Kattevilder</dc:creator>
  <dc:description/>
  <cp:keywords/>
  <dc:language>en-US</dc:language>
  <cp:lastModifiedBy>Dimova</cp:lastModifiedBy>
  <cp:lastPrinted>1999-10-19T13:21:54Z</cp:lastPrinted>
  <dcterms:modified xsi:type="dcterms:W3CDTF">2008-05-06T15:34:57Z</dcterms:modified>
  <cp:revision>38</cp:revision>
  <dc:subject/>
  <dc:title>CONSTANT PRIC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66149559</vt:r8>
  </property>
  <property fmtid="{D5CDD505-2E9C-101B-9397-08002B2CF9AE}" pid="3" name="_AuthorEmail">
    <vt:lpwstr>PVRT@CBS.nl</vt:lpwstr>
  </property>
  <property fmtid="{D5CDD505-2E9C-101B-9397-08002B2CF9AE}" pid="4" name="_AuthorEmailDisplayName">
    <vt:lpwstr>Verbiest, drs P.</vt:lpwstr>
  </property>
  <property fmtid="{D5CDD505-2E9C-101B-9397-08002B2CF9AE}" pid="5" name="_EmailSubject">
    <vt:lpwstr>discussant geneve.ppt</vt:lpwstr>
  </property>
  <property fmtid="{D5CDD505-2E9C-101B-9397-08002B2CF9AE}" pid="6" name="_PreviousAdHocReviewCycleID">
    <vt:r8>-1335289054</vt:r8>
  </property>
  <property fmtid="{D5CDD505-2E9C-101B-9397-08002B2CF9AE}" pid="7" name="_ReviewingToolsShownOnce">
    <vt:lpwstr/>
  </property>
</Properties>
</file>