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8E80-31C4-4E30-B5F2-DA03C6A5C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958200"/>
            <a:ext cx="7769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A370-0397-4D24-8C38-165BFD76C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95820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395820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1DC8-97C1-4508-BB6F-B455E6647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25012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370160"/>
            <a:ext cx="25012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480" y="1370160"/>
            <a:ext cx="25012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958200"/>
            <a:ext cx="25012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3958200"/>
            <a:ext cx="25012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480" y="3958200"/>
            <a:ext cx="25012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A8F8-30E9-4547-8089-7237C87D8D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4FA0-5E05-4431-BA98-4B32DF68D8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9D58-C3F3-47DE-81F7-E05C535FD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F569-0142-4B7A-BEB1-5CDAE05CB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8040-41E2-4918-8D26-470212855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42A6-3845-4010-A4D4-DBCB92253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95820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B5A8-CC26-4C29-86A5-EF9B96E37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395820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FB68-7C58-4779-B1B4-BE16FB8D4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958200"/>
            <a:ext cx="776916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90E9-4F03-4EB3-9C70-6EB7FA7D6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F779-361F-4FFA-BE15-DE94BE89030B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Impact of Multi-National Companies on Balance of Payments and National Account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6483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Working Group on Impact of Globalization on National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April 23-24, 2008</a:t>
            </a: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. Steven Landefeld, Brent Moulton, and Obie Whichar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152280"/>
            <a:ext cx="1905120" cy="69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item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ited paper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EAA3-88F7-4D5C-B1A0-5D813E5D7F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ossible Solution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7240" y="1257480"/>
            <a:ext cx="77695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mited potential for improvement on tax-motivated transfer pricing issu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wever, some MNC reporting practices may be amenable to consistent reporting with international guidelines, through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pondent outreach effo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arification of instruc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gnitive work to redesign survey form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4265-C951-41FA-9C33-C088BD546F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ossible Solutions (continued)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ther solution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urther work by national accountants and business accountants on valuing and accounting for intangible asse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llection of data on the basis of the “ultimate beneficial owner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7E9F-B227-471A-970C-FA78FFBCD7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mpact of MNCs and Offshoring on Real GDP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22200"/>
            <a:ext cx="799632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omestic producers switch from domestic suppliers to non-comparable import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erence in price between foreign supplier and domestic supplier not reflected in price index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ort price index measures prices only from foreign suppliers; producer price index measures prices only from domestic producer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derstatement of real imports and intermediate inpu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verstatement of real GDP and Productiv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6B79-C875-403A-8401-054A07C73C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mpact of MNCs and Offshoring on Real GDP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22604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63CA-9C5B-48E8-86D0-A815215B09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mpact of MNCs and Offshoring on Real GDP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22200"/>
            <a:ext cx="799632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verstatement of U.S. real GDP and productivity may not be large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0.1 percentage point on real GDP growth and 0.2  on productivity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so, understatement of imports (17% of U.S. GDP) may be more than offset by similar problem with switch to new goods and services produced domestically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8B08-DA4C-4C63-98B6-CA439E5259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ossible Solution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iven the pervasive nature of the “new goods” problem and the absence of a clear solution, it may be difficult to develop a global “fix”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wever, further research into direct comparisons, indirect estimates (Feenstra, Reinsdorf, and Slaughter), hedonic, and other techniques (Aizcorbe and Nestoriak) may yield solutions.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86FC-A249-4F66-A763-D047EDC2FB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Measurement Challeng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ultinational Companies (MNCs) present special measurement challenges for national and balance of payments account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NC goal to maximize company-w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fter-tax profits.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NCs allocate resources, price intra-company transactions, and bill transactions to meet this goal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a result, MNC’s accounting for transactions may not align well with the underlying economic activiti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05E8-C071-40EB-9E55-A56A8F7736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Importance of MNC’s to GDP and Tra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062000"/>
            <a:ext cx="7772400" cy="526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EC8E-CA4F-418C-9397-AB26D81060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ransfer of Intangible Asset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.S. parents can lower their global tax burden by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ducing their U.S. taxes during the development period by booking expenses in the United Sta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after shifting the income from the intangible to a low-tax country, where it can be shielded from U.S. taxes until it is repatriat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3281-0764-48D4-954F-668E3EEE4F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Growing Importance of Transfers of Intangible Assets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"/>
          <p:cNvSpPr/>
          <p:nvPr/>
        </p:nvSpPr>
        <p:spPr>
          <a:xfrm>
            <a:off x="762480" y="1203480"/>
            <a:ext cx="7564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1.  U.S. Parents' Receipts for Royalties and License Fe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ign Affiliates in Lower Tax Countri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Millions of dollars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2193840"/>
            <a:ext cx="6705720" cy="3667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5927760"/>
            <a:ext cx="786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* The list of low-tax-haven destinations for FDI is from Martin A. Sullivan, "U.S. Multinationals Move Profits to Tax Havens,"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ax Not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weekly newsletter of www.taxanalysts.com) February 9, 2004; reciepts data are from BE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FEE7-38CB-4244-9F66-920ED5CFDB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Other Means of Reallocating Incom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finance or holding company affiliates in low-tax countr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ructuring transfer prices to shift net income toward subsidiaries in lower tax countrie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offshore factoring corporations in low tax countries that bill and collect for the parent’s worldwide sales; an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verting the corporate ownership structure, with an overseas entity in a low-tax country becoming the parent that collects net income for the MNC’s  worldwide corporate structur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E98E-17C7-4224-8A63-F7DE346FD6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Growing Importance of Investment in Lower-Tax Countries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"/>
          <p:cNvSpPr/>
          <p:nvPr/>
        </p:nvSpPr>
        <p:spPr>
          <a:xfrm>
            <a:off x="794160" y="1270080"/>
            <a:ext cx="72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2.  U.S. Direct Investment Position in Lower-Tax Countri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Millions of dollar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879560"/>
            <a:ext cx="7467840" cy="39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8760" y="5927760"/>
            <a:ext cx="786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* The list of lower-tax countries that are a destination for FDI  is taken from Martin A. Sullivan, "U.S. Multinationals Move Profits to Tax Havens,"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ax Not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weekly newsletter of www.taxanalysts.com) February 9, 2004; the positioon data is from BE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B857-7F36-4EC0-B68B-63C90472D0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Other Issues in MNC Allocation of Incom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NCs allocate profits, retained earnings, and record transfer prices in ways that differ from the underlying economic transactions for strategic as well as tax reason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so, MNCs are worldwide corporations and, for many transactions, place limited importance on national boundaries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a result their business records may not support more accurate reporting of geography to statistical agencies.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2B1F-87FE-44FF-8254-E67C9E0D72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mpacts of Global Allocation of Incom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77695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n Nominal GDP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BOP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wer recorded GDP and exports, and raise imports, in high tax countr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aise recorded GDP and exports, and lower imports, in low tax countr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D9BC-EECC-4956-AB38-DB860285A1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36:32Z</dcterms:created>
  <dc:creator>Cindy Vojtech</dc:creator>
  <dc:description/>
  <dc:language>en-US</dc:language>
  <cp:lastModifiedBy>Dimova</cp:lastModifiedBy>
  <dcterms:modified xsi:type="dcterms:W3CDTF">2008-05-06T15:39:2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04912302</vt:r8>
  </property>
  <property fmtid="{D5CDD505-2E9C-101B-9397-08002B2CF9AE}" pid="3" name="_AuthorEmail">
    <vt:lpwstr>Steve.Landefeld@bea.gov</vt:lpwstr>
  </property>
  <property fmtid="{D5CDD505-2E9C-101B-9397-08002B2CF9AE}" pid="4" name="_AuthorEmailDisplayName">
    <vt:lpwstr>Landefeld, Steve</vt:lpwstr>
  </property>
  <property fmtid="{D5CDD505-2E9C-101B-9397-08002B2CF9AE}" pid="5" name="_EmailSubject">
    <vt:lpwstr>Panel Discussion on MNE's</vt:lpwstr>
  </property>
  <property fmtid="{D5CDD505-2E9C-101B-9397-08002B2CF9AE}" pid="6" name="_NewReviewCycle">
    <vt:lpwstr/>
  </property>
  <property fmtid="{D5CDD505-2E9C-101B-9397-08002B2CF9AE}" pid="7" name="_PreviousAdHocReviewCycleID">
    <vt:r8>1352309062</vt:r8>
  </property>
  <property fmtid="{D5CDD505-2E9C-101B-9397-08002B2CF9AE}" pid="8" name="_ReviewingToolsShownOnce">
    <vt:lpwstr/>
  </property>
</Properties>
</file>