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3B6D-8EEA-4E74-86E3-8AC1FF286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958200"/>
            <a:ext cx="7769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812D-0670-4CE0-B392-9FB5C5A0F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95820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395820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3358-5F54-4421-80EC-235217CE6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25012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370160"/>
            <a:ext cx="25012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480" y="1370160"/>
            <a:ext cx="25012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958200"/>
            <a:ext cx="25012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3958200"/>
            <a:ext cx="25012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480" y="3958200"/>
            <a:ext cx="25012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9DD5-059B-41CD-AE1B-DFAFB07B2C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B2BD-AA29-4421-B3C5-726F5AEA8A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AA61-2508-46E5-93CF-42E4F9CEA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5807-D971-4D52-9CC7-F8C17379D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8D7B-93F9-43B3-855B-AFBB52C88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CE84-C817-432D-ADAF-AEF982C8F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95820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8366-0EAE-49E0-852D-73AD8B734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395820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BA49-2C8F-4BC5-B0AB-5848660B3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958200"/>
            <a:ext cx="7769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F90D-9557-49DB-9D8A-77E5ED280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776F-0CD8-4CF6-9A5F-1A9CA1F76A59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Impact of Multi-National Companies on Balance of Payments and National Account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6483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Working Group on Impact of Globalization on National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April 23-24, 2008</a:t>
            </a: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29718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. Steven Landefeld, Brent Moulton, and Obie Whichar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152280"/>
            <a:ext cx="1905120" cy="69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item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ited paper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074C-F7AF-461F-99B1-0F992B1E1C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ossible Solution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7240" y="1257480"/>
            <a:ext cx="77695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imited potential for improvement on tax-motivated transfer pricing issu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owever, some MNC reporting practices may be amenable to consistent reporting with international guidelines, through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pondent outreach effor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arification of instruc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gnitive work to redesign survey form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AEB3-2B8A-4A55-8546-45677CD4E2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ossible Solutions (continued)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ther solution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urther work by national accountants and business accountants on valuing and accounting for intangible asset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llection of data on the basis of the “ultimate beneficial owner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F8F6-5FEE-46B8-B4C1-7DEC70A5F4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mpact of MNCs and Offshoring on Real GDP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22200"/>
            <a:ext cx="799632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omestic producers switch from domestic suppliers to non-comparable import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erence in price between foreign supplier and domestic supplier not reflected in price index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ort price index measures prices only from foreign suppliers; producer price index measures prices only from domestic producer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derstatement of real imports and intermediate inpu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verstatement of real GDP and Productiv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92E2-3172-4D43-BF52-6EA5DF4DE4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mpact of MNCs and Offshoring on Real GDP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22604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185C-6131-4C61-A1C7-434FE83607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mpact of MNCs and Offshoring on Real GDP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22200"/>
            <a:ext cx="799632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verstatement of U.S. real GDP and productivity may not be large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0.1 percentage point on real GDP growth and 0.2  on productivity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so, understatement of imports (17% of U.S. GDP) may be more than offset by similar problem with switch to new goods and services produced domestically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1CB2-8ACD-46E6-B5E6-E39CA7CE04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ossible Solution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iven the pervasive nature of the “new goods” problem and the absence of a clear solution, it may be difficult to develop a global “fix”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owever, further research into direct comparisons, indirect estimates (Feenstra, Reinsdorf, and Slaughter), hedonic, and other techniques (Aizcorbe and Nestoriak) may yield solutions.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A531-717C-48CF-B3D8-98743B7DBC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Measurement Challeng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ultinational Companies (MNCs) present special measurement challenges for national and balance of payments account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NC goal to maximize company-w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global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fter-tax profits.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NCs allocate resources, price intra-company transactions, and bill transactions to meet this goal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a result, MNC’s accounting for transactions may not align well with the underlying economic activiti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EF12-81C1-469C-A8D6-EAF55484E9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Importance of MNC’s to GDP and Tra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062000"/>
            <a:ext cx="7772400" cy="526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BAB9-34B6-4FF6-BE6B-4B05850380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ransfer of Intangible Asset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.S. parents can lower their global tax burden by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ducing their U.S. taxes during the development period by booking expenses in the United Sta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after shifting the income from the intangible to a low-tax country, where it can be shielded from U.S. taxes until it is repatriat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A431-791D-4DCA-80C7-DE94452B86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Growing Importance of Transfers of Intangible Assets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"/>
          <p:cNvSpPr/>
          <p:nvPr/>
        </p:nvSpPr>
        <p:spPr>
          <a:xfrm>
            <a:off x="762480" y="1203480"/>
            <a:ext cx="7564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1.  U.S. Parents' Receipts for Royalties and License Fee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ign Affiliates in Lower Tax Countri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Millions of dollars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2193840"/>
            <a:ext cx="6705720" cy="3667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5927760"/>
            <a:ext cx="7864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* The list of low-tax-haven destinations for FDI is from Martin A. Sullivan, "U.S. Multinationals Move Profits to Tax Havens,"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ax Not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weekly newsletter of www.taxanalysts.com) February 9, 2004; reciepts data are from BEA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9AAF-91E3-4BFF-B9CA-D093CAF8F4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Other Means of Reallocating Incom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finance or holding company affiliates in low-tax countr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ructuring transfer prices to shift net income toward subsidiaries in lower tax countries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offshore factoring corporations in low tax countries that bill and collect for the parent’s worldwide sales; an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verting the corporate ownership structure, with an overseas entity in a low-tax country becoming the parent that collects net income for the MNC’s  worldwide corporate structur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ACFE-6F89-4EF5-86B0-C8D620F05E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Growing Importance of Investment in Lower-Tax Countries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"/>
          <p:cNvSpPr/>
          <p:nvPr/>
        </p:nvSpPr>
        <p:spPr>
          <a:xfrm>
            <a:off x="794160" y="1270080"/>
            <a:ext cx="72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2.  U.S. Direct Investment Position in Lower-Tax Countri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Millions of dollar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879560"/>
            <a:ext cx="7467840" cy="397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8760" y="5927760"/>
            <a:ext cx="786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* The list of lower-tax countries that are a destination for FDI  is taken from Martin A. Sullivan, "U.S. Multinationals Move Profits to Tax Havens,"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ax Not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weekly newsletter of www.taxanalysts.com) February 9, 2004; the positioon data is from BE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015C-CA06-4FE7-9798-ABE9B0016E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Other Issues in MNC Allocation of Incom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NCs allocate profits, retained earnings, and record transfer prices in ways that differ from the underlying economic transactions for strategic as well as tax reason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so, MNCs are worldwide corporations and, for many transactions, place limited importance on national boundaries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a result their business records may not support more accurate reporting of geography to statistical agencies.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C170-20A3-47A9-B7F5-002BC741CE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mpacts of Global Allocation of Incom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77695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n Nominal GDP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BOP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ower recorded GDP and exports, and raise imports, in high tax countr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aise recorded GDP and exports, and lower imports, in low tax countr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B6E5-D2F9-40C5-A8BE-0CE3A26289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36:32Z</dcterms:created>
  <dc:creator>Cindy Vojtech</dc:creator>
  <dc:description/>
  <dc:language>en-US</dc:language>
  <cp:lastModifiedBy>Dimova</cp:lastModifiedBy>
  <dcterms:modified xsi:type="dcterms:W3CDTF">2008-05-06T15:39:2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04912302</vt:r8>
  </property>
  <property fmtid="{D5CDD505-2E9C-101B-9397-08002B2CF9AE}" pid="3" name="_AuthorEmail">
    <vt:lpwstr>Steve.Landefeld@bea.gov</vt:lpwstr>
  </property>
  <property fmtid="{D5CDD505-2E9C-101B-9397-08002B2CF9AE}" pid="4" name="_AuthorEmailDisplayName">
    <vt:lpwstr>Landefeld, Steve</vt:lpwstr>
  </property>
  <property fmtid="{D5CDD505-2E9C-101B-9397-08002B2CF9AE}" pid="5" name="_EmailSubject">
    <vt:lpwstr>Panel Discussion on MNE's</vt:lpwstr>
  </property>
  <property fmtid="{D5CDD505-2E9C-101B-9397-08002B2CF9AE}" pid="6" name="_NewReviewCycle">
    <vt:lpwstr/>
  </property>
  <property fmtid="{D5CDD505-2E9C-101B-9397-08002B2CF9AE}" pid="7" name="_PreviousAdHocReviewCycleID">
    <vt:r8>1352309062</vt:r8>
  </property>
  <property fmtid="{D5CDD505-2E9C-101B-9397-08002B2CF9AE}" pid="8" name="_ReviewingToolsShownOnce">
    <vt:lpwstr/>
  </property>
</Properties>
</file>