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4200" spc="-1" strike="noStrike">
                <a:solidFill>
                  <a:srgbClr val="00dfca"/>
                </a:solidFill>
                <a:latin typeface="Book Antiqua"/>
              </a:rPr>
              <a:t>Click to move the slide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006C-A69A-435B-BED6-60E36C2BB0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MC introduce Myself, discuss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the postings particularly f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s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discussed the backg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rchanting and I hope expl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iculties with the statis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ing I want to discuss more gene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it arises and also the 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atment in CSO for mercha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of Global manufac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actions in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example includes both Go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processing and Merch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to note that the 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vement of the goods is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 statistical recording of the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try is treated as the exporter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s while the goods are expor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y C the processe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arding the other exampl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hanting  - particular to C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hanting of services activities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ressed in current manuals - BP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304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uations where a resident comp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s as a principal and all trans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through its books  - econ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pretation of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ncies which analyse exports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vid Hummel - Transportation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international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t era - Ocean Trade 19th cen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nd eraAir shipping and decreasing cos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rd era telecommunications and internet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 to appendix 5 - simpl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from our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s the inflation effect on th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merch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uld now like to discus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sues which arose in the proces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write of the SNA REV1 and the BPM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y relate to merchan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ention of the mercha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goods associated wit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hants marg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38080" y="4419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F Definition, discusses goods on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ll be discussing services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ite a mouth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a diagram to illustrate th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ing  - balanced goods accou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untry A the Merchant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chestrating  these transac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de between B &amp; C cap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or how do we trea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actions relating to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OLUTION ARRIVED F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PM5 and SNA 93 related to how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In ownership is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ly B - A - C would b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ified the problem by imp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no change of ownership takes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ing A and the then the merchan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plus is recorded as the export of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ce - Other Business Servic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han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 created probl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the first effort to de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Merchant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1948 we see that with every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ition a new treatment of Merch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 included.  IN goods, in omnibus a/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ervices  - Gross - Net- Gross aga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llustrate the problem we can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the value of exports differs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alue of imports and this dif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merchant’s surplus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8040" y="4131000"/>
            <a:ext cx="78501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068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8040" y="413100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0680" y="413100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2320" y="198072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6600" y="198072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8040" y="413100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2320" y="413100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6600" y="413100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38307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0680" y="1980720"/>
            <a:ext cx="38307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70120" y="218880"/>
            <a:ext cx="7850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0680" y="1980720"/>
            <a:ext cx="38307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8040" y="413100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38307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068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0680" y="413100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068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8040" y="4131000"/>
            <a:ext cx="78501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7040"/>
            <a:ext cx="9134640" cy="153720"/>
            <a:chOff x="0" y="1427040"/>
            <a:chExt cx="9134640" cy="153720"/>
          </a:xfrm>
        </p:grpSpPr>
        <p:sp>
          <p:nvSpPr>
            <p:cNvPr id="1" name=""/>
            <p:cNvSpPr/>
            <p:nvPr/>
          </p:nvSpPr>
          <p:spPr>
            <a:xfrm>
              <a:off x="0" y="1427040"/>
              <a:ext cx="9134640" cy="763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600"/>
              <a:ext cx="91346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42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751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84320" indent="-2174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15960" indent="-215640">
              <a:spcBef>
                <a:spcPts val="751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51200" indent="-217800">
              <a:spcBef>
                <a:spcPts val="751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51200" indent="-2178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51200" indent="-2178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CSO%20Logo%20S" descr=""/>
          <p:cNvPicPr/>
          <p:nvPr/>
        </p:nvPicPr>
        <p:blipFill>
          <a:blip r:embed="rId2"/>
          <a:stretch/>
        </p:blipFill>
        <p:spPr>
          <a:xfrm>
            <a:off x="201600" y="219240"/>
            <a:ext cx="692280" cy="102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ichael Conno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SO, Irel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eneva April 200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-27288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ECE/EUROSTAT/OEC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WGG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1700280"/>
            <a:ext cx="277200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da item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vited paper 15/Rev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90720"/>
          <a:ext cx="8670960" cy="64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8670960" cy="64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mmodity Tra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ternational Wholesale Reta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lobal Manufactu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teraffiliate transactions in Goods and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utsourcing of Services (abroa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Global Manufactur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286000"/>
            <a:ext cx="3276720" cy="7621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wner of g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286000"/>
            <a:ext cx="2819520" cy="762120"/>
          </a:xfrm>
          <a:prstGeom prst="rect">
            <a:avLst/>
          </a:prstGeom>
          <a:solidFill>
            <a:srgbClr val="33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er/bu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419720"/>
            <a:ext cx="2666880" cy="99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roup Comp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895480" y="2743200"/>
            <a:ext cx="243864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819520" y="3352320"/>
            <a:ext cx="129528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3276720"/>
            <a:ext cx="1218960" cy="10666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029200" y="3276720"/>
            <a:ext cx="838080" cy="8380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790960" y="3276720"/>
            <a:ext cx="10666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7000" y="190404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vement of goods/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33703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nge in ow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4960" y="358020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sh settl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495680"/>
            <a:ext cx="2362320" cy="990720"/>
          </a:xfrm>
          <a:prstGeom prst="rect">
            <a:avLst/>
          </a:pr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cessor/expo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12408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97320"/>
            <a:ext cx="17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s for 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3200400"/>
            <a:ext cx="0" cy="1143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of Services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8000"/>
          </a:bodyPr>
          <a:p>
            <a:pPr marL="318600" indent="-31860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ot addressed in the current manu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600" indent="-31860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as mentioned as far back as 196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60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he compiling country’s residents may carry out international transactions in goods and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ervices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hat are entered only on a net basis.  Such transactions involve the purchase of goods or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ervices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in one foreign country and the sale or granting of them to another foreign country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”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CSO Treatment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mpact of Globalisation on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nclusion of transactions in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otential for statistical distortion arising from large transactions in goods and services sourced and delivered abro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utsourced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ird era of Globalisation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 Goods &amp; Services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581280"/>
            <a:ext cx="3276720" cy="129564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wner of g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514600"/>
            <a:ext cx="2362320" cy="762120"/>
          </a:xfrm>
          <a:prstGeom prst="rect">
            <a:avLst/>
          </a:prstGeom>
          <a:solidFill>
            <a:srgbClr val="33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ducer G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486400"/>
            <a:ext cx="2666880" cy="9907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rket EM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y custom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505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123720" y="5105160"/>
            <a:ext cx="114300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4800600"/>
            <a:ext cx="990360" cy="7621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733920" y="3505320"/>
            <a:ext cx="1295280" cy="7617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885840" y="3733920"/>
            <a:ext cx="3429000" cy="9144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1295280"/>
            <a:ext cx="2362320" cy="990720"/>
          </a:xfrm>
          <a:prstGeom prst="rect">
            <a:avLst/>
          </a:pr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rect Inves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14800" y="4190760"/>
            <a:ext cx="281952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276720"/>
            <a:ext cx="2286000" cy="83808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F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ducer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248520" y="4114800"/>
            <a:ext cx="137160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05320" y="3352320"/>
            <a:ext cx="121896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66320" y="1295280"/>
            <a:ext cx="2514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129528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2952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1295280"/>
            <a:ext cx="0" cy="1752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82400" y="913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54680" y="8751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	</a:t>
            </a: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1100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1100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NA Rev.1 and BPM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SNA Rev.1 and BPM 6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5016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urrent treatment causes assymetries in Goods account (no servic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consistencies in recommended treatment  and impact on inventories and balance shee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consistencies with Supply and Use tab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Valuation in Cross Border transa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Proposals BPM6 &amp; SNA Rev1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50160" cy="457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0000"/>
          </a:bodyPr>
          <a:p>
            <a:pPr marL="292680" indent="-29268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ew proposals apply to the merchanting of goods only - no mention of merchanted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cquisition of goods by merchant to be recorded as negative exports of merchant’s econom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imilarly sale of goods by merchant recorded as a positive ex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Difference between sales and purchases of merchanted goods is recorded under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268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et exports of goods under merchanting”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Proposals BPM6 &amp; SNA Rev1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 Supply and Use Tables the difference between sales and purchases to be shown as production of a ser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 general Merchanting activities to be recorded in Goods account rather than the Services account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000" spc="-1" strike="noStrike">
                <a:solidFill>
                  <a:srgbClr val="ffffff"/>
                </a:solidFill>
                <a:latin typeface="Arial"/>
              </a:rPr>
              <a:t>the purchase of a </a:t>
            </a:r>
            <a:r>
              <a:rPr b="0" i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good</a:t>
            </a:r>
            <a:r>
              <a:rPr b="0" i="1" lang="en-GB" sz="3000" spc="-1" strike="noStrike">
                <a:solidFill>
                  <a:srgbClr val="ffffff"/>
                </a:solidFill>
                <a:latin typeface="Arial"/>
              </a:rPr>
              <a:t> by a resident (of the compiling economy) from a non-resident and the subsequent resale of the good to another non-resident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i="1" lang="en-GB" sz="3000" spc="-1" strike="noStrike">
                <a:solidFill>
                  <a:srgbClr val="ffffff"/>
                </a:solidFill>
                <a:latin typeface="Arial"/>
              </a:rPr>
              <a:t>during this process the good does not enter or leave the compiling econom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Source IMF BPM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0"/>
            <a:ext cx="25909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orter/se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2286000"/>
            <a:ext cx="28195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er/bu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4419720"/>
            <a:ext cx="2895480" cy="99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rch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666880"/>
            <a:ext cx="1371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514600" y="3352320"/>
            <a:ext cx="838080" cy="838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276720"/>
            <a:ext cx="914400" cy="9144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029200" y="3276720"/>
            <a:ext cx="838080" cy="8380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790960" y="3276720"/>
            <a:ext cx="10666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1233000"/>
            <a:ext cx="370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vement of goods/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ort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312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nge in ow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2760" y="339732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sh sett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7320" y="365616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sh sett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6320" y="5512680"/>
            <a:ext cx="338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s under Mercha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0 (-80+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384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1066680"/>
          <a:ext cx="815328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81532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Impact of New Proposals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solves the difficulty with asymmetric recor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solves the issues with inventories and holding gain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Valuation principles are consist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cording of transactions in BOP still an iss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Difficulties with New Proposals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Does not consider or address the merchanting of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ajor aspect of Globalis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alls within the definition of merchan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49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49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Conclusions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erchanting of services needs serious conside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vised treatment for Merchanting of goods is now 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eparate recommendations are required for Merchanting of Services similar to BPM5  i.e. separate item in Services Accou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49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49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Any questions?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286000"/>
            <a:ext cx="25909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orter/se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286000"/>
            <a:ext cx="28195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er/bu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4419720"/>
            <a:ext cx="2895480" cy="99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rch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1371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514600" y="3352320"/>
            <a:ext cx="838080" cy="838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914400" cy="9144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3276720"/>
            <a:ext cx="838080" cy="8380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790960" y="3276720"/>
            <a:ext cx="10666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7000" y="190404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vement of goods/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312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nge in ow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4960" y="358020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sh settl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5016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what is the problem with merchanting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 the trade data for countries B &amp;C the exports and imports are inclu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ow do we treat the transactions in the accounts of Country A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85016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olution to this difficulty centred around the treatment for the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change of ownership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hange in ownership would normally require that we record exports from County B to Country 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cord exports from Country A to country 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5016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 algn="ctr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difficulty was simplified by imputing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hange in ownership involving the merchan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nd theref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cording the merchant’s margin as the net export of a service in Country 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cord the exports /imports of goods between B and 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lution agreed in BPM5/SNA’93 solved one problem and created ot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oods account does not add up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Difference between the value of imports and exports is the merchants surplu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corded under Service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838080" y="609480"/>
          <a:ext cx="830592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830592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429000" y="160020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152388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86000"/>
            <a:ext cx="25909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orter/se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286000"/>
            <a:ext cx="28195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er/bu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4419720"/>
            <a:ext cx="2895480" cy="99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rch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666880"/>
            <a:ext cx="1371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0880" y="17514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lue of exports =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4960" y="175140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lue of imports =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6120" y="563760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lue of services exports =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57:18Z</dcterms:created>
  <dc:creator>Michael Connolly</dc:creator>
  <dc:description/>
  <dc:language>en-US</dc:language>
  <cp:lastModifiedBy>Dimova</cp:lastModifiedBy>
  <cp:lastPrinted>2008-04-17T12:33:29Z</cp:lastPrinted>
  <dcterms:modified xsi:type="dcterms:W3CDTF">2008-04-17T16:21:29Z</dcterms:modified>
  <cp:revision>133</cp:revision>
  <dc:subject/>
  <dc:title>New Developments in National Accounts of Ireland </dc:title>
</cp:coreProperties>
</file>