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11C4E-D401-4DB2-A6AF-A69C9EDBB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E306-8F0B-4C06-8323-04456AC71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DF1B9-E2CF-4DA4-AA67-04A260D86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E9F99-5427-453E-BE38-ECBCEECF2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9B0C-275F-44D8-BA83-D5484E96F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B2A6-4893-4EC8-AAE9-B3EABCD7F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43902-EAA3-4D50-8DA2-2975682A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7FA2-07AD-4286-991C-71B810EE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D3A8F-9766-4EDC-A8EB-DB667254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EB577-DBF7-4FDE-8F50-78A0DD41B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8C50-F080-48FF-8337-BDFA829E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9909-EFAA-453F-BEC8-28CEF9073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A22E-75C3-4AA4-88F6-1DBD0A73AD0B}" type="slidenum">
              <a:rPr b="0"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24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800" spc="-1" strike="noStrike">
                <a:solidFill>
                  <a:srgbClr val="000000"/>
                </a:solidFill>
                <a:latin typeface="Agency FB"/>
              </a:rPr>
              <a:t>Business services statistics on physical persons (informal sector)</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gency FB"/>
              </a:rPr>
              <a:t>Virginia Balea (EU-expert)</a:t>
            </a:r>
            <a:endParaRPr b="0" lang="en-US" sz="3200" spc="-1" strike="noStrike">
              <a:solidFill>
                <a:srgbClr val="000000"/>
              </a:solidFill>
              <a:latin typeface="Arial"/>
            </a:endParaRPr>
          </a:p>
        </p:txBody>
      </p:sp>
      <p:pic>
        <p:nvPicPr>
          <p:cNvPr id="43" name="Sogeti_cmyk" descr=""/>
          <p:cNvPicPr/>
          <p:nvPr/>
        </p:nvPicPr>
        <p:blipFill>
          <a:blip r:embed="rId1"/>
          <a:stretch/>
        </p:blipFill>
        <p:spPr>
          <a:xfrm>
            <a:off x="7164360" y="333360"/>
            <a:ext cx="1765440" cy="382680"/>
          </a:xfrm>
          <a:prstGeom prst="rect">
            <a:avLst/>
          </a:prstGeom>
          <a:ln w="0">
            <a:noFill/>
          </a:ln>
        </p:spPr>
      </p:pic>
      <p:sp>
        <p:nvSpPr>
          <p:cNvPr id="44" name=""/>
          <p:cNvSpPr/>
          <p:nvPr/>
        </p:nvSpPr>
        <p:spPr>
          <a:xfrm>
            <a:off x="5543640" y="739800"/>
            <a:ext cx="3457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implemen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geti Luxembourg S.A.</a:t>
            </a:r>
            <a:endParaRPr b="0" lang="en-US" sz="1200" spc="-1" strike="noStrike">
              <a:solidFill>
                <a:srgbClr val="000000"/>
              </a:solidFill>
              <a:latin typeface="Arial"/>
            </a:endParaRPr>
          </a:p>
        </p:txBody>
      </p:sp>
      <p:pic>
        <p:nvPicPr>
          <p:cNvPr id="45" name="" descr=""/>
          <p:cNvPicPr/>
          <p:nvPr/>
        </p:nvPicPr>
        <p:blipFill>
          <a:blip r:embed="rId2"/>
          <a:stretch/>
        </p:blipFill>
        <p:spPr>
          <a:xfrm>
            <a:off x="250920" y="115920"/>
            <a:ext cx="860400" cy="571320"/>
          </a:xfrm>
          <a:prstGeom prst="rect">
            <a:avLst/>
          </a:prstGeom>
          <a:ln w="9360">
            <a:solidFill>
              <a:srgbClr val="ffffff"/>
            </a:solidFill>
            <a:miter/>
          </a:ln>
        </p:spPr>
      </p:pic>
      <p:sp>
        <p:nvSpPr>
          <p:cNvPr id="46" name=""/>
          <p:cNvSpPr/>
          <p:nvPr/>
        </p:nvSpPr>
        <p:spPr>
          <a:xfrm>
            <a:off x="142920" y="739800"/>
            <a:ext cx="180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funded by the European Union</a:t>
            </a:r>
            <a:endParaRPr b="0" lang="en-US" sz="1200" spc="-1" strike="noStrike">
              <a:solidFill>
                <a:srgbClr val="000000"/>
              </a:solidFill>
              <a:latin typeface="Arial"/>
            </a:endParaRPr>
          </a:p>
        </p:txBody>
      </p:sp>
      <p:sp>
        <p:nvSpPr>
          <p:cNvPr id="47" name=""/>
          <p:cNvSpPr/>
          <p:nvPr/>
        </p:nvSpPr>
        <p:spPr>
          <a:xfrm>
            <a:off x="3348000" y="189000"/>
            <a:ext cx="2160720" cy="7038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genda item 1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MS PGothic"/>
              </a:rPr>
              <a:t>Paper no.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52A385-84CD-4F39-9E92-38CC6CA185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5" name="PlaceHolder 2"/>
          <p:cNvSpPr>
            <a:spLocks noGrp="1"/>
          </p:cNvSpPr>
          <p:nvPr>
            <p:ph type="subTitle"/>
          </p:nvPr>
        </p:nvSpPr>
        <p:spPr>
          <a:xfrm>
            <a:off x="684000" y="1412640"/>
            <a:ext cx="755964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number of lessons have been learnt from the available survey experience, which can be used to derive certain measures that are likely to be useful in order to reduce non-sampling errors and improve the quality of informal sector survey data</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replacement by other units should be avoided as it is likely to bias the survey results; in order to compensate for non-contacts, it would be better to select a larger sample at the outset.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nother useful mean of increasing contact rates, as well as the quality of the data obtained, is to interview, to the extent possible, those informal sector entrepreneurs, who conduct their business in fixed locations outside their home, at their actual place of work rather than the place of residence of their household</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Most informal sector entrepreneurs have a low level of education and do not keep (usable) written records of their activities</a:t>
            </a:r>
            <a:r>
              <a:rPr b="0" lang="ro-RO" sz="1800" spc="-1" strike="noStrike">
                <a:solidFill>
                  <a:srgbClr val="000000"/>
                </a:solidFill>
                <a:latin typeface="Agency FB"/>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E72286-8B92-4CF5-ACD8-A9FC2EACF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7" name="PlaceHolder 2"/>
          <p:cNvSpPr>
            <a:spLocks noGrp="1"/>
          </p:cNvSpPr>
          <p:nvPr>
            <p:ph type="subTitle"/>
          </p:nvPr>
        </p:nvSpPr>
        <p:spPr>
          <a:xfrm>
            <a:off x="539640" y="1412640"/>
            <a:ext cx="8064720" cy="4608360"/>
          </a:xfrm>
          <a:prstGeom prst="rect">
            <a:avLst/>
          </a:prstGeom>
          <a:noFill/>
          <a:ln w="0">
            <a:noFill/>
          </a:ln>
        </p:spPr>
        <p:txBody>
          <a:bodyPr lIns="90000" rIns="90000" tIns="46800" bIns="46800" anchor="t">
            <a:noAutofit/>
          </a:bodyPr>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gency FB"/>
              </a:rPr>
              <a:t>Data quality aspects</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advance information of respondents regarding the survey and its purpose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a formal assurance of confidentiality of the data provided;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choice of the date, time and place of the interviews in consultation with the respondents themselve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training and supervision of interviewer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establishment of good human relations between interviewers and respondents; design of survey questionnaires which are manageable in the field in terms of content and length, and which are easy to follow and complete by interviewer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second visits to respondents, if necessary;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formulation of questions in a way which is understandable for respondents, and which refers to their specific situation and the nature of their activitie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and use of short reference periods which enable respondents to provide the required information with sufficient accurac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25A6D0-31CF-47B7-8967-3122F756F8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9"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609480" algn="just">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In most circumstances, the maximum length of the reference period will be one month; in some cases, one may even have to use a shorter reference period, such as one week or one day. </a:t>
            </a:r>
            <a:endParaRPr b="0" lang="en-US" sz="2000" spc="-1" strike="noStrike">
              <a:solidFill>
                <a:srgbClr val="000000"/>
              </a:solidFill>
              <a:latin typeface="Arial"/>
            </a:endParaRPr>
          </a:p>
          <a:p>
            <a:pPr marL="609480" indent="-609480" algn="just">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If respondents are given the possibility to choose the reference period for which they can best provide the requested data, auxiliary information has to be collected which will make it possible to convert the data obtained to a standard reference period</a:t>
            </a:r>
            <a:endParaRPr b="0" lang="en-US" sz="20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Many informal sector activities are subject to seasonal and other variations over time; hence the question arises of how to capture such variations, and to estimate annual values as needed for national accounting and other purposes, through an informal sector survey</a:t>
            </a:r>
            <a:r>
              <a:rPr b="0" lang="ro-RO" sz="1800" spc="-1" strike="noStrike">
                <a:solidFill>
                  <a:srgbClr val="000000"/>
                </a:solidFill>
                <a:latin typeface="Agency FB"/>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366686-3230-4E0F-ADC6-ECA0489F7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71" name="PlaceHolder 2"/>
          <p:cNvSpPr>
            <a:spLocks noGrp="1"/>
          </p:cNvSpPr>
          <p:nvPr>
            <p:ph type="subTitle"/>
          </p:nvPr>
        </p:nvSpPr>
        <p:spPr>
          <a:xfrm>
            <a:off x="539640" y="1412640"/>
            <a:ext cx="8136000" cy="460836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609480" algn="just">
              <a:lnSpc>
                <a:spcPct val="8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For various reasons (including the lack of human and financial resources) it is often not possible to capture seasonal and other variations in informal sector activities at the aggregate level as described above. In such situations, one possible way of measuring variations and of estimating annual values is measurement at the individual level, through data collection in respect of short reference periods supplemented with questions on the intensity of business activity during each month of the year and on the average level of receipts/profits in months of high/low business activity as a percentage of the average level of receipts/profits in months of normal business activity</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Once the data of an informal sector survey have been collected, they need to be edited thoroughly in order to remove inconsistencies, correct implausible data, and impute missing values. A sufficient amount of time and resources should be allocated for these activities. It is also important to compare the data obtained from the survey with data from other sources, and to make benchmark adjustments to the survey data, if necessary</a:t>
            </a:r>
            <a:r>
              <a:rPr b="0" lang="ro-RO" sz="2000" spc="-1" strike="noStrike">
                <a:solidFill>
                  <a:srgbClr val="000000"/>
                </a:solidFill>
                <a:latin typeface="Agency FB"/>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6B5563F-AEB4-4ECF-A59C-284DC9191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73"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gency FB"/>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gency FB"/>
              </a:rPr>
              <a:t>Thank you for your atten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B2436A-CFFA-4A67-848A-6A96926D916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49"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Content </a:t>
            </a:r>
            <a:endParaRPr b="0" lang="en-US" sz="1800" spc="-1" strike="noStrike">
              <a:solidFill>
                <a:srgbClr val="000000"/>
              </a:solidFill>
              <a:latin typeface="Arial"/>
            </a:endParaRPr>
          </a:p>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Criteria for informal sector enterprise</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ACIS project</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Kyrgyzstan</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544D31-85C6-4626-A7A4-ECB037A894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1800" spc="-1" strike="noStrike">
                <a:solidFill>
                  <a:srgbClr val="000000"/>
                </a:solidFill>
                <a:latin typeface="Agency FB"/>
              </a:rPr>
              <a:t>Business services statistics on physical persons (informal sector)</a:t>
            </a:r>
            <a:endParaRPr b="0" lang="en-US" sz="1800" spc="-1" strike="noStrike">
              <a:solidFill>
                <a:srgbClr val="000000"/>
              </a:solidFill>
              <a:latin typeface="Arial"/>
            </a:endParaRPr>
          </a:p>
        </p:txBody>
      </p:sp>
      <p:sp>
        <p:nvSpPr>
          <p:cNvPr id="51"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Criteria for informal sector enterprises are as follows:</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Private unincorporated enterprise, i.e. enterprises owned by individuals or households that are not constituted as separate legal entities independently of their owners, and for which no complete accounts are available that would permit a financial separation of the production activities of the enterprises from the other activities of its owner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ll or at least one of the goods or services produced are meant for sale or barter transaction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ir size in terms of employment is below a certain threshold to be determined according to national circumstances and/ or not registered under specific form of national legislation and/or their employees are not registered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nvolved with non- agricultural sector, including secondary non-agricultural activities of enterprises in the agricultural sector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DC8CE9-C4C2-4B43-8A0B-53BFA84643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3" name="PlaceHolder 2"/>
          <p:cNvSpPr>
            <a:spLocks noGrp="1"/>
          </p:cNvSpPr>
          <p:nvPr>
            <p:ph type="subTitle"/>
          </p:nvPr>
        </p:nvSpPr>
        <p:spPr>
          <a:xfrm>
            <a:off x="610920" y="1412640"/>
            <a:ext cx="8064360" cy="4608360"/>
          </a:xfrm>
          <a:prstGeom prst="rect">
            <a:avLst/>
          </a:prstGeom>
          <a:noFill/>
          <a:ln w="0">
            <a:noFill/>
          </a:ln>
        </p:spPr>
        <p:txBody>
          <a:bodyPr lIns="90000" rIns="90000" tIns="46800" bIns="46800" anchor="t">
            <a:noAutofit/>
          </a:bodyPr>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informal sector encompasses a variety of activities with different modes of operation hence the number of informal sector units to be surveyed is large in many countries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se units are often characterised by features which make their statistical measurement difficult and which are likely to affect the quality of the data obtained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Features: small size, high mobility and turnover, seasonal variations in business activity, clustering in specific areas, lack of recognisable features for identification/location, lack of usable business records, possible reluctance to survey participation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Various methods of surveying the informal sector rather than one single method only.</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most appropriate method always depends upon the measurement objectives pursued, which are determined by the data requirements of each country.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combination of survey methods can be useful for the development of a comprehensive programme of informal sector data collection. </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22FBF6-7812-4E94-8221-C2D34D689E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5"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ACIS project</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wo statistical offices from Central Asian Countries took part in the TACIS 9 project within this project refers to informal sector (business services statistics on physical persons)</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Kyrgyzstan and Turkmenistan</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Many similar approaches on both countries concerning the legislation on physical persons. Physical persons are registered by tax inspections</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Some patents or licences are needed for their activit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DCF360-22FC-42AE-9C52-7E6567DA2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7"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Kyrgyzstan</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o improve statistical observation of services, the NSC Department of Consumer Market and Services Statistics has implemented a pilot survey of individual entrepreneurs providing computer services (GKED codes 72.30.0 and 72.40.0) including computer games, data communications, telematics, and other services</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survey covered the whole territory of the Republic (seven regions and the cities of Bishkek and Osh).</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questionnaire of the pilot survey on individual entrepreneurs (natural persons), providing computer services comprises, beside the amount of services expressed in money terms, questions about availability of office equipment owned by individual entrepreneu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CD6EE6-E3FA-471D-B355-F136BAC81A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9"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questionnaire has been drafted and it includes about 20 questions. The aim is to collect data referring to type of activity carried out by the physical persons, number of seats and area of the site, location, size of labour force, incomes, expenditures, number of clien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similar questionnaire was drafted and is be used for small enterprises that perform the same activitie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t was agreed that the pilot survey will cover physical persons and small enterprises having as main or secondary activity such as restaurants, bars or canteens (NACE groups 553, 554, 555)</a:t>
            </a:r>
            <a:r>
              <a:rPr b="0" lang="ro-RO" sz="1800" spc="-1" strike="noStrike">
                <a:solidFill>
                  <a:srgbClr val="000000"/>
                </a:solidFill>
                <a:latin typeface="Agency FB"/>
              </a:rPr>
              <a:t>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sample included the small enterprises and physical persons located in Ashgabat and Ahal regions</a:t>
            </a:r>
            <a:r>
              <a:rPr b="0" lang="ro-RO" sz="1800" spc="-1" strike="noStrike">
                <a:solidFill>
                  <a:srgbClr val="000000"/>
                </a:solidFill>
                <a:latin typeface="Agency FB"/>
              </a:rPr>
              <a:t> </a:t>
            </a:r>
            <a:endParaRPr b="0" lang="en-US" sz="1800" spc="-1" strike="noStrike">
              <a:solidFill>
                <a:srgbClr val="000000"/>
              </a:solidFill>
              <a:latin typeface="Arial"/>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DD832A-2F22-4422-904B-572E9F215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1"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structure of the questionnaires consist of the following:</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nformation about the owner of the patent for physical persons and identification information (both for physical persons and small enterprise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legal statu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ype of activity, information about main and secondary activity,</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size of business (area of site and number of sea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place where is situated the site and owner of the place,</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number of waiters and cooker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verage number of hour worke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2D825E-E9FA-4C12-B6AF-897253462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3"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ype of providers for the good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revenues’ breakdown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expenditures’ breakdown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breakdown of the turnover by type of products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verage cost per portion,</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verage of gross margin,</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number of clien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nformation about dynamics of revenues and causes</a:t>
            </a:r>
            <a:r>
              <a:rPr b="0" lang="ro-RO" sz="1800" spc="-1" strike="noStrike">
                <a:solidFill>
                  <a:srgbClr val="000000"/>
                </a:solidFill>
                <a:latin typeface="Agency FB"/>
              </a:rPr>
              <a:t> </a:t>
            </a:r>
            <a:r>
              <a:rPr b="0" lang="en-GB" sz="1800" spc="-1" strike="noStrike">
                <a:solidFill>
                  <a:srgbClr val="000000"/>
                </a:solidFill>
                <a:latin typeface="Agency FB"/>
              </a:rPr>
              <a:t> </a:t>
            </a:r>
            <a:endParaRPr b="0" lang="en-US" sz="18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40FBE7-FF98-4DBA-BF92-06C5210AB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8T13:55:18Z</dcterms:created>
  <dc:creator>Virginia</dc:creator>
  <dc:description/>
  <dc:language>en-US</dc:language>
  <cp:lastModifiedBy>Istatkov</cp:lastModifiedBy>
  <dcterms:modified xsi:type="dcterms:W3CDTF">2008-04-17T08:11:49Z</dcterms:modified>
  <cp:revision>64</cp:revision>
  <dc:subject/>
  <dc:title>Statistics </dc:title>
</cp:coreProperties>
</file>