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55C-78FE-4A9E-9041-2857ABE2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6D3-7311-4BA2-BAD6-45B614B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E09-3C09-4656-9808-C0CFF4D6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D3F-3920-4462-BE5E-277D2322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3B5-ECB8-4A54-A189-AB32B94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ECF-BB87-435E-9394-C3F7DDF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504-C6B0-4C5D-81E7-10EBA04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63E-0EF2-40A4-8900-8614FEBB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4B2-7B3C-4CD2-9308-6B60705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6FC-BF4B-4DAA-8ADF-29973C0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748-F974-49B3-97FF-48D5022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9F7-C1D5-4E3B-8BF8-E25B913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7D3-56D2-4D6D-97F0-FA63741A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CONOMIC COMMISSION FOR EUROPE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ONFERENCE OF EUROPEAN STATISTICIANS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oint UNECE/Eurostat/OECD Meeting on National Accounts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Ninth Meeting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eneva, 21-24 April 2008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060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EASURING THE NON-OBSERVED ECONOMY IN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LLEGAL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STIMATING THE ILLEGAL ECONOMIC ACTIVITIES IN THE NATIONAL ACCOUNTS OF UKRAIN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KSIY. O. MOSK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TATISTICS COMMITTEE OF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ституции составляет 0,26% ВВ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1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нистерство внутренних д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ческие д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ные С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ственные пред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2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количества наркоманов по видам потребляемых наркот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я по нормам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потребления домашних хозяйств на основе количества наркоманов, дозы наркотиков потребляемой в течение года и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3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 = торговая наценка на продажи наркотиков + производство наркотиков на территории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потребления домашних хозяй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4.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о и импорт оцениваются на основе анализа отдельных видов наркотиков и возможного места их изготовления (внутренние или импор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5. Производство и распространение наркот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изводства и распространения наркотиков составляет 0,11% ВВ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. 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орт и эк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ные тамож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ческие д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ственные предполо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мость контрабандных товаров оценивается на основании стоимости изъятых товаров и собственных предположений (% выяв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по видам товаров: автомобили, промышленные товары (табак, алкоголь) и дру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и дополняются информацией по нелегальному экспорту алкоголя и табака, а также импорту наркот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Типы ненаблюдаемой эконом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815000"/>
        </p:xfrm>
        <a:graphic>
          <a:graphicData uri="http://schemas.openxmlformats.org/drawingml/2006/table">
            <a:tbl>
              <a:tblPr/>
              <a:tblGrid>
                <a:gridCol w="888840"/>
                <a:gridCol w="868680"/>
                <a:gridCol w="873000"/>
                <a:gridCol w="1047600"/>
                <a:gridCol w="1468440"/>
                <a:gridCol w="1027080"/>
                <a:gridCol w="1028880"/>
                <a:gridCol w="1027080"/>
              </a:tblGrid>
              <a:tr h="581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блюдаемая эконом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ева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-фор-маль-на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е-галь-на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-чие ви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е 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т-в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-сут-ствие в  реес-т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-вида-ция пред-прия-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а-жение отч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ышлен-ная нерегист-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 = торговая на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контрабанды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труда оценивается как % от валовой добавленной стоим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.Контрабанда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контрабанды составляет 0,68% ВВ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ата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ие данные (статистика производства, статистика внешней торговли, обследование условий жизни домашних хозяйст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ственные предположения (реальный уровень потребления алкогольных напит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ется балансировка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ск + импорт = экспорт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по 4 видам алкогольных напитков в натуральном вы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баланс распре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анижение отчет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оизводство для собственного использования домашних 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легальное производство алког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нелегального экспо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Незаконное производство алкогольных напи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нелегального производства алкоголя составляет 1,13% ВВ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.Итоги по типам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производственный мет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046400"/>
        </p:xfrm>
        <a:graphic>
          <a:graphicData uri="http://schemas.openxmlformats.org/drawingml/2006/table">
            <a:tbl>
              <a:tblPr/>
              <a:tblGrid>
                <a:gridCol w="1954080"/>
                <a:gridCol w="1081080"/>
                <a:gridCol w="1008360"/>
                <a:gridCol w="1008000"/>
                <a:gridCol w="1224000"/>
                <a:gridCol w="1079280"/>
                <a:gridCol w="874800"/>
              </a:tblGrid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-титу-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-коти-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-тра-бан-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-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-чное потре-б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.Итоги по типам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метод конечного использ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1666800"/>
                <a:gridCol w="1152720"/>
                <a:gridCol w="1150920"/>
                <a:gridCol w="1008000"/>
                <a:gridCol w="1152360"/>
                <a:gridCol w="1113120"/>
                <a:gridCol w="9856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-титу-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-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-раба-н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-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ле-ние домохозяй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.Итоги по отрас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2409840"/>
                <a:gridCol w="1326960"/>
                <a:gridCol w="1122480"/>
                <a:gridCol w="1225440"/>
                <a:gridCol w="1270080"/>
                <a:gridCol w="874800"/>
              </a:tblGrid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-мышле-нно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говл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услуг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ое потребле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. Ненаблюдаемая экономика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 отрасл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08440"/>
        </p:xfrm>
        <a:graphic>
          <a:graphicData uri="http://schemas.openxmlformats.org/drawingml/2006/table">
            <a:tbl>
              <a:tblPr/>
              <a:tblGrid>
                <a:gridCol w="3178080"/>
                <a:gridCol w="865440"/>
                <a:gridCol w="863280"/>
                <a:gridCol w="863640"/>
                <a:gridCol w="792360"/>
                <a:gridCol w="865080"/>
                <a:gridCol w="801720"/>
              </a:tblGrid>
              <a:tr h="72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иды деятельности 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002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3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ельское хозяйство (A,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мышл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(C, D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троительство (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орговля (G,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ранспорт и связь (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чие виды экономической деятельности (J-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Всего в % к ВВ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. Нелегальные виды деятельности, оценки которых планируется производить в дальней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аконная медицинская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конье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о и торговля неавторизованными копиями художественных произведений; программным обеспечением, запис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ля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ывани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3. Ненаблюдаемая экономика по типа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002120"/>
        </p:xfrm>
        <a:graphic>
          <a:graphicData uri="http://schemas.openxmlformats.org/drawingml/2006/table">
            <a:tbl>
              <a:tblPr/>
              <a:tblGrid>
                <a:gridCol w="984240"/>
                <a:gridCol w="2122560"/>
                <a:gridCol w="2232000"/>
                <a:gridCol w="2016000"/>
                <a:gridCol w="874800"/>
              </a:tblGrid>
              <a:tr h="1313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атист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ормальная и прочие 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;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4. Основные виды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елегальной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Украин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ститу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изводство и распространение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траб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законное производство алк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межуточное потребл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валовая добавленная стоимос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отребление домашних хозяйст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истерство внутренних д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тистические д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ные С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ственные пред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количества простит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ределение количества проституток по типам оказан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количества предоставлен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стоимости усл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Проститу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счетов (продолже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промежуточного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орт оценивается на основе количества граждан Украины, работающих за границей и удельного веса проституток в населении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орт не оценивается в связи с его малой значим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07:09Z</dcterms:created>
  <dc:creator>Москвін О.О.</dc:creator>
  <dc:description/>
  <dc:language>en-US</dc:language>
  <cp:lastModifiedBy>Istatkov</cp:lastModifiedBy>
  <dcterms:modified xsi:type="dcterms:W3CDTF">2008-04-21T07:18:10Z</dcterms:modified>
  <cp:revision>7</cp:revision>
  <dc:subject/>
  <dc:title>Слайд 1</dc:title>
</cp:coreProperties>
</file>