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390-27E4-476F-BB8E-721F1F08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999-2458-4C81-B3D0-51DC3181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651-5B61-478C-8D46-83970D21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A85-36A9-4037-B077-89373C32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C7F-E4C1-4249-B045-FC3C6F21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513-BBD5-48EC-8E0B-F65B5E96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5DA-DA44-4513-8225-B1EDA632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BE0-5E12-4032-A44A-7490F9F9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114-D1DF-4840-9B40-16AED5E5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C34-09F0-4EA4-89E3-C735398A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9AD-891C-4B93-BBF3-98BEC6E4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C62-5ABB-4EC0-81B9-5ED5E1E3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6D11-6EA3-410E-97B2-86803BCB1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CONOMIC COMMISSION FOR EUROPE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ONFERENCE OF EUROPEAN STATISTICIANS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Joint UNECE/Eurostat/OECD Meeting on National Accounts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Ninth Meeting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Geneva, 21-24 April 2008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206064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EASURING THE NON-OBSERVED ECONOMY IN NATIONAL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LLEGAL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ESTIMATING THE ILLEGAL ECONOMIC ACTIVITIES IN THE NATIONAL ACCOUNTS OF UKRAIN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KSIY. O. MOSK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STATISTICS COMMITTEE OF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Проститу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ловая добавленная стоимость, созданная в сфере проституции составляет 0,26% ВВ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0.Производство и распространение наркотик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ка операц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ежуточное потреб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овая добавленная сто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ла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ление домашних хозя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пор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1.Производство и распространение наркотик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точники данных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инистерство внутренних д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атистические да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анные С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ственные пред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2.Производство и распространение наркотик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количества наркоманов по видам потребляемых наркот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я по нормам потре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потребления домашних хозяйств на основе количества наркоманов, дозы наркотиков потребляемой в течение года и ц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3.Производство и распространение наркотик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счетов (продолжение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уск = торговая наценка на продажи наркотиков + производство наркотиков на территории Укра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рговая наценка определяется как % от потребления домашних хозяй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4.Производство и распространение наркотик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счетов (продолжение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одство и импорт оцениваются на основе анализа отдельных видов наркотиков и возможного места их изготовления (внутренние или импорт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межуточное потребление оценивается как процент от вы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5. Производство и распространение наркотик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ловая добавленная стоимость, созданная в сфере производства и распространения наркотиков составляет 0,11% ВВ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. Контрабанда тов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ценка операц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межуточное потреб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ловая добавленная сто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ата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ребление домашних хозя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порт и эк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7.Контрабанда тов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точники данных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анные тамож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атистические да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ственные предполож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.Контрабанда тов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имость контрабандных товаров оценивается на основании стоимости изъятых товаров и собственных предположений (% выявл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 по видам товаров: автомобили, промышленные товары (табак, алкоголь) и друг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и дополняются информацией по нелегальному экспорту алкоголя и табака, а также импорту наркот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Типы ненаблюдаемой эконом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815000"/>
        </p:xfrm>
        <a:graphic>
          <a:graphicData uri="http://schemas.openxmlformats.org/drawingml/2006/table">
            <a:tbl>
              <a:tblPr/>
              <a:tblGrid>
                <a:gridCol w="888840"/>
                <a:gridCol w="868680"/>
                <a:gridCol w="873000"/>
                <a:gridCol w="1047600"/>
                <a:gridCol w="1468440"/>
                <a:gridCol w="1027080"/>
                <a:gridCol w="1028880"/>
                <a:gridCol w="1027080"/>
              </a:tblGrid>
              <a:tr h="5814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блюдаемая эконом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нева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-фор-маль-на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ле-галь-на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-чие ви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ческие 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ие 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т-ве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-сут-ствие в  реес-тр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к-вида-ция пред-прия-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а-жение отч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ышлен-ная нерегист-р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.Контрабанда тов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счетов (продолжение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уск = торговая на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рговая наценка определяется как % от контрабанды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межуточное потребление оценивается как процент от вы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ата труда оценивается как % от валовой добавленной стоим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.Контрабанда тов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ловая добавленная стоимость, созданная в сфере контрабанды составляет 0,68% ВВ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.Незаконное производство алкогольных напи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ценка операц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межуточное потреб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ловая добавленная сто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ата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ребление домашних хозя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ор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.Незаконное производство алкогольных напи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точники данны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истические данные (статистика производства, статистика внешней торговли, обследование условий жизни домашних хозяйств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ственные предположения (реальный уровень потребления алкогольных напит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.Незаконное производство алкогольных напи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уется балансировка спроса и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уск + импорт = экспорт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ребление домашних хозя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по 4 видам алкогольных напитков в натуральном выра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.Незаконное производство алкогольных напи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баланс распределяетс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занижение отчет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роизводство для собственного использования домашних хозя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нелегальное производство алког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нелегального экспор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.Незаконное производство алкогольных напи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ловая добавленная стоимость, созданная в сфере нелегального производства алкоголя составляет 1,13% ВВ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6.Итоги по типам деятельност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производственный мет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046400"/>
        </p:xfrm>
        <a:graphic>
          <a:graphicData uri="http://schemas.openxmlformats.org/drawingml/2006/table">
            <a:tbl>
              <a:tblPr/>
              <a:tblGrid>
                <a:gridCol w="1954080"/>
                <a:gridCol w="1081080"/>
                <a:gridCol w="1008360"/>
                <a:gridCol w="1008000"/>
                <a:gridCol w="1224000"/>
                <a:gridCol w="1079280"/>
                <a:gridCol w="874800"/>
              </a:tblGrid>
              <a:tr h="18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-титу-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-коти-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-тра-бан-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-г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 ВВ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жуто-чное потре-б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.Итоги по типам деятельност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метод конечного использов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492800"/>
        </p:xfrm>
        <a:graphic>
          <a:graphicData uri="http://schemas.openxmlformats.org/drawingml/2006/table">
            <a:tbl>
              <a:tblPr/>
              <a:tblGrid>
                <a:gridCol w="1666800"/>
                <a:gridCol w="1152720"/>
                <a:gridCol w="1150920"/>
                <a:gridCol w="1008000"/>
                <a:gridCol w="1152360"/>
                <a:gridCol w="1113120"/>
                <a:gridCol w="98568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-титу-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ко-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-раба-н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-г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 ВВ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ле-ние домохозяйст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ор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ор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.Итоги по отрас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2409840"/>
                <a:gridCol w="1326960"/>
                <a:gridCol w="1122480"/>
                <a:gridCol w="1225440"/>
                <a:gridCol w="1270080"/>
                <a:gridCol w="874800"/>
              </a:tblGrid>
              <a:tr h="16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-мышле-нност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-говл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услуг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 ВВП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57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38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4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жуточное потреблени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8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1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8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9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5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. Ненаблюдаемая экономика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о отрасля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708440"/>
        </p:xfrm>
        <a:graphic>
          <a:graphicData uri="http://schemas.openxmlformats.org/drawingml/2006/table">
            <a:tbl>
              <a:tblPr/>
              <a:tblGrid>
                <a:gridCol w="3178080"/>
                <a:gridCol w="865440"/>
                <a:gridCol w="863280"/>
                <a:gridCol w="863640"/>
                <a:gridCol w="792360"/>
                <a:gridCol w="865080"/>
                <a:gridCol w="801720"/>
              </a:tblGrid>
              <a:tr h="72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иды деятельности N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002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3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ельское хозяйство (A,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омышле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(C, D,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троительство (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орговля (G, 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ранспорт и связь (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очие виды экономической деятельности (J- 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Всего в % к ВВ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. Нелегальные виды деятельности, оценки которых планируется производить в дальнейш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законная медицинская пр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аконье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одство и торговля неавторизованными копиями художественных произведений; программным обеспечением, запис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рговля лю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мывание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3. Ненаблюдаемая экономика по типа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002120"/>
        </p:xfrm>
        <a:graphic>
          <a:graphicData uri="http://schemas.openxmlformats.org/drawingml/2006/table">
            <a:tbl>
              <a:tblPr/>
              <a:tblGrid>
                <a:gridCol w="984240"/>
                <a:gridCol w="2122560"/>
                <a:gridCol w="2232000"/>
                <a:gridCol w="2016000"/>
                <a:gridCol w="874800"/>
              </a:tblGrid>
              <a:tr h="13136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атистическим причи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ономическим причи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формальная и прочие 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;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4. Основные виды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елегальной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Украин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ститу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изводство и распространение наркот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траб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законное производство алког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Проститу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Оценка операций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межуточное потреблен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валовая добавленная стоимост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отребление домашних хозяйст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экспор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Проститу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чники данных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нистерство внутренних д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тистические да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нные С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бственные пред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.Проститу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количества простит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ределение количества проституток по типам оказанных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количества предоставленных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стоимости услу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Проститу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счетов (продолжение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промежуточного потре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орт оценивается на основе количества граждан Украины, работающих за границей и удельного веса проституток в населении Укра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порт не оценивается в связи с его малой значим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3:07:09Z</dcterms:created>
  <dc:creator>Москвін О.О.</dc:creator>
  <dc:description/>
  <dc:language>en-US</dc:language>
  <cp:lastModifiedBy>Istatkov</cp:lastModifiedBy>
  <dcterms:modified xsi:type="dcterms:W3CDTF">2008-04-21T07:18:10Z</dcterms:modified>
  <cp:revision>7</cp:revision>
  <dc:subject/>
  <dc:title>Слайд 1</dc:title>
</cp:coreProperties>
</file>