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35C-3B87-4268-9687-83F8F32B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652-337A-40D6-B5A9-872B472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3DE-C5AB-4806-B39A-70691124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239-123F-45E5-9869-C08B059E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C57-DB1A-473E-9F44-E641DC82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686-2171-4084-A634-EA54E710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6DE-72CF-4012-990A-DA57113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6B0-2E7D-48E2-8174-2408637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758-EAE9-46C8-80E2-40B3FF0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AB2-9B9A-438D-9466-5E43377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CA2-A572-4E02-8E1C-81C40E7D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6C9-1AEA-458A-875C-022AEBE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B50-3C52-4AE0-9428-6C9F75F3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CONOMIC COMMISSION FOR EUROPE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ONFERENCE OF EUROPEAN STATISTICIANS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Joint UNECE/Eurostat/OECD Meeting on National Accounts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inth Meeting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Geneva, 21-24 April 2008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EASURING THE NON-OBSERVED ECONOMY IN NATION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LLEGAL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STIMATING THE ILLEGAL ECONOMIC ACTIVITIES IN THE NATIONAL ACCOUNTS OF UKRAINE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KSIY. O. MOSK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TATISTICS COMMITTEE OF 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ституции составляет 0,26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prostitutes services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2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0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уда, потребление домашних хозяйств, им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consumption, GVA, compensation of employees, households' consumption and im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1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инистерство внутренних дел, статистические данные, данные СМИ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stry of Interior Affair, statistical  sources, mass media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2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наркоманов по видам потребляемых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я по нормам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ления домашних хозяйств на основе количества наркоманов, дозы наркотиков потребляемой в течение года и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ddict by kind of users (15 grou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norm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' consumption estimated on the basis of number of addicts, norms of drug consumption during the year and pric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3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 = торговая наценка на продажи наркотиков + производство наркотиков на территории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потребления домашних хозя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= trade margin on sales of drugs + value of produced drugs in domestic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margin calculated as a % of households'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4.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ство и импорт оцениваются на основе анализа отдельных видов наркотиков и возможного места их изготовления (внутренние или импор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and imports established on the basis of analysis of particular kinds of drugs and possible place of their origin (domestic or impor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estim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5. Производство и распространение наркотиков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ion and distributi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производства и распространения наркотиков составляет 0,11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drugs production and distribution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. 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а труда, потребление домашних хозяйств, импорт и эк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intermediate consumption, GVA, compensation of employees, households' consump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анные таможни, статистические данные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stom authorities, statistical  sources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мость контрабандных товаров оценивается на основании стоимости реквизированных товаров и собственных предположений о % лате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по видам товаров: автомобили, промышленные товары (табак, алкоголь) 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и дополняются информацией по нелегальному производству алкоголя и нелегальному экспорту табака и импорту наркот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smuggling goods estimated on the basis of value of seizure goods and own assumption on % of seiz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by types of products: cars, industrial goods (tobacco, alcohol)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completed by information on illegal production of alcohol and illegal exports of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. Ненаблюдаемая экономика Украины по типам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on-Observed Economy in Ukraine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невая экономика по статистическим причинам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istical undergroun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1: непредставление отчетност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survey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2: неактуальная информация реест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date 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егистрац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 due to reasons other than deliberate non-registr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невая экономика по экономическим причинам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conomic undergroun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ажени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ы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reporting of p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ышленна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егистрац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ally not registe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формальный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тор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rmal sector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регистрированны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законные виды деятельности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legal productio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7: незарегистрированные единицы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ed unit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чие виды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8: Прочие виды ненаблюдаемой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ypes of undercovara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ск = торговая на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говая наценка определяется как % от контрабанды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ое потребление оценивается как процент от вы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лата труда оценивается как % от валовой добавленной сто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= trade mar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margin calcul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calculated as a %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 of employees estimated as a % of G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.Контрабанда товаров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ggling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контрабанды составляет 0,68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smuggling of goods contribut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а операций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ск, промежуточное потребление, валовая добавленная стоимость, оплата труда, потребление домашних хозяйств и эк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estimate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, intermediate consumption, GVA, compensation of employees, households' consumption and expor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и 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атистические данные (статистика производства, статистика внешней торговли, обследование условий жизни домашних хозяйств) и собственные пред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istical  sources (production statistics, foreign trade statistics and Households Budget Survey) and own assumptio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балансировка спроса и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+импорт = экспорт + потребление домашних хозя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по 4 видам алкогольных напитков в натуральном выра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and use approach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+ imports = exports + households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 made by 4 kind of alcohol products in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баланс распределя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нижение отчет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оизводство для собственного использования домашних хозя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легальное производство алк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нелегального экс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alancing item alloc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derreporting of data in regula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ction for own final use by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legal production of alcohol be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exports estim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.Незаконное производство алкогольных напитк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egal production of alcohol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овая добавленная стоимость, созданная в сфере нелегального производства алкоголя составляет 1,13% ВВ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created by illegal production of alcohol contributed  1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.Итоги по типам деятельности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1008360"/>
                <a:gridCol w="1008000"/>
                <a:gridCol w="1224000"/>
                <a:gridCol w="968400"/>
                <a:gridCol w="9856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-ту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-бан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галь-ный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mediate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on ap.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.Итоги по типам деятельности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941720"/>
        </p:xfrm>
        <a:graphic>
          <a:graphicData uri="http://schemas.openxmlformats.org/drawingml/2006/table">
            <a:tbl>
              <a:tblPr/>
              <a:tblGrid>
                <a:gridCol w="1954080"/>
                <a:gridCol w="1081080"/>
                <a:gridCol w="935280"/>
                <a:gridCol w="1008000"/>
                <a:gridCol w="1297080"/>
                <a:gridCol w="968400"/>
                <a:gridCol w="9856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-ту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-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-бан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егальный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ое потребление домашних хозяй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of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m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.Итоги по отраслям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2409120"/>
                <a:gridCol w="1327680"/>
                <a:gridCol w="1122840"/>
                <a:gridCol w="1225440"/>
                <a:gridCol w="1123200"/>
                <a:gridCol w="1021320"/>
              </a:tblGrid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ое потреб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mediate consum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75564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. Ненаблюдаемая экономика в ВВП по отраслям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on-Observed Economy in GDP by se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3467160"/>
                <a:gridCol w="718920"/>
                <a:gridCol w="720720"/>
                <a:gridCol w="863640"/>
                <a:gridCol w="792360"/>
                <a:gridCol w="865080"/>
                <a:gridCol w="801720"/>
              </a:tblGrid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иды деятельности 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2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3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ельское хозяйство (A,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мышленность (C, D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троительство (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орговля (G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ранспорт и связь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очие виды экономической деятельности (J-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Всего в % к ВВ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. Оценки для дальнейшей работ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estimation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50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b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ная медицинская 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licensed medical pract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конье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fishing, hunting, tree cu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и торговля неавторизованными копиями художественных произведений; программным обеспечением, запис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ing and trade in unauthorized copies of artistic originals; software, CDs and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чн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b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люд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in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ывание де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 laund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3. Ненаблюдаемая экономика в ВВП по типам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n-Observed Economy in GDP by typ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984960"/>
                <a:gridCol w="1805760"/>
                <a:gridCol w="1988280"/>
                <a:gridCol w="1745280"/>
                <a:gridCol w="1705320"/>
              </a:tblGrid>
              <a:tr h="1718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ист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причи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ормальная и прочие 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l and 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;Т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 .Оценки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легальной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timation of illegal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виды нелегальной деятельности в Украин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ctivities identified in Ukrain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иту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tit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и распространение наркот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 production and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б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ugg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конное производство алког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egal alcohol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операций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, промежуточное потребление, валовая добавленная стоимость, потребление домашних хозяйств, экспор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action estimated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, intermediate consumption, GVA, households' consumption and expor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данных: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истерство внутренних дел, статистические данные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СМИ и собственные пред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ources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ry of Interior Affair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 sources, mass medi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own assump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асче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простит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количества проституток по типам оказан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количества предоставлен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стоимост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s of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the number of pro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ting of number of prostitutes by types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Проститу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ромежуточного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орт оценивается на основе количества граждан Украины, работающих за границей и удельного веса проституток в населении Укра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порт не оценивается в связи с его малой значи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 - specific costs applied for each kind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estimated on the basis of numbers of Ukrainian citizen employed abroad and the share of prostitutes in population of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s not estimated because of their small importa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1:33Z</dcterms:created>
  <dc:creator>Москвін О.О.</dc:creator>
  <dc:description/>
  <dc:language>en-US</dc:language>
  <cp:lastModifiedBy>Istatkov</cp:lastModifiedBy>
  <dcterms:modified xsi:type="dcterms:W3CDTF">2008-04-21T09:03:17Z</dcterms:modified>
  <cp:revision>6</cp:revision>
  <dc:subject/>
  <dc:title>Влияние незаконной деятельности на ВВП </dc:title>
</cp:coreProperties>
</file>