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EC3-B0B6-4AEF-A706-2FBC8F39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E1B-81EE-4E52-8715-70FB3DB4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323-6E24-46C4-9AEC-9766B73E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AE0-6E34-42E3-BB61-FC8E2BAF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9A5-E207-45D6-B596-5BBE2669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7D1-0A71-4EF4-8B8E-499B5380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4CE-9273-4144-B7CF-E49FF0B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301-7885-4BBB-BA91-0EF3587B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F81-F0AB-4A6E-9567-FCAEB058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01B-6641-4269-9083-05B62153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B38-D83A-4CD6-8CA4-3858288E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C2B-3ECB-4990-8E28-C800C4F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4028-B2EE-452E-B46F-649864018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ECONOMIC COMMISSION FOR EUROPE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ONFERENCE OF EUROPEAN STATISTICIANS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Joint UNECE/Eurostat/OECD Meeting on National Accounts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Ninth Meeting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Geneva, 21-24 April 2008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EASURING THE NON-OBSERVED ECONOMY IN NATIONAL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LLEGAL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STIMATING THE ILLEGAL ECONOMIC ACTIVITIES IN THE NATIONAL ACCOUNTS OF UKRAINE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KSIY. O. MOSK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TATISTICS COMMITTEE OF 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.Проститу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проституции составляет 0,26% ВВ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dded created by prostitutes services contribute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0,26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0.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, промежуточное потребление, валовая добавленная стоимость, опл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уда, потребление домашних хозяйств, импо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estimat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consumption, GVA, compensation of employees, households' consumption and impor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1.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инистерство внутренних дел, статистические данные, данные СМИ и собственные предпо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ourc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stry of Interior Affair, statistical  sources, mass media and own assumptio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2.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количества наркоманов по видам потребляемых наркот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ция по нормам 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отребления домашних хозяйств на основе количества наркоманов, дозы наркотиков потребляемой в течение года и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eps of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addict by kind of users (15 grou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norms o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s' consumption estimated on the basis of number of addicts, norms of drug consumption during the year and pric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3.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уск = торговая наценка на продажи наркотиков + производство наркотиков на территории Укра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рговая наценка определяется как % от потребления домашних хозя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= trade margin on sales of drugs + value of produced drugs in domestic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margin calculated as a % of households'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4.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одство и импорт оцениваются на основе анализа отдельных видов наркотиков и возможного места их изготовления (внутренние или импор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ое потребление оценивается как процент от выпу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and imports established on the basis of analysis of particular kinds of drugs and possible place of their origin (domestic or impor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consumption estimated as a %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5. 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производства и распространения наркотиков составляет 0,11% ВВ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dded created by drugs production and distribution contribute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0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. Контрабанда товаров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uggling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уск, промежуточное потребление, валовая добавленная стоимость, оплата труда, потребление домашних хозяйств, импорт и экспо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estimat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, intermediate consumption, GVA, compensation of employees, households' consump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 and expor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7.Контрабанда товаров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uggling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анные таможни, статистические данные и собственные предпо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ourc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stom authorities, statistical  sources and own assumptio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8.Контрабанда товаров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uggling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имость контрабандных товаров оценивается на основании стоимости реквизированных товаров и собственных предположений о % латен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ка по видам товаров: автомобили, промышленные товары (табак, алкоголь) и друг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ки дополняются информацией по нелегальному производству алкоголя и нелегальному экспорту табака и импорту наркот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ps of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smuggling goods estimated on the basis of value of seizure goods and own assumption on % of seiz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by types of products: cars, industrial goods (tobacco, alcohol)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completed by information on illegal production of alcohol and illegal exports of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. Ненаблюдаемая экономика Украины по типам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on-Observed Economy in Ukraine by type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невая экономика по статистическим причинам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istical undergroun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1: непредставление отчетност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survey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2: неактуальная информация реестр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of date regis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егистраци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gistered units due to reasons other than deliberate non-registr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невая экономика по экономическим причинам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conomic undergroun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ажени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ых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reporting of produ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ышленна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егистраци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ally not register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формальный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ктор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formal sector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регистрированны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ицы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gistered un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законные виды деятельности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legal productio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7: незарегистрированные единицы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gistered unit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чие виды 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8: Прочие виды ненаблюдаемой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ypes of undercovarag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.Контрабанда товаров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uggling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уск = торговая на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рговая наценка определяется как % от контрабанды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ое потребление оценивается как процент от выпу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лата труда оценивается как % от валовой добавленной стои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= trade mar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margin calculated as a %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consumption calculated as a %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ion of employees estimated as a % of G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.Контрабанда товаров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uggling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контрабанды составляет 0,68% ВВ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dded created by smuggling of goods contribute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0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.Незаконное производство алкогольных напитко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egal production of alcohol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уск, промежуточное потребление, валовая добавленная стоимость, оплата труда, потребление домашних хозяйств и экспо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estimate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, intermediate consumption, GVA, compensation of employees, households' consumption and expor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.Незаконное производство алкогольных напитко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egal production of alcohol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атистические данные (статистика производства, статистика внешней торговли, обследование условий жизни домашних хозяйств) и собственные предпо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ourc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istical  sources (production statistics, foreign trade statistics and Households Budget Survey) and own assumptio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.Незаконное производство алкогольных напитко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egal production of alcohol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балансировка спроса и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+импорт = экспорт + потребление домашних хозя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по 4 видам алкогольных напитков в натуральном выра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eps of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and use approach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+ imports = exports + households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tion made by 4 kind of alcohol products in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.Незаконное производство алкогольных напитко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egal production of alcohol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баланс распределя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занижение отчет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роизводство для собственного использования домашних хозя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елегальное производство алког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нелегального экспо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alancing item alloca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nderreporting of data in regula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duction for own final use by house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legal production of alcohol be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 exports estima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.Незаконное производство алкогольных напитко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egal production of alcohol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нелегального производства алкоголя составляет 1,13% ВВ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dded created by illegal production of alcohol contributed  1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.Итоги по типам деятельности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by type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86480"/>
        </p:xfrm>
        <a:graphic>
          <a:graphicData uri="http://schemas.openxmlformats.org/drawingml/2006/table">
            <a:tbl>
              <a:tblPr/>
              <a:tblGrid>
                <a:gridCol w="1954080"/>
                <a:gridCol w="1081080"/>
                <a:gridCol w="1008360"/>
                <a:gridCol w="1008000"/>
                <a:gridCol w="1224000"/>
                <a:gridCol w="968400"/>
                <a:gridCol w="9856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и-ту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tit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-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-бан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u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егаль-ный алко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egal 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чное потреб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mediate 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on ap.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.Итоги по типам деятельности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by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941720"/>
        </p:xfrm>
        <a:graphic>
          <a:graphicData uri="http://schemas.openxmlformats.org/drawingml/2006/table">
            <a:tbl>
              <a:tblPr/>
              <a:tblGrid>
                <a:gridCol w="1954080"/>
                <a:gridCol w="1081080"/>
                <a:gridCol w="935280"/>
                <a:gridCol w="1008000"/>
                <a:gridCol w="1297080"/>
                <a:gridCol w="968400"/>
                <a:gridCol w="9856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и-ту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tit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-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-бан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u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егальный алко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egal 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чное потребление домашних хозяй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consumption of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р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ор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m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.Итоги по отраслям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2409120"/>
                <a:gridCol w="1327680"/>
                <a:gridCol w="1122840"/>
                <a:gridCol w="1225440"/>
                <a:gridCol w="1123200"/>
                <a:gridCol w="1021320"/>
              </a:tblGrid>
              <a:tr h="16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factu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чное потреб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mediate consum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. Ненаблюдаемая экономика в ВВП по отраслям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on-Observed Economy in GDP by sec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349880"/>
        </p:xfrm>
        <a:graphic>
          <a:graphicData uri="http://schemas.openxmlformats.org/drawingml/2006/table">
            <a:tbl>
              <a:tblPr/>
              <a:tblGrid>
                <a:gridCol w="3467160"/>
                <a:gridCol w="718920"/>
                <a:gridCol w="720720"/>
                <a:gridCol w="863640"/>
                <a:gridCol w="792360"/>
                <a:gridCol w="865080"/>
                <a:gridCol w="801720"/>
              </a:tblGrid>
              <a:tr h="699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иды деятельности N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2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3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ельское хозяйство (A,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омышленность (C, D,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троительство (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орговля (G, 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ранспорт и связь (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очие виды экономической деятельности (J-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Всего в % к ВВ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. Оценки для дальнейшей работ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 estimation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50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bb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аконная медицинская пр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licensed medical pract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коньер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egal fishing, hunting, tree cu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и торговля неавторизованными копиями художественных произведений; программным обеспечением, запис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ing and trade in unauthorized copies of artistic originals; software, CDs and vid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чн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b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 люд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e in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ывание ден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 laund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3. Ненаблюдаемая экономика в ВВП по типам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on-Observed Economy in GDP by type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984960"/>
                <a:gridCol w="1805760"/>
                <a:gridCol w="1988280"/>
                <a:gridCol w="1745280"/>
                <a:gridCol w="1705320"/>
              </a:tblGrid>
              <a:tr h="17186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атистическим причи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under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ономическим причи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 under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ормальная и прочие 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l and 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;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 .Оценки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легальной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timation of illegal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виды нелегальной деятельности в Украин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egal activities identified in Ukrain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иту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tit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и распространение наркот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gs production and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б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ugg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аконное производство алког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egal alcohol 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Проститу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операций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, промежуточное потребление, валовая добавленная стоимость, потребление домашних хозяйств, экспор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action estimated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, intermediate consumption, GVA, households' consumption and expor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.Проститу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данных: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истерство внутренних дел, статистические данные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ые СМИ и собственные предпо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sources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ry of Interior Affair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 sources, mass media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own assump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.Проститу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количества простит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количества проституток по типам оказан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количества предоставлен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стоимости у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eps of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the number of pro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ting of number of prostitutes by types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.Проститу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ромежуточного 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порт оценивается на основе количества граждан Украины, работающих за границей и удельного веса проституток в населении Укра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порт не оценивается в связи с его малой значим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consumption - specific costs applied for each kind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estimated on the basis of numbers of Ukrainian citizen employed abroad and the share of prostitutes in population of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s not estimated because of their small importan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9:01:33Z</dcterms:created>
  <dc:creator>Москвін О.О.</dc:creator>
  <dc:description/>
  <dc:language>en-US</dc:language>
  <cp:lastModifiedBy>Istatkov</cp:lastModifiedBy>
  <dcterms:modified xsi:type="dcterms:W3CDTF">2008-04-21T09:03:17Z</dcterms:modified>
  <cp:revision>6</cp:revision>
  <dc:subject/>
  <dc:title>Влияние незаконной деятельности на ВВП </dc:title>
</cp:coreProperties>
</file>