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28A0B-033F-4324-B82A-6A75E0620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2352E-0E39-4AE7-8937-856E4CCD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B19C6-36BF-42DD-B448-63304E706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E62D-8F7B-4288-8C89-7D649C556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062C1-F9E5-4EF0-AEF4-164713ADB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C4684-3B06-4B4B-B060-81B257466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EF0CD-355F-4C13-BD98-D43354E47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0F3E5-1C10-42E1-BBDA-D77990F4C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D0A26-67FD-4664-B8AF-A90B2ECB7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3F642-DF5B-4EBF-B444-4CC6F1CCE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ADD3-8D57-497B-894C-C2EA04EAB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2B1B2-7B7A-47F8-B564-58E6990A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DA736-8902-4C0D-A09B-2413A3B27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752F6-2661-40AB-8D4D-B9C4F4C37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A63C8-809A-40F3-8269-272FF44D4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5BD0C-BCC2-48B5-8C2A-57069D774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EF836-C33F-4D2D-BD89-8524B4971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DD524-6525-4760-94AD-B7E3A5A4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FA67-9C88-413B-B099-4E04EED2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BE86-C551-42DB-84F3-A29BD6F85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72FB4-E2F1-4A8D-A8BA-EE0C7175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6457-2960-47D5-AB62-068ABD25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7E22-5C60-4AAA-8B01-7E1EDD59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C9410-EB81-4C35-A72D-309845C18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3EB3-B5A5-4756-8332-FA09A30D2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BCDA-706D-4C9D-A279-B2900410C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based on tax inspectors</a:t>
            </a:r>
            <a:br>
              <a:rPr sz="3600"/>
            </a:br>
            <a:r>
              <a:rPr b="1" lang="de-DE" sz="3600" spc="-1" strike="noStrike">
                <a:solidFill>
                  <a:srgbClr val="ffff00"/>
                </a:solidFill>
                <a:latin typeface="Arial"/>
              </a:rPr>
              <a:t>- Tajikistan -</a:t>
            </a:r>
            <a:endParaRPr b="0" lang="en-US" sz="3600" spc="-1" strike="noStrike">
              <a:solidFill>
                <a:srgbClr val="b7e7ff"/>
              </a:solidFill>
              <a:latin typeface="Arial"/>
            </a:endParaRPr>
          </a:p>
        </p:txBody>
      </p:sp>
      <p:sp>
        <p:nvSpPr>
          <p:cNvPr id="83" name="PlaceHolder 2"/>
          <p:cNvSpPr>
            <a:spLocks noGrp="1"/>
          </p:cNvSpPr>
          <p:nvPr>
            <p:ph type="subTitle"/>
          </p:nvPr>
        </p:nvSpPr>
        <p:spPr>
          <a:xfrm>
            <a:off x="1371600" y="3733920"/>
            <a:ext cx="6400800" cy="228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int UNECE/Eurostat/OECD Meeting on National Accounts and Working Group on the Impact of Globalisation on National Accounts (Geneva, 21-24 April 2008)</a:t>
            </a: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ders Nordin</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6705720" y="190440"/>
            <a:ext cx="2160360" cy="703800"/>
          </a:xfrm>
          <a:prstGeom prst="rect">
            <a:avLst/>
          </a:prstGeom>
          <a:noFill/>
          <a:ln w="12600">
            <a:solidFill>
              <a:srgbClr val="0000a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Agenda item 1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ea typeface="MS PGothic"/>
              </a:rPr>
              <a:t>Paper no. 7</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2A29CE75-F2C9-4E94-8D7F-56EC71EEAC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7280" y="60948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
          <p:cNvSpPr/>
          <p:nvPr/>
        </p:nvSpPr>
        <p:spPr>
          <a:xfrm>
            <a:off x="287280" y="2286000"/>
            <a:ext cx="8569440" cy="4383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otally 1277 tax inspectors in Tajikistan. Out of these a sample of 10% (128 inspectors) has been selected. The survey was conducted in four 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en-US" sz="3200" spc="-1" strike="noStrike">
                <a:solidFill>
                  <a:srgbClr val="ffff00"/>
                </a:solidFill>
                <a:latin typeface="Arial"/>
              </a:rPr>
              <a:t>	</a:t>
            </a:r>
            <a:r>
              <a:rPr b="1" lang="en-US" sz="3200" spc="-1" strike="noStrike">
                <a:solidFill>
                  <a:srgbClr val="ffff00"/>
                </a:solidFill>
                <a:latin typeface="Arial"/>
              </a:rPr>
              <a:t>Dushanbe (4 sub-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en-US" sz="3200" spc="-1" strike="noStrike">
                <a:solidFill>
                  <a:srgbClr val="ffff00"/>
                </a:solidFill>
                <a:latin typeface="Arial"/>
              </a:rPr>
              <a:t>	</a:t>
            </a:r>
            <a:r>
              <a:rPr b="1" lang="en-US" sz="3200" spc="-1" strike="noStrike">
                <a:solidFill>
                  <a:srgbClr val="ffff00"/>
                </a:solidFill>
                <a:latin typeface="Arial"/>
              </a:rPr>
              <a:t>Kurgantube</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en-US" sz="3200" spc="-1" strike="noStrike">
                <a:solidFill>
                  <a:srgbClr val="ffff00"/>
                </a:solidFill>
                <a:latin typeface="Arial"/>
              </a:rPr>
              <a:t>	</a:t>
            </a:r>
            <a:r>
              <a:rPr b="1" lang="en-US" sz="3200" spc="-1" strike="noStrike">
                <a:solidFill>
                  <a:srgbClr val="ffff00"/>
                </a:solidFill>
                <a:latin typeface="Arial"/>
              </a:rPr>
              <a:t>Tursunzade</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en-US" sz="3200" spc="-1" strike="noStrike">
                <a:solidFill>
                  <a:srgbClr val="ffff00"/>
                </a:solidFill>
                <a:latin typeface="Arial"/>
              </a:rPr>
              <a:t>	</a:t>
            </a:r>
            <a:r>
              <a:rPr b="1" lang="en-US" sz="3200" spc="-1" strike="noStrike">
                <a:solidFill>
                  <a:srgbClr val="ffff00"/>
                </a:solidFill>
                <a:latin typeface="Arial"/>
              </a:rPr>
              <a:t>Rudaki</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0B3EF46-2B49-467D-B008-E2CA052DC8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87280" y="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
          <p:cNvSpPr/>
          <p:nvPr/>
        </p:nvSpPr>
        <p:spPr>
          <a:xfrm>
            <a:off x="287280" y="1447920"/>
            <a:ext cx="8569440" cy="5149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ea typeface="Times New Roman"/>
              </a:rPr>
              <a:t>General questions in the survey:</a:t>
            </a:r>
            <a:endParaRPr b="0" lang="en-US" sz="36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Number and share of enterprise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Proportion of tax return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Amounts of taxable income of the tax return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Control of tax declarations presented by unincorporated enterprises (physical person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CFC2747-67F5-4F23-9A24-D6EEAAB26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87280" y="53352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
          <p:cNvSpPr/>
          <p:nvPr/>
        </p:nvSpPr>
        <p:spPr>
          <a:xfrm>
            <a:off x="287280" y="1905120"/>
            <a:ext cx="856944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ea typeface="Times New Roman"/>
              </a:rPr>
              <a:t>Specific questions relating to National Accounts:</a:t>
            </a:r>
            <a:endParaRPr b="0" lang="en-US" sz="36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Amount of conducted works and services not declared?</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What is the share of fake purchases of goods and services included in the operating cost and services in order to increase the de ductible VAT?</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BD5325F-4E1C-48DD-89E8-93A12148C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87280" y="53352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tting up of 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87280" y="2133720"/>
            <a:ext cx="8569440" cy="4464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Specific questions on National Accounts according to controls:</a:t>
            </a:r>
            <a:endParaRPr b="0" lang="en-US" sz="36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What is the share of salaries hidden from taxation?</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Opinion about non-paid taxes by type of tax? (VAT, income taxes, property taxes, land taxes and social taxe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7FA9BCB-1CAD-4306-9D51-BA3DBEE46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87280" y="5335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0" name=""/>
          <p:cNvSpPr/>
          <p:nvPr/>
        </p:nvSpPr>
        <p:spPr>
          <a:xfrm>
            <a:off x="0" y="1523880"/>
            <a:ext cx="9144000" cy="507384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 direct method with company managers is likely to have few correspondents and biased result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fr-BE" sz="3200" spc="-1" strike="noStrike">
                <a:solidFill>
                  <a:srgbClr val="ffff00"/>
                </a:solidFill>
                <a:latin typeface="Arial"/>
              </a:rPr>
              <a:t>An indirect method directed to tax officer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fr-BE" sz="3200" spc="-1" strike="noStrike">
                <a:solidFill>
                  <a:srgbClr val="ffff00"/>
                </a:solidFill>
                <a:latin typeface="Arial"/>
              </a:rPr>
              <a:t>A set of similar questions as those directed to company manag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E83D565-5385-468A-ABC6-965826750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2" name=""/>
          <p:cNvSpPr/>
          <p:nvPr/>
        </p:nvSpPr>
        <p:spPr>
          <a:xfrm>
            <a:off x="457200" y="1219320"/>
            <a:ext cx="8305920" cy="537840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lthough the result might not be extrapolated to Tajikistan as a whole, it will nevertheless be a good indicator of the scope of underreporting in the country.</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For a comparison purpose it would be also interesting to work directly on the tax audits to be able to establish coefficient corrections based on quantitative data and not anymore on “rather” subjective answer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B53B9D9-83C7-480D-A80E-B6A8E99751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87280" y="9144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4" name=""/>
          <p:cNvSpPr/>
          <p:nvPr/>
        </p:nvSpPr>
        <p:spPr>
          <a:xfrm>
            <a:off x="457200" y="1905120"/>
            <a:ext cx="845820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results of the tax officer survey may give additional information that may serve other purposes than just for adjusting National Accounts, e.g.:</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Efficiency of the tax system</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roportion of expected taxes actually collecte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survey may also be used for scientific purpose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5500C5D-5A19-4ADC-8C46-58E1E0B6FFB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7280" y="8380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tent of presentation </a:t>
            </a:r>
            <a:endParaRPr b="0" lang="en-US" sz="3600" spc="-1" strike="noStrike">
              <a:solidFill>
                <a:srgbClr val="ffffff"/>
              </a:solidFill>
              <a:latin typeface="Arial"/>
            </a:endParaRPr>
          </a:p>
        </p:txBody>
      </p:sp>
      <p:sp>
        <p:nvSpPr>
          <p:cNvPr id="86" name=""/>
          <p:cNvSpPr/>
          <p:nvPr/>
        </p:nvSpPr>
        <p:spPr>
          <a:xfrm>
            <a:off x="685800" y="1752480"/>
            <a:ext cx="817092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pproaches for measuring underreporting of data</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etting up of a survey for measuring underreporting of data in Tajikistan</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Conclusions and recommendat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510169B-0961-4354-8FE1-96AE1DF7E3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7280" y="9144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1</a:t>
            </a:r>
            <a:endParaRPr b="0" lang="en-US" sz="3600" spc="-1" strike="noStrike">
              <a:solidFill>
                <a:srgbClr val="ffffff"/>
              </a:solidFill>
              <a:latin typeface="Arial"/>
            </a:endParaRPr>
          </a:p>
        </p:txBody>
      </p:sp>
      <p:sp>
        <p:nvSpPr>
          <p:cNvPr id="88" name=""/>
          <p:cNvSpPr/>
          <p:nvPr/>
        </p:nvSpPr>
        <p:spPr>
          <a:xfrm>
            <a:off x="287280" y="2133720"/>
            <a:ext cx="8425080" cy="42829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o undertake a survey based on the opinion of company managers including companies with few employe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nclusion of a variety of branches of activity including those related to servic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Requires a sufficient number of compani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6FDEBF6-A9FD-4BA2-AD63-5A03DDBD25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7280" y="7621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1</a:t>
            </a:r>
            <a:endParaRPr b="0" lang="en-US" sz="3600" spc="-1" strike="noStrike">
              <a:solidFill>
                <a:srgbClr val="ffffff"/>
              </a:solidFill>
              <a:latin typeface="Arial"/>
            </a:endParaRPr>
          </a:p>
        </p:txBody>
      </p:sp>
      <p:sp>
        <p:nvSpPr>
          <p:cNvPr id="90" name=""/>
          <p:cNvSpPr/>
          <p:nvPr/>
        </p:nvSpPr>
        <p:spPr>
          <a:xfrm>
            <a:off x="287280" y="2209680"/>
            <a:ext cx="8569440" cy="43880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rPr>
              <a:t>Limitation:</a:t>
            </a: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rveys based on managers’ opinions are unlikely to give fully satisfactory results of underreporting of production or profits even if anonymity is guarantee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B613B10-364D-4C37-9C7C-C0D2D302B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87280" y="9907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2" name=""/>
          <p:cNvSpPr/>
          <p:nvPr/>
        </p:nvSpPr>
        <p:spPr>
          <a:xfrm>
            <a:off x="287280" y="1905120"/>
            <a:ext cx="856944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tion 1 (tax audit data):</a:t>
            </a: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x audit data often give quite successful results when estimating underreporting as audited enterprises can not refuse to respond questions about underground activity (and obliged to provide complete set of account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87E373B-1C3C-482B-B911-5966CC61A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280" y="1066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4" name=""/>
          <p:cNvSpPr/>
          <p:nvPr/>
        </p:nvSpPr>
        <p:spPr>
          <a:xfrm>
            <a:off x="287280" y="2205000"/>
            <a:ext cx="856944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tion 1(tax audit data):</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ut rarely conducted on a random basis as tax officers generally target their fiscal controls towards enterprises where risks of underground activities are the largest and towards certain activity sectors or geographical area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DC1695C-E559-4B29-A441-187F95FD0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87280" y="1066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6" name=""/>
          <p:cNvSpPr/>
          <p:nvPr/>
        </p:nvSpPr>
        <p:spPr>
          <a:xfrm>
            <a:off x="287280" y="2349360"/>
            <a:ext cx="8569440" cy="424836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rPr>
              <a:t>Option 2 (</a:t>
            </a:r>
            <a:r>
              <a:rPr b="1" lang="en-US" sz="3200" spc="-1" strike="noStrike">
                <a:solidFill>
                  <a:srgbClr val="ffff00"/>
                </a:solidFill>
                <a:latin typeface="Arial"/>
              </a:rPr>
              <a:t>Survey based directly on tax inspector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gister tax inspectors in order to build the frame. Then decide if one carries out a census survey (including all the tax inspectors) or a sampling survey including only some of the tax inspector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AAA527B-3A10-4BB4-A3C9-01B83D231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4920" y="83808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8" name=""/>
          <p:cNvSpPr/>
          <p:nvPr/>
        </p:nvSpPr>
        <p:spPr>
          <a:xfrm>
            <a:off x="287280" y="2241720"/>
            <a:ext cx="856944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ost appropriate solution to ask a set of question directly to the tax inspectors. The types of questions would be broadly similar to the set of questions asked to company manag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68EC722-2FEE-4EB7-BBC0-95CFEF8533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52280" y="83808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
          <p:cNvSpPr/>
          <p:nvPr/>
        </p:nvSpPr>
        <p:spPr>
          <a:xfrm>
            <a:off x="287280" y="3033720"/>
            <a:ext cx="8569440" cy="3564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The State Committee on Statistics of the Republic of Tajikistan proposed an approach for carrying out a sample survey of tax inspectors to estimate for the underreporting of data in four 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62C9051-2992-4662-B8FC-A9A16B7594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3:17:21Z</dcterms:created>
  <dc:creator>anordin</dc:creator>
  <dc:description/>
  <dc:language>en-US</dc:language>
  <cp:lastModifiedBy>Istatkov</cp:lastModifiedBy>
  <dcterms:modified xsi:type="dcterms:W3CDTF">2008-04-17T08:05:53Z</dcterms:modified>
  <cp:revision>14</cp:revision>
  <dc:subject/>
  <dc:title>A survey for measuring underreporting of data based on tax inspectors </dc:title>
</cp:coreProperties>
</file>