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8A3-B9D1-495D-8534-BE550C08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33D-580A-470F-A9E3-545ACC7D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FF8-D1E2-4153-81FE-36F9FF16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6A8-0A46-45F0-8EA8-1B81474E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EE77-E4E2-4B4D-B431-2F97ACE1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9C7F-31CC-468E-8D97-1758519E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83C7-14BD-4F21-B465-E0B39C94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61AE-348A-4B4C-B6D7-AA409F6A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B375-F959-4D06-91E0-74587112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87D2-8FD2-4490-BFD2-39038A4B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EEF9-B893-4E8B-BABD-57A61C89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F1B-6E71-43C7-9BEA-EB55A82E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8209-8977-41C3-A341-2697864B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B5D7-96C1-460C-ADF9-192C8D5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C637-C18B-43C0-AB7B-B9A3308B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EF7B-A135-409C-B1D7-F2A1553C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56DF-A2B7-4846-B7F9-88CD6106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660-D80E-48DB-B51D-5B4D5437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840-157F-4B19-A1FE-A0C8F333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F41-89F1-40AD-B1EC-A247B788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890-0FB9-407C-9674-C96F45C6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9F6-4493-44B9-91B0-11E2BB9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572-2F1E-4E23-BA70-4F77EDD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634-A5E8-4485-8E0E-BC6D759B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0E7FDA-7D35-4548-917F-2ACC43FA953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FD79EC-6E7C-4C8D-945D-9D2B88AB85CC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48720" y="1539720"/>
            <a:ext cx="53928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R&amp;D Satellite Accoun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in the Nether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UNECE-Eurostat-OEC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Geneva, 22-24 April 200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yriam van Rooijen-Hors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urat Tanris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ark de H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1890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vited paper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189000"/>
            <a:ext cx="1942920" cy="71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7280" y="404640"/>
            <a:ext cx="7416720" cy="112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&amp;D satellite account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(part of knowledge module)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4516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cording of R&amp;D expenditure as gross fixed capital formation, including measurement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3772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&amp;D capital st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3772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&amp;D consumption of fixed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3772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&amp;D capita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Quantifying effects on macro aggreg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Knowledge economy indicators (knowledge invest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Growth accou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7380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oints of attention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000" y="1889280"/>
            <a:ext cx="745164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►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 of Frascati R&amp;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►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&amp;D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&lt;&lt; NEW!! &gt;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►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easurement international R&amp;D f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►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ervice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701280"/>
            <a:ext cx="723888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Internationalisation of R&amp;D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988640"/>
            <a:ext cx="752472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esear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companies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≈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46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f BERD (2005)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their activities in the Netherlands: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13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f all employees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34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f R&amp;D personnel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 ▪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company reports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90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R&amp;D export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share (R&amp;D financed by foreign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affili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other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7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report no R&amp;D ex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476280"/>
            <a:ext cx="723888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Internationalisation of R&amp;D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752472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esearch con’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Interviews with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companies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≈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33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f BERD 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Organisation and financing of R&amp;D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differ considerably between companies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→ location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→ fin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</a:t>
            </a:r>
            <a:r>
              <a:rPr b="0" i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Legal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wnership at company level,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i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Economic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wnership in hands of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   business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 ▪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Company balance sheets do not include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R&amp;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360" y="701280"/>
            <a:ext cx="723888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nternationalisation of R&amp;D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752472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Conclus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For multinationals international R&amp;D service flows are being underreported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  <a:ea typeface="Arial"/>
              </a:rPr>
              <a:t>→ Export: Indeed!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  <a:ea typeface="Arial"/>
              </a:rPr>
              <a:t>→ Import: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his complicates measurement of R&amp;D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ossible solu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troducing survey questions on R&amp;D sales and purchases of R&amp;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Custom made surveying of largest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836640"/>
            <a:ext cx="723888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&amp;D service live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640" y="1988640"/>
            <a:ext cx="8785440" cy="42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Using age distribution of patents as 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proxy for all knowledge ca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Two averages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unweighted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≈ 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7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years  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weighted by patent values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≈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18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Outcome: average service life of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</a:rPr>
              <a:t>12.5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years</a:t>
            </a:r>
            <a:br>
              <a:rPr sz="2800"/>
            </a:br>
            <a:r>
              <a:rPr b="0" i="1" lang="nl-NL" sz="2800" spc="-1" strike="noStrike">
                <a:solidFill>
                  <a:srgbClr val="ffff00"/>
                </a:solidFill>
                <a:latin typeface="Arial"/>
              </a:rPr>
              <a:t>Exceptions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Chemical industry: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</a:rPr>
              <a:t>15.5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years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Electro technical industry: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</a:rPr>
              <a:t>9.5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Summary of resul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27280" y="2133720"/>
            <a:ext cx="73087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1999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2001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2003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GFCF in R&amp;D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bln €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4.8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5.3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5.7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6.1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Adjustment of GFCF in %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5.4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5.6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6.1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6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Adjustment of GDP in %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Volume-indices (1999=100)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GFCF in R&amp;D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0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2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1.6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3.8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GFCF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0       100.8       94.7      96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Adjusted GFCF 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0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0.8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  95.1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  97.0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1143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00"/>
                </a:solidFill>
                <a:latin typeface="Arial"/>
              </a:rPr>
              <a:t>Changes national accounts aggregates, </a:t>
            </a:r>
            <a:br>
              <a:rPr sz="2000"/>
            </a:br>
            <a:r>
              <a:rPr b="1" i="1" lang="nl-NL" sz="2000" spc="-1" strike="noStrike">
                <a:solidFill>
                  <a:srgbClr val="ffff00"/>
                </a:solidFill>
                <a:latin typeface="Arial"/>
              </a:rPr>
              <a:t>the Netherlands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>
            <a:off x="1763640" y="1988640"/>
            <a:ext cx="713016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>
            <a:off x="1763640" y="2491920"/>
            <a:ext cx="713016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106" name=""/>
          <p:cNvCxnSpPr/>
          <p:nvPr/>
        </p:nvCxnSpPr>
        <p:spPr>
          <a:xfrm>
            <a:off x="1763640" y="6237000"/>
            <a:ext cx="713016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12:02:40Z</dcterms:created>
  <dc:creator>Kazemier</dc:creator>
  <dc:description/>
  <dc:language>en-US</dc:language>
  <cp:lastModifiedBy>Dimova</cp:lastModifiedBy>
  <cp:lastPrinted>1999-07-07T18:10:31Z</cp:lastPrinted>
  <dcterms:modified xsi:type="dcterms:W3CDTF">2008-04-14T12:49:11Z</dcterms:modified>
  <cp:revision>319</cp:revision>
  <dc:subject/>
  <dc:title>Geen dia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99258213</vt:r8>
  </property>
  <property fmtid="{D5CDD505-2E9C-101B-9397-08002B2CF9AE}" pid="3" name="_AuthorEmail">
    <vt:lpwstr>MHRN@CBS.nl</vt:lpwstr>
  </property>
  <property fmtid="{D5CDD505-2E9C-101B-9397-08002B2CF9AE}" pid="4" name="_AuthorEmailDisplayName">
    <vt:lpwstr>Rooijen - Horsten, mevr. dr. M. van</vt:lpwstr>
  </property>
  <property fmtid="{D5CDD505-2E9C-101B-9397-08002B2CF9AE}" pid="5" name="_EmailSubject">
    <vt:lpwstr>preparations for the National Accounts Meeting and WGGNA, Geneva 22-24 April</vt:lpwstr>
  </property>
  <property fmtid="{D5CDD505-2E9C-101B-9397-08002B2CF9AE}" pid="6" name="_PreviousAdHocReviewCycleID">
    <vt:r8>390516591</vt:r8>
  </property>
  <property fmtid="{D5CDD505-2E9C-101B-9397-08002B2CF9AE}" pid="7" name="_ReviewingToolsShownOnce">
    <vt:lpwstr/>
  </property>
</Properties>
</file>