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02F-A5A4-4B4D-8093-0E799258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FE8-C601-46F2-AC9C-4C403EDF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083-1D94-4C2E-83B0-478FD7DF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C89-091E-41C7-8175-B0E9706B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98C-EB9C-49BF-8D42-89BC8884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CB6-D7D9-496A-90AA-E65C223B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68C-DBD0-4A59-AD38-87D414A5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FD6-47A8-4640-9454-4F95A772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DC6-9165-4AE6-B04F-2A7EB8A8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E40-7E40-4F51-A87A-757B7049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064-F18D-4B9C-9EA4-93AD5047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514-8409-4611-989B-F47DF3B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76A9-0DDB-4A9C-B7D0-007577D74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JOINT UNECE/EUROSTAT/OECD MEETING ON NATIONAL ACCOUNTS,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GENEVA 22-24 APRI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HANDBOOK ON DERIVING CAPITAL MEASURES OF INTELLECTUAL PROPERTY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190440"/>
            <a:ext cx="2160360" cy="7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vited paper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ftware and database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pdating the recommendations of the 2001 OECD Software Task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anges to the S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anges to other manu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uble counting with R&amp;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ments in methods: a survey of OECD members and accession countries has been conduc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neral exploration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ABS has drafted text for this asset category and it was presented at the meeting of the OECD WPNA in October 2007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ntertainment, literary or artistic original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e the guidelines on the report of 2003 Eurostat task for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ECD Task Force on R&amp;D and other Intellectual Property Produ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UNSC approved the change in the SNA to recognize R&amp;D as a fixed asset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T noted that there were significant obstacles to be overcome before this recommendation could be satisfactorily implemen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ECD task force objective is to overcome these obstacles as quickly as possible to support the development of satellite accounts and the incorporation of R&amp;D assets in the core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lationship with Eurostat task force on R&amp;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two TFs are addressing much the same issues but their objectives are a little differen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principal objective of the EU TF is to prepare templates for supplementary tables of R&amp;D to be completed by EU countries, with the long-term aim of enabling the capitalization of R&amp;D in the core accounts. An important element in this is a high degree of consistency in the methods used by EU countri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objective of the OECD TF is to develop a handbook that provides guidelines for deriving capital measures for all intellectual property products (IPP), and it is unlikely that the OECD handbook will be as prescriptive as the EU templat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two TFs should work closely toge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andbook on Intellectual Property Produ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Recognition of R&amp;D as a fixed ass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Need to provide guidance to promote rapid implementation of accurate and internationally comparable statistics in satellite accounts and core accou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Overcome some of the outstanding problems in a co-ordinated wa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Other changes in the SNA and other manuals impinge on the recommendations of the 2001 OECD Software Task Force and other IPPs to some ext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Promote best practices for the compilation of the other IPP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To be completed in 2008. Possibly to be updated in a few years with the benefit of experience and further develop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s to SNA and other manu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R&amp;D as a fixed ass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icences to use and reprodu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atabases – broadened, clarified, separately identifi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ineral exploration and EVALU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clusion of a return to capital when summing costs to measure own account capital formation by market produc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hanges to BPM classific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hanges to ISIC, CPC, HS and CPA that impinge on the measurement of software GFCF in particul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&amp;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stimates of R&amp;D GFCF are to be largely derived using data from R&amp;D surveys conducted in accordance with the Frascati Ma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nsformation of FM to SNA is well understood and changes to FM surveys that would make things better have been identifi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utstanding issues now being tackled by the task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&amp;D issues being addressed by OECD task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dentifying those R&amp;D expenditures that should be recorded as GFC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&amp;D undertaken with no expectation of economic benefits to the owner, or an affiliated unit, should be recorded as  intermediate consumption, not GF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obably nearly all R&amp;D acquired by market producers should be recorded as GFCF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ut probably not all R&amp;D acquired by non-market producers should be recorded as GFCF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voiding double counting with other fixed asse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&amp;D issues being addressed by OECD task fo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riving estimates of service lives of R&amp;D to support the use of the PIM to derive estimates of capital stock, capital services and consumption of fixed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ice indices for R&amp;D – is it possible to derive satisfactory pseudo output price indices or do we have to use input price ind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&amp;D issues being addressed by OECD task fo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easuring international trade in R&amp;D, including between affiliated un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M funding data can provide estimates of imports by performers and the exports of perfor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ed to be supplemented and reconciled u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rade in services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eign direct investment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possible, develop means of measuring trade between affiliated units at market prices: survey MNCs? Co-ordination with other globalisation initia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5:26:40Z</dcterms:created>
  <dc:creator>Aspden_C</dc:creator>
  <dc:description/>
  <dc:language>en-US</dc:language>
  <cp:lastModifiedBy>Dimova</cp:lastModifiedBy>
  <dcterms:modified xsi:type="dcterms:W3CDTF">2008-04-20T12:46:56Z</dcterms:modified>
  <cp:revision>23</cp:revision>
  <dc:subject/>
  <dc:title>Joint UNECE/Eurostat/OECD Meeting on National accounts,  Geneva 22-24 April  </dc:title>
</cp:coreProperties>
</file>