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E656-13AE-4B46-AD62-255EAA93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4E0-9B29-471E-A132-7E281F7B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D45-EDFF-4142-A7E8-56196335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DD44-4A03-4797-B849-7FCF97DC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099-F99E-4A16-A1D8-A5EBFAA6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BD8E-B6AF-498D-8AA5-C9877D18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F31C-E052-4291-94A8-77087F7C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88B-5313-46C5-9983-BC37ABA8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006-D189-43FA-93F6-7F1A442F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1D9-DEBA-4FC6-ACA8-C00BDFA3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72C5-32BE-4B64-B7BD-4BD65153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5F90-D898-49DD-BEE1-A3A3506F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821B-D81F-497C-BE1B-22EA28336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JOINT UNECE/EUROSTAT/OECD MEETING ON NATIONAL ACCOUNTS,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GENEVA 22-24 APRIL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HANDBOOK ON DERIVING CAPITAL MEASURES OF INTELLECTUAL PROPERTY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190440"/>
            <a:ext cx="2160360" cy="7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genda item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nvited paper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ftware and database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pdating the recommendations of the 2001 OECD Software Task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hanges to the S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hanges to other manu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ouble counting with R&amp;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velopments in methods: a survey of OECD members and accession countries has been conduct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ineral exploration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ABS has drafted text for this asset category and it was presented at the meeting of the OECD WPNA in October 2007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ntertainment, literary or artistic originals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ase the guidelines on the report of 2003 Eurostat task for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OECD Task Force on R&amp;D and other Intellectual Property Produ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UNSC approved the change in the SNA to recognize R&amp;D as a fixed asset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T noted that there were significant obstacles to be overcome before this recommendation could be satisfactorily implemen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OECD task force objective is to overcome these obstacles as quickly as possible to support the development of satellite accounts and the incorporation of R&amp;D assets in the core accou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elationship with Eurostat task force on R&amp;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two TFs are addressing much the same issues but their objectives are a little differen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principal objective of the EU TF is to prepare templates for supplementary tables of R&amp;D to be completed by EU countries, with the long-term aim of enabling the capitalization of R&amp;D in the core accounts. An important element in this is a high degree of consistency in the methods used by EU countries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objective of the OECD TF is to develop a handbook that provides guidelines for deriving capital measures for all intellectual property products (IPP), and it is unlikely that the OECD handbook will be as prescriptive as the EU templat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two TFs should work closely toge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andbook on Intellectual Property Produ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Recognition of R&amp;D as a fixed ass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Need to provide guidance to promote rapid implementation of accurate and internationally comparable statistics in satellite accounts and core accou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Overcome some of the outstanding problems in a co-ordinated wa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Other changes in the SNA and other manuals impinge on the recommendations of the 2001 OECD Software Task Force and other IPPs to some ext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Promote best practices for the compilation of the other IPP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To be completed in 2008. Possibly to be updated in a few years with the benefit of experience and further develop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nges to SNA and other manu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R&amp;D as a fixed ass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icences to use and reprodu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atabases – broadened, clarified, separately identifi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ineral exploration and EVALU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clusion of a return to capital when summing costs to measure own account capital formation by market produc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hanges to BPM classific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hanges to ISIC, CPC, HS and CPA that impinge on the measurement of software GFCF in particul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&amp;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stimates of R&amp;D GFCF are to be largely derived using data from R&amp;D surveys conducted in accordance with the Frascati Man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nsformation of FM to SNA is well understood and changes to FM surveys that would make things better have been identifi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utstanding issues now being tackled by the task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&amp;D issues being addressed by OECD task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dentifying those R&amp;D expenditures that should be recorded as GFC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&amp;D undertaken with no expectation of economic benefits to the owner, or an affiliated unit, should be recorded as  intermediate consumption, not GFC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obably nearly all R&amp;D acquired by market producers should be recorded as GFCF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ut probably not all R&amp;D acquired by non-market producers should be recorded as GFCF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voiding double counting with other fixed asse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&amp;D issues being addressed by OECD task fo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riving estimates of service lives of R&amp;D to support the use of the PIM to derive estimates of capital stock, capital services and consumption of fixed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ice indices for R&amp;D – is it possible to derive satisfactory pseudo output price indices or do we have to use input price ind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&amp;D issues being addressed by OECD task fo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Measuring international trade in R&amp;D, including between affiliated un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M funding data can provide estimates of imports by performers and the exports of perfor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ed to be supplemented and reconciled u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rade in services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reign direct investment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possible, develop means of measuring trade between affiliated units at market prices: survey MNCs? Co-ordination with other globalisation initia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5:26:40Z</dcterms:created>
  <dc:creator>Aspden_C</dc:creator>
  <dc:description/>
  <dc:language>en-US</dc:language>
  <cp:lastModifiedBy>Dimova</cp:lastModifiedBy>
  <dcterms:modified xsi:type="dcterms:W3CDTF">2008-04-20T12:46:56Z</dcterms:modified>
  <cp:revision>23</cp:revision>
  <dc:subject/>
  <dc:title>Joint UNECE/Eurostat/OECD Meeting on National accounts,  Geneva 22-24 April  </dc:title>
</cp:coreProperties>
</file>