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B3E-A7A4-4915-B618-73853E90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194-F1F8-4A08-8DE3-F3CC63E3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1FB-5ECA-422B-8E50-58228733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FD2-2D5B-4802-BC50-CD3D49ED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191-3803-4505-9E8E-757DBE73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691-2A14-41D1-B229-B4728784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B55-2555-4FCD-9575-30F0D859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885-7CDA-41BA-8DAD-3C939C76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5DF-59B6-443F-A6CC-32419617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846-11D4-46B8-A38A-BB4018F9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B35-9B6C-41FB-83D5-87DF49B3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9FE-699F-443C-AAD4-4B63A32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CBD2-14DD-4BF3-B6AB-3810C1F33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68360" y="5805360"/>
            <a:ext cx="855720" cy="86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Paul.Schreyer@OECD.or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82160" cy="259236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ECE/Eurostat/OECD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Meeting on National Account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pril 2008 Gene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asuring Capit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EC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190440"/>
            <a:ext cx="216036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vited pape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2254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capital services measur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equence: the income side of the account can be de-composed into a price and into a volum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ce component: wages and  prices of capital services (=user co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lume component: numbers employed and volume of capi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ith volume measures for labour and capital, combined measures of volume inputs can be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lume output/volume input = MF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ital measures in SNA9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Rectangle 21"/>
          <p:cNvGrpSpPr/>
          <p:nvPr/>
        </p:nvGrpSpPr>
        <p:grpSpPr>
          <a:xfrm>
            <a:off x="2494080" y="1463760"/>
            <a:ext cx="2565360" cy="1395360"/>
            <a:chOff x="2494080" y="1463760"/>
            <a:chExt cx="2565360" cy="1395360"/>
          </a:xfrm>
        </p:grpSpPr>
        <p:pic>
          <p:nvPicPr>
            <p:cNvPr id="66" name="Rectangle 21" descr=""/>
            <p:cNvPicPr/>
            <p:nvPr/>
          </p:nvPicPr>
          <p:blipFill>
            <a:blip r:embed="rId1"/>
            <a:stretch/>
          </p:blipFill>
          <p:spPr>
            <a:xfrm>
              <a:off x="2494080" y="1463760"/>
              <a:ext cx="256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571840" y="1500120"/>
              <a:ext cx="23572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 series of GFCF by type of asset all expressed at same mid-year pric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ectangle 22"/>
          <p:cNvGrpSpPr/>
          <p:nvPr/>
        </p:nvGrpSpPr>
        <p:grpSpPr>
          <a:xfrm>
            <a:off x="798480" y="2462040"/>
            <a:ext cx="1682640" cy="1109880"/>
            <a:chOff x="798480" y="2462040"/>
            <a:chExt cx="1682640" cy="1109880"/>
          </a:xfrm>
        </p:grpSpPr>
        <p:pic>
          <p:nvPicPr>
            <p:cNvPr id="69" name="Rectangle 22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16826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7160" y="2500200"/>
              <a:ext cx="15717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irement pro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ectangle 23"/>
          <p:cNvGrpSpPr/>
          <p:nvPr/>
        </p:nvGrpSpPr>
        <p:grpSpPr>
          <a:xfrm>
            <a:off x="4584600" y="3822840"/>
            <a:ext cx="1755720" cy="1109520"/>
            <a:chOff x="4584600" y="3822840"/>
            <a:chExt cx="1755720" cy="1109520"/>
          </a:xfrm>
        </p:grpSpPr>
        <p:pic>
          <p:nvPicPr>
            <p:cNvPr id="72" name="Rectangle 23" descr=""/>
            <p:cNvPicPr/>
            <p:nvPr/>
          </p:nvPicPr>
          <p:blipFill>
            <a:blip r:embed="rId3"/>
            <a:stretch/>
          </p:blipFill>
          <p:spPr>
            <a:xfrm>
              <a:off x="4584600" y="3822840"/>
              <a:ext cx="1755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643280" y="3857760"/>
              <a:ext cx="1643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capital sto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ectangle 24"/>
          <p:cNvGrpSpPr/>
          <p:nvPr/>
        </p:nvGrpSpPr>
        <p:grpSpPr>
          <a:xfrm>
            <a:off x="6937200" y="3822840"/>
            <a:ext cx="1974960" cy="1109520"/>
            <a:chOff x="6937200" y="3822840"/>
            <a:chExt cx="1974960" cy="1109520"/>
          </a:xfrm>
        </p:grpSpPr>
        <p:pic>
          <p:nvPicPr>
            <p:cNvPr id="75" name="Rectangle 24" descr=""/>
            <p:cNvPicPr/>
            <p:nvPr/>
          </p:nvPicPr>
          <p:blipFill>
            <a:blip r:embed="rId4"/>
            <a:stretch/>
          </p:blipFill>
          <p:spPr>
            <a:xfrm>
              <a:off x="6937200" y="3822840"/>
              <a:ext cx="19749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000920" y="3857760"/>
              <a:ext cx="18572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lance 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ectangle 25"/>
          <p:cNvGrpSpPr/>
          <p:nvPr/>
        </p:nvGrpSpPr>
        <p:grpSpPr>
          <a:xfrm>
            <a:off x="6937200" y="5248440"/>
            <a:ext cx="1974960" cy="1109520"/>
            <a:chOff x="6937200" y="5248440"/>
            <a:chExt cx="1974960" cy="1109520"/>
          </a:xfrm>
        </p:grpSpPr>
        <p:pic>
          <p:nvPicPr>
            <p:cNvPr id="78" name="Rectangle 25" descr=""/>
            <p:cNvPicPr/>
            <p:nvPr/>
          </p:nvPicPr>
          <p:blipFill>
            <a:blip r:embed="rId5"/>
            <a:stretch/>
          </p:blipFill>
          <p:spPr>
            <a:xfrm>
              <a:off x="6937200" y="5248440"/>
              <a:ext cx="19749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00920" y="5286240"/>
              <a:ext cx="18572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domestic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ectangle 26"/>
          <p:cNvGrpSpPr/>
          <p:nvPr/>
        </p:nvGrpSpPr>
        <p:grpSpPr>
          <a:xfrm>
            <a:off x="4584600" y="5248440"/>
            <a:ext cx="1755720" cy="1109520"/>
            <a:chOff x="4584600" y="5248440"/>
            <a:chExt cx="1755720" cy="1109520"/>
          </a:xfrm>
        </p:grpSpPr>
        <p:pic>
          <p:nvPicPr>
            <p:cNvPr id="81" name="Rectangle 26" descr=""/>
            <p:cNvPicPr/>
            <p:nvPr/>
          </p:nvPicPr>
          <p:blipFill>
            <a:blip r:embed="rId6"/>
            <a:stretch/>
          </p:blipFill>
          <p:spPr>
            <a:xfrm>
              <a:off x="4584600" y="5248440"/>
              <a:ext cx="1755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643280" y="5286240"/>
              <a:ext cx="164340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umption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xed capi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8-Point Star 27"/>
          <p:cNvSpPr/>
          <p:nvPr/>
        </p:nvSpPr>
        <p:spPr>
          <a:xfrm>
            <a:off x="3429000" y="4214880"/>
            <a:ext cx="500040" cy="357120"/>
          </a:xfrm>
          <a:custGeom>
            <a:avLst/>
            <a:gdLst>
              <a:gd name="textAreaLeft" fmla="*/ 117360 w 500040"/>
              <a:gd name="textAreaRight" fmla="*/ 382680 w 50004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-Point Star 28"/>
          <p:cNvSpPr/>
          <p:nvPr/>
        </p:nvSpPr>
        <p:spPr>
          <a:xfrm>
            <a:off x="3429000" y="5572080"/>
            <a:ext cx="500040" cy="357120"/>
          </a:xfrm>
          <a:custGeom>
            <a:avLst/>
            <a:gdLst>
              <a:gd name="textAreaLeft" fmla="*/ 117360 w 500040"/>
              <a:gd name="textAreaRight" fmla="*/ 382680 w 50004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9"/>
          <p:cNvCxnSpPr/>
          <p:nvPr/>
        </p:nvCxnSpPr>
        <p:spPr>
          <a:xfrm>
            <a:off x="2642760" y="4357800"/>
            <a:ext cx="71532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grpSp>
        <p:nvGrpSpPr>
          <p:cNvPr id="86" name="Rectangle 30"/>
          <p:cNvGrpSpPr/>
          <p:nvPr/>
        </p:nvGrpSpPr>
        <p:grpSpPr>
          <a:xfrm>
            <a:off x="865080" y="3895560"/>
            <a:ext cx="1689120" cy="1109880"/>
            <a:chOff x="865080" y="3895560"/>
            <a:chExt cx="1689120" cy="1109880"/>
          </a:xfrm>
        </p:grpSpPr>
        <p:pic>
          <p:nvPicPr>
            <p:cNvPr id="87" name="Rectangle 30" descr=""/>
            <p:cNvPicPr/>
            <p:nvPr/>
          </p:nvPicPr>
          <p:blipFill>
            <a:blip r:embed="rId7"/>
            <a:stretch/>
          </p:blipFill>
          <p:spPr>
            <a:xfrm>
              <a:off x="865080" y="3895560"/>
              <a:ext cx="16891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928800" y="3929040"/>
              <a:ext cx="1571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e-price or depreciation profi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Straight Arrow Connector 34"/>
          <p:cNvCxnSpPr/>
          <p:nvPr/>
        </p:nvCxnSpPr>
        <p:spPr>
          <a:xfrm>
            <a:off x="1714680" y="5715000"/>
            <a:ext cx="164376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0" name="Straight Arrow Connector 35"/>
          <p:cNvCxnSpPr/>
          <p:nvPr/>
        </p:nvCxnSpPr>
        <p:spPr>
          <a:xfrm>
            <a:off x="4000320" y="4357800"/>
            <a:ext cx="57204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1" name="Straight Arrow Connector 36"/>
          <p:cNvCxnSpPr/>
          <p:nvPr/>
        </p:nvCxnSpPr>
        <p:spPr>
          <a:xfrm>
            <a:off x="4000320" y="5715000"/>
            <a:ext cx="57204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2" name="Straight Arrow Connector 42"/>
          <p:cNvCxnSpPr/>
          <p:nvPr/>
        </p:nvCxnSpPr>
        <p:spPr>
          <a:xfrm flipH="1">
            <a:off x="3571560" y="2786040"/>
            <a:ext cx="2160" cy="1286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3" name="Straight Arrow Connector 48"/>
          <p:cNvCxnSpPr/>
          <p:nvPr/>
        </p:nvCxnSpPr>
        <p:spPr>
          <a:xfrm flipH="1">
            <a:off x="3642480" y="2857320"/>
            <a:ext cx="2520" cy="128628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4" name="Straight Arrow Connector 51"/>
          <p:cNvCxnSpPr/>
          <p:nvPr/>
        </p:nvCxnSpPr>
        <p:spPr>
          <a:xfrm>
            <a:off x="6357600" y="5715000"/>
            <a:ext cx="57204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5" name="Straight Arrow Connector 55"/>
          <p:cNvCxnSpPr/>
          <p:nvPr/>
        </p:nvCxnSpPr>
        <p:spPr>
          <a:xfrm>
            <a:off x="6357600" y="4357800"/>
            <a:ext cx="572040" cy="216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96" name="Straight Arrow Connector 57"/>
          <p:cNvCxnSpPr/>
          <p:nvPr/>
        </p:nvCxnSpPr>
        <p:spPr>
          <a:xfrm flipH="1">
            <a:off x="1714320" y="3499920"/>
            <a:ext cx="2160" cy="35820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97" name="Straight Connector 32"/>
          <p:cNvSpPr/>
          <p:nvPr/>
        </p:nvSpPr>
        <p:spPr>
          <a:xfrm>
            <a:off x="1714680" y="4930920"/>
            <a:ext cx="0" cy="784080"/>
          </a:xfrm>
          <a:prstGeom prst="line">
            <a:avLst/>
          </a:prstGeom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grated system of capital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71680" y="228600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Rectangle 6"/>
          <p:cNvGrpSpPr/>
          <p:nvPr/>
        </p:nvGrpSpPr>
        <p:grpSpPr>
          <a:xfrm>
            <a:off x="1298520" y="2487600"/>
            <a:ext cx="1328760" cy="798480"/>
            <a:chOff x="1298520" y="2487600"/>
            <a:chExt cx="1328760" cy="798480"/>
          </a:xfrm>
        </p:grpSpPr>
        <p:pic>
          <p:nvPicPr>
            <p:cNvPr id="102" name="Rectangle 6" descr=""/>
            <p:cNvPicPr/>
            <p:nvPr/>
          </p:nvPicPr>
          <p:blipFill>
            <a:blip r:embed="rId1"/>
            <a:stretch/>
          </p:blipFill>
          <p:spPr>
            <a:xfrm>
              <a:off x="1298520" y="2487600"/>
              <a:ext cx="1328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357200" y="257184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e-efficiency profi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ectangle 8"/>
          <p:cNvGrpSpPr/>
          <p:nvPr/>
        </p:nvGrpSpPr>
        <p:grpSpPr>
          <a:xfrm>
            <a:off x="2651040" y="963720"/>
            <a:ext cx="1444680" cy="1608120"/>
            <a:chOff x="2651040" y="963720"/>
            <a:chExt cx="1444680" cy="1608120"/>
          </a:xfrm>
        </p:grpSpPr>
        <p:pic>
          <p:nvPicPr>
            <p:cNvPr id="105" name="Rectangle 8" descr=""/>
            <p:cNvPicPr/>
            <p:nvPr/>
          </p:nvPicPr>
          <p:blipFill>
            <a:blip r:embed="rId2"/>
            <a:stretch/>
          </p:blipFill>
          <p:spPr>
            <a:xfrm>
              <a:off x="2651040" y="963720"/>
              <a:ext cx="14446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14760" y="1000080"/>
              <a:ext cx="1285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 series of GFCF by type of asset all expressed at same mid-year pric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ectangle 14"/>
          <p:cNvGrpSpPr/>
          <p:nvPr/>
        </p:nvGrpSpPr>
        <p:grpSpPr>
          <a:xfrm>
            <a:off x="5583240" y="1322280"/>
            <a:ext cx="1828800" cy="536760"/>
            <a:chOff x="5583240" y="1322280"/>
            <a:chExt cx="1828800" cy="536760"/>
          </a:xfrm>
        </p:grpSpPr>
        <p:pic>
          <p:nvPicPr>
            <p:cNvPr id="108" name="Rectangle 14" descr=""/>
            <p:cNvPicPr/>
            <p:nvPr/>
          </p:nvPicPr>
          <p:blipFill>
            <a:blip r:embed="rId3"/>
            <a:stretch/>
          </p:blipFill>
          <p:spPr>
            <a:xfrm>
              <a:off x="5583240" y="1322280"/>
              <a:ext cx="18288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643720" y="1357200"/>
              <a:ext cx="1714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e of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8-Point Star 19"/>
          <p:cNvSpPr/>
          <p:nvPr/>
        </p:nvSpPr>
        <p:spPr>
          <a:xfrm>
            <a:off x="3143160" y="2714760"/>
            <a:ext cx="428760" cy="357120"/>
          </a:xfrm>
          <a:custGeom>
            <a:avLst/>
            <a:gdLst>
              <a:gd name="textAreaLeft" fmla="*/ 100440 w 428760"/>
              <a:gd name="textAreaRight" fmla="*/ 328320 w 42876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Rectangle 26"/>
          <p:cNvGrpSpPr/>
          <p:nvPr/>
        </p:nvGrpSpPr>
        <p:grpSpPr>
          <a:xfrm>
            <a:off x="1298520" y="3462480"/>
            <a:ext cx="1328760" cy="755640"/>
            <a:chOff x="1298520" y="3462480"/>
            <a:chExt cx="1328760" cy="755640"/>
          </a:xfrm>
        </p:grpSpPr>
        <p:pic>
          <p:nvPicPr>
            <p:cNvPr id="112" name="Rectangle 26" descr=""/>
            <p:cNvPicPr/>
            <p:nvPr/>
          </p:nvPicPr>
          <p:blipFill>
            <a:blip r:embed="rId4"/>
            <a:stretch/>
          </p:blipFill>
          <p:spPr>
            <a:xfrm>
              <a:off x="1298520" y="3462480"/>
              <a:ext cx="1328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57200" y="350028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irement profi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ectangle 27"/>
          <p:cNvGrpSpPr/>
          <p:nvPr/>
        </p:nvGrpSpPr>
        <p:grpSpPr>
          <a:xfrm>
            <a:off x="1298520" y="4395960"/>
            <a:ext cx="1328760" cy="749160"/>
            <a:chOff x="1298520" y="4395960"/>
            <a:chExt cx="1328760" cy="749160"/>
          </a:xfrm>
        </p:grpSpPr>
        <p:pic>
          <p:nvPicPr>
            <p:cNvPr id="115" name="Rectangle 27" descr=""/>
            <p:cNvPicPr/>
            <p:nvPr/>
          </p:nvPicPr>
          <p:blipFill>
            <a:blip r:embed="rId5"/>
            <a:stretch/>
          </p:blipFill>
          <p:spPr>
            <a:xfrm>
              <a:off x="1298520" y="4395960"/>
              <a:ext cx="132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357200" y="442908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e-price pro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28"/>
          <p:cNvGrpSpPr/>
          <p:nvPr/>
        </p:nvGrpSpPr>
        <p:grpSpPr>
          <a:xfrm>
            <a:off x="1298520" y="5394240"/>
            <a:ext cx="1328760" cy="750960"/>
            <a:chOff x="1298520" y="5394240"/>
            <a:chExt cx="1328760" cy="750960"/>
          </a:xfrm>
        </p:grpSpPr>
        <p:pic>
          <p:nvPicPr>
            <p:cNvPr id="118" name="Rectangle 28" descr=""/>
            <p:cNvPicPr/>
            <p:nvPr/>
          </p:nvPicPr>
          <p:blipFill>
            <a:blip r:embed="rId6"/>
            <a:stretch/>
          </p:blipFill>
          <p:spPr>
            <a:xfrm>
              <a:off x="1298520" y="5394240"/>
              <a:ext cx="13287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57200" y="542916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prieciation prof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ectangle 31"/>
          <p:cNvGrpSpPr/>
          <p:nvPr/>
        </p:nvGrpSpPr>
        <p:grpSpPr>
          <a:xfrm>
            <a:off x="4224240" y="2273400"/>
            <a:ext cx="1359000" cy="1231920"/>
            <a:chOff x="4224240" y="2273400"/>
            <a:chExt cx="1359000" cy="1231920"/>
          </a:xfrm>
        </p:grpSpPr>
        <p:pic>
          <p:nvPicPr>
            <p:cNvPr id="121" name="Rectangle 31" descr=""/>
            <p:cNvPicPr/>
            <p:nvPr/>
          </p:nvPicPr>
          <p:blipFill>
            <a:blip r:embed="rId7"/>
            <a:stretch/>
          </p:blipFill>
          <p:spPr>
            <a:xfrm>
              <a:off x="4224240" y="2273400"/>
              <a:ext cx="135900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286160" y="2357280"/>
              <a:ext cx="12146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ductive capital stock/capital services by as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Rectangle 32"/>
          <p:cNvGrpSpPr/>
          <p:nvPr/>
        </p:nvGrpSpPr>
        <p:grpSpPr>
          <a:xfrm>
            <a:off x="4224240" y="4395960"/>
            <a:ext cx="1328760" cy="749160"/>
            <a:chOff x="4224240" y="4395960"/>
            <a:chExt cx="1328760" cy="749160"/>
          </a:xfrm>
        </p:grpSpPr>
        <p:pic>
          <p:nvPicPr>
            <p:cNvPr id="124" name="Rectangle 32" descr=""/>
            <p:cNvPicPr/>
            <p:nvPr/>
          </p:nvPicPr>
          <p:blipFill>
            <a:blip r:embed="rId8"/>
            <a:stretch/>
          </p:blipFill>
          <p:spPr>
            <a:xfrm>
              <a:off x="4224240" y="4395960"/>
              <a:ext cx="132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286160" y="442908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capital st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Rectangle 33"/>
          <p:cNvGrpSpPr/>
          <p:nvPr/>
        </p:nvGrpSpPr>
        <p:grpSpPr>
          <a:xfrm>
            <a:off x="4224240" y="5370480"/>
            <a:ext cx="1328760" cy="774720"/>
            <a:chOff x="4224240" y="5370480"/>
            <a:chExt cx="1328760" cy="774720"/>
          </a:xfrm>
        </p:grpSpPr>
        <p:pic>
          <p:nvPicPr>
            <p:cNvPr id="127" name="Rectangle 33" descr=""/>
            <p:cNvPicPr/>
            <p:nvPr/>
          </p:nvPicPr>
          <p:blipFill>
            <a:blip r:embed="rId9"/>
            <a:stretch/>
          </p:blipFill>
          <p:spPr>
            <a:xfrm>
              <a:off x="4224240" y="5370480"/>
              <a:ext cx="13287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286160" y="5429160"/>
              <a:ext cx="1214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umption of fixed capit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ectangle 34"/>
          <p:cNvGrpSpPr/>
          <p:nvPr/>
        </p:nvGrpSpPr>
        <p:grpSpPr>
          <a:xfrm>
            <a:off x="7437600" y="4395960"/>
            <a:ext cx="1334880" cy="749160"/>
            <a:chOff x="7437600" y="4395960"/>
            <a:chExt cx="1334880" cy="749160"/>
          </a:xfrm>
        </p:grpSpPr>
        <p:pic>
          <p:nvPicPr>
            <p:cNvPr id="130" name="Rectangle 34" descr=""/>
            <p:cNvPicPr/>
            <p:nvPr/>
          </p:nvPicPr>
          <p:blipFill>
            <a:blip r:embed="rId10"/>
            <a:stretch/>
          </p:blipFill>
          <p:spPr>
            <a:xfrm>
              <a:off x="7437600" y="4395960"/>
              <a:ext cx="1334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500960" y="4429080"/>
              <a:ext cx="1214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lance she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Rectangle 35"/>
          <p:cNvGrpSpPr/>
          <p:nvPr/>
        </p:nvGrpSpPr>
        <p:grpSpPr>
          <a:xfrm>
            <a:off x="7437600" y="2535120"/>
            <a:ext cx="1352520" cy="750960"/>
            <a:chOff x="7437600" y="2535120"/>
            <a:chExt cx="1352520" cy="750960"/>
          </a:xfrm>
        </p:grpSpPr>
        <p:pic>
          <p:nvPicPr>
            <p:cNvPr id="133" name="Rectangle 35" descr=""/>
            <p:cNvPicPr/>
            <p:nvPr/>
          </p:nvPicPr>
          <p:blipFill>
            <a:blip r:embed="rId11"/>
            <a:stretch/>
          </p:blipFill>
          <p:spPr>
            <a:xfrm>
              <a:off x="7437600" y="2535120"/>
              <a:ext cx="13525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00960" y="2571840"/>
              <a:ext cx="1214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 capital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ectangle 36"/>
          <p:cNvGrpSpPr/>
          <p:nvPr/>
        </p:nvGrpSpPr>
        <p:grpSpPr>
          <a:xfrm>
            <a:off x="5870520" y="2535120"/>
            <a:ext cx="1255680" cy="750960"/>
            <a:chOff x="5870520" y="2535120"/>
            <a:chExt cx="1255680" cy="750960"/>
          </a:xfrm>
        </p:grpSpPr>
        <p:pic>
          <p:nvPicPr>
            <p:cNvPr id="136" name="Rectangle 36" descr=""/>
            <p:cNvPicPr/>
            <p:nvPr/>
          </p:nvPicPr>
          <p:blipFill>
            <a:blip r:embed="rId12"/>
            <a:stretch/>
          </p:blipFill>
          <p:spPr>
            <a:xfrm>
              <a:off x="5870520" y="2535120"/>
              <a:ext cx="1255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929200" y="2571840"/>
              <a:ext cx="1143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r costs of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Rectangle 37"/>
          <p:cNvGrpSpPr/>
          <p:nvPr/>
        </p:nvGrpSpPr>
        <p:grpSpPr>
          <a:xfrm>
            <a:off x="7437600" y="5346720"/>
            <a:ext cx="1334880" cy="798480"/>
            <a:chOff x="7437600" y="5346720"/>
            <a:chExt cx="1334880" cy="798480"/>
          </a:xfrm>
        </p:grpSpPr>
        <p:pic>
          <p:nvPicPr>
            <p:cNvPr id="139" name="Rectangle 37" descr=""/>
            <p:cNvPicPr/>
            <p:nvPr/>
          </p:nvPicPr>
          <p:blipFill>
            <a:blip r:embed="rId13"/>
            <a:stretch/>
          </p:blipFill>
          <p:spPr>
            <a:xfrm>
              <a:off x="7437600" y="5346720"/>
              <a:ext cx="13348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500960" y="5429160"/>
              <a:ext cx="1214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domestic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8-Point Star 38"/>
          <p:cNvSpPr/>
          <p:nvPr/>
        </p:nvSpPr>
        <p:spPr>
          <a:xfrm>
            <a:off x="3143160" y="4572000"/>
            <a:ext cx="428760" cy="357120"/>
          </a:xfrm>
          <a:custGeom>
            <a:avLst/>
            <a:gdLst>
              <a:gd name="textAreaLeft" fmla="*/ 100440 w 428760"/>
              <a:gd name="textAreaRight" fmla="*/ 328320 w 42876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-Point Star 39"/>
          <p:cNvSpPr/>
          <p:nvPr/>
        </p:nvSpPr>
        <p:spPr>
          <a:xfrm>
            <a:off x="3143160" y="5572080"/>
            <a:ext cx="428760" cy="357120"/>
          </a:xfrm>
          <a:custGeom>
            <a:avLst/>
            <a:gdLst>
              <a:gd name="textAreaLeft" fmla="*/ 100440 w 428760"/>
              <a:gd name="textAreaRight" fmla="*/ 328320 w 428760"/>
              <a:gd name="textAreaTop" fmla="*/ 83880 h 357120"/>
              <a:gd name="textAreaBottom" fmla="*/ 273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41"/>
          <p:cNvSpPr/>
          <p:nvPr/>
        </p:nvSpPr>
        <p:spPr>
          <a:xfrm flipH="1">
            <a:off x="3355560" y="2500200"/>
            <a:ext cx="1800" cy="21456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3"/>
          <p:cNvSpPr/>
          <p:nvPr/>
        </p:nvSpPr>
        <p:spPr>
          <a:xfrm flipH="1">
            <a:off x="3357720" y="3143160"/>
            <a:ext cx="1440" cy="142884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45"/>
          <p:cNvSpPr/>
          <p:nvPr/>
        </p:nvSpPr>
        <p:spPr>
          <a:xfrm flipH="1">
            <a:off x="3355560" y="4930920"/>
            <a:ext cx="1800" cy="64296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48"/>
          <p:cNvSpPr/>
          <p:nvPr/>
        </p:nvSpPr>
        <p:spPr>
          <a:xfrm flipH="1">
            <a:off x="1963800" y="3214800"/>
            <a:ext cx="1440" cy="28728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50"/>
          <p:cNvSpPr/>
          <p:nvPr/>
        </p:nvSpPr>
        <p:spPr>
          <a:xfrm flipH="1">
            <a:off x="1963800" y="4145040"/>
            <a:ext cx="1440" cy="28584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2"/>
          <p:cNvSpPr/>
          <p:nvPr/>
        </p:nvSpPr>
        <p:spPr>
          <a:xfrm flipH="1">
            <a:off x="1963800" y="5073480"/>
            <a:ext cx="1440" cy="35748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71"/>
          <p:cNvSpPr/>
          <p:nvPr/>
        </p:nvSpPr>
        <p:spPr>
          <a:xfrm flipH="1" flipV="1">
            <a:off x="2571480" y="2892600"/>
            <a:ext cx="571320" cy="144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4"/>
          <p:cNvCxnSpPr>
            <a:stCxn id="110" idx="0"/>
          </p:cNvCxnSpPr>
          <p:nvPr/>
        </p:nvCxnSpPr>
        <p:spPr>
          <a:xfrm>
            <a:off x="3571920" y="2892600"/>
            <a:ext cx="714960" cy="216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1" name="Straight Arrow Connector 78"/>
          <p:cNvCxnSpPr/>
          <p:nvPr/>
        </p:nvCxnSpPr>
        <p:spPr>
          <a:xfrm>
            <a:off x="5500800" y="2892600"/>
            <a:ext cx="429120" cy="216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2" name="Straight Arrow Connector 81"/>
          <p:cNvCxnSpPr/>
          <p:nvPr/>
        </p:nvCxnSpPr>
        <p:spPr>
          <a:xfrm>
            <a:off x="7071840" y="2892600"/>
            <a:ext cx="429480" cy="216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153" name="Straight Connector 84"/>
          <p:cNvSpPr/>
          <p:nvPr/>
        </p:nvSpPr>
        <p:spPr>
          <a:xfrm>
            <a:off x="2571840" y="4751280"/>
            <a:ext cx="571320" cy="180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91"/>
          <p:cNvSpPr/>
          <p:nvPr/>
        </p:nvSpPr>
        <p:spPr>
          <a:xfrm>
            <a:off x="2571840" y="5751360"/>
            <a:ext cx="571320" cy="1800"/>
          </a:xfrm>
          <a:prstGeom prst="line">
            <a:avLst/>
          </a:prstGeom>
          <a:ln w="648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94"/>
          <p:cNvCxnSpPr>
            <a:stCxn id="141" idx="0"/>
          </p:cNvCxnSpPr>
          <p:nvPr/>
        </p:nvCxnSpPr>
        <p:spPr>
          <a:xfrm>
            <a:off x="3571920" y="4750920"/>
            <a:ext cx="714960" cy="252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6" name="Straight Arrow Connector 96"/>
          <p:cNvCxnSpPr>
            <a:stCxn id="142" idx="0"/>
          </p:cNvCxnSpPr>
          <p:nvPr/>
        </p:nvCxnSpPr>
        <p:spPr>
          <a:xfrm>
            <a:off x="3571920" y="5751000"/>
            <a:ext cx="714960" cy="252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7" name="Straight Arrow Connector 98"/>
          <p:cNvCxnSpPr/>
          <p:nvPr/>
        </p:nvCxnSpPr>
        <p:spPr>
          <a:xfrm>
            <a:off x="5500800" y="4750920"/>
            <a:ext cx="2000880" cy="252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8" name="Straight Arrow Connector 100"/>
          <p:cNvCxnSpPr/>
          <p:nvPr/>
        </p:nvCxnSpPr>
        <p:spPr>
          <a:xfrm>
            <a:off x="5500800" y="5751000"/>
            <a:ext cx="2000880" cy="2520"/>
          </a:xfrm>
          <a:prstGeom prst="straightConnector1">
            <a:avLst/>
          </a:prstGeom>
          <a:ln w="6480">
            <a:solidFill>
              <a:srgbClr val="72bfc5"/>
            </a:solidFill>
            <a:miter/>
            <a:tailEnd len="med" type="arrow" w="med"/>
          </a:ln>
        </p:spPr>
      </p:cxnSp>
      <p:cxnSp>
        <p:nvCxnSpPr>
          <p:cNvPr id="159" name="Straight Arrow Connector 102"/>
          <p:cNvCxnSpPr/>
          <p:nvPr/>
        </p:nvCxnSpPr>
        <p:spPr>
          <a:xfrm flipV="1">
            <a:off x="5500800" y="3214440"/>
            <a:ext cx="1000800" cy="2537280"/>
          </a:xfrm>
          <a:prstGeom prst="straightConnector1">
            <a:avLst/>
          </a:prstGeom>
          <a:ln w="12600">
            <a:solidFill>
              <a:srgbClr val="72bfc5"/>
            </a:solidFill>
            <a:prstDash val="sysDot"/>
            <a:miter/>
            <a:tailEnd len="med" type="arrow" w="med"/>
          </a:ln>
        </p:spPr>
      </p:cxnSp>
      <p:cxnSp>
        <p:nvCxnSpPr>
          <p:cNvPr id="160" name="Straight Arrow Connector 121"/>
          <p:cNvCxnSpPr/>
          <p:nvPr/>
        </p:nvCxnSpPr>
        <p:spPr>
          <a:xfrm flipH="1">
            <a:off x="6500520" y="1785600"/>
            <a:ext cx="2160" cy="786600"/>
          </a:xfrm>
          <a:prstGeom prst="straightConnector1">
            <a:avLst/>
          </a:prstGeom>
          <a:ln w="12600">
            <a:solidFill>
              <a:srgbClr val="72bfc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440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stinction between net capital and capital services matters empirically: exampl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792972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2254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pital services measures add significant analytical value to national accounts – price/volume split of income side and productivity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pital services, net capital stock, CFC and GFCF should form a consistent and integrated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ementation requires extra effort but much of the empirical requirements are also needed for good quality measures of CFC and net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re detail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thcoming chapter in revised S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ECD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Capital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raft version on OECD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nal version available by 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ul.Schreyer@OECD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idea: what are capital ser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 of capital service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United Nations Statistical Commission (UNSC) calls for update of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1993 System of Nation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berra II Group dealt with issues concerning the measurement of non-financial ass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cluded also capital services measurement in the nation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: capital services are now recognised in the revised SNA but implementation is up to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296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yone who is familiar with the user cost approach towards owner-occupied housing already knows what capital servi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some more explanation may be 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re are two aspects to capi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t is a storage of wealth (wealth asp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t has a role in the production of goods and services (production asp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86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Wealth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ptures the market value of capital goods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valuation of the stock at market p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he appropriate entry for balance she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rresponds to the net capital stock in the SNA9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Production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ptures the flow of productive services from capital into 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he appropriate variable for productivity measur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quires a different stock measure – the </a:t>
            </a: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productive s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86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Volume of capital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ssumed to be proportional to the productive stoc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hen, volume growth of productive stock =  volume growth rate of capital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Productive s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akes into account efficiency loss of older asset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age-efficiency profile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s appl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Wealth s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akes into account total value loss of older asset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age-price profile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s appl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Price of capital 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User costs per unit of productive s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ain elements of user cos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al rate of return (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ate of CFC (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al holding gains/losses (left out in simplified approa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apital services?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864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Total value of capit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ce of K-services * Productive st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mplest form: (r+d)p*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is corresponds to the user cost approach towards owner occupied housing (ignoring intermediate inpu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225440"/>
          </a:xfrm>
          <a:prstGeom prst="rect">
            <a:avLst/>
          </a:prstGeom>
          <a:solidFill>
            <a:srgbClr val="0178b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capital services measur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99800"/>
            <a:ext cx="82864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rmally, no link between value-added and capital, except for CFC as the measure that brings us from GOS to 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pital services measures establish the link between capital input and value-ad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tal value of capital services can be equated with GOS (plus the capital part of mixed inc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8:11:14Z</dcterms:created>
  <dc:creator>Schreyer_P</dc:creator>
  <dc:description/>
  <dc:language>en-US</dc:language>
  <cp:lastModifiedBy>Dimova</cp:lastModifiedBy>
  <dcterms:modified xsi:type="dcterms:W3CDTF">2008-04-20T12:45:24Z</dcterms:modified>
  <cp:revision>125</cp:revision>
  <dc:subject/>
  <dc:title>Slide 1</dc:title>
</cp:coreProperties>
</file>