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838E-003C-4873-A6FC-27A47C1DF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63B3-1943-492E-A58A-D98417B4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E0CEE-578E-4236-A341-5DF2B397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97D58-0C98-4079-8CFB-844AAA17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6AD1F-F6D8-4833-BD80-C7D3957F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92AE87-5CEE-4BD3-B1AD-E221F090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6C5C2-0CA9-4801-9086-2DDBE01D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16F4A-C2C9-4F24-925D-CDC6DD0C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6E613-C56E-452E-A0B0-339021DA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3569B-7F81-4FB0-9608-6F7D011DB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CE562-0099-4E65-B5C4-CC1175523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0362EA-D891-4DD0-A549-D074D7E0A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C081-8611-4C82-93BD-F399F387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19016-6FAE-4284-972C-3DE4B403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4A77F-DE97-4696-BE3B-71597FBA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36604-891E-4C55-968F-F9E129FD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7AF449-60D8-411C-9417-C480751D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D3FCA-6033-4679-B9DC-A26652FC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6DAB0-1A43-49CE-9F67-462BBFE7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C33F7-6C0F-4780-B424-A46FABD1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5975E-F6C8-4468-A772-4E9928AF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A49E2-6D8F-48B5-B799-88C3E5EB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1B5A2D-F18D-4331-AAA8-CB291D049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FD9E-75C3-40BF-B780-9DF929D8D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CA1D3-61BD-4466-8FDB-344D62445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FAC55-4420-4A7B-A6EC-CADF3A5B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BC984-D5C9-42A1-B773-0DFF6B72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5F5C3-D504-4058-844C-09CB05B5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3ECEF-567F-4631-96E5-7DC20EA1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5CE16-CF0F-47CD-9F32-1B471B4A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C63A0-2B63-42C2-BCDB-CB3A01E8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B9734-5DCB-4224-A772-F6D4E09E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D7870-FC81-4552-A267-010363DA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632CF-02F9-42CC-9963-9785F327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B2E2-EC7D-4AF0-B2B1-B8B30533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A9F5A-BBCD-4C61-BFB7-487BBC36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B6CAE-BB0F-438A-A17A-1555E657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DA585-1CD3-4336-A9DC-D6D11C160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59D2DA-4C9D-4FCE-8D0F-44EFCD8F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886A1-15D6-4790-A3D5-67E32988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AF2D00-563A-48C6-ADFF-D05DFE1C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B163D-7D9F-49C9-885B-E13B9A73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A882F0-DF72-4C0C-A57C-C02FFD5E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568939-3679-467B-9E3C-834ACA1B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2FD15-72C6-4895-8ED7-83BA6CB3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53A9-7C73-4563-BF63-BC8A0871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E475E0-466D-40D3-8904-15BE3FCF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0D4A7-EB9B-4422-8EB6-1D64C475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07234F-053A-4808-A7DB-B6A2BB69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2161E3-299A-45ED-8EFA-84D17DB3B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AE379-3190-416B-9B5B-A6AA9FC48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01AA-C26B-4851-995C-EBEF9240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FF31-C0C4-4B95-8721-7CD5AFA6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4E1A-79BC-4D48-9735-92973D21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D1B1-2B50-4B2B-958B-35C48F4B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83C8-F9AB-4CDD-9CCA-A266E7C7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B4D2-B217-431C-88A6-5715DB76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994D-C835-416E-A29A-36FD04FF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D182-C82C-46C1-A173-3A9B6AE4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2A08-378E-480C-B80B-9C1938AC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568F-09D7-47B2-8A79-84626F7A4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6F5D-1B0B-4295-B1D1-769E384DD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B4B9B-2FC6-45E5-B4C6-7D4931E2F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5F35F-0025-4E58-8277-9B4F562D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2AF5E-467A-4818-8FBD-80CAB91F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0F160-7EB9-4BA3-AE13-0BA0E94A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C1754-760D-4BC5-9BD5-912CC8B1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61D3-3333-46FA-A47F-68B21465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795A3-FF26-4EF7-B0A7-AA3F282D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C9CEE-59EA-4CA1-B762-5BDE63D4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B0DF6-07BE-4931-871E-D2509E0E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65D30-19FB-4F0E-929C-A4080D65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956FE-69E3-40A1-A432-58BF6785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D2A92-7706-4BDA-A7C7-B12595C78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97414-E672-402F-9436-555197DF7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3C6B5-5B2A-4634-B7AA-5484F7C44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B217D-0E8B-4FD6-99A5-1777D56F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FD83C-C7A0-4BA2-BDBF-E4B06D04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3294-0FB1-41F0-A28A-B0C98F75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DCEB0-83A4-42D7-9F9E-EEE67274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A9A0D-6DD0-46AA-BEED-29AB62FB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8BE7E-48F9-4FDC-978A-29DD2B0D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E64B0-C786-412E-95EF-68A4F185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75004-CE03-4CED-9667-3E96E3AB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C5EEC-99F2-4189-B412-2406B074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44FE6-4C83-4503-82CF-602744A9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833E5-1C2C-403F-BD14-31DA5A9C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8E6F4-91A8-4289-9AD1-F4A9C68D4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350AD-FDBF-45FA-BFC7-AD994668A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1BEE-7189-4A96-BE7E-BEEFDC90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6698D-8BE9-4F49-AF4A-27F17F12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D234D-A9EA-4410-84B3-F486163A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5F787-24D1-4FC4-A75E-453A208F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314CC-5D9A-4514-BCF7-04039237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AA69D-5709-4328-A074-4837542D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3C69F-CD27-4749-BA52-0527839B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C0DEC-5BB7-42DC-B2F3-7B875E63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3AD19-BCA6-44C9-BAF7-28AD16A4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150B7-1AF5-4FAC-8BFC-206FA5E4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2141D-F664-439D-A6D5-9AED6E94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41C4-4757-4DF8-AE1E-DDD9FDF9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F2F09-A759-4EBB-B248-E8670687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11FA6-6BC6-4414-9D9E-216FD8157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714C9-9FC2-4537-BD70-F68CFDC3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CD9D3-4757-40B3-900D-3AC6E01E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45AF9-299A-4CD2-8CF2-97BB8F89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7DDF6-CD9D-4383-9A9E-BA7E85D5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D80A2-4960-40E3-9874-760E9B11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AA974-5346-4B1C-999A-D0ED2073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55A42-7299-4834-9887-6C81142E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F42D6-770D-48FC-A828-B38A8636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50F2-6A04-4D8F-A634-3E7FE851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83D68-A0D5-407F-AD61-BB848906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0EC45-57CA-4FAC-B4BD-A7D93194D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500F2-CDF8-443F-A448-BEEA9FB3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ED29B-79E2-4F86-8EE2-0BF644B59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24EB1-2224-4254-86DF-81DA1AA4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7AA3B-D1DA-4247-A0E6-2A8C9124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7960C-361A-4332-8B9C-20118E81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00CE6-77A0-44DC-A126-DE102EA7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0EAB8-613C-49A5-98AB-77839545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FCAB0-B519-46CF-ABD6-7DD0C686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4BED-7E39-4CA4-9A4C-50F2F8B7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71E16-B093-4948-BFE9-F16F6A87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A34BA-1266-485E-9F66-9EE72484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5E858-9569-4C90-AFBA-F5215C90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A9779-F107-4ABA-9E1B-59B0B5B34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27F45-AE58-4BB3-894B-220A9BA57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F4588-E095-404B-B42B-50C1DBBE4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8F23D-A3C0-4BB8-A4A0-C5ED5773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E9C06-54CA-4C92-84C4-2D94D0CE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04AF9-D213-4A80-81ED-CB8D96CA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D57E2-9AAB-4EA6-8794-B68B0AAC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BD2E-3B1D-4F41-B1EE-0114578A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A51E6-3741-4EFA-AAF7-4EA9EC71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E58C7-CAC1-4CFC-BBCC-674C74B1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BF337-5CCA-49E6-A12C-A299ADDD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80341-7890-4DB4-B57B-8B7F1DBE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39737-A70D-4E6A-8A96-02CFF73E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CD97B-BEAC-4319-A0C5-ACE7644C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AFBB7-DAD7-40BF-B96A-C9D0BEF01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F01FF-3CCA-4E78-AC9C-50861BE0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64403-BC2A-47B2-AB4F-5AA49429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6B241-FDFF-4E8C-88B9-C5C1FD57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56000" y="6237000"/>
            <a:ext cx="115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DF82-024F-458A-BE1C-BFEC71DD6EF7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OECD_285_50K_100p"/>
          <p:cNvPicPr/>
          <p:nvPr/>
        </p:nvPicPr>
        <p:blipFill>
          <a:blip r:embed="rId2"/>
          <a:stretch/>
        </p:blipFill>
        <p:spPr>
          <a:xfrm>
            <a:off x="114480" y="115920"/>
            <a:ext cx="569880" cy="57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7" descr="OCDE_285_50K"/>
          <p:cNvPicPr/>
          <p:nvPr/>
        </p:nvPicPr>
        <p:blipFill>
          <a:blip r:embed="rId2"/>
          <a:stretch/>
        </p:blipFill>
        <p:spPr>
          <a:xfrm>
            <a:off x="114480" y="117360"/>
            <a:ext cx="857160" cy="8636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0" descr="name_FR_250"/>
          <p:cNvPicPr/>
          <p:nvPr/>
        </p:nvPicPr>
        <p:blipFill>
          <a:blip r:embed="rId3"/>
          <a:stretch/>
        </p:blipFill>
        <p:spPr>
          <a:xfrm>
            <a:off x="1042920" y="714240"/>
            <a:ext cx="2381400" cy="2667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1" descr="logo"/>
          <p:cNvPicPr/>
          <p:nvPr/>
        </p:nvPicPr>
        <p:blipFill>
          <a:blip r:embed="rId4"/>
          <a:stretch/>
        </p:blipFill>
        <p:spPr>
          <a:xfrm>
            <a:off x="1687680" y="1341360"/>
            <a:ext cx="1731960" cy="349884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9D4B-7835-41C9-BEDD-4D91D310FAE1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7" descr="OCDE_285_50K"/>
          <p:cNvPicPr/>
          <p:nvPr/>
        </p:nvPicPr>
        <p:blipFill>
          <a:blip r:embed="rId2"/>
          <a:stretch/>
        </p:blipFill>
        <p:spPr>
          <a:xfrm>
            <a:off x="114480" y="117360"/>
            <a:ext cx="857160" cy="8636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0" descr="name_FR_250"/>
          <p:cNvPicPr/>
          <p:nvPr/>
        </p:nvPicPr>
        <p:blipFill>
          <a:blip r:embed="rId3"/>
          <a:stretch/>
        </p:blipFill>
        <p:spPr>
          <a:xfrm>
            <a:off x="1042920" y="714240"/>
            <a:ext cx="2381400" cy="266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1" descr="logo"/>
          <p:cNvPicPr/>
          <p:nvPr/>
        </p:nvPicPr>
        <p:blipFill>
          <a:blip r:embed="rId4"/>
          <a:stretch/>
        </p:blipFill>
        <p:spPr>
          <a:xfrm>
            <a:off x="1687680" y="1341360"/>
            <a:ext cx="1731960" cy="349884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5B81-37CC-42D9-B382-6792D4C6FBB1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7" descr="OCDE_285_50K"/>
          <p:cNvPicPr/>
          <p:nvPr/>
        </p:nvPicPr>
        <p:blipFill>
          <a:blip r:embed="rId2"/>
          <a:stretch/>
        </p:blipFill>
        <p:spPr>
          <a:xfrm>
            <a:off x="114480" y="117360"/>
            <a:ext cx="857160" cy="8636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0" descr="name_FR_250"/>
          <p:cNvPicPr/>
          <p:nvPr/>
        </p:nvPicPr>
        <p:blipFill>
          <a:blip r:embed="rId3"/>
          <a:stretch/>
        </p:blipFill>
        <p:spPr>
          <a:xfrm>
            <a:off x="1042920" y="714240"/>
            <a:ext cx="2381400" cy="2667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1" descr="logo"/>
          <p:cNvPicPr/>
          <p:nvPr/>
        </p:nvPicPr>
        <p:blipFill>
          <a:blip r:embed="rId4"/>
          <a:stretch/>
        </p:blipFill>
        <p:spPr>
          <a:xfrm>
            <a:off x="1687680" y="1341360"/>
            <a:ext cx="1731960" cy="349884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1B2E-5D73-4E4D-94D4-DDFA39405806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11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59E2-B299-40AA-AFA8-75F2DD3A4D10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OCDE_285_50K"/>
          <p:cNvPicPr/>
          <p:nvPr/>
        </p:nvPicPr>
        <p:blipFill>
          <a:blip r:embed="rId2"/>
          <a:stretch/>
        </p:blipFill>
        <p:spPr>
          <a:xfrm>
            <a:off x="115920" y="117360"/>
            <a:ext cx="568440" cy="57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11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BBA2-07BA-4E7E-AB24-09B9882521DE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7" descr="OCDE_285_50K"/>
          <p:cNvPicPr/>
          <p:nvPr/>
        </p:nvPicPr>
        <p:blipFill>
          <a:blip r:embed="rId2"/>
          <a:stretch/>
        </p:blipFill>
        <p:spPr>
          <a:xfrm>
            <a:off x="115920" y="117360"/>
            <a:ext cx="568440" cy="57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11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73DB-17F3-4423-9C97-40433209E053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7" descr="OCDE_285_50K"/>
          <p:cNvPicPr/>
          <p:nvPr/>
        </p:nvPicPr>
        <p:blipFill>
          <a:blip r:embed="rId2"/>
          <a:stretch/>
        </p:blipFill>
        <p:spPr>
          <a:xfrm>
            <a:off x="115920" y="117360"/>
            <a:ext cx="568440" cy="57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11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D897-5EB5-4928-BDD8-BD2812E6477C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7" descr="OCDE_285_50K"/>
          <p:cNvPicPr/>
          <p:nvPr/>
        </p:nvPicPr>
        <p:blipFill>
          <a:blip r:embed="rId2"/>
          <a:stretch/>
        </p:blipFill>
        <p:spPr>
          <a:xfrm>
            <a:off x="115920" y="117360"/>
            <a:ext cx="568440" cy="57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111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1187-BD39-4040-8828-65D3125007C4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7" descr="OCDE_285_50K"/>
          <p:cNvPicPr/>
          <p:nvPr/>
        </p:nvPicPr>
        <p:blipFill>
          <a:blip r:embed="rId2"/>
          <a:stretch/>
        </p:blipFill>
        <p:spPr>
          <a:xfrm>
            <a:off x="115920" y="117360"/>
            <a:ext cx="568440" cy="57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8" descr="logo"/>
          <p:cNvPicPr/>
          <p:nvPr/>
        </p:nvPicPr>
        <p:blipFill>
          <a:blip r:embed="rId2"/>
          <a:stretch/>
        </p:blipFill>
        <p:spPr>
          <a:xfrm>
            <a:off x="1544760" y="1298520"/>
            <a:ext cx="1731960" cy="34988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OECD_285_50K_100p"/>
          <p:cNvPicPr/>
          <p:nvPr/>
        </p:nvPicPr>
        <p:blipFill>
          <a:blip r:embed="rId3"/>
          <a:stretch/>
        </p:blipFill>
        <p:spPr>
          <a:xfrm>
            <a:off x="117360" y="117360"/>
            <a:ext cx="854280" cy="8636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name_EN_250"/>
          <p:cNvPicPr/>
          <p:nvPr/>
        </p:nvPicPr>
        <p:blipFill>
          <a:blip r:embed="rId4"/>
          <a:stretch/>
        </p:blipFill>
        <p:spPr>
          <a:xfrm>
            <a:off x="1042920" y="692280"/>
            <a:ext cx="2236680" cy="2682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82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0790-4B34-4D6D-9C6A-4A0E97A26264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7" descr="OCDE_285_50K"/>
          <p:cNvPicPr/>
          <p:nvPr/>
        </p:nvPicPr>
        <p:blipFill>
          <a:blip r:embed="rId2"/>
          <a:stretch/>
        </p:blipFill>
        <p:spPr>
          <a:xfrm>
            <a:off x="114480" y="117360"/>
            <a:ext cx="857160" cy="863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" descr="name_FR_250"/>
          <p:cNvPicPr/>
          <p:nvPr/>
        </p:nvPicPr>
        <p:blipFill>
          <a:blip r:embed="rId3"/>
          <a:stretch/>
        </p:blipFill>
        <p:spPr>
          <a:xfrm>
            <a:off x="1042920" y="714240"/>
            <a:ext cx="2381400" cy="2667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1" descr="logo"/>
          <p:cNvPicPr/>
          <p:nvPr/>
        </p:nvPicPr>
        <p:blipFill>
          <a:blip r:embed="rId4"/>
          <a:stretch/>
        </p:blipFill>
        <p:spPr>
          <a:xfrm>
            <a:off x="1687680" y="1341360"/>
            <a:ext cx="1731960" cy="349884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2D54-0D6E-4517-A1BD-B5B91AB8B492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7" descr="OCDE_285_50K"/>
          <p:cNvPicPr/>
          <p:nvPr/>
        </p:nvPicPr>
        <p:blipFill>
          <a:blip r:embed="rId2"/>
          <a:stretch/>
        </p:blipFill>
        <p:spPr>
          <a:xfrm>
            <a:off x="114480" y="117360"/>
            <a:ext cx="857160" cy="8636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0" descr="name_FR_250"/>
          <p:cNvPicPr/>
          <p:nvPr/>
        </p:nvPicPr>
        <p:blipFill>
          <a:blip r:embed="rId3"/>
          <a:stretch/>
        </p:blipFill>
        <p:spPr>
          <a:xfrm>
            <a:off x="1042920" y="714240"/>
            <a:ext cx="2381400" cy="2667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1" descr="logo"/>
          <p:cNvPicPr/>
          <p:nvPr/>
        </p:nvPicPr>
        <p:blipFill>
          <a:blip r:embed="rId4"/>
          <a:stretch/>
        </p:blipFill>
        <p:spPr>
          <a:xfrm>
            <a:off x="1687680" y="1341360"/>
            <a:ext cx="1731960" cy="349884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3DDE-8F49-4EA1-997B-6AB2DBEB6895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42600" y="1341360"/>
            <a:ext cx="7961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Arial"/>
              </a:rPr>
              <a:t>UNECE-EUROSTAT-OECD meeting on national accounts: session for transition economies</a:t>
            </a:r>
            <a:br>
              <a:rPr sz="2400"/>
            </a:br>
            <a:r>
              <a:rPr b="0" lang="en-GB" sz="2400" spc="-1" strike="noStrike">
                <a:solidFill>
                  <a:srgbClr val="7f7f7f"/>
                </a:solidFill>
                <a:latin typeface="Arial"/>
              </a:rPr>
              <a:t>Geneva, 21 April 2008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928800" y="3286080"/>
            <a:ext cx="727704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Estimating the imputed rents of owner-occupiers by the user cost approach </a:t>
            </a:r>
            <a:endParaRPr b="0" lang="en-US" sz="2800" spc="-1" strike="noStrike">
              <a:solidFill>
                <a:srgbClr val="0073cf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in Western Balkan countries </a:t>
            </a:r>
            <a:endParaRPr b="0" lang="en-US" sz="2800" spc="-1" strike="noStrike">
              <a:solidFill>
                <a:srgbClr val="0073cf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3cf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Arial"/>
              </a:rPr>
              <a:t>David Roberts, OECD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18" name=""/>
          <p:cNvSpPr/>
          <p:nvPr/>
        </p:nvSpPr>
        <p:spPr>
          <a:xfrm>
            <a:off x="6705720" y="190440"/>
            <a:ext cx="216036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genda item 1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  <a:ea typeface="MS PGothic"/>
              </a:rPr>
              <a:t>Paper no.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CONSUMPTION OF FIXED CAPITAL 1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571680" y="1642680"/>
            <a:ext cx="76435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CFC on the stock of owner-occupied dwellings is measured at </a:t>
            </a:r>
            <a:r>
              <a:rPr b="0" lang="en-GB" sz="2400" spc="-1" strike="noStrike" u="sng">
                <a:solidFill>
                  <a:srgbClr val="0073cf"/>
                </a:solidFill>
                <a:uFillTx/>
                <a:latin typeface="Arial"/>
              </a:rPr>
              <a:t>current</a:t>
            </a: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 prices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ts val="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Should be obtained from estimates of the stock of owner-occupied dwellings valued at </a:t>
            </a:r>
            <a:r>
              <a:rPr b="0" lang="en-GB" sz="2400" spc="-1" strike="noStrike" u="sng">
                <a:solidFill>
                  <a:srgbClr val="0073cf"/>
                </a:solidFill>
                <a:uFillTx/>
                <a:latin typeface="Arial"/>
              </a:rPr>
              <a:t>current</a:t>
            </a: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 prices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ts val="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Preferable that stock estimates calculated by the Perpetual Inventory Method (PIM) as the derivation of CFC is an integral part of the method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ts val="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If countries do not have a long time series of GFCF &amp; prices of capital assets, an alternative to PIM has to be used   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CONSUMPTION OF FIXED CAPITAL 2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28760" y="1356840"/>
            <a:ext cx="82864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The commonest way of calculating CFC with a PIM is to assume </a:t>
            </a:r>
            <a:r>
              <a:rPr b="0" lang="en-GB" sz="2400" spc="-1" strike="noStrike" u="sng">
                <a:solidFill>
                  <a:srgbClr val="0073cf"/>
                </a:solidFill>
                <a:uFillTx/>
                <a:latin typeface="Arial"/>
              </a:rPr>
              <a:t>straight-line depreciation with a bell-shaped morality function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ts val="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This can be approximated by </a:t>
            </a:r>
            <a:r>
              <a:rPr b="0" lang="en-GB" sz="2400" spc="-1" strike="noStrike" u="sng">
                <a:solidFill>
                  <a:srgbClr val="0073cf"/>
                </a:solidFill>
                <a:uFillTx/>
                <a:latin typeface="Arial"/>
              </a:rPr>
              <a:t>geometric depreciation with no mortality function </a:t>
            </a: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(does not require a long times series of GFCF in order to apply the mortality function)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ts val="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Geometric depreciation rate is written as D/L (declining balance rate/average service life of the asset).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ts val="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In OECD countries a value of 1.6 for D produces CFC estimates similar to those obtained by straight-line depreciation with a bell-shaped morality function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CONSUMPTION OF FIXED CAPITAL 3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68360" y="1428480"/>
            <a:ext cx="8175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The proposed alternative to PIM is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ts val="4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First to determine the mid-year net value of the stock of each type of owner-occupied dwelling for the current year 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ts val="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Then to multiply these mid-year net values by D/L where D = 1.6 and L is the average service life for the dwelling type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ts val="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[Average service lives of dwellings in the Western Balkans:  Bosnia Herzegovina: 80 yrs urban, 70 yrs rural;  Croatia 80 yrs;  FYR Macedonia 70 yrs;  Montenegro 72 yrs;  Serbia 75 yrs] 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MID-YEAR NET VALUE OF DWELLING STOCK 1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Number of owner-occupied dwellings in the middle of current year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39480" indent="-339480">
              <a:lnSpc>
                <a:spcPts val="4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73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3cf"/>
                </a:solidFill>
                <a:latin typeface="Arial"/>
              </a:rPr>
              <a:t>most recent census</a:t>
            </a:r>
            <a:endParaRPr b="0" lang="en-US" sz="2000" spc="-1" strike="noStrike">
              <a:solidFill>
                <a:srgbClr val="0073cf"/>
              </a:solidFill>
              <a:latin typeface="Georgi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73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3cf"/>
                </a:solidFill>
                <a:latin typeface="Arial"/>
              </a:rPr>
              <a:t>annual growth in stock of dwellings</a:t>
            </a:r>
            <a:endParaRPr b="0" lang="en-US" sz="2000" spc="-1" strike="noStrike">
              <a:solidFill>
                <a:srgbClr val="0073cf"/>
              </a:solidFill>
              <a:latin typeface="Georgia"/>
            </a:endParaRPr>
          </a:p>
          <a:p>
            <a:pPr marL="339480" indent="-339480">
              <a:lnSpc>
                <a:spcPts val="4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Price (excluding land) of a dwelling of average age in the current year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39480" indent="-339480">
              <a:lnSpc>
                <a:spcPts val="4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73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3cf"/>
                </a:solidFill>
                <a:latin typeface="Arial"/>
              </a:rPr>
              <a:t>average price (excluding land) of newly constructed dwellings in the current year </a:t>
            </a:r>
            <a:endParaRPr b="0" lang="en-US" sz="2000" spc="-1" strike="noStrike">
              <a:solidFill>
                <a:srgbClr val="0073cf"/>
              </a:solidFill>
              <a:latin typeface="Georgi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73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3cf"/>
                </a:solidFill>
                <a:latin typeface="Arial"/>
              </a:rPr>
              <a:t>average age of dwellings </a:t>
            </a:r>
            <a:endParaRPr b="0" lang="en-US" sz="2000" spc="-1" strike="noStrike">
              <a:solidFill>
                <a:srgbClr val="0073cf"/>
              </a:solidFill>
              <a:latin typeface="Georgi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73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3cf"/>
                </a:solidFill>
                <a:latin typeface="Arial"/>
              </a:rPr>
              <a:t>average service life of dwellings </a:t>
            </a:r>
            <a:endParaRPr b="0" lang="en-US" sz="2000" spc="-1" strike="noStrike">
              <a:solidFill>
                <a:srgbClr val="0073cf"/>
              </a:solidFill>
              <a:latin typeface="Georgi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73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3cf"/>
                </a:solidFill>
                <a:latin typeface="Arial"/>
              </a:rPr>
              <a:t>annual growth in stock of dwellings        </a:t>
            </a:r>
            <a:endParaRPr b="0" lang="en-US" sz="20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MID-YEAR NET VALUE OF DWELLING STOCK  2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28400" y="4071960"/>
            <a:ext cx="821844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3cf"/>
                </a:solidFill>
                <a:latin typeface="Arial"/>
              </a:rPr>
              <a:t>P</a:t>
            </a:r>
            <a:r>
              <a:rPr b="0" lang="en-GB" sz="2000" spc="-1" strike="noStrike" baseline="-25000">
                <a:solidFill>
                  <a:srgbClr val="0073cf"/>
                </a:solidFill>
                <a:latin typeface="Arial"/>
              </a:rPr>
              <a:t>average </a:t>
            </a:r>
            <a:r>
              <a:rPr b="0" lang="en-GB" sz="2000" spc="-1" strike="noStrike">
                <a:solidFill>
                  <a:srgbClr val="0073cf"/>
                </a:solidFill>
                <a:latin typeface="Arial"/>
              </a:rPr>
              <a:t> = price of average-aged dwelling</a:t>
            </a:r>
            <a:endParaRPr b="0" lang="en-US" sz="20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3cf"/>
                </a:solidFill>
                <a:latin typeface="Arial"/>
              </a:rPr>
              <a:t>P</a:t>
            </a:r>
            <a:r>
              <a:rPr b="0" lang="en-GB" sz="2000" spc="-1" strike="noStrike" baseline="-25000">
                <a:solidFill>
                  <a:srgbClr val="0073cf"/>
                </a:solidFill>
                <a:latin typeface="Arial"/>
              </a:rPr>
              <a:t>new</a:t>
            </a:r>
            <a:r>
              <a:rPr b="0" lang="en-GB" sz="2000" spc="-1" strike="noStrike">
                <a:solidFill>
                  <a:srgbClr val="0073cf"/>
                </a:solidFill>
                <a:latin typeface="Arial"/>
              </a:rPr>
              <a:t> = price of new  dwelling</a:t>
            </a:r>
            <a:endParaRPr b="0" lang="en-US" sz="20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3cf"/>
                </a:solidFill>
                <a:latin typeface="Arial"/>
              </a:rPr>
              <a:t>L = average service life of dwelling</a:t>
            </a:r>
            <a:endParaRPr b="0" lang="en-US" sz="20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3cf"/>
                </a:solidFill>
                <a:latin typeface="Arial"/>
              </a:rPr>
              <a:t>A = average age of dwellings</a:t>
            </a:r>
            <a:endParaRPr b="0" lang="en-US" sz="20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3cf"/>
                </a:solidFill>
                <a:latin typeface="Arial"/>
              </a:rPr>
              <a:t>r  = annual growth in stock of dwellings</a:t>
            </a:r>
            <a:endParaRPr b="0" lang="en-US" sz="20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3cf"/>
                </a:solidFill>
                <a:latin typeface="Arial"/>
              </a:rPr>
              <a:t>i  = age of dwelling and takes the values of 1, 2, 3, …. , L</a:t>
            </a:r>
            <a:endParaRPr b="0" lang="en-US" sz="2000" spc="-1" strike="noStrike">
              <a:solidFill>
                <a:srgbClr val="0073cf"/>
              </a:solidFill>
              <a:latin typeface="Georgia"/>
            </a:endParaRPr>
          </a:p>
        </p:txBody>
      </p:sp>
      <p:pic>
        <p:nvPicPr>
          <p:cNvPr id="545" name="Picture 3" descr=""/>
          <p:cNvPicPr/>
          <p:nvPr/>
        </p:nvPicPr>
        <p:blipFill>
          <a:blip r:embed="rId1"/>
          <a:stretch/>
        </p:blipFill>
        <p:spPr>
          <a:xfrm>
            <a:off x="928800" y="1285920"/>
            <a:ext cx="4572000" cy="9288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6" descr=""/>
          <p:cNvPicPr/>
          <p:nvPr/>
        </p:nvPicPr>
        <p:blipFill>
          <a:blip r:embed="rId2"/>
          <a:stretch/>
        </p:blipFill>
        <p:spPr>
          <a:xfrm>
            <a:off x="642960" y="2428920"/>
            <a:ext cx="32860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NET OPERATING SUR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PLU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57120" y="1214280"/>
            <a:ext cx="8429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Rate of return times the mid-year net value of dwelling stock in the current year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32640" indent="-332640">
              <a:lnSpc>
                <a:spcPts val="4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Rate of return should equal the rate of return that the owner-occupier would expect to get if he had invested in a financial asset rather than a dwelling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32640" indent="-332640">
              <a:lnSpc>
                <a:spcPts val="4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In countries without a well-developed financial market it is recommended that 2.5% be used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32640" indent="-332640">
              <a:lnSpc>
                <a:spcPts val="4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The mid-year net value of dwelling stock should also include the value of land on which the dwellings stand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32640" indent="-332640">
              <a:lnSpc>
                <a:spcPts val="499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Adjust the mid-year net value of dwelling stock land used for CFC (which excluded land) to include the value of land       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000080" y="2000160"/>
          <a:ext cx="7286760" cy="3108240"/>
        </p:xfrm>
        <a:graphic>
          <a:graphicData uri="http://schemas.openxmlformats.org/drawingml/2006/table">
            <a:tbl>
              <a:tblPr/>
              <a:tblGrid>
                <a:gridCol w="3143160"/>
                <a:gridCol w="41436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ou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Output of owner-occupied </a:t>
                      </a:r>
                      <a:br>
                        <a:rPr sz="2400"/>
                      </a:b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dwellings as % GDP in 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Bosnia Herzegov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6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roat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8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FYR of Macedon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Monteneg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9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Serbi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9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NON-OBSERVED ECONOMY &amp; IMPUTED RENT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57120" y="1600200"/>
            <a:ext cx="842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Imputed rents for owner-occupied dwellings are not part of the non-observed economy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But important that imputed rents are estimated in line with international recommendations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So that measures of GDP exhaustiveness are comparable across countries    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INTERNATIONAL RECOMMENDATION 1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56760" y="1642680"/>
            <a:ext cx="82868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SNA 93 &amp; ESA 95 recommend stratification approach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Assumes that rents for owner-occupied dwellings would be the same as rents actually paid for similar dwellings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Over 25% of dwellings rented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Rented dwellings evenly distributed over all parts of the country &amp; all dwelling types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Over 50% of rented dwellings occupied by nationals paying representative market rents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IN WESTERN BALKAN COUNTRIE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356760" y="1571760"/>
            <a:ext cx="835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Percentage of dwellings rented is small – Albania 2.7%, Bosnia Herzegovina 5%,  Croatia 3.8%,  FYR of Macedonia &lt; 5%, Montenegro &lt; 10%, Serbia &lt; 10%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Rental market limited to capital cities or principal urban centres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Dwellings rented are not typical of the total housing stock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Tenants are usually foreigners paying unrepresentative rents   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INTERNATIONAL RECOMMENDATION 2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Recommended alternative to the stratification approach is the user cost approach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Involves estimating the costs that the owners would need to take into account if they decided to rent it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Intermediate consumption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Other taxes on production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Consumption of fixed capital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Net operating surplus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USER COST APPROACH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500040" y="1785960"/>
            <a:ext cx="814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Starting point is a breakdown of the stock of owner-occupied dwelling, for example: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ts val="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Bosnia Herzegovina:  five municipal areas, type of settlement (urban/rural), type of dwelling (single-family/ multi-family), size of dwelling (square metres)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ts val="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Serbia:  four regions, type of settlement (urban/rural)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ts val="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Object to estimate the user cost for the dwellings in each cell of the breakdown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INTERMEDIATE CONSUMPTION 1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357120" y="128556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Net insurance premiums paid by owners on dwellings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39480" indent="-339480">
              <a:lnSpc>
                <a:spcPts val="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Maintenance &amp; repair of dwellings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39480" indent="-339480">
              <a:lnSpc>
                <a:spcPts val="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Have to be undertaken regularly in order to maintain the dwelling in good working order: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39480" indent="-339480">
              <a:lnSpc>
                <a:spcPts val="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Minor, such as interior decoration, carried out by tenants &amp; owners (PFCE)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lvl="2" marL="1131480" indent="-226080">
              <a:lnSpc>
                <a:spcPts val="998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3cf"/>
                </a:solidFill>
                <a:latin typeface="Arial"/>
              </a:rPr>
              <a:t>Major, such as repairing roofs, carried out by owners </a:t>
            </a: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(IC)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39480" indent="-3394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Do not change the dwelling’s performance, capacity or expected service life (GFCF)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INTERMEDIATE CONSUMPTION 2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785880" y="2286000"/>
          <a:ext cx="7500960" cy="3137040"/>
        </p:xfrm>
        <a:graphic>
          <a:graphicData uri="http://schemas.openxmlformats.org/drawingml/2006/table">
            <a:tbl>
              <a:tblPr/>
              <a:tblGrid>
                <a:gridCol w="3071880"/>
                <a:gridCol w="2214360"/>
                <a:gridCol w="2214720"/>
              </a:tblGrid>
              <a:tr h="825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ou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Intermediate consumption </a:t>
                      </a:r>
                      <a:br>
                        <a:rPr sz="2400"/>
                      </a:b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s % of 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Phase 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Phase 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Bosnia  Herzegov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20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4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roat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1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1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FYR of Macedon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33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1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Serb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3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3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OTHER TAXES ON PRODUCTIO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57120" y="1600200"/>
            <a:ext cx="842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Taxes paid by owners on the imputed value of the dwelling services they derive from owning the dwelling they occupy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 u="sng">
                <a:solidFill>
                  <a:srgbClr val="0073cf"/>
                </a:solidFill>
                <a:uFillTx/>
                <a:latin typeface="Arial"/>
              </a:rPr>
              <a:t>less</a:t>
            </a: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 any subsidies that owner-occupiers receive to help them to pay current housing expenses (subsidisation of mortgage rates) 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3cf"/>
                </a:solidFill>
                <a:latin typeface="Arial"/>
              </a:rPr>
              <a:t>Taxes paid by owners on the value of owner-occupied dwellings &amp; associated land  or “property taxes”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09:07:41Z</dcterms:created>
  <dc:creator>roberts_d</dc:creator>
  <dc:description/>
  <dc:language>en-US</dc:language>
  <cp:lastModifiedBy>Luige</cp:lastModifiedBy>
  <dcterms:modified xsi:type="dcterms:W3CDTF">2008-04-18T12:31:57Z</dcterms:modified>
  <cp:revision>140</cp:revision>
  <dc:subject/>
  <dc:title>Slide 1</dc:title>
</cp:coreProperties>
</file>