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0F79-539B-4A14-8610-B427ED5D8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EAD1-2D60-4E36-833D-9BEB245C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4AE0F-CEB8-4CDF-87AC-4C38FCED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8FA43-205F-44CB-A132-A443DE3C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45CBA-E210-4DDA-94E2-405471D7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1A14F-BE92-4F54-A206-203C8627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55B16-93FC-4FCE-8DD9-341B2A41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A3B63-64BF-42E6-A143-9BF4990E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EB3BBC-767D-43F3-8898-1DE2FEBB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60A0F-0E86-48FC-A96D-5F771303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AAACE-89F8-40D2-B07A-C6335CE7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6E6F3-7938-4B26-9053-EC54F5B6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BA68-C51E-4C90-87E4-A755C920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8E305-BA96-4CE0-99DA-C1F59CB7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08B68-CFF0-4173-82C3-A85E9F27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3E9B5-384E-47C6-9851-5D487472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291BD-78B3-47B8-849C-C610FD39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B571E-D086-4F37-842D-00B712F1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30D9F-69E7-4640-BD94-DD83A0AE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3E9AA9-D8C3-4FDC-AFE9-89446A03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0EF48-6480-458C-A65F-5A2750BA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DF7B6-3C2A-4B01-8475-1CDC9E61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873EA0-F97F-46FE-BA30-25C08D03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59E8-D70B-432D-9CC7-674E5445A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A8EF1-CC4C-4D9D-BAAD-31BB9231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CEA0B-5C6E-4FD8-B100-652CAAA1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53C99-F35B-45B6-9C27-27526FEC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50687-C3CA-48A2-9597-5D5A39D1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AFE15-44AD-462F-8029-7AF11A6D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A04B3-82F4-482C-972B-6FEA867A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A963C-F9AE-49E9-BC07-9E64117E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34CDB-6477-4965-A77B-F40E5FC7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40603-F333-4855-8167-EE844BBE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F0A6F-E6BF-447C-815B-5A7F5693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DB8D-3BA9-4460-A12E-4052FDAD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FE7A2-5C6E-461F-A927-828C40BF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8C43E-B789-4B2A-B667-4D9319390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E1F67-7B33-43A2-9AF8-B434751F9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AC527-78D4-432D-994C-CCE698A9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56D4F9-077F-4203-B2D5-F97047D8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29240-EE73-4BE6-AE50-7775C505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2A05E1-391E-46E2-82EF-6B978136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1F68D-713A-4A16-A828-0A3E0991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97EC7-9768-4032-9C10-FBDF8654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2A1A7-A818-4C93-B4A2-0547A84D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ED8D-358F-43E9-A98A-95DC3CCE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5F063C-76D4-4CA4-AD38-EBDFB982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2360E-EE04-45DB-BF6A-C691865E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CDE691-7A13-4A48-BE1F-BD0FC6FE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FC807A-1BF9-46F1-A246-9DCE2785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B7970C-E031-441B-AEAC-23E56136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EC2C-14CB-4194-A771-8303ABCA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305A-479C-4B22-8573-64DCD8D1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C754-4B56-4A04-AD44-A294A961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FF3C-363E-4234-A002-12C15505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1741-4285-4913-96A5-32B8D6D5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7744-0CC7-4B71-B3A0-75B6D189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56BD-3A64-4AF3-BA01-F69037F2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A465-C69B-4863-AF08-2B82C53B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C36A-549A-44A3-A1EF-173795DD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0E16-B70D-4381-BDEF-3C2559FB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CB7F-35AD-450A-9E1A-2565A21E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11208-559C-498B-B1DA-8F395D61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FC4F1-16C5-4059-90B2-E77DE8A9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74E8A-3A03-4490-B903-A34911AE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DF8DA-4F51-45C5-8D18-FB0C4FDD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4774D-A391-488D-A787-5AFC81B3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3CEA-2AF1-4312-B1B5-F5BCC37C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D708F-98D8-4C85-8F66-73A7072B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C443A-9ACF-4CF0-BFAB-C9698DAE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CC57F-A1D6-4CC2-BED0-380CE27F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1C33A-CEFE-45AD-AF61-DFB205A1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8F71C-BEB8-4947-891B-7938EA0C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D29F3-D6AA-4CAA-BD00-800BC7A3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CEF77-2E0E-4917-B769-DA8F8FBC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F22E7-0427-42B5-BBE1-BF4B9943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DBE85-9101-49C9-989D-1511ACF0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8B7FF-8C6F-4EDF-A312-26494C9E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11B2-2D38-4220-85BE-4EB0CC25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67D79-99C9-4B87-9E13-D4B5C7D8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5734D-5A55-4405-9D3B-4BEB61F8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A9BF7-06BE-40F3-8170-BA52FB87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9CF89-3DF0-409D-977D-D9C92933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866B2-3B74-45F3-9C49-F625F320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688FB-CDB3-471D-BD39-E58FECE5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ADB60-F86F-4CD3-9E09-75CB1430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7F560-B0F6-45D5-AF48-3DA80DA5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1B1B4-47D5-437C-929F-8538BD5E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2AE60-BD59-469A-B697-1F048154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B55F-9444-44E8-95DC-285BD4D1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01A8B-DE9F-4208-BB5A-1C078C14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44599-D166-4C3A-BBD4-0D627E3A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ED8DF-8517-4E27-A449-D8705BF9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506AE-2004-4F6E-98FD-DEC07B87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3D2B0-5A9C-46BC-A8FE-6876BE98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19C1C-1D41-4E1F-909B-A901C790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0590E-B597-444A-B4FC-9A917200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439BD-8555-4D32-A15C-0179625F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B0108-DC31-4722-BB21-DBBC1DAB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E7BFD-6B1A-4248-8DC7-A50423AB0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AB8F-1446-4046-900F-1D17C4CD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40983-E371-4A6B-A1F5-35090D3E2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4B6EF-EBB7-408D-BD5C-0C0EFEB00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7AA62-B74D-4933-BE78-758E459F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8FBE1-0130-423D-8E29-D334E51C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FF2FC-7DA4-4B98-97B8-BC1B4282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0834C-105F-4D69-8857-2058D361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6BA86-5C57-4FDF-9878-7A8C1D96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86850-3FA7-4BAA-9E96-ACD49B55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8F4B7-66E1-463F-AEF0-0A0E1CA3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86FA2-0BD4-41EA-A6F2-AE272F91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69CF-100C-4676-87C2-A6C0D907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C4303-86BE-4CB2-9465-1793DFEC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B5456-D3DF-4F21-A645-8BED7C70D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71F9C-633D-4311-AF4C-20A248C6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E74E4-F979-4754-B26B-80805A57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3CEC0-E019-4D4A-8849-3AB5E848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C0ABD-8D82-4A7D-8A3D-09643CF7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3C9F8-3F01-4E06-B969-33555AE2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2BA19-A81E-4F27-99F8-5EDCCF4F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7883B-7E00-4FC0-8EDB-DF98F568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0D494-D06A-4865-8377-401F418E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6CFD-0CE2-418B-986D-6BC346A5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14CCA-DFF2-479D-9E72-E342F6A6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B0071-E6B3-471C-AB49-3204421C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5EFCA-762A-4D83-A721-7D8B8F4A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70E58-933F-479D-974B-22D7CFF8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7BE2D-AABD-411E-92C7-82369E24A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88E21-EB06-417B-B774-8439C6EB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51126-631A-4364-BF02-FE4D0ACF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40034-6650-4CB7-AFD2-02984D49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8A797-2831-450B-96B5-CDFEE6C2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A5B5A-D460-4585-9F40-0AC74587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047B-7324-43F9-B6A2-10E43AE4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C01A4-BB98-48CC-8951-77615821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B2E4E-1FB5-47CF-B5B1-4F103FE8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DBBEA-C916-4B5E-AD97-DDDF6CC5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C698A-0BE2-47F8-AA2F-A9B2CA61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DB531-29F6-4A4A-9EB2-3431779B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6D427-D616-42A4-ABDF-2A9A5E98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C91D5-46FB-46F4-BA7F-D2DD11F0B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5A094-215D-4716-9ADD-E89805AB2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BE4AA-CA2D-4225-BB17-A9CFCA34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D1CDA-F59B-4EDF-8E64-69E8C33D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56000" y="6237000"/>
            <a:ext cx="115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80CA-058B-4FA1-B86C-0228670A5BCF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OECD_285_50K_100p"/>
          <p:cNvPicPr/>
          <p:nvPr/>
        </p:nvPicPr>
        <p:blipFill>
          <a:blip r:embed="rId2"/>
          <a:stretch/>
        </p:blipFill>
        <p:spPr>
          <a:xfrm>
            <a:off x="114480" y="115920"/>
            <a:ext cx="569880" cy="57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7" descr="OCDE_285_50K"/>
          <p:cNvPicPr/>
          <p:nvPr/>
        </p:nvPicPr>
        <p:blipFill>
          <a:blip r:embed="rId2"/>
          <a:stretch/>
        </p:blipFill>
        <p:spPr>
          <a:xfrm>
            <a:off x="114480" y="117360"/>
            <a:ext cx="857160" cy="8636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0" descr="name_FR_250"/>
          <p:cNvPicPr/>
          <p:nvPr/>
        </p:nvPicPr>
        <p:blipFill>
          <a:blip r:embed="rId3"/>
          <a:stretch/>
        </p:blipFill>
        <p:spPr>
          <a:xfrm>
            <a:off x="1042920" y="714240"/>
            <a:ext cx="2381400" cy="2667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1" descr="logo"/>
          <p:cNvPicPr/>
          <p:nvPr/>
        </p:nvPicPr>
        <p:blipFill>
          <a:blip r:embed="rId4"/>
          <a:stretch/>
        </p:blipFill>
        <p:spPr>
          <a:xfrm>
            <a:off x="1687680" y="1341360"/>
            <a:ext cx="1731960" cy="349884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8A3E-6FA2-487B-9F65-26F796A0D952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7" descr="OCDE_285_50K"/>
          <p:cNvPicPr/>
          <p:nvPr/>
        </p:nvPicPr>
        <p:blipFill>
          <a:blip r:embed="rId2"/>
          <a:stretch/>
        </p:blipFill>
        <p:spPr>
          <a:xfrm>
            <a:off x="114480" y="117360"/>
            <a:ext cx="857160" cy="8636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0" descr="name_FR_250"/>
          <p:cNvPicPr/>
          <p:nvPr/>
        </p:nvPicPr>
        <p:blipFill>
          <a:blip r:embed="rId3"/>
          <a:stretch/>
        </p:blipFill>
        <p:spPr>
          <a:xfrm>
            <a:off x="1042920" y="714240"/>
            <a:ext cx="2381400" cy="266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1" descr="logo"/>
          <p:cNvPicPr/>
          <p:nvPr/>
        </p:nvPicPr>
        <p:blipFill>
          <a:blip r:embed="rId4"/>
          <a:stretch/>
        </p:blipFill>
        <p:spPr>
          <a:xfrm>
            <a:off x="1687680" y="1341360"/>
            <a:ext cx="1731960" cy="349884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D3C2-E2A2-4430-B4D8-9A71566B4F45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7" descr="OCDE_285_50K"/>
          <p:cNvPicPr/>
          <p:nvPr/>
        </p:nvPicPr>
        <p:blipFill>
          <a:blip r:embed="rId2"/>
          <a:stretch/>
        </p:blipFill>
        <p:spPr>
          <a:xfrm>
            <a:off x="114480" y="117360"/>
            <a:ext cx="857160" cy="8636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0" descr="name_FR_250"/>
          <p:cNvPicPr/>
          <p:nvPr/>
        </p:nvPicPr>
        <p:blipFill>
          <a:blip r:embed="rId3"/>
          <a:stretch/>
        </p:blipFill>
        <p:spPr>
          <a:xfrm>
            <a:off x="1042920" y="714240"/>
            <a:ext cx="2381400" cy="2667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1" descr="logo"/>
          <p:cNvPicPr/>
          <p:nvPr/>
        </p:nvPicPr>
        <p:blipFill>
          <a:blip r:embed="rId4"/>
          <a:stretch/>
        </p:blipFill>
        <p:spPr>
          <a:xfrm>
            <a:off x="1687680" y="1341360"/>
            <a:ext cx="1731960" cy="349884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9DD8-506A-41A2-9934-B8BAE52351DD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11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1E18-9DD2-418C-9995-422E411338D3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OCDE_285_50K"/>
          <p:cNvPicPr/>
          <p:nvPr/>
        </p:nvPicPr>
        <p:blipFill>
          <a:blip r:embed="rId2"/>
          <a:stretch/>
        </p:blipFill>
        <p:spPr>
          <a:xfrm>
            <a:off x="115920" y="117360"/>
            <a:ext cx="568440" cy="57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11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81B0-ACEA-42C4-AAE0-F0ADC6274634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7" descr="OCDE_285_50K"/>
          <p:cNvPicPr/>
          <p:nvPr/>
        </p:nvPicPr>
        <p:blipFill>
          <a:blip r:embed="rId2"/>
          <a:stretch/>
        </p:blipFill>
        <p:spPr>
          <a:xfrm>
            <a:off x="115920" y="117360"/>
            <a:ext cx="568440" cy="57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11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EC7D-C625-4464-B3B8-C59AA62E4762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7" descr="OCDE_285_50K"/>
          <p:cNvPicPr/>
          <p:nvPr/>
        </p:nvPicPr>
        <p:blipFill>
          <a:blip r:embed="rId2"/>
          <a:stretch/>
        </p:blipFill>
        <p:spPr>
          <a:xfrm>
            <a:off x="115920" y="117360"/>
            <a:ext cx="568440" cy="57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11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CD47-E2CC-40AE-9EF5-06CB5E3587B4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7" descr="OCDE_285_50K"/>
          <p:cNvPicPr/>
          <p:nvPr/>
        </p:nvPicPr>
        <p:blipFill>
          <a:blip r:embed="rId2"/>
          <a:stretch/>
        </p:blipFill>
        <p:spPr>
          <a:xfrm>
            <a:off x="115920" y="117360"/>
            <a:ext cx="568440" cy="57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11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CB1E-DCC4-4C54-B64D-9EBF98344C41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7" descr="OCDE_285_50K"/>
          <p:cNvPicPr/>
          <p:nvPr/>
        </p:nvPicPr>
        <p:blipFill>
          <a:blip r:embed="rId2"/>
          <a:stretch/>
        </p:blipFill>
        <p:spPr>
          <a:xfrm>
            <a:off x="115920" y="117360"/>
            <a:ext cx="568440" cy="57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8" descr="logo"/>
          <p:cNvPicPr/>
          <p:nvPr/>
        </p:nvPicPr>
        <p:blipFill>
          <a:blip r:embed="rId2"/>
          <a:stretch/>
        </p:blipFill>
        <p:spPr>
          <a:xfrm>
            <a:off x="1544760" y="1298520"/>
            <a:ext cx="1731960" cy="34988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OECD_285_50K_100p"/>
          <p:cNvPicPr/>
          <p:nvPr/>
        </p:nvPicPr>
        <p:blipFill>
          <a:blip r:embed="rId3"/>
          <a:stretch/>
        </p:blipFill>
        <p:spPr>
          <a:xfrm>
            <a:off x="117360" y="117360"/>
            <a:ext cx="854280" cy="8636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name_EN_250"/>
          <p:cNvPicPr/>
          <p:nvPr/>
        </p:nvPicPr>
        <p:blipFill>
          <a:blip r:embed="rId4"/>
          <a:stretch/>
        </p:blipFill>
        <p:spPr>
          <a:xfrm>
            <a:off x="1042920" y="692280"/>
            <a:ext cx="2236680" cy="2682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82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0276-954E-47A5-9518-6F716536B248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7" descr="OCDE_285_50K"/>
          <p:cNvPicPr/>
          <p:nvPr/>
        </p:nvPicPr>
        <p:blipFill>
          <a:blip r:embed="rId2"/>
          <a:stretch/>
        </p:blipFill>
        <p:spPr>
          <a:xfrm>
            <a:off x="114480" y="117360"/>
            <a:ext cx="857160" cy="863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" descr="name_FR_250"/>
          <p:cNvPicPr/>
          <p:nvPr/>
        </p:nvPicPr>
        <p:blipFill>
          <a:blip r:embed="rId3"/>
          <a:stretch/>
        </p:blipFill>
        <p:spPr>
          <a:xfrm>
            <a:off x="1042920" y="714240"/>
            <a:ext cx="2381400" cy="2667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1" descr="logo"/>
          <p:cNvPicPr/>
          <p:nvPr/>
        </p:nvPicPr>
        <p:blipFill>
          <a:blip r:embed="rId4"/>
          <a:stretch/>
        </p:blipFill>
        <p:spPr>
          <a:xfrm>
            <a:off x="1687680" y="1341360"/>
            <a:ext cx="1731960" cy="349884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CB64-0345-4D0A-969E-363C6CD1FB16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7" descr="OCDE_285_50K"/>
          <p:cNvPicPr/>
          <p:nvPr/>
        </p:nvPicPr>
        <p:blipFill>
          <a:blip r:embed="rId2"/>
          <a:stretch/>
        </p:blipFill>
        <p:spPr>
          <a:xfrm>
            <a:off x="114480" y="117360"/>
            <a:ext cx="857160" cy="8636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0" descr="name_FR_250"/>
          <p:cNvPicPr/>
          <p:nvPr/>
        </p:nvPicPr>
        <p:blipFill>
          <a:blip r:embed="rId3"/>
          <a:stretch/>
        </p:blipFill>
        <p:spPr>
          <a:xfrm>
            <a:off x="1042920" y="714240"/>
            <a:ext cx="2381400" cy="2667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1" descr="logo"/>
          <p:cNvPicPr/>
          <p:nvPr/>
        </p:nvPicPr>
        <p:blipFill>
          <a:blip r:embed="rId4"/>
          <a:stretch/>
        </p:blipFill>
        <p:spPr>
          <a:xfrm>
            <a:off x="1687680" y="1341360"/>
            <a:ext cx="1731960" cy="349884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9A17-637D-4CC5-B3F3-8BCDF7999879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42600" y="1341360"/>
            <a:ext cx="7961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UNECE-EUROSTAT-OECD meeting on national accounts: session for transition economies</a:t>
            </a:r>
            <a:br>
              <a:rPr sz="2400"/>
            </a:b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Geneva, 21 April 2008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928800" y="3286080"/>
            <a:ext cx="727704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Estimating the imputed rents of owner-occupiers by the user cost approach </a:t>
            </a:r>
            <a:endParaRPr b="0" lang="en-US" sz="2800" spc="-1" strike="noStrike">
              <a:solidFill>
                <a:srgbClr val="0073cf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in Western Balkan countries </a:t>
            </a:r>
            <a:endParaRPr b="0" lang="en-US" sz="2800" spc="-1" strike="noStrike">
              <a:solidFill>
                <a:srgbClr val="0073cf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3cf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David Roberts, OECD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18" name=""/>
          <p:cNvSpPr/>
          <p:nvPr/>
        </p:nvSpPr>
        <p:spPr>
          <a:xfrm>
            <a:off x="6705720" y="190440"/>
            <a:ext cx="216036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genda item 1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  <a:ea typeface="MS PGothic"/>
              </a:rPr>
              <a:t>Paper no.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CONSUMPTION OF FIXED CAPITAL 1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571680" y="1642680"/>
            <a:ext cx="76435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CFC on the stock of owner-occupied dwellings is measured at </a:t>
            </a:r>
            <a:r>
              <a:rPr b="0" lang="en-GB" sz="2400" spc="-1" strike="noStrike" u="sng">
                <a:solidFill>
                  <a:srgbClr val="0073cf"/>
                </a:solidFill>
                <a:uFillTx/>
                <a:latin typeface="Arial"/>
              </a:rPr>
              <a:t>current</a:t>
            </a: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 prices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ts val="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Should be obtained from estimates of the stock of owner-occupied dwellings valued at </a:t>
            </a:r>
            <a:r>
              <a:rPr b="0" lang="en-GB" sz="2400" spc="-1" strike="noStrike" u="sng">
                <a:solidFill>
                  <a:srgbClr val="0073cf"/>
                </a:solidFill>
                <a:uFillTx/>
                <a:latin typeface="Arial"/>
              </a:rPr>
              <a:t>current</a:t>
            </a: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 prices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ts val="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Preferable that stock estimates calculated by the Perpetual Inventory Method (PIM) as the derivation of CFC is an integral part of the method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ts val="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If countries do not have a long time series of GFCF &amp; prices of capital assets, an alternative to PIM has to be used   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CONSUMPTION OF FIXED CAPITAL 2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28760" y="1356840"/>
            <a:ext cx="82864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The commonest way of calculating CFC with a PIM is to assume </a:t>
            </a:r>
            <a:r>
              <a:rPr b="0" lang="en-GB" sz="2400" spc="-1" strike="noStrike" u="sng">
                <a:solidFill>
                  <a:srgbClr val="0073cf"/>
                </a:solidFill>
                <a:uFillTx/>
                <a:latin typeface="Arial"/>
              </a:rPr>
              <a:t>straight-line depreciation with a bell-shaped morality function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ts val="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This can be approximated by </a:t>
            </a:r>
            <a:r>
              <a:rPr b="0" lang="en-GB" sz="2400" spc="-1" strike="noStrike" u="sng">
                <a:solidFill>
                  <a:srgbClr val="0073cf"/>
                </a:solidFill>
                <a:uFillTx/>
                <a:latin typeface="Arial"/>
              </a:rPr>
              <a:t>geometric depreciation with no mortality function </a:t>
            </a: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(does not require a long times series of GFCF in order to apply the mortality function)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ts val="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Geometric depreciation rate is written as D/L (declining balance rate/average service life of the asset).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ts val="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In OECD countries a value of 1.6 for D produces CFC estimates similar to those obtained by straight-line depreciation with a bell-shaped morality function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CONSUMPTION OF FIXED CAPITAL 3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68360" y="1428480"/>
            <a:ext cx="8175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The proposed alternative to PIM is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ts val="4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First to determine the mid-year net value of the stock of each type of owner-occupied dwelling for the current year 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ts val="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Then to multiply these mid-year net values by D/L where D = 1.6 and L is the average service life for the dwelling type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ts val="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[Average service lives of dwellings in the Western Balkans:  Bosnia Herzegovina: 80 yrs urban, 70 yrs rural;  Croatia 80 yrs;  FYR Macedonia 70 yrs;  Montenegro 72 yrs;  Serbia 75 yrs] 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MID-YEAR NET VALUE OF DWELLING STOCK 1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Number of owner-occupied dwellings in the middle of current year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9480" indent="-339480">
              <a:lnSpc>
                <a:spcPts val="4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73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3cf"/>
                </a:solidFill>
                <a:latin typeface="Arial"/>
              </a:rPr>
              <a:t>most recent census</a:t>
            </a: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73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3cf"/>
                </a:solidFill>
                <a:latin typeface="Arial"/>
              </a:rPr>
              <a:t>annual growth in stock of dwellings</a:t>
            </a: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  <a:p>
            <a:pPr marL="339480" indent="-339480">
              <a:lnSpc>
                <a:spcPts val="4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Price (excluding land) of a dwelling of average age in the current year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9480" indent="-339480">
              <a:lnSpc>
                <a:spcPts val="4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73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3cf"/>
                </a:solidFill>
                <a:latin typeface="Arial"/>
              </a:rPr>
              <a:t>average price (excluding land) of newly constructed dwellings in the current year </a:t>
            </a: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73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3cf"/>
                </a:solidFill>
                <a:latin typeface="Arial"/>
              </a:rPr>
              <a:t>average age of dwellings </a:t>
            </a: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73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3cf"/>
                </a:solidFill>
                <a:latin typeface="Arial"/>
              </a:rPr>
              <a:t>average service life of dwellings </a:t>
            </a: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73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3cf"/>
                </a:solidFill>
                <a:latin typeface="Arial"/>
              </a:rPr>
              <a:t>annual growth in stock of dwellings        </a:t>
            </a: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MID-YEAR NET VALUE OF DWELLING STOCK  2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28400" y="4071960"/>
            <a:ext cx="82184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3cf"/>
                </a:solidFill>
                <a:latin typeface="Arial"/>
              </a:rPr>
              <a:t>P</a:t>
            </a:r>
            <a:r>
              <a:rPr b="0" lang="en-GB" sz="2000" spc="-1" strike="noStrike" baseline="-25000">
                <a:solidFill>
                  <a:srgbClr val="0073cf"/>
                </a:solidFill>
                <a:latin typeface="Arial"/>
              </a:rPr>
              <a:t>average </a:t>
            </a:r>
            <a:r>
              <a:rPr b="0" lang="en-GB" sz="2000" spc="-1" strike="noStrike">
                <a:solidFill>
                  <a:srgbClr val="0073cf"/>
                </a:solidFill>
                <a:latin typeface="Arial"/>
              </a:rPr>
              <a:t> = price of average-aged dwelling</a:t>
            </a: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3cf"/>
                </a:solidFill>
                <a:latin typeface="Arial"/>
              </a:rPr>
              <a:t>P</a:t>
            </a:r>
            <a:r>
              <a:rPr b="0" lang="en-GB" sz="2000" spc="-1" strike="noStrike" baseline="-25000">
                <a:solidFill>
                  <a:srgbClr val="0073cf"/>
                </a:solidFill>
                <a:latin typeface="Arial"/>
              </a:rPr>
              <a:t>new</a:t>
            </a:r>
            <a:r>
              <a:rPr b="0" lang="en-GB" sz="2000" spc="-1" strike="noStrike">
                <a:solidFill>
                  <a:srgbClr val="0073cf"/>
                </a:solidFill>
                <a:latin typeface="Arial"/>
              </a:rPr>
              <a:t> = price of new  dwelling</a:t>
            </a: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3cf"/>
                </a:solidFill>
                <a:latin typeface="Arial"/>
              </a:rPr>
              <a:t>L = average service life of dwelling</a:t>
            </a: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3cf"/>
                </a:solidFill>
                <a:latin typeface="Arial"/>
              </a:rPr>
              <a:t>A = average age of dwellings</a:t>
            </a: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3cf"/>
                </a:solidFill>
                <a:latin typeface="Arial"/>
              </a:rPr>
              <a:t>r  = annual growth in stock of dwellings</a:t>
            </a: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3cf"/>
                </a:solidFill>
                <a:latin typeface="Arial"/>
              </a:rPr>
              <a:t>i  = age of dwelling and takes the values of 1, 2, 3, …. , L</a:t>
            </a: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</p:txBody>
      </p:sp>
      <p:pic>
        <p:nvPicPr>
          <p:cNvPr id="545" name="Picture 3" descr=""/>
          <p:cNvPicPr/>
          <p:nvPr/>
        </p:nvPicPr>
        <p:blipFill>
          <a:blip r:embed="rId1"/>
          <a:stretch/>
        </p:blipFill>
        <p:spPr>
          <a:xfrm>
            <a:off x="928800" y="1285920"/>
            <a:ext cx="4572000" cy="9288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6" descr=""/>
          <p:cNvPicPr/>
          <p:nvPr/>
        </p:nvPicPr>
        <p:blipFill>
          <a:blip r:embed="rId2"/>
          <a:stretch/>
        </p:blipFill>
        <p:spPr>
          <a:xfrm>
            <a:off x="642960" y="2428920"/>
            <a:ext cx="32860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NET OPERATING SUR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PLU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57120" y="1214280"/>
            <a:ext cx="8429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Rate of return times the mid-year net value of dwelling stock in the current year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2640" indent="-332640">
              <a:lnSpc>
                <a:spcPts val="4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Rate of return should equal the rate of return that the owner-occupier would expect to get if he had invested in a financial asset rather than a dwelling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2640" indent="-332640">
              <a:lnSpc>
                <a:spcPts val="4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In countries without a well-developed financial market it is recommended that 2.5% be used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2640" indent="-332640">
              <a:lnSpc>
                <a:spcPts val="4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The mid-year net value of dwelling stock should also include the value of land on which the dwellings stand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2640" indent="-332640">
              <a:lnSpc>
                <a:spcPts val="499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Adjust the mid-year net value of dwelling stock land used for CFC (which excluded land) to include the value of land       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000080" y="2000160"/>
          <a:ext cx="7286760" cy="3108240"/>
        </p:xfrm>
        <a:graphic>
          <a:graphicData uri="http://schemas.openxmlformats.org/drawingml/2006/table">
            <a:tbl>
              <a:tblPr/>
              <a:tblGrid>
                <a:gridCol w="3143160"/>
                <a:gridCol w="41436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ou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Output of owner-occupied </a:t>
                      </a:r>
                      <a:br>
                        <a:rPr sz="2400"/>
                      </a:b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dwellings as % GDP in 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Bosnia Herzegov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6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roat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8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FYR of Macedon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Monteneg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9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Serbi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NON-OBSERVED ECONOMY &amp; IMPUTED RENT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57120" y="1600200"/>
            <a:ext cx="842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Imputed rents for owner-occupied dwellings are not part of the non-observed economy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But important that imputed rents are estimated in line with international recommendations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So that measures of GDP exhaustiveness are comparable across countries    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INTERNATIONAL RECOMMENDATION 1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56760" y="1642680"/>
            <a:ext cx="82868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SNA 93 &amp; ESA 95 recommend stratification approach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Assumes that rents for owner-occupied dwellings would be the same as rents actually paid for similar dwellings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Over 25% of dwellings rented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Rented dwellings evenly distributed over all parts of the country &amp; all dwelling types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Over 50% of rented dwellings occupied by nationals paying representative market rents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IN WESTERN BALKAN COUNTRIE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356760" y="1571760"/>
            <a:ext cx="835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Percentage of dwellings rented is small – Albania 2.7%, Bosnia Herzegovina 5%,  Croatia 3.8%,  FYR of Macedonia &lt; 5%, Montenegro &lt; 10%, Serbia &lt; 10%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Rental market limited to capital cities or principal urban centres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Dwellings rented are not typical of the total housing stock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Tenants are usually foreigners paying unrepresentative rents   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INTERNATIONAL RECOMMENDATION 2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Recommended alternative to the stratification approach is the user cost approach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Involves estimating the costs that the owners would need to take into account if they decided to rent it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Intermediate consumption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Other taxes on production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Consumption of fixed capital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Net operating surplus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USER COST APPROACH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500040" y="1785960"/>
            <a:ext cx="814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Starting point is a breakdown of the stock of owner-occupied dwelling, for example: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ts val="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Bosnia Herzegovina:  five municipal areas, type of settlement (urban/rural), type of dwelling (single-family/ multi-family), size of dwelling (square metres)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ts val="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Serbia:  four regions, type of settlement (urban/rural)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ts val="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Object to estimate the user cost for the dwellings in each cell of the breakdown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INTERMEDIATE CONSUMPTION 1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357120" y="128556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Net insurance premiums paid by owners on dwellings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9480" indent="-339480">
              <a:lnSpc>
                <a:spcPts val="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Maintenance &amp; repair of dwellings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9480" indent="-339480">
              <a:lnSpc>
                <a:spcPts val="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Have to be undertaken regularly in order to maintain the dwelling in good working order: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9480" indent="-339480">
              <a:lnSpc>
                <a:spcPts val="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Minor, such as interior decoration, carried out by tenants &amp; owners (PFCE)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lvl="2" marL="1131480" indent="-226080">
              <a:lnSpc>
                <a:spcPts val="998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3cf"/>
                </a:solidFill>
                <a:latin typeface="Arial"/>
              </a:rPr>
              <a:t>Major, such as repairing roofs, carried out by owners </a:t>
            </a: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(IC)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9480" indent="-3394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Do not change the dwelling’s performance, capacity or expected service life (GFCF)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INTERMEDIATE CONSUMPTION 2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785880" y="2286000"/>
          <a:ext cx="7500960" cy="3137040"/>
        </p:xfrm>
        <a:graphic>
          <a:graphicData uri="http://schemas.openxmlformats.org/drawingml/2006/table">
            <a:tbl>
              <a:tblPr/>
              <a:tblGrid>
                <a:gridCol w="3071880"/>
                <a:gridCol w="2214360"/>
                <a:gridCol w="2214720"/>
              </a:tblGrid>
              <a:tr h="825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ou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Intermediate consumption </a:t>
                      </a:r>
                      <a:br>
                        <a:rPr sz="2400"/>
                      </a:b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s % of 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Phase 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Phase 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Bosnia  Herzegov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20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4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roat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1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1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FYR of Macedon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33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1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Serb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3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3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OTHER TAXES ON PRODUCTIO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57120" y="1600200"/>
            <a:ext cx="842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Taxes paid by owners on the imputed value of the dwelling services they derive from owning the dwelling they occupy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 u="sng">
                <a:solidFill>
                  <a:srgbClr val="0073cf"/>
                </a:solidFill>
                <a:uFillTx/>
                <a:latin typeface="Arial"/>
              </a:rPr>
              <a:t>less</a:t>
            </a: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 any subsidies that owner-occupiers receive to help them to pay current housing expenses (subsidisation of mortgage rates) 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3cf"/>
                </a:solidFill>
                <a:latin typeface="Arial"/>
              </a:rPr>
              <a:t>Taxes paid by owners on the value of owner-occupied dwellings &amp; associated land  or “property taxes”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09:07:41Z</dcterms:created>
  <dc:creator>roberts_d</dc:creator>
  <dc:description/>
  <dc:language>en-US</dc:language>
  <cp:lastModifiedBy>Luige</cp:lastModifiedBy>
  <dcterms:modified xsi:type="dcterms:W3CDTF">2008-04-18T12:31:57Z</dcterms:modified>
  <cp:revision>140</cp:revision>
  <dc:subject/>
  <dc:title>Slide 1</dc:title>
</cp:coreProperties>
</file>