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1"/>
          </p:nvPr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Click to move the slide</a:t>
            </a: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2"/>
          </p:nvPr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3"/>
          </p:nvPr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E51AE58C-ECAE-4C96-B645-7EC2C72230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81160" y="4572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-360" y="4267080"/>
            <a:ext cx="6777000" cy="433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228600" y="4647960"/>
            <a:ext cx="6781680" cy="3951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lvl="1" marL="6285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85800" y="363996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85800" y="36399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68480" y="36399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13800" y="13712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941440" y="13712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85800" y="363996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313800" y="363996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941440" y="363996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3712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c8020"/>
              </a:solidFill>
              <a:latin typeface="Trebuchet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c8020"/>
              </a:solidFill>
              <a:latin typeface="Trebuchet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6399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85800" y="13712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c8020"/>
              </a:solidFill>
              <a:latin typeface="Trebuchet M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36399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63996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63996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6399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36399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3712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3712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63996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363996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363996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c8020"/>
              </a:solidFill>
              <a:latin typeface="Trebuchet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36399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68480" y="36399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363996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0026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3712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c802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799"/>
              </a:spcBef>
              <a:buClr>
                <a:srgbClr val="bc802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799"/>
              </a:spcBef>
              <a:buClr>
                <a:srgbClr val="bc802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3" marL="1600200" indent="-228600">
              <a:spcBef>
                <a:spcPts val="799"/>
              </a:spcBef>
              <a:buClr>
                <a:srgbClr val="bc802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4" marL="2057400" indent="-228600">
              <a:spcBef>
                <a:spcPts val="799"/>
              </a:spcBef>
              <a:buClr>
                <a:srgbClr val="bc802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"/>
          <p:cNvSpPr/>
          <p:nvPr/>
        </p:nvSpPr>
        <p:spPr>
          <a:xfrm>
            <a:off x="6400800" y="5715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30240" y="6019920"/>
            <a:ext cx="8808840" cy="652320"/>
            <a:chOff x="30240" y="6019920"/>
            <a:chExt cx="8808840" cy="652320"/>
          </a:xfrm>
        </p:grpSpPr>
        <p:pic>
          <p:nvPicPr>
            <p:cNvPr id="5" name="" descr=""/>
            <p:cNvPicPr/>
            <p:nvPr/>
          </p:nvPicPr>
          <p:blipFill>
            <a:blip r:embed="rId2"/>
            <a:stretch/>
          </p:blipFill>
          <p:spPr>
            <a:xfrm>
              <a:off x="7543800" y="6019920"/>
              <a:ext cx="1295280" cy="487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" name="" descr=""/>
            <p:cNvPicPr/>
            <p:nvPr/>
          </p:nvPicPr>
          <p:blipFill>
            <a:blip r:embed="rId3"/>
            <a:srcRect l="17436" t="0" r="0" b="0"/>
            <a:stretch/>
          </p:blipFill>
          <p:spPr>
            <a:xfrm>
              <a:off x="30240" y="6022800"/>
              <a:ext cx="7361280" cy="64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" name=""/>
            <p:cNvSpPr/>
            <p:nvPr/>
          </p:nvSpPr>
          <p:spPr>
            <a:xfrm>
              <a:off x="7391520" y="6022800"/>
              <a:ext cx="0" cy="484200"/>
            </a:xfrm>
            <a:prstGeom prst="line">
              <a:avLst/>
            </a:prstGeom>
            <a:ln w="12600">
              <a:solidFill>
                <a:srgbClr val="0025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152280" y="6477120"/>
            <a:ext cx="205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2550"/>
                </a:solidFill>
                <a:latin typeface="Trebuchet MS"/>
              </a:rPr>
              <a:t>www.bea.go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8534520" y="6521400"/>
            <a:ext cx="3808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9551F-9827-4FF0-BCCB-E2DFEF57348B}" type="slidenum">
              <a:rPr b="0" lang="en-US" sz="1200" spc="-1" strike="noStrike">
                <a:solidFill>
                  <a:srgbClr val="002550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26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53341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rcRect l="16335" t="0" r="0" b="0"/>
          <a:stretch/>
        </p:blipFill>
        <p:spPr>
          <a:xfrm>
            <a:off x="4680" y="5715000"/>
            <a:ext cx="8778960" cy="9558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c8020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bc8020"/>
              </a:solidFill>
              <a:latin typeface="Trebuchet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2" marL="914400" algn="ctr">
              <a:spcBef>
                <a:spcPts val="601"/>
              </a:spcBef>
              <a:buClr>
                <a:srgbClr val="bc802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3" marL="1371600" algn="ctr">
              <a:spcBef>
                <a:spcPts val="499"/>
              </a:spcBef>
              <a:buClr>
                <a:srgbClr val="bc802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4" marL="1828800" algn="ctr">
              <a:spcBef>
                <a:spcPts val="499"/>
              </a:spcBef>
              <a:buClr>
                <a:srgbClr val="bc802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bea.gov/papers/pdf/yorgason_rd_paper.pdf" TargetMode="External"/><Relationship Id="rId2" Type="http://schemas.openxmlformats.org/officeDocument/2006/relationships/hyperlink" Target="http://www.bea.gov/papers/pdf/yorgason_rd_paper.pdf" TargetMode="External"/><Relationship Id="rId3" Type="http://schemas.openxmlformats.org/officeDocument/2006/relationships/hyperlink" Target="http://www.bea.gov/papers/pdf/RegionalIssues.pdf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137160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The United States Research and Development Satellite Account: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Estimates and Challenges</a:t>
            </a: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5" name=""/>
          <p:cNvSpPr/>
          <p:nvPr/>
        </p:nvSpPr>
        <p:spPr>
          <a:xfrm>
            <a:off x="0" y="3581280"/>
            <a:ext cx="9144000" cy="10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Brent R. Moult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Joint UNECE/Eurostat/OECD Meeting on National Accou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Geneva, April 23, 2008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762120" y="1219320"/>
            <a:ext cx="76960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c8020"/>
              </a:solidFill>
              <a:latin typeface="Trebuchet MS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c8020"/>
              </a:solidFill>
              <a:latin typeface="Trebuchet MS"/>
            </a:endParaRPr>
          </a:p>
        </p:txBody>
      </p:sp>
      <p:sp>
        <p:nvSpPr>
          <p:cNvPr id="97" name=""/>
          <p:cNvSpPr/>
          <p:nvPr/>
        </p:nvSpPr>
        <p:spPr>
          <a:xfrm>
            <a:off x="6705720" y="190440"/>
            <a:ext cx="2160360" cy="7038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genda item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vited paper 2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rebuchet MS"/>
              </a:rPr>
              <a:t>Overview of Estimate Construction</a:t>
            </a:r>
            <a:endParaRPr b="1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c802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Current dollar investment: sum input costs from NSF survey data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c802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Deflate current dollar investment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c802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Create capital stocks with perpetual inventory method: cumulative R&amp;D investment less R&amp;D depreciation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c802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For government and non-profit institutions: include a return to R&amp;D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c802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Recalculate GDP and other macroeconomic variables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rebuchet MS"/>
              </a:rPr>
              <a:t>Results from BEA’s 2007  R&amp;D Satellite Account:</a:t>
            </a:r>
            <a:endParaRPr b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524"/>
              </a:spcBef>
              <a:buClr>
                <a:srgbClr val="bc802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Between 1959-2004, R&amp;D accounted for 5  percent of growth in real GDP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 marL="339480" indent="-339480">
              <a:lnSpc>
                <a:spcPct val="90000"/>
              </a:lnSpc>
              <a:spcBef>
                <a:spcPts val="524"/>
              </a:spcBef>
              <a:buClr>
                <a:srgbClr val="bc802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Between 1995-2004, R&amp;D’s contribution rose to 7 percent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bc802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In comparison, business gross fixed capital formation in commercial and all other types of buildings accounted for just over 2 percent of real GDP growth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2" marL="1131480" indent="0">
              <a:lnSpc>
                <a:spcPct val="90000"/>
              </a:lnSpc>
              <a:spcBef>
                <a:spcPts val="187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bc802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R&amp;D’s stepped-up contribution is almost as large as the contribution of computers in the existing GDP measure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rebuchet MS"/>
              </a:rPr>
              <a:t>Addition to GDP from R&amp;D Investment</a:t>
            </a:r>
            <a:endParaRPr b="1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420840" y="957240"/>
          <a:ext cx="8070840" cy="4195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0840" y="957240"/>
                    <a:ext cx="8070840" cy="419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7" name=""/>
          <p:cNvSpPr/>
          <p:nvPr/>
        </p:nvSpPr>
        <p:spPr>
          <a:xfrm>
            <a:off x="228600" y="5562720"/>
            <a:ext cx="17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current doll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-380880" y="1954080"/>
            <a:ext cx="3581280" cy="294804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Top Four Private Business R&amp;D-investing Industries</a:t>
            </a:r>
            <a:endParaRPr b="1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0" name=""/>
          <p:cNvSpPr/>
          <p:nvPr/>
        </p:nvSpPr>
        <p:spPr>
          <a:xfrm>
            <a:off x="2428920" y="1066680"/>
            <a:ext cx="3686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rebuchet MS"/>
              </a:rPr>
              <a:t>[% of Private Business Investment in R&amp;D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4191120" y="1962000"/>
            <a:ext cx="3562200" cy="293400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2151720" y="2030400"/>
            <a:ext cx="22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Motor Vehicles 11.4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804720" y="4191120"/>
            <a:ext cx="2102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Motor Vehicles 8.3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763720" y="2978280"/>
            <a:ext cx="1803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Aerospace 11.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25240" y="3809880"/>
            <a:ext cx="2861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micondu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amp;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 electric components, 9.4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676520" y="4724280"/>
            <a:ext cx="2151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Pharmaceuticals 8.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147800" y="3016080"/>
            <a:ext cx="2041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micondu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amp;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 electr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components,  8.8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76920" y="487692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oftware publishers 8.1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341400" y="2057400"/>
            <a:ext cx="237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Pharmaceuticals 20.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155240" y="1590840"/>
            <a:ext cx="99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198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625720" y="1550880"/>
            <a:ext cx="99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20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04920" y="3200400"/>
            <a:ext cx="121896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60.2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bc802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952880" y="3124080"/>
            <a:ext cx="13716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54.6%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bc802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086600" y="563868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rebuchet MS"/>
              </a:rPr>
              <a:t>*Does not sum to 100% due to rounding error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rebuchet MS"/>
              </a:rPr>
              <a:t>Industry Impacts: Average Percent Change in the Level of Value Added, 1987-2004  </a:t>
            </a:r>
            <a:br>
              <a:rPr sz="2800"/>
            </a:br>
            <a:endParaRPr b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228600" y="1219320"/>
          <a:ext cx="4648320" cy="4556160"/>
        </p:xfrm>
        <a:graphic>
          <a:graphicData uri="http://schemas.openxmlformats.org/drawingml/2006/table">
            <a:tbl>
              <a:tblPr/>
              <a:tblGrid>
                <a:gridCol w="3962520"/>
                <a:gridCol w="685800"/>
              </a:tblGrid>
              <a:tr h="57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Pharmaceutical and medicine mf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38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Chemicals minus pharmaceutical and medicine mf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7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Computer and peripheral equipment mf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9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Communications equipment mf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2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Semiconductor and other electronic component mf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5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Navigational, measuring, electro-medical, and control instruments mf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2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Other computer and electronic products mf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9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47" name=""/>
          <p:cNvGraphicFramePr/>
          <p:nvPr/>
        </p:nvGraphicFramePr>
        <p:xfrm>
          <a:off x="4952880" y="1219320"/>
          <a:ext cx="3810240" cy="3762360"/>
        </p:xfrm>
        <a:graphic>
          <a:graphicData uri="http://schemas.openxmlformats.org/drawingml/2006/table">
            <a:tbl>
              <a:tblPr/>
              <a:tblGrid>
                <a:gridCol w="3129120"/>
                <a:gridCol w="681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Motor vehicles, bodies and trailers, and parts mf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4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Aerospace product and parts mf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4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Other transportation equipment mf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4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Software publish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4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Computer systems design and related servic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Scientific R&amp;D servic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2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All other industr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0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8" name=""/>
          <p:cNvSpPr/>
          <p:nvPr/>
        </p:nvSpPr>
        <p:spPr>
          <a:xfrm>
            <a:off x="7238880" y="5562720"/>
            <a:ext cx="228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current doll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rebuchet MS"/>
              </a:rPr>
              <a:t>Conclusion: What’s Next?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0" name=""/>
          <p:cNvSpPr/>
          <p:nvPr/>
        </p:nvSpPr>
        <p:spPr>
          <a:xfrm>
            <a:off x="228600" y="1143000"/>
            <a:ext cx="891540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bc802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R&amp;D in an Input-Output frame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bc802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bc802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Regional and international aspects of R&amp;D as invest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bc802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bc802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Developing more timely indicators of R&amp;D invest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bc802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bc802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Prototype Innovation Accou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bc802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rebuchet MS"/>
              </a:rPr>
              <a:t>Expanded measurement of intangibles – Candidates for innovation satellite account</a:t>
            </a:r>
            <a:endParaRPr b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240" y="1066320"/>
            <a:ext cx="89154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bc802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Research and Development (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amp;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D): Spending on scientific and engineering 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amp;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bc802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Product and process innovation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bc802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More timely data and more frequent indicators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bc802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ceipts (royalties and license fees) as well as expenditures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bc802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Associated capital investment expenditures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bc802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Someday: Valuation of Intellectual Property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2" marL="111996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rebuchet MS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bc802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Expenditures on Design and Development (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amp;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D): Spending on social science design and development of new products and processes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bc802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Expanded sample frame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bc802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Explicit subcategories for: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3" marL="1568160" indent="-223920">
              <a:lnSpc>
                <a:spcPct val="90000"/>
              </a:lnSpc>
              <a:spcBef>
                <a:spcPts val="400"/>
              </a:spcBef>
              <a:buClr>
                <a:srgbClr val="bc802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Industrial product and process design and development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3" marL="1568160" indent="-223920">
              <a:lnSpc>
                <a:spcPct val="90000"/>
              </a:lnSpc>
              <a:spcBef>
                <a:spcPts val="400"/>
              </a:spcBef>
              <a:buClr>
                <a:srgbClr val="bc802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Artistic and entertainment product and process design and development 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3" marL="15681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bc802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Human Capital: Employer spending on employee training and development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1119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For more information</a:t>
            </a: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c802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Detailed information on the R&amp;D satellite account is available at: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2575"/>
                </a:solidFill>
                <a:uFillTx/>
                <a:latin typeface="Trebuchet MS"/>
              </a:rPr>
              <a:t>http://www.bea.gov/national/index.htm#researchanddevelopment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Overview</a:t>
            </a: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47280" y="99072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c802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Motivation 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bc802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Conceptual challenges for  measuring R&amp;D investment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bc802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Overview of the estimation process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bc802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Results from September 2007 release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bc802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Next steps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rebuchet MS"/>
              </a:rPr>
              <a:t>Why measure expenditures on intangibles as capital formation?</a:t>
            </a:r>
            <a:endParaRPr b="1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c802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Economic theory: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bc802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Expenditures on tangible and intangible assets that reduce current consumption and increase future output should be treated as capital formation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c802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National accounting consistency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bc802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Many intangible expenditures have the qualities of produced asset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c802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Improved measurement of intangibles important for: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bc802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Improving accuracy of GDP estimate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bc802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Developing quantitative measures of innovation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bc802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Identifying sources of economic growth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Conceptual Challenges</a:t>
            </a: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43000" y="1257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bc802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Definition of the unit of R&amp;D output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32640" indent="-332640">
              <a:spcBef>
                <a:spcPts val="799"/>
              </a:spcBef>
              <a:buClr>
                <a:srgbClr val="bc802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R&amp;D output price index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32640" indent="-332640">
              <a:spcBef>
                <a:spcPts val="799"/>
              </a:spcBef>
              <a:buClr>
                <a:srgbClr val="bc802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Depreciation and obsolescence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32640" indent="-332640">
              <a:spcBef>
                <a:spcPts val="799"/>
              </a:spcBef>
              <a:buClr>
                <a:srgbClr val="bc802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Public goods qualities of R&amp;D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rebuchet MS"/>
              </a:rPr>
              <a:t>NSF Time Series of R&amp;D Expenditure Data</a:t>
            </a:r>
            <a:endParaRPr b="1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bc802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National Science Foundation Survey of Industrial R&amp;D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bc802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Over 50 years of industry-level R&amp;D expenditure data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bc802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Data on costs for employees, materials, and depreciation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bc802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Focus on R&amp;D in physical and life sciences and engineering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bc802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BEA-NSF collaboration on R&amp;D satellite Account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6553080" y="3809880"/>
            <a:ext cx="1820880" cy="157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Challenge: R&amp;D Price Index</a:t>
            </a: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267080" y="1028880"/>
          <a:ext cx="5132520" cy="480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67080" y="1028880"/>
                    <a:ext cx="5132520" cy="480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4419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lvl="3" marL="15681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bc802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Purchase price of the origina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27920" indent="-280080">
              <a:lnSpc>
                <a:spcPct val="80000"/>
              </a:lnSpc>
              <a:spcBef>
                <a:spcPts val="400"/>
              </a:spcBef>
              <a:buClr>
                <a:srgbClr val="bc802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Limited transactions data, and no unit of output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bc802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omparable Market Approach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27920" indent="-280080">
              <a:lnSpc>
                <a:spcPct val="80000"/>
              </a:lnSpc>
              <a:spcBef>
                <a:spcPts val="400"/>
              </a:spcBef>
              <a:buClr>
                <a:srgbClr val="bc802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Purchase price of substitutes or similar products are also hard to identify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bc802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Income or Net Present Value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27920" indent="-280080">
              <a:lnSpc>
                <a:spcPct val="80000"/>
              </a:lnSpc>
              <a:spcBef>
                <a:spcPts val="400"/>
              </a:spcBef>
              <a:buClr>
                <a:srgbClr val="bc802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Difficult to estimate future income generated by the R&amp;D and income generated by other factors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bc802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Aggregate R&amp;D input price index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27920" indent="-280080">
              <a:lnSpc>
                <a:spcPct val="80000"/>
              </a:lnSpc>
              <a:spcBef>
                <a:spcPts val="400"/>
              </a:spcBef>
              <a:buClr>
                <a:srgbClr val="bc802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Weighted combination of input prices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727920" indent="-280080">
              <a:lnSpc>
                <a:spcPct val="80000"/>
              </a:lnSpc>
              <a:spcBef>
                <a:spcPts val="400"/>
              </a:spcBef>
              <a:buClr>
                <a:srgbClr val="bc802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Tracks with GDP deflator (green line)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bc802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Aggregate R&amp;D output price index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27920" indent="-280080">
              <a:lnSpc>
                <a:spcPct val="80000"/>
              </a:lnSpc>
              <a:spcBef>
                <a:spcPts val="400"/>
              </a:spcBef>
              <a:buClr>
                <a:srgbClr val="bc802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Uses BEA industry output prices, (based on producer price indexes)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727920" indent="-280080">
              <a:lnSpc>
                <a:spcPct val="80000"/>
              </a:lnSpc>
              <a:spcBef>
                <a:spcPts val="400"/>
              </a:spcBef>
              <a:buClr>
                <a:srgbClr val="bc802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Weighted by R&amp;D investment by R&amp;D intensive industries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"/>
          <p:cNvSpPr/>
          <p:nvPr/>
        </p:nvSpPr>
        <p:spPr>
          <a:xfrm>
            <a:off x="5257800" y="1600200"/>
            <a:ext cx="2209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Aggregate R&amp;D output price ind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315200" y="3078000"/>
            <a:ext cx="2438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GDP deflator (gree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019920" y="4114800"/>
            <a:ext cx="2438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Aggregate R&amp;D input price index (blac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rebuchet MS"/>
              </a:rPr>
              <a:t>Challenge:  Depreciation estimates for R&amp;D assets</a:t>
            </a:r>
            <a:endParaRPr b="1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0773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c802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Consumption of fixed capital (economic depreciation) measures the value of the capital used up in production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c802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Wear and tear for tangible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c802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Obsolescence and “leaking out” for intangible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c802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R&amp;D assets:  Currently using averages from academic literature: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c802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hemical manufacturing, including pharmaceutical and medicine manufacturing: 11% per year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c802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Transportation equipment manufacturing:  18% per year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c802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omputer equipment manufacturing: 16.5% per year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c802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All other industries, government, and non-profit R&amp;D investment, including colleges and universities: 15% per  year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rebuchet MS"/>
              </a:rPr>
              <a:t>Non-rivalry affects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rebuchet MS"/>
              </a:rPr>
              <a:t>R&amp;D within multi-unit firms</a:t>
            </a:r>
            <a:endParaRPr b="1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686800" cy="453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c802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How to value R&amp;D shared between: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c802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Units in different business segment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c802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Units in different state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c802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Units in different countrie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c802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Preliminary discussions: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c802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The Treatment of International Research and Development as Investment,” Daniel Yorgason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c802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afc8ff"/>
                </a:solidFill>
                <a:uFillTx/>
                <a:latin typeface="Trebuchet MS"/>
                <a:hlinkClick r:id="rId1"/>
              </a:rPr>
              <a:t>http://</a:t>
            </a:r>
            <a:r>
              <a:rPr b="0" lang="en-US" sz="2000" spc="-1" strike="noStrike" u="sng">
                <a:solidFill>
                  <a:srgbClr val="afc8ff"/>
                </a:solidFill>
                <a:uFillTx/>
                <a:latin typeface="Trebuchet MS"/>
                <a:hlinkClick r:id="rId2"/>
              </a:rPr>
              <a:t>www.bea.gov/papers/pdf/yorgason_rd_paper.pdf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c802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Issues Related to treating R&amp;D as investment in BEA’s regional accounts,” G. Andrew Bernat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bc802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afc8ff"/>
                </a:solidFill>
                <a:uFillTx/>
                <a:latin typeface="Trebuchet MS"/>
                <a:hlinkClick r:id="rId3"/>
              </a:rPr>
              <a:t>http://www.bea.gov/papers/pdf/RegionalIssues.pdf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rebuchet MS"/>
              </a:rPr>
              <a:t>Construction of R&amp;D Satellite Account</a:t>
            </a:r>
            <a:endParaRPr b="1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560" y="914040"/>
            <a:ext cx="8839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c802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Estimates of R&amp;D capital stock and investment flows based on funder: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c802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Private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bc802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Busines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bc802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Universities and college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bc802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Other Non-profit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c802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Government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bc802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Federal Government extramura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bc802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Federal Government intramura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bc802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tate and Local governments, excluding universities and college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bc802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Universities and college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06T15:08:17Z</dcterms:created>
  <dc:creator>U.S. Department of Commerce</dc:creator>
  <dc:description/>
  <dc:language>en-US</dc:language>
  <cp:lastModifiedBy>Istatkov</cp:lastModifiedBy>
  <dcterms:modified xsi:type="dcterms:W3CDTF">2008-04-15T12:31:12Z</dcterms:modified>
  <cp:revision>355</cp:revision>
  <dc:subject/>
  <dc:title>Update of the 1994 R&amp;D Satellite Account: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165669800</vt:r8>
  </property>
  <property fmtid="{D5CDD505-2E9C-101B-9397-08002B2CF9AE}" pid="3" name="_AuthorEmail">
    <vt:lpwstr>Brent.Moulton@bea.gov</vt:lpwstr>
  </property>
  <property fmtid="{D5CDD505-2E9C-101B-9397-08002B2CF9AE}" pid="4" name="_AuthorEmailDisplayName">
    <vt:lpwstr>Moulton, Brent</vt:lpwstr>
  </property>
  <property fmtid="{D5CDD505-2E9C-101B-9397-08002B2CF9AE}" pid="5" name="_EmailSubject">
    <vt:lpwstr>preparations for the National Accounts Meeting and WGGNA, Geneva 22-24April</vt:lpwstr>
  </property>
  <property fmtid="{D5CDD505-2E9C-101B-9397-08002B2CF9AE}" pid="6" name="_NewReviewCycle">
    <vt:lpwstr/>
  </property>
  <property fmtid="{D5CDD505-2E9C-101B-9397-08002B2CF9AE}" pid="7" name="_PreviousAdHocReviewCycleID">
    <vt:r8>-1897116382</vt:r8>
  </property>
  <property fmtid="{D5CDD505-2E9C-101B-9397-08002B2CF9AE}" pid="8" name="_ReviewingToolsShownOnce">
    <vt:lpwstr/>
  </property>
</Properties>
</file>