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419EC3-4812-494F-A74F-66ADB4F49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4572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-360" y="4267080"/>
            <a:ext cx="6777000" cy="433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228600" y="4647960"/>
            <a:ext cx="6781680" cy="39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628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639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639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"/>
          <p:cNvSpPr/>
          <p:nvPr/>
        </p:nvSpPr>
        <p:spPr>
          <a:xfrm>
            <a:off x="6400800" y="5715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30240" y="6019920"/>
            <a:ext cx="8808840" cy="652320"/>
            <a:chOff x="30240" y="6019920"/>
            <a:chExt cx="8808840" cy="65232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543800" y="6019920"/>
              <a:ext cx="1295280" cy="48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rcRect l="17436" t="0" r="0" b="0"/>
            <a:stretch/>
          </p:blipFill>
          <p:spPr>
            <a:xfrm>
              <a:off x="30240" y="6022800"/>
              <a:ext cx="73612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7391520" y="6022800"/>
              <a:ext cx="0" cy="484200"/>
            </a:xfrm>
            <a:prstGeom prst="line">
              <a:avLst/>
            </a:prstGeom>
            <a:ln w="12600">
              <a:solidFill>
                <a:srgbClr val="0025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152280" y="64771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550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34520" y="652140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65D6-9433-4C3B-B0AE-6FCC77F19E47}" type="slidenum">
              <a:rPr b="0" lang="en-US" sz="1200" spc="-1" strike="noStrike">
                <a:solidFill>
                  <a:srgbClr val="00255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16335" t="0" r="0" b="0"/>
          <a:stretch/>
        </p:blipFill>
        <p:spPr>
          <a:xfrm>
            <a:off x="4680" y="5715000"/>
            <a:ext cx="8778960" cy="955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802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ea.gov/papers/pdf/yorgason_rd_paper.pdf" TargetMode="External"/><Relationship Id="rId2" Type="http://schemas.openxmlformats.org/officeDocument/2006/relationships/hyperlink" Target="http://www.bea.gov/papers/pdf/yorgason_rd_paper.pdf" TargetMode="External"/><Relationship Id="rId3" Type="http://schemas.openxmlformats.org/officeDocument/2006/relationships/hyperlink" Target="http://www.bea.gov/papers/pdf/RegionalIssues.pdf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he United States Research and Development Satellite Account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Estimates and Challenges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581280"/>
            <a:ext cx="9144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Brent R. Mou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Joint UNECE/Eurostat/OECD Meeting on National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Geneva, April 23,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190440"/>
            <a:ext cx="216036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nda item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ited paper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Overview of Estimate Construction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urrent dollar investment: sum input costs from NSF survey dat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flate current dollar invest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reate capital stocks with perpetual inventory method: cumulative R&amp;D investment less R&amp;D depreci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r government and non-profit institutions: include a return to R&amp;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calculate GDP and other macroeconomic variab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Results from BEA’s 2007  R&amp;D Satellite Account: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tween 1959-2004, R&amp;D accounted for 5  percent of growth in real GD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tween 1995-2004, R&amp;D’s contribution rose to 7 perc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 comparison, business gross fixed capital formation in commercial and all other types of buildings accounted for just over 2 percent of real GDP growth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1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&amp;D’s stepped-up contribution is almost as large as the contribution of computers in the existing GDP measur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Addition to GDP from R&amp;D Investment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20840" y="957240"/>
          <a:ext cx="8070840" cy="41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957240"/>
                    <a:ext cx="807084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28600" y="55627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urrent dol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380880" y="1954080"/>
            <a:ext cx="3581280" cy="2948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Top Four Private Business R&amp;D-investing Industries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"/>
          <p:cNvSpPr/>
          <p:nvPr/>
        </p:nvSpPr>
        <p:spPr>
          <a:xfrm>
            <a:off x="2428920" y="1066680"/>
            <a:ext cx="36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[% of Private Business Investment in R&amp;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191120" y="1962000"/>
            <a:ext cx="3562200" cy="293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151720" y="2030400"/>
            <a:ext cx="22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otor Vehicles 11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4720" y="4191120"/>
            <a:ext cx="210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otor Vehicles 8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63720" y="2978280"/>
            <a:ext cx="180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erospace 11.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25240" y="3809880"/>
            <a:ext cx="28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micondu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electric components, 9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4724280"/>
            <a:ext cx="215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harmaceuticals 8.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47800" y="3016080"/>
            <a:ext cx="2041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micondu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elect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mponents,  8.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48769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oftware publishers 8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41400" y="20574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harmaceuticals 20.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55240" y="1590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9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25720" y="15508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3200400"/>
            <a:ext cx="1218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60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312408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54.6%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5638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*Does not sum to 100% due to rounding err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Industry Impacts: Average Percent Change in the Level of Value Added, 1987-2004 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1219320"/>
          <a:ext cx="4648320" cy="4556160"/>
        </p:xfrm>
        <a:graphic>
          <a:graphicData uri="http://schemas.openxmlformats.org/drawingml/2006/table">
            <a:tbl>
              <a:tblPr/>
              <a:tblGrid>
                <a:gridCol w="3962520"/>
                <a:gridCol w="685800"/>
              </a:tblGrid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harmaceutical and medicine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emicals minus pharmaceutical and medicine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puter and peripheral equipment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munications equipment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miconductor and other electronic component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avigational, measuring, electro-medical, and control instruments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ther computer and electronic products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952880" y="1219320"/>
          <a:ext cx="3810240" cy="3762360"/>
        </p:xfrm>
        <a:graphic>
          <a:graphicData uri="http://schemas.openxmlformats.org/drawingml/2006/table">
            <a:tbl>
              <a:tblPr/>
              <a:tblGrid>
                <a:gridCol w="3129120"/>
                <a:gridCol w="681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tor vehicles, bodies and trailers, and parts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erospace product and parts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ther transportation equipment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ftware publis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puter systems design and related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cientific R&amp;D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l other indus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7238880" y="5562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urrent dol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Conclusion: What’s Next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143000"/>
            <a:ext cx="8915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&amp;D in an Input-Outpu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gional and international aspects of R&amp;D as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veloping more timely indicators of R&amp;D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totype Innovation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Expanded measurement of intangibles – Candidates for innovation satellite accoun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earch and Development (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): Spending on scientific and engineering 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duct and process innov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re timely data and more frequent indicator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ceipts (royalties and license fees) as well as expenditur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ssociated capital investment expenditur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omeday: Valuation of Intellectual Property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penditures on Design and Development (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): Spending on social science design and development of new products and process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xpanded sample fram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xplicit subcategories for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ndustrial product and process design and developmen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rtistic and entertainment product and process design and development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568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uman Capital: Employer spending on employee training and developmen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For more informati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tailed information on the R&amp;D satellite account is available at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575"/>
                </a:solidFill>
                <a:uFillTx/>
                <a:latin typeface="Trebuchet MS"/>
              </a:rPr>
              <a:t>http://www.bea.gov/national/index.htm#researchanddevelop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7280" y="9907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otivation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nceptual challenges for  measuring R&amp;D investme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verview of the estimation proces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sults from September 2007 relea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Why measure expenditures on intangibles as capital formation?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conomic theory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penditures on tangible and intangible assets that reduce current consumption and increase future output should be treated as capital formatio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tional accounting consistenc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ny intangible expenditures have the qualities of produced asse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mproved measurement of intangibles important for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ing accuracy of GDP estimat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ing quantitative measures of innov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sources of economic grow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onceptual Challenges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257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efinition of the unit of R&amp;D outpu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&amp;D output price index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preciation and obsolescen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ublic goods qualities of R&amp;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NSF Time Series of R&amp;D Expenditure Data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tional Science Foundation Survey of Industrial R&amp;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ver 50 years of industry-level R&amp;D expenditure da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ta on costs for employees, materials, and depreci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cus on R&amp;D in physical and life sciences and engineer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A-NSF collaboration on R&amp;D satellite Account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553080" y="3809880"/>
            <a:ext cx="18208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hallenge: R&amp;D Price Index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267080" y="1028880"/>
          <a:ext cx="51325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028880"/>
                    <a:ext cx="51325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419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3" marL="1568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urchase price of the origin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imited transactions data, and no unit of outpu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parable Market Approa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urchase price of substitutes or similar products are also hard to identif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come or Net Present Valu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ifficult to estimate future income generated by the R&amp;D and income generated by other factor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ggregate R&amp;D input price index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Weighted combination of input pric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racks with GDP deflator (green line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ggregate R&amp;D output price index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ses BEA industry output prices, (based on producer price indexes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Weighted by R&amp;D investment by R&amp;D intensive industri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160020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ggregate R&amp;D output pric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30780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DP deflator (gr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41148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ggregate R&amp;D input price index (bl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Challenge:  Depreciation estimates for R&amp;D asset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sumption of fixed capital (economic depreciation) measures the value of the capital used up in produ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ear and tear for tangi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solescence and “leaking out” for intangi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&amp;D assets:  Currently using averages from academic literatur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hemical manufacturing, including pharmaceutical and medicine manufacturing: 11% per y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ansportation equipment manufacturing:  18% per y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puter equipment manufacturing: 16.5% per y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 other industries, government, and non-profit R&amp;D investment, including colleges and universities: 15% per  y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Non-rivalry affec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R&amp;D within multi-unit firm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86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to value R&amp;D shared between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its in different business seg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its in different sta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its in different count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eliminary discussion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Treatment of International Research and Development as Investment,” Daniel Yorgas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fc8ff"/>
                </a:solidFill>
                <a:uFillTx/>
                <a:latin typeface="Trebuchet MS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afc8ff"/>
                </a:solidFill>
                <a:uFillTx/>
                <a:latin typeface="Trebuchet MS"/>
                <a:hlinkClick r:id="rId2"/>
              </a:rPr>
              <a:t>www.bea.gov/papers/pdf/yorgason_rd_paper.pd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ssues Related to treating R&amp;D as investment in BEA’s regional accounts,” G. Andrew Bern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fc8ff"/>
                </a:solidFill>
                <a:uFillTx/>
                <a:latin typeface="Trebuchet MS"/>
                <a:hlinkClick r:id="rId3"/>
              </a:rPr>
              <a:t>http://www.bea.gov/papers/pdf/RegionalIssues.pdf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Construction of R&amp;D Satellite Account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timates of R&amp;D capital stock and investment flows based on funder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iversities and colle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ther Non-prof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ederal Government extramur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ederal Government intramur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ate and Local governments, excluding universities and colle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iversities and colle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5:08:17Z</dcterms:created>
  <dc:creator>U.S. Department of Commerce</dc:creator>
  <dc:description/>
  <dc:language>en-US</dc:language>
  <cp:lastModifiedBy>Istatkov</cp:lastModifiedBy>
  <dcterms:modified xsi:type="dcterms:W3CDTF">2008-04-15T12:31:12Z</dcterms:modified>
  <cp:revision>355</cp:revision>
  <dc:subject/>
  <dc:title>Update of the 1994 R&amp;D Satellite Account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65669800</vt:r8>
  </property>
  <property fmtid="{D5CDD505-2E9C-101B-9397-08002B2CF9AE}" pid="3" name="_AuthorEmail">
    <vt:lpwstr>Brent.Moulton@bea.gov</vt:lpwstr>
  </property>
  <property fmtid="{D5CDD505-2E9C-101B-9397-08002B2CF9AE}" pid="4" name="_AuthorEmailDisplayName">
    <vt:lpwstr>Moulton, Brent</vt:lpwstr>
  </property>
  <property fmtid="{D5CDD505-2E9C-101B-9397-08002B2CF9AE}" pid="5" name="_EmailSubject">
    <vt:lpwstr>preparations for the National Accounts Meeting and WGGNA, Geneva 22-24April</vt:lpwstr>
  </property>
  <property fmtid="{D5CDD505-2E9C-101B-9397-08002B2CF9AE}" pid="6" name="_NewReviewCycle">
    <vt:lpwstr/>
  </property>
  <property fmtid="{D5CDD505-2E9C-101B-9397-08002B2CF9AE}" pid="7" name="_PreviousAdHocReviewCycleID">
    <vt:r8>-1897116382</vt:r8>
  </property>
  <property fmtid="{D5CDD505-2E9C-101B-9397-08002B2CF9AE}" pid="8" name="_ReviewingToolsShownOnce">
    <vt:lpwstr/>
  </property>
</Properties>
</file>